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2.png" ContentType="image/png"/>
  <Override PartName="/ppt/media/image11.gif" ContentType="image/gif"/>
  <Override PartName="/ppt/media/image10.png" ContentType="image/png"/>
  <Override PartName="/ppt/media/image8.png" ContentType="image/png"/>
  <Override PartName="/ppt/media/image5.gif" ContentType="image/gif"/>
  <Override PartName="/ppt/media/image7.gif" ContentType="image/gif"/>
  <Override PartName="/ppt/media/image9.png" ContentType="image/png"/>
  <Override PartName="/ppt/media/image4.png" ContentType="image/png"/>
  <Override PartName="/ppt/media/image3.png" ContentType="image/png"/>
  <Override PartName="/ppt/media/image23.gif" ContentType="image/gif"/>
  <Override PartName="/ppt/media/image6.png" ContentType="image/png"/>
  <Override PartName="/ppt/media/image25.jpeg" ContentType="image/jpeg"/>
  <Override PartName="/ppt/media/image17.gif" ContentType="image/gif"/>
  <Override PartName="/ppt/media/image22.jpeg" ContentType="image/jpeg"/>
  <Override PartName="/ppt/media/image20.gif" ContentType="image/gif"/>
  <Override PartName="/ppt/media/image18.gif" ContentType="image/gif"/>
  <Override PartName="/ppt/media/image21.png" ContentType="image/png"/>
  <Override PartName="/ppt/media/image16.gif" ContentType="image/gif"/>
  <Override PartName="/ppt/media/image24.jpeg" ContentType="image/jpeg"/>
  <Override PartName="/ppt/media/image15.png" ContentType="image/png"/>
  <Override PartName="/ppt/media/image14.gif" ContentType="image/gif"/>
  <Override PartName="/ppt/media/image19.gif" ContentType="image/gif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1CBA-48AD-4FEB-8861-2C0967B1C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1681-70A5-4FE1-A9DD-94224615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7CF9-8A9D-4E0A-AD7A-DD70D1C1E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DDD5-B26C-429B-84CB-A1F6227EA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DFD1-D7A1-4FA6-BA24-89B5B2EA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B427-89F0-4604-A7EF-24EA8376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2D32-ABE3-4F6F-A048-424B7871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C939-C1A6-4BD6-82C6-103CD4FC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0CA3-73EF-40B9-86E6-35BC1AEE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DF41-3BC9-4A3C-BB1B-E7EE9FAF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8B2A-A4EE-44E8-9A8E-E9E4CE2C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65BB-0FD5-43DC-8BEA-85348485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A60D-3437-45BD-9D5D-4C6A7C8F6F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-12600"/>
            <a:ext cx="8282160" cy="81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导入新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-360" y="684000"/>
            <a:ext cx="9131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国风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郑风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子衿》是中国古代第一部诗歌总集《诗经》中的一首诗。全诗三章，每章四句。此诗写单相思，描写一个女子思念她的心上人。每当看到颜色青青的东西，女子就会想起心上人青青的衣领和青青的佩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2" descr=""/>
          <p:cNvPicPr/>
          <p:nvPr/>
        </p:nvPicPr>
        <p:blipFill>
          <a:blip r:embed="rId1"/>
          <a:stretch/>
        </p:blipFill>
        <p:spPr>
          <a:xfrm>
            <a:off x="-12600" y="4498920"/>
            <a:ext cx="9144000" cy="2387520"/>
          </a:xfrm>
          <a:prstGeom prst="rect">
            <a:avLst/>
          </a:prstGeom>
          <a:ln w="0">
            <a:noFill/>
          </a:ln>
        </p:spPr>
      </p:pic>
      <p:pic>
        <p:nvPicPr>
          <p:cNvPr id="44" name="图片 11274" descr="t015f2610feadc0b6a7"/>
          <p:cNvPicPr/>
          <p:nvPr/>
        </p:nvPicPr>
        <p:blipFill>
          <a:blip r:embed="rId2"/>
          <a:stretch/>
        </p:blipFill>
        <p:spPr>
          <a:xfrm>
            <a:off x="0" y="-12600"/>
            <a:ext cx="1008000" cy="1224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重点词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子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男子的美称。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衿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jīn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衣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悠悠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深思的样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宁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nìnɡ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岂，难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嗣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ì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音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继续通音信。嗣：继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挑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āo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兮达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à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兮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即挑达，往来相见的样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城阙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què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城门两边的高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图片 1" descr=""/>
          <p:cNvPicPr/>
          <p:nvPr/>
        </p:nvPicPr>
        <p:blipFill>
          <a:blip r:embed="rId1"/>
          <a:stretch/>
        </p:blipFill>
        <p:spPr>
          <a:xfrm>
            <a:off x="6361200" y="0"/>
            <a:ext cx="2782800" cy="3079800"/>
          </a:xfrm>
          <a:prstGeom prst="rect">
            <a:avLst/>
          </a:prstGeom>
          <a:ln w="0">
            <a:noFill/>
          </a:ln>
        </p:spPr>
      </p:pic>
      <p:pic>
        <p:nvPicPr>
          <p:cNvPr id="71" name="图片 53265" descr="4"/>
          <p:cNvPicPr/>
          <p:nvPr/>
        </p:nvPicPr>
        <p:blipFill>
          <a:blip r:embed="rId2"/>
          <a:stretch/>
        </p:blipFill>
        <p:spPr>
          <a:xfrm>
            <a:off x="0" y="6359400"/>
            <a:ext cx="9144000" cy="4161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翻译诗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-51120" y="691920"/>
            <a:ext cx="919476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青青的是你的衣襟， 悠悠的是我的心境。纵然我不曾去会你， 难道你就此断音信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青青的是你的衣佩， 悠悠的是我的情怀。纵然我不曾去会你， 难道你不能主动来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我来回踱着步子呵， 在这高高城楼上啊。一天不见你的面呵， 好像已有三月长啊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53265" descr="4"/>
          <p:cNvPicPr/>
          <p:nvPr/>
        </p:nvPicPr>
        <p:blipFill>
          <a:blip r:embed="rId1"/>
          <a:stretch/>
        </p:blipFill>
        <p:spPr>
          <a:xfrm>
            <a:off x="0" y="6442200"/>
            <a:ext cx="9144000" cy="415800"/>
          </a:xfrm>
          <a:prstGeom prst="rect">
            <a:avLst/>
          </a:prstGeom>
          <a:ln w="0">
            <a:noFill/>
          </a:ln>
        </p:spPr>
      </p:pic>
      <p:pic>
        <p:nvPicPr>
          <p:cNvPr id="75" name="图片 64521" descr="t01fa86bba9c3b4fecf"/>
          <p:cNvPicPr/>
          <p:nvPr/>
        </p:nvPicPr>
        <p:blipFill>
          <a:blip r:embed="rId2"/>
          <a:stretch/>
        </p:blipFill>
        <p:spPr>
          <a:xfrm>
            <a:off x="0" y="0"/>
            <a:ext cx="1266840" cy="1268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意境浅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这首诗写一个女子在城楼上等候他的恋人。全诗三章，采用倒叙手法。前两章以“我”的口气自述怀人。“青青子衿”，“青青子佩”，是以恋人的衣饰借代恋人。对方的衣饰给她留下这么深刻的印象，使她念念不忘，可想见其相思萦怀之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图片 1" descr=""/>
          <p:cNvPicPr/>
          <p:nvPr/>
        </p:nvPicPr>
        <p:blipFill>
          <a:blip r:embed="rId1"/>
          <a:stretch/>
        </p:blipFill>
        <p:spPr>
          <a:xfrm>
            <a:off x="0" y="5226120"/>
            <a:ext cx="9144000" cy="1631880"/>
          </a:xfrm>
          <a:prstGeom prst="rect">
            <a:avLst/>
          </a:prstGeom>
          <a:ln w="0">
            <a:noFill/>
          </a:ln>
        </p:spPr>
      </p:pic>
      <p:pic>
        <p:nvPicPr>
          <p:cNvPr id="79" name="图片 64549" descr="t0100c2e0272ce245b3"/>
          <p:cNvPicPr/>
          <p:nvPr/>
        </p:nvPicPr>
        <p:blipFill>
          <a:blip r:embed="rId2"/>
          <a:stretch/>
        </p:blipFill>
        <p:spPr>
          <a:xfrm>
            <a:off x="0" y="84240"/>
            <a:ext cx="1008000" cy="1439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0" y="3240"/>
            <a:ext cx="9144000" cy="61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如今因受阻不能前去赴约，只好等恋人过来相会，可望穿秋水，不见影儿，浓浓的爱意不由转化为惆怅与幽怨：纵然我没有去找你，你为何就不能捎个音信？纵然我没有去找你，你为何就不能主动前来？第三章点明地点，写她在城楼上因久候恋人不至而心烦意乱，来来回回地走个不停，觉得虽然只有一天不见面，却好像分别了三个月那么漫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64535" descr="t0150e695860301ff3f"/>
          <p:cNvPicPr/>
          <p:nvPr/>
        </p:nvPicPr>
        <p:blipFill>
          <a:blip r:embed="rId1"/>
          <a:stretch/>
        </p:blipFill>
        <p:spPr>
          <a:xfrm>
            <a:off x="168120" y="5873760"/>
            <a:ext cx="8807760" cy="984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-709560"/>
            <a:ext cx="822960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课堂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0" y="599760"/>
            <a:ext cx="9144000" cy="62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这首诗采用了怎样的叙述手法？从结构上看，具有怎样的特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全诗采用倒叙手法；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②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从结构上看，诗歌的前两章具有重章复沓的特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这首诗的主要内容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这首诗写一个女子在城楼上等候她的恋人，可望穿秋水，却不见人影浓浓的爱意不由转化为怅惘与幽怨。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64537" descr="t0147ecb4a0fa838c25"/>
          <p:cNvPicPr/>
          <p:nvPr/>
        </p:nvPicPr>
        <p:blipFill>
          <a:blip r:embed="rId1"/>
          <a:stretch/>
        </p:blipFill>
        <p:spPr>
          <a:xfrm>
            <a:off x="0" y="-92160"/>
            <a:ext cx="1162080" cy="1133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1"/>
          <p:cNvSpPr/>
          <p:nvPr/>
        </p:nvSpPr>
        <p:spPr>
          <a:xfrm>
            <a:off x="0" y="6015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1"/>
          <p:cNvSpPr/>
          <p:nvPr/>
        </p:nvSpPr>
        <p:spPr>
          <a:xfrm>
            <a:off x="0" y="765000"/>
            <a:ext cx="902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全诗不到五十字，但女主人公等待恋人时的焦灼万分的情状宛然如在目前。这种艺术效果的获得，在于诗人在创作中运用了大量的心理描写。诗中表现这个女子的动作行为仅用“挑”、“达”二字，主要笔墨都用在刻画她的心理活动上，如前两章对恋人既全无音问、又不见影儿的埋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67604" descr="t014c816e30942752c3"/>
          <p:cNvPicPr/>
          <p:nvPr/>
        </p:nvPicPr>
        <p:blipFill>
          <a:blip r:embed="rId1"/>
          <a:stretch/>
        </p:blipFill>
        <p:spPr>
          <a:xfrm>
            <a:off x="0" y="5805360"/>
            <a:ext cx="9144000" cy="1052640"/>
          </a:xfrm>
          <a:prstGeom prst="rect">
            <a:avLst/>
          </a:prstGeom>
          <a:ln w="0">
            <a:noFill/>
          </a:ln>
        </p:spPr>
      </p:pic>
      <p:pic>
        <p:nvPicPr>
          <p:cNvPr id="90" name="图片 68610" descr="齿轮"/>
          <p:cNvPicPr/>
          <p:nvPr/>
        </p:nvPicPr>
        <p:blipFill>
          <a:blip r:embed="rId2"/>
          <a:stretch/>
        </p:blipFill>
        <p:spPr>
          <a:xfrm>
            <a:off x="0" y="204840"/>
            <a:ext cx="1033560" cy="879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-12600" y="-9720"/>
            <a:ext cx="9144000" cy="61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末章“一日不见，如三月兮”的独白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正如我们现在常说的“一日不见，如隔三秋”，可见对恋人的思念之切；两段埋怨之辞，以“纵我”与“子宁”对举，急盼之情中不无矜持之态，令人生出无限想象，可谓字少而意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1" descr=""/>
          <p:cNvPicPr/>
          <p:nvPr/>
        </p:nvPicPr>
        <p:blipFill>
          <a:blip r:embed="rId1"/>
          <a:stretch/>
        </p:blipFill>
        <p:spPr>
          <a:xfrm>
            <a:off x="3963960" y="3933720"/>
            <a:ext cx="5167440" cy="2968560"/>
          </a:xfrm>
          <a:prstGeom prst="rect">
            <a:avLst/>
          </a:prstGeom>
          <a:ln w="0">
            <a:noFill/>
          </a:ln>
        </p:spPr>
      </p:pic>
      <p:pic>
        <p:nvPicPr>
          <p:cNvPr id="93" name="图片 71694" descr="风景13"/>
          <p:cNvPicPr/>
          <p:nvPr/>
        </p:nvPicPr>
        <p:blipFill>
          <a:blip r:embed="rId2"/>
          <a:stretch/>
        </p:blipFill>
        <p:spPr>
          <a:xfrm>
            <a:off x="-12600" y="3933720"/>
            <a:ext cx="3976560" cy="2968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-39600" y="-9720"/>
            <a:ext cx="9183600" cy="61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末尾的内心独白，则通过夸张修辞技巧，造成主观时间与客观时间的反差，从而将其强烈的情绪心理形象地表现了出来，可谓因夸以成状，沿饰而得奇。心理描写手法，在后世文坛已发展得淋漓尽致，而上溯其源，本诗已开其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。所以钱钟书指出：“《子衿》云：‘纵我不往，子宁不嗣音？’‘子宁不来？’薄责己而厚望于人也。”已开后世小说言情心理描绘矣。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55297" descr="1"/>
          <p:cNvPicPr/>
          <p:nvPr/>
        </p:nvPicPr>
        <p:blipFill>
          <a:blip r:embed="rId1"/>
          <a:stretch/>
        </p:blipFill>
        <p:spPr>
          <a:xfrm>
            <a:off x="34920" y="6453360"/>
            <a:ext cx="9109080" cy="363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98160" y="0"/>
            <a:ext cx="493092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主题思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698400"/>
            <a:ext cx="9126360" cy="61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这首诗写一个女子在城楼上等候她的恋人，表现了这位热恋中的女子焦急不安、情深意切的真挚感情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1" descr="df9606e1ae101f167cec406225fa4a3c_t01c1d612fcc1fb390a"/>
          <p:cNvPicPr/>
          <p:nvPr/>
        </p:nvPicPr>
        <p:blipFill>
          <a:blip r:embed="rId1"/>
          <a:stretch/>
        </p:blipFill>
        <p:spPr>
          <a:xfrm>
            <a:off x="4130640" y="3809880"/>
            <a:ext cx="4995720" cy="3048120"/>
          </a:xfrm>
          <a:prstGeom prst="rect">
            <a:avLst/>
          </a:prstGeom>
          <a:ln w="0">
            <a:noFill/>
          </a:ln>
        </p:spPr>
      </p:pic>
      <p:pic>
        <p:nvPicPr>
          <p:cNvPr id="99" name="图片 2" descr="5068f884f5ff22bc2a27914f021f8062_t01f42ce24b6826b116"/>
          <p:cNvPicPr/>
          <p:nvPr/>
        </p:nvPicPr>
        <p:blipFill>
          <a:blip r:embed="rId2"/>
          <a:stretch/>
        </p:blipFill>
        <p:spPr>
          <a:xfrm>
            <a:off x="0" y="3809880"/>
            <a:ext cx="4130640" cy="3048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-50760" y="-20520"/>
            <a:ext cx="9182160" cy="61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于是她登上城门楼，就是想看见心上人的踪影。如果有一天看不见，她便觉得如隔三月。全诗采用倒叙的手法，充分描写了女子单相思的心理活动，维肖维妙，而且意境很美，是一首难得的优美的情歌，成为中国文学史上描写相思之情的经典作品。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2" descr=""/>
          <p:cNvPicPr/>
          <p:nvPr/>
        </p:nvPicPr>
        <p:blipFill>
          <a:blip r:embed="rId1"/>
          <a:stretch/>
        </p:blipFill>
        <p:spPr>
          <a:xfrm>
            <a:off x="0" y="4511520"/>
            <a:ext cx="9144000" cy="23878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文本框 2"/>
          <p:cNvSpPr/>
          <p:nvPr/>
        </p:nvSpPr>
        <p:spPr>
          <a:xfrm>
            <a:off x="1193760" y="235080"/>
            <a:ext cx="795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子衿            《诗经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.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郑风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-93600" y="996840"/>
            <a:ext cx="9245520" cy="5943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-360" y="529920"/>
            <a:ext cx="9161640" cy="63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了解有关《诗经》的文学常识，把握诗歌的内容及其思想感情；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学习《诗经》中赋、比、兴的创作手法及其章法节奏的特点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感受诗歌的艺术魅力，正确认识古代劳动人民对美好爱情的追求；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背诵默写诗歌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1" descr=""/>
          <p:cNvPicPr/>
          <p:nvPr/>
        </p:nvPicPr>
        <p:blipFill>
          <a:blip r:embed="rId1"/>
          <a:stretch/>
        </p:blipFill>
        <p:spPr>
          <a:xfrm>
            <a:off x="4559400" y="4898880"/>
            <a:ext cx="4602240" cy="1959120"/>
          </a:xfrm>
          <a:prstGeom prst="rect">
            <a:avLst/>
          </a:prstGeom>
          <a:ln w="0">
            <a:noFill/>
          </a:ln>
        </p:spPr>
      </p:pic>
      <p:pic>
        <p:nvPicPr>
          <p:cNvPr id="52" name="图片 59394" descr="yaya"/>
          <p:cNvPicPr/>
          <p:nvPr/>
        </p:nvPicPr>
        <p:blipFill>
          <a:blip r:embed="rId2"/>
          <a:stretch/>
        </p:blipFill>
        <p:spPr>
          <a:xfrm>
            <a:off x="195120" y="5764320"/>
            <a:ext cx="2648160" cy="868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12960" y="52560"/>
            <a:ext cx="8699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诗经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简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-12600" y="920520"/>
            <a:ext cx="9144000" cy="59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诗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是我国最早的一部诗歌总集，本称“诗”，汉代时被儒家奉为经典，才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诗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收录了从西周到春秋时期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0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篇诗歌，又称“诗三百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图片 2" descr=""/>
          <p:cNvPicPr/>
          <p:nvPr/>
        </p:nvPicPr>
        <p:blipFill>
          <a:blip r:embed="rId1"/>
          <a:stretch/>
        </p:blipFill>
        <p:spPr>
          <a:xfrm>
            <a:off x="-12600" y="3646440"/>
            <a:ext cx="9144000" cy="3240000"/>
          </a:xfrm>
          <a:prstGeom prst="rect">
            <a:avLst/>
          </a:prstGeom>
          <a:ln w="0">
            <a:noFill/>
          </a:ln>
        </p:spPr>
      </p:pic>
      <p:pic>
        <p:nvPicPr>
          <p:cNvPr id="56" name="图片 59394" descr="yaya"/>
          <p:cNvPicPr/>
          <p:nvPr/>
        </p:nvPicPr>
        <p:blipFill>
          <a:blip r:embed="rId2"/>
          <a:stretch/>
        </p:blipFill>
        <p:spPr>
          <a:xfrm>
            <a:off x="0" y="189000"/>
            <a:ext cx="933480" cy="1195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诗经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》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六艺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2240" y="882360"/>
            <a:ext cx="9117000" cy="60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所谓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诗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的“六艺”，即是指“风、雅、颂”三种诗歌形式与“赋、比、兴”三种表现手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风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即国风，是各地的民歌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诗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共有十五国风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比较常见的篇目，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关雎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蒹葭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桃夭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柏舟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君子偕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伐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硕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氓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七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等。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图片 39944" descr="t017ea54fca5d7c2fb9"/>
          <p:cNvPicPr/>
          <p:nvPr/>
        </p:nvPicPr>
        <p:blipFill>
          <a:blip r:embed="rId1"/>
          <a:stretch/>
        </p:blipFill>
        <p:spPr>
          <a:xfrm>
            <a:off x="14400" y="5692680"/>
            <a:ext cx="9115200" cy="1192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-39960" y="-73440"/>
            <a:ext cx="9196200" cy="69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雅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包括大雅和小雅，多数为公卿贵族所做，一般看作“正声”。 （常见的篇目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采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鹿鸣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江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思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前两篇属小雅，后两篇属大雅）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颂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即祭祀和颂圣的乐曲，分为周颂、鲁颂和商颂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常见的篇目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客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玄鸟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等。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图片 1" descr=""/>
          <p:cNvPicPr/>
          <p:nvPr/>
        </p:nvPicPr>
        <p:blipFill>
          <a:blip r:embed="rId1"/>
          <a:stretch/>
        </p:blipFill>
        <p:spPr>
          <a:xfrm>
            <a:off x="-38160" y="4978440"/>
            <a:ext cx="9194760" cy="1881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2600" y="-34920"/>
            <a:ext cx="9118800" cy="68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是直接铺陈叙述。是最基本的表现手法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5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即比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魏风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硕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通篇用比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即起兴，用其他东西引出要说的内容。 如“关关雎鸠，在河之洲。窈窕淑女，君子好逑。”即是用雎鸠鸟在河中叫起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3" descr=""/>
          <p:cNvPicPr/>
          <p:nvPr/>
        </p:nvPicPr>
        <p:blipFill>
          <a:blip r:embed="rId1"/>
          <a:stretch/>
        </p:blipFill>
        <p:spPr>
          <a:xfrm>
            <a:off x="12600" y="4546440"/>
            <a:ext cx="9118800" cy="2286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63360"/>
            <a:ext cx="822960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朗读诗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711000"/>
            <a:ext cx="910584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郑风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子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青青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子衿，悠悠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心。纵我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往，子宁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嗣音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青青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子佩，悠悠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思。纵我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往，子宁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来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挑兮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达兮，在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城阙兮。一日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见，如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月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1" descr=""/>
          <p:cNvPicPr/>
          <p:nvPr/>
        </p:nvPicPr>
        <p:blipFill>
          <a:blip r:embed="rId1"/>
          <a:stretch/>
        </p:blipFill>
        <p:spPr>
          <a:xfrm>
            <a:off x="0" y="5516640"/>
            <a:ext cx="9105840" cy="1346040"/>
          </a:xfrm>
          <a:prstGeom prst="rect">
            <a:avLst/>
          </a:prstGeom>
          <a:ln w="0">
            <a:noFill/>
          </a:ln>
        </p:spPr>
      </p:pic>
      <p:pic>
        <p:nvPicPr>
          <p:cNvPr id="67" name="图片 38926" descr="t0177c2012190e46588"/>
          <p:cNvPicPr/>
          <p:nvPr/>
        </p:nvPicPr>
        <p:blipFill>
          <a:blip r:embed="rId2"/>
          <a:stretch/>
        </p:blipFill>
        <p:spPr>
          <a:xfrm>
            <a:off x="0" y="-63360"/>
            <a:ext cx="1181160" cy="21524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1T02:51:36Z</dcterms:created>
  <dc:creator>未知用户</dc:creator>
  <dc:description/>
  <dc:language>en-US</dc:language>
  <cp:lastModifiedBy>Administrator</cp:lastModifiedBy>
  <dcterms:modified xsi:type="dcterms:W3CDTF">2018-03-19T13:46:24Z</dcterms:modified>
  <cp:revision>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8.0.5950</vt:lpwstr>
  </property>
</Properties>
</file>