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D254-81B6-42A5-8695-47A54D4C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E5B4-1A05-46A4-BB9B-172291A6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B042E-17A2-4F23-B0D9-A2E9CC5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CE77-FF2E-4E4A-9977-AB9BC2A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6E04A-B466-4678-8535-6BF60C1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97D2-ACFF-480A-96FA-5ED78D8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B967-B522-4A3C-ACE2-4004B39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4E1F-26DB-4DF9-BCBC-C0B22512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1CAC-33F7-4015-A78C-7147E9B7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956B1-9A0A-4CCD-9594-43970608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93A5-D07A-4446-8BD3-0DC84AA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CA39-2ECE-4FB9-9C42-4BE49139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70B6-2814-4EE1-8319-A273B39A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463A5-8E72-4AD8-9596-DCA1349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2F17-DA1F-4586-BDB5-C63A2518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463E-4D3F-45A8-9FFC-4495BF4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FD082-64D2-4CF4-8BE0-179D6064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41AFC-ABF3-4C79-959B-78017A5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37FC-9FD3-4CB8-AE12-C13E155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C5B3-55A0-4BE0-917E-EE51E84D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56796-A9E4-4A45-820E-B9231CBF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9AE5F-4358-45D3-B9CC-06439572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0CD3-E635-469E-BD2A-6D79524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E32D2-3C3F-4EDA-B809-DE37773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3D745-D6EB-4A09-A754-98E561D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8FF4C-F19F-41C7-81B0-04339BE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2E7DC-9C9D-401A-8A98-470296DC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E3D5-2081-4D9B-8834-7DC7F258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E8F60-2CA2-4E7A-9460-BA00E12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3BAE-3082-4478-87D8-5288510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C4EE6-EC6C-433C-BD58-0EF191C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DF6AF-19C6-4617-B41E-D4138BC4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A3836-8065-4FBD-8EC0-A8A5C1BF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7D441-9D40-4ADC-9DBD-281B5EE6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CDBB9-80E1-4647-A8CC-4A20C628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66BBE-9FE1-4375-A280-8D562FF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0E079-1D7E-4EDB-AF5E-4AD59690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04AB-1002-43DA-AD03-BBDDC3E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41226-27CC-41F6-AF4A-5ED4C8B1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A7A6-130C-464B-9826-7B52D5E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E4E3-78DA-4808-B201-57916A3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9B60-5023-484E-AB45-2C74E6A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65172-B6FF-4387-A49D-1D39A12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4A23-B693-4813-B992-C732655A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E43A3-54DC-4F7A-BB0B-4CE0A8B3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17A-7BB4-4658-B9E1-ED9DCBEE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6E2-AD1D-493C-B59D-695FCB3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24C-E876-406F-B968-380D1AD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F0A-01FE-4771-9894-AF96314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73C-4246-47F3-A6C0-7CF0B77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B25-1F5C-486B-ABB8-AE314A3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E8F-E549-4B36-BB85-C768138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1CE-9AB5-46A0-B796-59AC154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D84-3FEB-4C45-8505-C6CBC8E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33-8E9D-4311-BE27-B5711B3F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54F-7C91-4077-AA31-6520E45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B4F-8387-46EC-B139-2661C3DF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6B2-9F9C-4779-A76C-BDEFF498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E362-64E5-460B-81F7-2D89A3E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39D-7B9F-4E87-885F-14AB1DC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F822-31FE-42AF-98EF-FEF4A79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4918-6409-4560-A843-F37E3139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55F2-D1CA-4D24-AEAA-2E60D41F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45A-952E-4494-9733-D38C310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156-B7DF-4BBA-8C57-8E6963F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F39-FE6D-4547-8BEC-0966CEE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1A27-6564-4172-B3E8-B08F909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7FEF-6134-4001-B011-ADFC0AD1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FF8-5649-4F9D-A405-6F490408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F482-2BE7-4751-B0E3-20CAC87A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E3DA-A41E-4974-BAEE-7450A30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C097-CC28-47C1-AB7D-CF382DD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9446-D812-4529-A7C0-2ACDDF1C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B098-8A77-4303-9D2C-C179026F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CC3E-62BE-4EF2-88F4-C2D4B25F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F8D4-F322-4D90-9233-CE9CF61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13E0-1DD3-4A1B-B9AC-903412A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6805-1709-47EB-A5A3-269EB76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D53E-FAF8-4980-A271-F6B6B5B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76E2-83E3-42F6-A9D8-5E7E4326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2519-28F7-4F7A-8AF8-27611650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3CF9-49E3-4B9B-9896-8C7E5CC5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8F74-3D47-4764-B721-13E1BCC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F2BE-E2CA-49CD-A5EB-52F5CEA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00C8-4A62-42EA-B78B-78E7BE6F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2AD7-3742-4DA8-A92B-876AB8E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45FF-D7DC-4068-AA22-95B2BDF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9F90-E7C4-4D06-BA33-C55757C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9F35-3B15-4416-9DA6-083AC42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7819-09CB-4BBB-9A3F-D7CDEC6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D98E-47F6-48E3-9E3F-6FC4226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6E36-D0D9-4013-83D7-4F70A7C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C559-F522-451D-9A99-EB3F88D5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7A8C-AAC8-4777-A18F-BE2FD075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1449-E09D-4EBD-9199-47A8A33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25EB-999F-4B7D-A138-7BF10B7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2804-C5F0-4225-814A-773400C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A9C4-83F7-4A76-8D7B-D3AB23FF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9BF74-CF0B-4E47-A72C-7967708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4869-E5B9-4C7F-B36E-2317C95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CDA8-C93C-4142-A95C-A3B0915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2D36-963B-4FCB-A278-F124474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46CB-F759-44E7-8F43-803FAB6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F73D-36DF-4B34-94A1-5A22BDF8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A610-A093-4A2A-A2A8-8BCF7401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4D2A-CF74-4A0E-9F87-AC360BC7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45A2-1557-46A8-95C5-B016393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6E1A-DA79-4009-8C03-0E1B928F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B551-843C-42D9-B981-9968A41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6566B-788E-4D4C-B69C-2F17225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837AA-02BA-4716-BEA5-5B08FF8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16CC-E8D2-4F2C-A9F7-F5DFE58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A84F-BC49-433C-9301-2FF293A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6B5B-BCF8-4E95-9BC2-472E33D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B79E-1A99-4CC2-97BB-2FE5F2A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0DFB-AA9F-4FB0-AD56-D0382B14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0466-1285-4CC6-A84E-6A102A3F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4F0F-AB63-434A-9489-16920F61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A1F3-FEBA-47E2-875C-BC45E64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D8BB9-3A70-4FF4-8D91-C9BAB99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B60-468B-4A38-A088-83091B8DDB8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C03-698B-4025-B345-7E9C08A849A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5DC-8E8F-4952-B7E3-F658234F444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2710-7CBE-4FC8-AAC4-A3AF37C102A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19D-C1AB-4CE5-8569-FA87A693E03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6526-1D46-4C18-89CE-99E2D58B985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190-C108-43D8-8B76-50DEA7A8326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392-C013-43CD-BC8E-22215A626F2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4610-0301-463B-8C24-062C36EF9FF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0BDC-D44D-4CBA-8B9E-62C913801E0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idu.com/s?wd=&#32993;&#19981;&#24402;&amp;hl_tag=textlink&amp;tn=SE_hldp01350_v6v6zkg6" TargetMode="External"/><Relationship Id="rId2" Type="http://schemas.openxmlformats.org/officeDocument/2006/relationships/hyperlink" Target="http://www.baidu.com/s?wd=&#32993;&#19981;&#24402;&amp;hl_tag=textlink&amp;tn=SE_hldp01350_v6v6zkg6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2" descr="6.png"/>
          <p:cNvPicPr/>
          <p:nvPr/>
        </p:nvPicPr>
        <p:blipFill>
          <a:blip r:embed="rId1"/>
          <a:srcRect l="-3905" t="0" r="0" b="0"/>
          <a:stretch/>
        </p:blipFill>
        <p:spPr>
          <a:xfrm>
            <a:off x="1160640" y="912960"/>
            <a:ext cx="7983360" cy="480204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4" descr="10.png"/>
          <p:cNvPicPr/>
          <p:nvPr/>
        </p:nvPicPr>
        <p:blipFill>
          <a:blip r:embed="rId2"/>
          <a:srcRect l="0" t="0" r="50205" b="52247"/>
          <a:stretch/>
        </p:blipFill>
        <p:spPr>
          <a:xfrm>
            <a:off x="0" y="2986200"/>
            <a:ext cx="4554360" cy="27288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5" descr="2.png"/>
          <p:cNvPicPr/>
          <p:nvPr/>
        </p:nvPicPr>
        <p:blipFill>
          <a:blip r:embed="rId3"/>
          <a:srcRect l="73439" t="55002" r="14063" b="25002"/>
          <a:stretch/>
        </p:blipFill>
        <p:spPr>
          <a:xfrm>
            <a:off x="882972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5.png"/>
          <p:cNvPicPr/>
          <p:nvPr/>
        </p:nvPicPr>
        <p:blipFill>
          <a:blip r:embed="rId4"/>
          <a:srcRect l="82814" t="26250" r="9375" b="62501"/>
          <a:stretch/>
        </p:blipFill>
        <p:spPr>
          <a:xfrm>
            <a:off x="9001080" y="243036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1" descr="3.png"/>
          <p:cNvPicPr/>
          <p:nvPr/>
        </p:nvPicPr>
        <p:blipFill>
          <a:blip r:embed="rId5"/>
          <a:srcRect l="14063" t="46251" r="75002" b="35001"/>
          <a:stretch/>
        </p:blipFill>
        <p:spPr>
          <a:xfrm>
            <a:off x="9468000" y="1562040"/>
            <a:ext cx="1000080" cy="1071720"/>
          </a:xfrm>
          <a:prstGeom prst="rect">
            <a:avLst/>
          </a:prstGeom>
          <a:ln w="0">
            <a:noFill/>
          </a:ln>
        </p:spPr>
      </p:pic>
      <p:sp>
        <p:nvSpPr>
          <p:cNvPr id="515" name="WordArt 15"/>
          <p:cNvSpPr txBox="1"/>
          <p:nvPr/>
        </p:nvSpPr>
        <p:spPr>
          <a:xfrm>
            <a:off x="1332000" y="1273320"/>
            <a:ext cx="666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诗经  郑风  子衿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16" name="子衿 - 诗经.mp3" descr=""/>
          <p:cNvPicPr/>
          <p:nvPr/>
        </p:nvPicPr>
        <p:blipFill>
          <a:blip r:embed="rId6"/>
          <a:stretch/>
        </p:blipFill>
        <p:spPr>
          <a:xfrm>
            <a:off x="4419720" y="270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38 4.05338E-006 C -0.01424 -0.00139 -0.04063 -0.00473 -0.05816 -0.00834 C -0.0757 -0.01196 -0.07049 -0.00195 -0.11025 -0.02141 C -0.15 -0.04087 -0.25799 -0.10426 -0.29688 -0.12594 E">
                                      <p:cBhvr>
                                        <p:cTn id="13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1.11111E-006 C -0.00903 -0.0025 -0.03386 -0.00833 -0.054 -0.01528 C -0.07413 -0.02222 -0.09288 -0.04639 -0.12118 -0.04139 C -0.14948 -0.03639 -0.20209 0.00333 -0.22344 0.015 E">
                                      <p:cBhvr>
                                        <p:cTn id="15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452 1.58421E-006 C -0.02934 -0.00028 -0.14149 0.00861 -0.19826 -0.00223 C -0.25503 -0.01306 -0.30729 -0.05225 -0.33593 -0.06532 E">
                                      <p:cBhvr>
                                        <p:cTn id="17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8195" descr="18"/>
          <p:cNvPicPr/>
          <p:nvPr/>
        </p:nvPicPr>
        <p:blipFill>
          <a:blip r:embed="rId1"/>
          <a:stretch/>
        </p:blipFill>
        <p:spPr>
          <a:xfrm>
            <a:off x="762120" y="243000"/>
            <a:ext cx="3873240" cy="547200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8196"/>
          <p:cNvSpPr/>
          <p:nvPr/>
        </p:nvSpPr>
        <p:spPr>
          <a:xfrm>
            <a:off x="1450800" y="217440"/>
            <a:ext cx="66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挑兮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，在城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8197"/>
          <p:cNvSpPr/>
          <p:nvPr/>
        </p:nvSpPr>
        <p:spPr>
          <a:xfrm>
            <a:off x="3852720" y="1236600"/>
            <a:ext cx="4079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挑达：来往轻盈的样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城阙：城门两侧的角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8198"/>
          <p:cNvSpPr/>
          <p:nvPr/>
        </p:nvSpPr>
        <p:spPr>
          <a:xfrm>
            <a:off x="3790800" y="3338640"/>
            <a:ext cx="3781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走来走去望眼欲穿啊，在高高的城楼上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1269" descr="242"/>
          <p:cNvPicPr/>
          <p:nvPr/>
        </p:nvPicPr>
        <p:blipFill>
          <a:blip r:embed="rId1"/>
          <a:stretch/>
        </p:blipFill>
        <p:spPr>
          <a:xfrm>
            <a:off x="762120" y="3076560"/>
            <a:ext cx="2560680" cy="263844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11270"/>
          <p:cNvSpPr/>
          <p:nvPr/>
        </p:nvSpPr>
        <p:spPr>
          <a:xfrm>
            <a:off x="2052720" y="576360"/>
            <a:ext cx="4140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1271"/>
          <p:cNvSpPr/>
          <p:nvPr/>
        </p:nvSpPr>
        <p:spPr>
          <a:xfrm>
            <a:off x="1512720" y="757080"/>
            <a:ext cx="62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日不见，如三月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1272"/>
          <p:cNvSpPr/>
          <p:nvPr/>
        </p:nvSpPr>
        <p:spPr>
          <a:xfrm>
            <a:off x="3732120" y="2317680"/>
            <a:ext cx="4349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没有见到你，仿佛像三个月一般，如此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2481120" y="409680"/>
            <a:ext cx="39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青青子衿，悠悠我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嗣音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60760" y="4513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衣领，悠悠的是我的心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就此断音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1403280" y="336600"/>
            <a:ext cx="684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青青子佩，悠悠我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161160" y="364968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玉佩，悠悠的是我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不能主动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3671280" y="554040"/>
            <a:ext cx="170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挑兮达兮，在城阙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日不见，如三月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299120" y="39369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来往往张眼望啊，在这高高城楼上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天不见你的面呵，好像已有三月长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4"/>
          <p:cNvSpPr txBox="1"/>
          <p:nvPr/>
        </p:nvSpPr>
        <p:spPr>
          <a:xfrm>
            <a:off x="539640" y="48096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赏析</a:t>
            </a:r>
            <a:endParaRPr b="0" lang="en-US" sz="72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50920" y="1704960"/>
            <a:ext cx="90122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　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这首诗写一个女子在城楼上等候她的恋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全诗三章，采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倒叙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前两章以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口气自述怀人。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衿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佩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是以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衣饰借代恋人。对方的衣饰给她留下这么深刻的印象，使她念念不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可见其相思萦怀之情。如今因受阻不能前去赴约，只好等恋人过来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会，可望穿秋水，不见人影儿，浓浓的爱意不由转化为惆怅与幽怨：纵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没有去找你，你为何就不能捎个音信？纵然我没有去找你，你为何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不能主动前来？第三章点明地点，写她在城楼上因久候恋人不至而心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意乱，来来回回地走个不停，觉得虽然只有一天不见面，却好像分别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三个月那么漫长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07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7411"/>
          <p:cNvSpPr/>
          <p:nvPr/>
        </p:nvSpPr>
        <p:spPr>
          <a:xfrm>
            <a:off x="1271520" y="157320"/>
            <a:ext cx="43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事对象使用第二人称你，在感情表达上更加直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17412" descr="24"/>
          <p:cNvPicPr/>
          <p:nvPr/>
        </p:nvPicPr>
        <p:blipFill>
          <a:blip r:embed="rId1"/>
          <a:stretch/>
        </p:blipFill>
        <p:spPr>
          <a:xfrm>
            <a:off x="3851280" y="2090880"/>
            <a:ext cx="4530600" cy="362412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17413"/>
          <p:cNvSpPr/>
          <p:nvPr/>
        </p:nvSpPr>
        <p:spPr>
          <a:xfrm>
            <a:off x="1450800" y="2197080"/>
            <a:ext cx="46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从诗中，我们看到了一个痴情的女子，一个热情奔放的女子，一个感性的女子。她没有太多的矜持，勇敢追求爱情。从她身上，我们可以看见先秦时代人民对生活的热情以及对于美好生活的追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1143000" y="190440"/>
            <a:ext cx="6222960" cy="7398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211400" y="1117440"/>
            <a:ext cx="6121440" cy="4260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比一比、赛一赛，看哪位同学背得最快、最熟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练笔：学会用诗歌释放感情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笑脸 63491"/>
          <p:cNvSpPr/>
          <p:nvPr/>
        </p:nvSpPr>
        <p:spPr>
          <a:xfrm>
            <a:off x="5052960" y="2378160"/>
            <a:ext cx="1440000" cy="126036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艺术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912960"/>
            <a:ext cx="822960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“赋”的运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赋”就是铺陈直叙。即诗人把思想感情及有关的事物平铺直叙地表达出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了诗歌的艺术形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句式以“四言”为主，其间杂有“五言”。四字句节奏鲜明而略显短促，使得整首诗韵律整齐，带有很强的节奏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“重章叠句”和“双生叠韵” 读起来回环往复，节奏舒卷徐缓，一唱三叹的艺术效果，不仅使语言具有了音乐美，而且在表意和修辞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语言上具有音乐美，而且在表意和修辞上、描写手法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94211" descr="2005072601050870641"/>
          <p:cNvPicPr/>
          <p:nvPr/>
        </p:nvPicPr>
        <p:blipFill>
          <a:blip r:embed="rId1"/>
          <a:stretch/>
        </p:blipFill>
        <p:spPr>
          <a:xfrm>
            <a:off x="762120" y="1477800"/>
            <a:ext cx="7619760" cy="42372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8580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在你的生活中哪些人会时刻思念着你？你想对他们说些什么？组织一段文字写出自己的感受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94212"/>
          <p:cNvSpPr/>
          <p:nvPr/>
        </p:nvSpPr>
        <p:spPr>
          <a:xfrm>
            <a:off x="1092240" y="457200"/>
            <a:ext cx="75009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94214"/>
          <p:cNvSpPr/>
          <p:nvPr/>
        </p:nvSpPr>
        <p:spPr>
          <a:xfrm>
            <a:off x="1392120" y="396720"/>
            <a:ext cx="73202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94215"/>
          <p:cNvSpPr/>
          <p:nvPr/>
        </p:nvSpPr>
        <p:spPr>
          <a:xfrm>
            <a:off x="1434960" y="157320"/>
            <a:ext cx="70977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Calibri"/>
              </a:rPr>
              <a:t>教学目标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11160" y="1536480"/>
            <a:ext cx="6858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理解解诗意的基础上，背诵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子衿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品读诗词，体验思念这种情感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尝试将自己的思念之情化为诗歌，学会用诗歌释放情感的方法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15376"/>
          <p:cNvSpPr/>
          <p:nvPr/>
        </p:nvSpPr>
        <p:spPr>
          <a:xfrm>
            <a:off x="2951280" y="2197080"/>
            <a:ext cx="3706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5377"/>
          <p:cNvSpPr/>
          <p:nvPr/>
        </p:nvSpPr>
        <p:spPr>
          <a:xfrm>
            <a:off x="1751040" y="1897200"/>
            <a:ext cx="63612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一、温故知新：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、重温经典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式微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143000" y="111744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简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齐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指生背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91880" y="157320"/>
            <a:ext cx="6737400" cy="768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经典再现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式微</a:t>
            </a:r>
            <a:r>
              <a:rPr b="1" lang="en-US" sz="3600" spc="-1" strike="noStrike" baseline="30000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996840"/>
            <a:ext cx="6858000" cy="4440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故，胡为乎中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2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躬，胡为乎泥中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68646"/>
          <p:cNvSpPr/>
          <p:nvPr/>
        </p:nvSpPr>
        <p:spPr>
          <a:xfrm>
            <a:off x="1152360" y="338040"/>
            <a:ext cx="528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朗读、背诵         诗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子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68647"/>
          <p:cNvSpPr/>
          <p:nvPr/>
        </p:nvSpPr>
        <p:spPr>
          <a:xfrm>
            <a:off x="2771640" y="1236600"/>
            <a:ext cx="46198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衿，悠悠我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嗣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佩，悠悠我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来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挑兮达兮，在城阙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日不见，如三月兮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4099" descr="21"/>
          <p:cNvPicPr/>
          <p:nvPr/>
        </p:nvPicPr>
        <p:blipFill>
          <a:blip r:embed="rId1"/>
          <a:stretch/>
        </p:blipFill>
        <p:spPr>
          <a:xfrm>
            <a:off x="3732120" y="0"/>
            <a:ext cx="4996080" cy="571500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4104"/>
          <p:cNvSpPr/>
          <p:nvPr/>
        </p:nvSpPr>
        <p:spPr>
          <a:xfrm>
            <a:off x="1092240" y="157320"/>
            <a:ext cx="66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悠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105"/>
          <p:cNvSpPr/>
          <p:nvPr/>
        </p:nvSpPr>
        <p:spPr>
          <a:xfrm>
            <a:off x="1271520" y="817560"/>
            <a:ext cx="438012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释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：男子的美称。 这里是指第二人称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衿：衣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：思绪不断的样子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形容忧伤的样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4106"/>
          <p:cNvSpPr/>
          <p:nvPr/>
        </p:nvSpPr>
        <p:spPr>
          <a:xfrm>
            <a:off x="1152360" y="4057560"/>
            <a:ext cx="43196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青青的衣领啊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在我的心间萦绕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123" descr="22"/>
          <p:cNvPicPr/>
          <p:nvPr/>
        </p:nvPicPr>
        <p:blipFill>
          <a:blip r:embed="rId1"/>
          <a:stretch/>
        </p:blipFill>
        <p:spPr>
          <a:xfrm>
            <a:off x="762120" y="1000080"/>
            <a:ext cx="2619360" cy="471492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5124"/>
          <p:cNvSpPr/>
          <p:nvPr/>
        </p:nvSpPr>
        <p:spPr>
          <a:xfrm>
            <a:off x="1152360" y="157320"/>
            <a:ext cx="588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子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不嗣音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5125"/>
          <p:cNvSpPr/>
          <p:nvPr/>
        </p:nvSpPr>
        <p:spPr>
          <a:xfrm>
            <a:off x="3611520" y="817560"/>
            <a:ext cx="38401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往：前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宁：难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嗣音：继续传送音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126"/>
          <p:cNvSpPr/>
          <p:nvPr/>
        </p:nvSpPr>
        <p:spPr>
          <a:xfrm>
            <a:off x="3790800" y="3817800"/>
            <a:ext cx="36021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127"/>
          <p:cNvSpPr/>
          <p:nvPr/>
        </p:nvSpPr>
        <p:spPr>
          <a:xfrm>
            <a:off x="3611520" y="3457440"/>
            <a:ext cx="45910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纵然我不前往与你相会，你难道就不捎个音信给我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6148" descr="25"/>
          <p:cNvPicPr/>
          <p:nvPr/>
        </p:nvPicPr>
        <p:blipFill>
          <a:blip r:embed="rId1"/>
          <a:stretch/>
        </p:blipFill>
        <p:spPr>
          <a:xfrm>
            <a:off x="762120" y="0"/>
            <a:ext cx="3689280" cy="29494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6149"/>
          <p:cNvSpPr/>
          <p:nvPr/>
        </p:nvSpPr>
        <p:spPr>
          <a:xfrm>
            <a:off x="1152360" y="2857680"/>
            <a:ext cx="31798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悠悠我思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6150"/>
          <p:cNvSpPr/>
          <p:nvPr/>
        </p:nvSpPr>
        <p:spPr>
          <a:xfrm>
            <a:off x="4451400" y="1117440"/>
            <a:ext cx="3300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佩：玉佩，绿色宝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6151"/>
          <p:cNvSpPr/>
          <p:nvPr/>
        </p:nvSpPr>
        <p:spPr>
          <a:xfrm>
            <a:off x="4392720" y="3278160"/>
            <a:ext cx="39891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译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所佩戴的那绿色的宝石，一直在我的脑海徘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7172"/>
          <p:cNvSpPr/>
          <p:nvPr/>
        </p:nvSpPr>
        <p:spPr>
          <a:xfrm>
            <a:off x="1092240" y="517680"/>
            <a:ext cx="263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子宁不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7175"/>
          <p:cNvSpPr/>
          <p:nvPr/>
        </p:nvSpPr>
        <p:spPr>
          <a:xfrm>
            <a:off x="1571760" y="3097080"/>
            <a:ext cx="57006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然我不前往与你见面，你难道就不主动前来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7176" descr="26"/>
          <p:cNvPicPr/>
          <p:nvPr/>
        </p:nvPicPr>
        <p:blipFill>
          <a:blip r:embed="rId1"/>
          <a:stretch/>
        </p:blipFill>
        <p:spPr>
          <a:xfrm>
            <a:off x="3581280" y="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9:39:30Z</dcterms:created>
  <dc:creator>锐得PPT</dc:creator>
  <dc:description>http://bbs.ruideppt.com</dc:description>
  <dc:language>en-US</dc:language>
  <cp:lastModifiedBy>User</cp:lastModifiedBy>
  <dcterms:modified xsi:type="dcterms:W3CDTF">2018-02-06T01:55:36Z</dcterms:modified>
  <cp:revision>68</cp:revision>
  <dc:subject/>
  <dc:title>岁寒三友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