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ACC-53F9-40FE-8F36-8E63F6A9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49D-5B16-4F36-9F64-78320F24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567-DF3C-4C51-9248-70914512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4BF-1245-4570-BB95-035771B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3D8-85C6-4D5B-BB56-8D84FCDC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F83-C0E7-44C3-810D-33B3044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C84-798B-4D8D-A9F7-3ED1BF73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FF1-6792-4916-8B51-B3BC4ED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5D4-CA76-4670-9122-C417C7F6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1CE-7E6B-4EBF-ABDD-ADD926F3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DF6-59A9-4E2D-9F6D-4F19023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7E1-24CE-4006-8E1F-2883EEE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A420-5664-4D2C-A0F3-755BF7838C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691080"/>
            <a:ext cx="3073320" cy="316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69228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907920"/>
            <a:ext cx="748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卜算子   李之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住长江头，君住长江尾。日日思君不见君，共饮长江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水几时休？此恨何时已？只愿君心似我心，定不负相思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62064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子宁不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716280"/>
            <a:ext cx="6840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然我不前往与你见面，你难道就不主动前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82920" y="0"/>
            <a:ext cx="57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91960"/>
            <a:ext cx="4648320" cy="656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6028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挑兮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兮，在城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1484280"/>
            <a:ext cx="489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注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挑达：来往轻盈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城阙：城门两侧的角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4005360"/>
            <a:ext cx="453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高高的城楼上，看那来来往往的人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691080"/>
            <a:ext cx="3073320" cy="316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69228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90792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日不见，如三月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2781360"/>
            <a:ext cx="52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楷体_GB2312"/>
              </a:rPr>
              <a:t>译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天没有见到你，仿佛像三个月一般，如此漫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2562120"/>
            <a:ext cx="6443640" cy="4295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80000" y="189000"/>
            <a:ext cx="266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青青子衿，悠悠我心。 纵我不往，子宁不嗣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青青子佩，悠悠我思。 纵我不往，子宁不来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挑兮达兮，在城阙兮。 一日不见，如三月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583380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诗分为三章，采用倒叙手法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两章以“我”的口气自述怀人。“青青子衿”，“青青子佩”，是以恋人的衣饰借代恋人。对方的衣饰给她留下这么深刻的印象，使她念念不忘，可想见其相思之情。如今因受阻不能前去赴约，只好等恋人过来相会，可望穿秋水，不见影儿，浓浓的爱意不由转化为惆怅与幽怨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章点明地写她在城楼上因久候恋人不至而心烦意乱，来来回回地走个不停，觉得虽然只有一天不见面，却好像分别了三个月那么漫长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516640"/>
            <a:ext cx="43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189000"/>
            <a:ext cx="0" cy="489564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3640" y="260280"/>
            <a:ext cx="576108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即铺陈、排比 。铺排系将一连串内容紧密关联的景观物象、事态现象、人物形象和性格行为，按照一定的顺序组成一组结构基本相同、语气基本一致的句群。它既可以淋漓尽致地细腻铺写，又可以一气贯注、加强语势，还可以渲染某种环境、气氛和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青青子衿，悠悠我心。 纵我不往，子宁不嗣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青青子佩，悠悠我思。 纵我不往，子宁不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八句对仗工整，以排比的手法写出了对方服饰给我留下的深刻印象，进而表达了淋漓尽致地我对于情人无比的思念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40520" y="3573360"/>
            <a:ext cx="3003480" cy="328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189000"/>
            <a:ext cx="655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全诗五十字不到，但女主人公等待恋人时的焦灼万分的情状宛然如在目前。这种艺术效果的获得，在于诗人在创作中运用了大量的心理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表现这个女子的动作行为仅用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“挑”、“达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字，主要笔墨都用在刻划她的心理活动上，如前两章对恋人既全无音问、又不见影儿的埋怨，末章“一日不见，如三月兮”的独白。两段埋怨之辞，以“纵我”与“子宁”对举，急盼之情中不无矜持之态，令人生出无限想像，可谓字少而意多。末尾的内心独自，则通过夸张修辞技巧，造成主观时间与客观时间的反差，从而将其强烈的情绪心理形象地表现了出来，可谓因夸以成状，沿饰而得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叙事对象使用第二人称你，在感情表达上更加直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706920" y="2508120"/>
            <a:ext cx="5437080" cy="4349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2637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从诗中，我们看到了一个痴情的女子，一个热情奔放的女子，一个感性的女子。她没有太多的矜持，勇敢追求爱情。从她身上，我们可以看见先秦时代人民对生活的热情以及对于美好生活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740640" cy="6783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48000" y="2133720"/>
            <a:ext cx="18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9079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子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5661000"/>
            <a:ext cx="201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40360" y="2637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诗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风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907920"/>
            <a:ext cx="74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青子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我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纵我不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宁不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青青子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我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纵我不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宁不来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兮达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城阙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一日不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三月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74240" y="476280"/>
            <a:ext cx="1642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子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429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0"/>
            <a:ext cx="345600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青子衿，悠悠我心。 纵我不往，子宁不嗣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青子佩，悠悠我思。 纵我不往，子宁不来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兮达兮，在城阙兮。 一日不见，如三月兮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500280"/>
            <a:ext cx="4067280" cy="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0536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：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主要内容：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一个女子在城楼上张望着，盼望着情人的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主题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：对爱情的歌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40520" y="3573360"/>
            <a:ext cx="3003480" cy="328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6553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全诗五十字不到，但女主人公等待恋人时的焦灼万分的情状宛然如在目前。这种艺术效果的获得，在于诗人在创作中运用了大量的心理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表现这个女子的动作行为仅用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“挑”、“达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字，主要笔墨都用在刻划她的心理活动上，如前两章对恋人既全无音问、又不见影儿的埋怨，末章“一日不见，如三月兮”的独白。两段埋怨之辞，以“纵我”与“子宁”对举，急盼之情中不无矜持之态，令人生出无限想像，可谓字少而意多。末尾的内心独自，则通过夸张修辞技巧，造成主观时间与客观时间的反差，从而将其强烈的情绪心理形象地表现了出来，可谓因夸以成状，沿饰而得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691080"/>
            <a:ext cx="307332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47640" y="69228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620640"/>
            <a:ext cx="31669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今天晚上的星星很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知道它们跑哪去了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赤裸裸的天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星星多寂廖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以为伤心可以很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以为我能过得很好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知道一想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念苦无药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处可逃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的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的外套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白色袜子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你身上的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想念你的吻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手指淡淡烟草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忆中曾被爱的味道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2412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味道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唱：辛晓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549360"/>
            <a:ext cx="3167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今天晚上的心事很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知道这样算好不好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赤裸裸的寂寞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朝着心头绕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以为伤心可以很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以为我能过得很好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知道一想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念苦无药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处可逃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的笑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的外套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念你白色袜子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你身上的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想念你的吻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手指淡淡烟草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忆中曾被爱的味道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995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1890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悠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981000"/>
            <a:ext cx="5256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注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：男子的美称。 这里是指第二人称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衿：本义是古代衣服的交领 这里专指古代读书人穿的衣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：思绪不断的样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形容忧伤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869000"/>
            <a:ext cx="51832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青青的衣领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在我的心间萦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3143160" cy="565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189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子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嗣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981000"/>
            <a:ext cx="460836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注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往：前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宁：难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嗣音：继续传送音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58136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4149720"/>
            <a:ext cx="550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纵然我不前往与你相会，你难道就不捎个音信给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54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3429000"/>
            <a:ext cx="38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悠悠我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134136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Arial"/>
                <a:ea typeface="楷体_GB2312"/>
              </a:rPr>
              <a:t>注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佩：佩戴玉石用的绶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3933720"/>
            <a:ext cx="47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Arial"/>
                <a:ea typeface="楷体_GB2312"/>
              </a:rPr>
              <a:t>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所佩戴的那绿色的宝石，一直在我的脑海徘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9:40:52Z</dcterms:created>
  <dc:creator>best</dc:creator>
  <dc:description/>
  <dc:language>en-US</dc:language>
  <cp:lastModifiedBy>上虞中学</cp:lastModifiedBy>
  <dcterms:modified xsi:type="dcterms:W3CDTF">2013-12-09T11:26:48Z</dcterms:modified>
  <cp:revision>16</cp:revision>
  <dc:subject/>
  <dc:title>幻灯片 1</dc:title>
</cp:coreProperties>
</file>