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F06E7-8255-429D-9E5A-609844AC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6CCDA-EC5E-4BC6-AE97-B47ABEC2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28396-D457-4195-9D14-7475FC6E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E6DD3-D29A-42AC-B0F9-AE1F710E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7238-8E74-480D-A49E-5051104D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EC99-308E-4244-95A2-857B55F0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484F-C70D-49E8-BCCA-70A99D92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F769-A29F-4808-B030-3C3C476C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5F6F-E81C-4360-8F16-B6607A13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DB52-C886-4BFC-BBC2-988299F4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674E-FA85-4F3D-8504-9005D61A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C740E-9898-48F2-8BC6-9D427E43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7B89-A4E8-4ED0-BA2E-3EB3BAE5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8006-9580-4BFD-A371-20EC7E22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FF1D-9FA6-4898-B7B7-EA7C78AC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5BDA-9CD9-466A-9A46-887DA1EE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B942-470C-4E67-A4FC-2F4A41CB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38879-3508-49C8-90F1-7309F51B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DB17D-A5A6-424A-ABB7-E9E75B7D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08DE2-59BB-4662-AFE0-74771EFA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6BD6A-9578-4BB0-B80A-6E6B0230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B9804-D164-4A10-B892-EA0BC892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64D9A-5293-466B-BFFC-9FB4F2CC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7BB3A-06DA-4644-B698-34F63A80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6BDA-BAD8-4184-AB7D-C1DA3A7C2BCA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801B-DF1C-499A-A6CF-B695AD82F07F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hxx.com.cn/xinli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35640" y="277560"/>
            <a:ext cx="266544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Lucida Sans Unicode"/>
                <a:ea typeface="GulimChe"/>
              </a:rPr>
              <a:t>诗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Lucida Sans Unicode"/>
                <a:ea typeface="GulimChe"/>
              </a:rPr>
              <a:t>经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Lucida Sans Unicode"/>
                <a:ea typeface="GulimChe"/>
              </a:rPr>
              <a:t>．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Lucida Sans Unicode"/>
                <a:ea typeface="GulimChe"/>
              </a:rPr>
              <a:t>郑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Lucida Sans Unicode"/>
                <a:ea typeface="GulimChe"/>
              </a:rPr>
              <a:t> 风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Lucida Sans Unicode"/>
                <a:ea typeface="GulimChe"/>
              </a:rPr>
              <a:t>﹒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Lucida Sans Unicode"/>
                <a:ea typeface="GulimChe"/>
              </a:rPr>
              <a:t>子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Lucida Sans Unicode"/>
                <a:ea typeface="GulimChe"/>
              </a:rPr>
              <a:t>衿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404640"/>
            <a:ext cx="4032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396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艺术手法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、赋、的运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赋”就是铺陈直叙。即诗人把思想感情及有关的事物平铺直叙地表达出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创造了诗歌的艺术形象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二、句式以“四言”为主，其间杂有“五言”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三、“重章”、“叠句”的使用构成了，回复往返，一唱三叹的艺术效果，不仅使语言具有了音乐美，而且在表意和修辞上也具有很好的效果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教学目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了解《诗经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理解并欣赏课文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《诗经》简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3700" spc="-1" strike="noStrike">
                <a:solidFill>
                  <a:srgbClr val="ffffff"/>
                </a:solidFill>
                <a:latin typeface="Tahoma"/>
              </a:rPr>
              <a:t>《诗经》是我国最早的一部诗歌总集，本称“诗”，汉代时被儒家奉为经典，才称《诗经》，收录了从西周到春秋时期的</a:t>
            </a:r>
            <a:r>
              <a:rPr b="0" lang="zh-CN" sz="3700" spc="-1" strike="noStrike">
                <a:solidFill>
                  <a:srgbClr val="ffffff"/>
                </a:solidFill>
                <a:latin typeface="Tahoma"/>
              </a:rPr>
              <a:t>305</a:t>
            </a:r>
            <a:r>
              <a:rPr b="0" lang="zh-CN" sz="3700" spc="-1" strike="noStrike">
                <a:solidFill>
                  <a:srgbClr val="ffffff"/>
                </a:solidFill>
                <a:latin typeface="Tahoma"/>
              </a:rPr>
              <a:t>篇诗歌，又称“诗三百”。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《诗经》的分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2600" spc="-1" strike="noStrike">
                <a:solidFill>
                  <a:srgbClr val="ffffff"/>
                </a:solidFill>
                <a:latin typeface="Tahoma"/>
              </a:rPr>
              <a:t>《诗经》中的诗，当时都是能演唱的歌词。按所配乐曲的性质，可分成风、雅、颂三类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Tahoma"/>
              </a:rPr>
              <a:t>        “</a:t>
            </a:r>
            <a:r>
              <a:rPr b="0" lang="zh-CN" sz="2700" spc="-1" strike="noStrike">
                <a:solidFill>
                  <a:srgbClr val="ffffff"/>
                </a:solidFill>
                <a:latin typeface="Tahoma"/>
              </a:rPr>
              <a:t>风”是民谣、土乐，有十五国风，</a:t>
            </a:r>
            <a:r>
              <a:rPr b="0" lang="zh-CN" sz="2700" spc="-1" strike="noStrike">
                <a:solidFill>
                  <a:srgbClr val="ffffff"/>
                </a:solidFill>
                <a:latin typeface="Tahoma"/>
              </a:rPr>
              <a:t>160</a:t>
            </a:r>
            <a:r>
              <a:rPr b="0" lang="zh-CN" sz="2700" spc="-1" strike="noStrike">
                <a:solidFill>
                  <a:srgbClr val="ffffff"/>
                </a:solidFill>
                <a:latin typeface="Tahoma"/>
              </a:rPr>
              <a:t>篇，大多数为劳动人民的口头创作，具有浓厚的民歌特色。</a:t>
            </a:r>
            <a:br>
              <a:rPr sz="2700"/>
            </a:br>
            <a:r>
              <a:rPr b="0" lang="zh-CN" sz="2700" spc="-1" strike="noStrike">
                <a:solidFill>
                  <a:srgbClr val="ffffff"/>
                </a:solidFill>
                <a:latin typeface="Tahoma"/>
              </a:rPr>
              <a:t>　　“雅”是周王朝直接统治地区的音乐，根据音节、律吕分为大雅、小雅，共</a:t>
            </a:r>
            <a:r>
              <a:rPr b="0" lang="zh-CN" sz="2700" spc="-1" strike="noStrike">
                <a:solidFill>
                  <a:srgbClr val="ffffff"/>
                </a:solidFill>
                <a:latin typeface="Tahoma"/>
              </a:rPr>
              <a:t>105</a:t>
            </a:r>
            <a:r>
              <a:rPr b="0" lang="zh-CN" sz="2700" spc="-1" strike="noStrike">
                <a:solidFill>
                  <a:srgbClr val="ffffff"/>
                </a:solidFill>
                <a:latin typeface="Tahoma"/>
              </a:rPr>
              <a:t>篇，多为贵族、士大夫所作。</a:t>
            </a:r>
            <a:br>
              <a:rPr sz="2700"/>
            </a:br>
            <a:r>
              <a:rPr b="0" lang="zh-CN" sz="2700" spc="-1" strike="noStrike">
                <a:solidFill>
                  <a:srgbClr val="ffffff"/>
                </a:solidFill>
                <a:latin typeface="Tahoma"/>
              </a:rPr>
              <a:t>　　“颂”多采用庙堂祭祀舞曲，有商颂、周颂、鲁颂，共</a:t>
            </a:r>
            <a:r>
              <a:rPr b="0" lang="zh-CN" sz="2700" spc="-1" strike="noStrike">
                <a:solidFill>
                  <a:srgbClr val="ffffff"/>
                </a:solidFill>
                <a:latin typeface="Tahoma"/>
              </a:rPr>
              <a:t>40</a:t>
            </a:r>
            <a:r>
              <a:rPr b="0" lang="zh-CN" sz="2700" spc="-1" strike="noStrike">
                <a:solidFill>
                  <a:srgbClr val="ffffff"/>
                </a:solidFill>
                <a:latin typeface="Tahoma"/>
              </a:rPr>
              <a:t>篇。”</a:t>
            </a:r>
            <a:r>
              <a:rPr b="0" lang="zh-CN" sz="2600" spc="-1" strike="noStrike">
                <a:solidFill>
                  <a:srgbClr val="ffffff"/>
                </a:solidFill>
                <a:latin typeface="Tahoma"/>
              </a:rPr>
              <a:t>风”代表着《诗经》的最高艺术成就，与屈原的《离骚》并称“风骚”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《诗经》“六艺”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所谓《诗经》中的“六艺”，即是指“风、雅、颂”三种诗歌形式与“赋、比、兴”三种表现手法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aec60"/>
                </a:solidFill>
                <a:latin typeface="Tahoma"/>
              </a:rPr>
              <a:t>1﹑</a:t>
            </a:r>
            <a:r>
              <a:rPr b="1" lang="zh-CN" sz="2400" spc="-1" strike="noStrike">
                <a:solidFill>
                  <a:srgbClr val="6aec60"/>
                </a:solidFill>
                <a:latin typeface="Tahoma"/>
              </a:rPr>
              <a:t>风即国风，是各地的民歌，《诗经》中共有十五国风。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</a:rPr>
              <a:t>比较常见的篇目，如《关雎》、《蒹葭》、《桃夭》、《柏舟》、《君子偕老》、《伐檀》、《硕鼠》、《氓》、《七月》等。 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aec60"/>
                </a:solidFill>
                <a:latin typeface="Tahoma"/>
              </a:rPr>
              <a:t>2﹑</a:t>
            </a:r>
            <a:r>
              <a:rPr b="1" lang="zh-CN" sz="2400" spc="-1" strike="noStrike">
                <a:solidFill>
                  <a:srgbClr val="6aec60"/>
                </a:solidFill>
                <a:latin typeface="Tahoma"/>
              </a:rPr>
              <a:t>雅</a:t>
            </a:r>
            <a:r>
              <a:rPr b="1" lang="zh-CN" sz="2400" spc="-1" strike="noStrike">
                <a:solidFill>
                  <a:srgbClr val="6aec60"/>
                </a:solidFill>
                <a:latin typeface="Tahoma"/>
              </a:rPr>
              <a:t>:</a:t>
            </a:r>
            <a:r>
              <a:rPr b="1" lang="zh-CN" sz="2400" spc="-1" strike="noStrike">
                <a:solidFill>
                  <a:srgbClr val="6aec60"/>
                </a:solidFill>
                <a:latin typeface="Tahoma"/>
              </a:rPr>
              <a:t>包括大雅和小雅，多数为公卿贵族所做，一般看作“正声”。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（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</a:rPr>
              <a:t>常见的篇目如《采薇》、《鹿鸣》、《江汉》、《思齐》（前两篇属小雅，后两篇属大雅）等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</a:rPr>
              <a:t>。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aec60"/>
                </a:solidFill>
                <a:latin typeface="Tahoma"/>
              </a:rPr>
              <a:t>3﹑</a:t>
            </a:r>
            <a:r>
              <a:rPr b="1" lang="zh-CN" sz="2400" spc="-1" strike="noStrike">
                <a:solidFill>
                  <a:srgbClr val="6aec60"/>
                </a:solidFill>
                <a:latin typeface="Tahoma"/>
              </a:rPr>
              <a:t>颂即祭祀和颂圣的乐曲，分为周颂、鲁颂和商颂。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常见的篇目如《我将》、《有客》、《玄鸟》等。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aec60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6aec60"/>
                </a:solidFill>
                <a:latin typeface="Tahoma"/>
              </a:rPr>
              <a:t>、赋是直接铺陈叙述。是最基本的表现手法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aec60"/>
                </a:solidFill>
                <a:latin typeface="Tahoma"/>
              </a:rPr>
              <a:t>5﹑</a:t>
            </a:r>
            <a:r>
              <a:rPr b="1" lang="zh-CN" sz="2400" spc="-1" strike="noStrike">
                <a:solidFill>
                  <a:srgbClr val="6aec60"/>
                </a:solidFill>
                <a:latin typeface="Tahoma"/>
              </a:rPr>
              <a:t>比即比喻</a:t>
            </a:r>
            <a:r>
              <a:rPr b="1" lang="zh-CN" sz="2400" spc="-1" strike="noStrike">
                <a:solidFill>
                  <a:srgbClr val="6aec60"/>
                </a:solidFill>
                <a:latin typeface="Tahoma"/>
              </a:rPr>
              <a:t>.</a:t>
            </a:r>
            <a:r>
              <a:rPr b="1" lang="zh-CN" sz="2400" spc="-1" strike="noStrike">
                <a:solidFill>
                  <a:srgbClr val="6aec60"/>
                </a:solidFill>
                <a:latin typeface="Tahoma"/>
              </a:rPr>
              <a:t>如《魏风</a:t>
            </a:r>
            <a:r>
              <a:rPr b="1" lang="zh-CN" sz="2400" spc="-1" strike="noStrike">
                <a:solidFill>
                  <a:srgbClr val="6aec60"/>
                </a:solidFill>
                <a:latin typeface="Tahoma"/>
              </a:rPr>
              <a:t>·</a:t>
            </a:r>
            <a:r>
              <a:rPr b="1" lang="zh-CN" sz="2400" spc="-1" strike="noStrike">
                <a:solidFill>
                  <a:srgbClr val="6aec60"/>
                </a:solidFill>
                <a:latin typeface="Tahoma"/>
              </a:rPr>
              <a:t>硕鼠》通篇用比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aec60"/>
                </a:solidFill>
                <a:latin typeface="Tahoma"/>
              </a:rPr>
              <a:t>6</a:t>
            </a:r>
            <a:r>
              <a:rPr b="1" lang="zh-CN" sz="2400" spc="-1" strike="noStrike">
                <a:solidFill>
                  <a:srgbClr val="6aec60"/>
                </a:solidFill>
                <a:latin typeface="Tahoma"/>
              </a:rPr>
              <a:t>、兴即起兴，用其他东西引出要说的内容。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如“关关雎鸠，在河之洲。窈窕淑女，君子好逑。”即是用雎鸠鸟在河中叫起兴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《诗经》的题材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ahoma"/>
              </a:rPr>
              <a:t>《诗经》是中国现实主义诗歌的源头。它形式多样</a:t>
            </a:r>
            <a:r>
              <a:rPr b="0" lang="zh-CN" sz="3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题材十分广泛，它反映了周的建国、周初的经济制度、生产状况以及一些重大的历史事件。不少民间创作还揭露了统治阶层的剥削丑行，反映了下层人民的生活和感情，再现了青年男女爱情和婚姻的悲喜剧，具有很高的文学价值。从整体上来看，它也可以说是华夏民族的史诗。</a:t>
            </a:r>
            <a:r>
              <a:rPr b="0" lang="zh-CN" sz="3000" spc="-1" strike="noStrike">
                <a:solidFill>
                  <a:srgbClr val="ffffff"/>
                </a:solidFill>
                <a:latin typeface="Tahoma"/>
              </a:rPr>
              <a:t>是周代社会的一面镜子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ahoma"/>
              </a:rPr>
              <a:t>初读感受诗歌的音韵美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048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诗歌内容赏析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这首诗写一个女子在城楼上等候她的恋人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全诗三章，采用倒叙手法。前两章以“我”的口气自述怀人。“青青子衿”，“青青子佩”，是以恋人的衣饰借代恋人。对方的衣饰给她留下这么深刻的印象，使她念念不忘，可想见其相思萦怀之情。如今因受阻不能前去赴约，只好等恋人过来相会，可望穿秋水，不见影儿，浓浓的爱意不由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转化为惆怅与幽怨：纵然我没有去找你，你为何就不能捎个音信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纵然我没有去找你，你为何就不能主动前来。第三章点明地点，写她在城楼上因久候恋人不至而心烦意乱，来来回回地走个不停，觉得虽然只有一天不见面，却好像分别了三个月那么漫长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内容赏析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全诗五十字不到，但女主人公等待恋人时的焦灼万分的情状宛然如在眼前。术效果的获得，在于诗人在创作中运用了大量的</a:t>
            </a:r>
            <a:r>
              <a:rPr b="0" lang="zh-CN" sz="2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心理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描写。诗中表现这个女子的动作行为仅用“挑…达”二字，主要笔墨都用在刻划她的心理活动上，如前两章对恋人既全无音信、叉不见影儿的埋怨，末章“一日不见，如三月兮”的独白。两段埋怨之辞，以“纵我”与“子宁”对举，急盼之情中不无矜持之态，令人生出无限想像，可谓字少而意多。末尾的内心独白，则通过夸张修辞技巧，造成主观时间与客观时间的反差，从而将其强烈的情绪心理形象地表现了出来，可谓因夸以成状，沿饰而得奇。心理描写手法，在后世文坛已发展得淋漓尽致，而上溯其源，本诗已开其先。所以钱钟书指出：“《子衿》云‘纵我不往，于宁不嗣音？’‘子宁不来’，薄责己而厚望于人也，已开后世小说言情心理描绘矣。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09:29:31Z</dcterms:created>
  <dc:creator>微软用户</dc:creator>
  <dc:description/>
  <dc:language>en-US</dc:language>
  <cp:lastModifiedBy>微软用户</cp:lastModifiedBy>
  <dcterms:modified xsi:type="dcterms:W3CDTF">2012-11-20T05:42:04Z</dcterms:modified>
  <cp:revision>40</cp:revision>
  <dc:subject/>
  <dc:title>幻灯片 1</dc:title>
</cp:coreProperties>
</file>