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1D9-F704-4426-BE12-119740C2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0C8-3402-4A13-9107-262ACBAA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106-E548-4034-8F1A-D3EF6D16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495-31FB-4E7C-AD3D-F0D5C36C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9B7C-1905-48C3-ABDF-F5C8702F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7851-09E9-4400-902F-266EC15D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879B-E78C-4D10-ADEF-B6561309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5C88-5972-4327-BD66-D76582D2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7DFD-F325-4EB1-8144-F7757233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2B9F-AB3C-4FAE-B9DA-6156A647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1A95-0349-4DF8-8005-DF0D54E7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661-0B35-4892-BEFF-E084D679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3E1E-E044-463B-9E32-7BF99D31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404B-0541-48B8-A558-FF3DCA3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EB14-E7E3-4D83-9DA7-F06FF083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7F70-638E-4C8D-A79E-4A6C38C1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DECA-CDD2-4FEF-A5A8-E3515B57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0A256-E7EA-4072-BDE0-B43D42E9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4E6D1-5820-414E-90DF-AC2FD277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47F66-1F9E-41F7-9820-E173438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21A49-B791-4DBF-ACD7-FEA18065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D30E0-19FD-4160-8A55-F4FD6858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0EA-BA3E-4F7A-A165-6675A065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F736B-A8B6-4850-BEA0-854D48EE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949BE-5989-48F3-9A74-28AA473B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CD612-C9CD-4FD6-94E4-79C403D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0640E-E4CA-4096-909E-1EFE42BB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1CCFF-F892-46F8-BC88-9FC3E5CC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72147-157B-4A92-A9CD-7E6EB503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05BDB-E0B5-42E9-AFD9-0285FCBC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7832-21F3-4661-BD3E-8105EA0F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508B-9722-4EEB-8911-031FC1EB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95049-7D05-4EA9-91E4-350729CF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523-C7BB-44D0-A491-030AB76E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164AC-72A2-44D8-AA62-E967DF43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83E3-7DD7-494E-8DFA-25D79584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9470F-14E8-42BB-A11A-07CDA52F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05FA-3986-4E7C-B79C-F68BC27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2857-D014-438B-A837-B46B4B51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05AA2-2507-41BB-8048-E9BA1938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9D65D-2666-4169-BBFA-8C3615E2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CBC4-709C-4C2F-8A2D-9608848E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6842-F744-47A5-8B12-ADFA8EFD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EB8A-A6D8-40CA-A077-4D35653C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FBE-8A5F-4CE3-A063-E317E7EE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5791E-CB0B-4C86-9C9E-AE6A1BDC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FB577-D1B9-4D82-BA36-CDB7BEA4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D9244-AFAA-4089-BD13-6E994511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5957-BC77-4827-8216-33DFDCC4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6AC8-BFF1-4118-B9B4-D1D1A2A2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D1A1D-27B0-4C00-A62B-EC2F9CE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0360D-416C-4630-BF4E-713956E1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FB80B-93C1-4926-863B-9069A4CF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C000E-C8B9-4130-9C83-B1E9E5CB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C5B1C-ABB7-4BC5-84CD-F0D07FAB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465-E0DF-4904-8CA7-261CD834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0868A-77EA-4AA3-AF34-70E9BAC6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D5C2B-2D1C-4555-B735-7796D255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42B3D-B674-45DF-99CB-172812F5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AA3A-8BF7-4664-A798-8B3D320F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0E1DE-2B20-4EC7-B7B8-5C15BB0C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BDF71-6EEB-4E42-8DD3-98C48B43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FEEF-DFA5-4753-9C39-9C033E63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3A24-CA05-4165-8484-E28333A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02BDE-34CC-4942-BE8B-0FF21D3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7F0F0-C3FE-45B6-A077-39F1C1A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0F8-1E05-42A7-A067-8F1B262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FB28-CCFA-4289-ABBF-6E4E9512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31FA9-E8A1-4476-ABF0-81134CFA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82DE7-6C1D-4E9C-AF2F-BD428D3D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D09-A5CC-4796-8447-8222AD8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57E-0F96-4D54-9FAD-CD586CAD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410F-742B-4DC9-BD99-D3ACE537013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044A-CF50-4208-8611-B17A58A41C5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AE79-6826-4E14-B4A3-F4A71698A8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E737-49DB-49F0-8304-5675A6BACE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A729-99B7-40B3-8259-A5E285585A5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CFA4-2F82-4FAB-A0DD-3E49D6D8FED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" Target="slide9.xm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676520" y="45720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最后一次讲演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90760" cy="3810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066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：闻一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38160" y="16002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敌人：卑劣  无耻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38160" y="20574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民：光荣  骄傲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28195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敌人：虚弱  必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3505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民：强大  必胜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42670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敌人：终将毁灭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19880" y="4800600"/>
            <a:ext cx="167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民：发扬传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17524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30481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2057400"/>
            <a:ext cx="304560" cy="2895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3664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33280" y="182880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鲜明观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09600" y="3124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揭示本质规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09600" y="4495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鼓舞人民斗志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1676520"/>
            <a:ext cx="228600" cy="3504960"/>
          </a:xfrm>
          <a:custGeom>
            <a:avLst/>
            <a:gdLst>
              <a:gd name="textAreaLeft" fmla="*/ 0 w 228600"/>
              <a:gd name="textAreaRight" fmla="*/ 8244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080" y="28954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憎强烈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点鲜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28320" y="30481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畏强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坚持正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本文表达了作者怎样 的感情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32000" y="2852640"/>
            <a:ext cx="1871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对人民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对敌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19640" y="2852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赞扬 激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19640" y="4149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鞭挞 揭露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00360" y="306864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00360" y="436572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42920" y="2997360"/>
            <a:ext cx="289080" cy="1584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e5ff"/>
                </a:solidFill>
                <a:latin typeface="Garamond"/>
                <a:ea typeface="华文新魏"/>
              </a:rPr>
              <a:t>为了加强作者演讲的语气，作者在行文上运用了哪些方法？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162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）句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637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）人称多变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4360" y="3716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）富有感情色彩的词语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5013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5b5249"/>
                </a:solidFill>
                <a:latin typeface="华文行楷"/>
                <a:ea typeface="华文行楷"/>
              </a:rPr>
              <a:t>）修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556000" y="17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感叹句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56000" y="2781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反问句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4005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设问句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1916280"/>
            <a:ext cx="504720" cy="2449440"/>
          </a:xfrm>
          <a:custGeom>
            <a:avLst/>
            <a:gdLst>
              <a:gd name="textAreaLeft" fmla="*/ 322560 w 504720"/>
              <a:gd name="textAreaRight" fmla="*/ 505080 w 50472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6920" y="2924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句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84720" y="1700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情绪激昂，断兵相接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56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语气凌厉，怒不可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06440" y="3933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语气凌厉，怒不可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5661000"/>
            <a:ext cx="792360" cy="792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24000" y="38606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人称多变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2349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我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4000" y="35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你、你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95640" y="4581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他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35280" y="2492280"/>
            <a:ext cx="360360" cy="3313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64000" y="227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表现了演讲者与人民群众亲密战斗的感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11640" y="34290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面对面毫无畏惧向敌人挑战，狠狠打击了敌人的嚣张气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35280" y="4581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流露出对敌人极端愤怒和轻蔑的情绪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2565360"/>
            <a:ext cx="720720" cy="142920"/>
          </a:xfrm>
          <a:prstGeom prst="rightArrow">
            <a:avLst>
              <a:gd name="adj1" fmla="val 50000"/>
              <a:gd name="adj2" fmla="val 12607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360" y="3716280"/>
            <a:ext cx="720720" cy="142920"/>
          </a:xfrm>
          <a:prstGeom prst="rightArrow">
            <a:avLst>
              <a:gd name="adj1" fmla="val 50000"/>
              <a:gd name="adj2" fmla="val 12607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87640" y="4797360"/>
            <a:ext cx="720720" cy="142920"/>
          </a:xfrm>
          <a:prstGeom prst="rightArrow">
            <a:avLst>
              <a:gd name="adj1" fmla="val 50000"/>
              <a:gd name="adj2" fmla="val 12607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052640"/>
            <a:ext cx="863280" cy="79200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43" h="21600">
                <a:moveTo>
                  <a:pt x="0" y="0"/>
                </a:moveTo>
                <a:lnTo>
                  <a:pt x="23543" y="0"/>
                </a:lnTo>
                <a:lnTo>
                  <a:pt x="23543" y="21600"/>
                </a:lnTo>
                <a:lnTo>
                  <a:pt x="0" y="21600"/>
                </a:lnTo>
                <a:close/>
              </a:path>
              <a:path fill="lightenLess" w="23543" h="21600">
                <a:moveTo>
                  <a:pt x="0" y="0"/>
                </a:moveTo>
                <a:lnTo>
                  <a:pt x="23543" y="0"/>
                </a:lnTo>
                <a:lnTo>
                  <a:pt x="22143" y="1400"/>
                </a:lnTo>
                <a:lnTo>
                  <a:pt x="1400" y="1400"/>
                </a:lnTo>
                <a:close/>
              </a:path>
              <a:path fill="darken" w="23543" h="21600">
                <a:moveTo>
                  <a:pt x="23543" y="0"/>
                </a:moveTo>
                <a:lnTo>
                  <a:pt x="23543" y="21600"/>
                </a:lnTo>
                <a:lnTo>
                  <a:pt x="22143" y="20200"/>
                </a:lnTo>
                <a:lnTo>
                  <a:pt x="22143" y="1400"/>
                </a:lnTo>
                <a:close/>
              </a:path>
              <a:path fill="darkenLess" w="23543" h="21600">
                <a:moveTo>
                  <a:pt x="23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3" y="20200"/>
                </a:lnTo>
                <a:close/>
              </a:path>
              <a:path fill="lighten" w="23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3" h="21600">
                <a:moveTo>
                  <a:pt x="4765" y="10800"/>
                </a:moveTo>
                <a:lnTo>
                  <a:pt x="18778" y="3794"/>
                </a:lnTo>
                <a:lnTo>
                  <a:pt x="18778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6836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你们、我们相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35280" y="5877000"/>
            <a:ext cx="720720" cy="142920"/>
          </a:xfrm>
          <a:prstGeom prst="rightArrow">
            <a:avLst>
              <a:gd name="adj1" fmla="val 50000"/>
              <a:gd name="adj2" fmla="val 12607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00720" y="5589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表达了作者坚定的立场，鲜明的态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826920" y="76500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富有感情色彩的词语 ：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0920" y="1916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褒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24000" y="3357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贬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16360" y="2133720"/>
            <a:ext cx="1079280" cy="142920"/>
          </a:xfrm>
          <a:prstGeom prst="rightArrow">
            <a:avLst>
              <a:gd name="adj1" fmla="val 50000"/>
              <a:gd name="adj2" fmla="val 1887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16360" y="3573360"/>
            <a:ext cx="1079280" cy="142920"/>
          </a:xfrm>
          <a:prstGeom prst="rightArrow">
            <a:avLst>
              <a:gd name="adj1" fmla="val 50000"/>
              <a:gd name="adj2" fmla="val 1887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67280" y="1773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光荣、宝贵、骄傲、光明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40360" y="328464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无耻、卑劣、卑鄙、疯狂、挑拨离间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7080" y="5877000"/>
            <a:ext cx="574560" cy="57636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68">
                <a:moveTo>
                  <a:pt x="0" y="0"/>
                </a:moveTo>
                <a:lnTo>
                  <a:pt x="21600" y="0"/>
                </a:lnTo>
                <a:lnTo>
                  <a:pt x="21600" y="21668"/>
                </a:lnTo>
                <a:lnTo>
                  <a:pt x="0" y="21668"/>
                </a:lnTo>
                <a:close/>
              </a:path>
              <a:path fill="lightenLess" w="21600" h="216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8">
                <a:moveTo>
                  <a:pt x="21600" y="0"/>
                </a:moveTo>
                <a:lnTo>
                  <a:pt x="21600" y="21668"/>
                </a:lnTo>
                <a:lnTo>
                  <a:pt x="20200" y="20268"/>
                </a:lnTo>
                <a:lnTo>
                  <a:pt x="20200" y="1400"/>
                </a:lnTo>
                <a:close/>
              </a:path>
              <a:path fill="darkenLess" w="21600" h="21668">
                <a:moveTo>
                  <a:pt x="21600" y="21668"/>
                </a:moveTo>
                <a:lnTo>
                  <a:pt x="0" y="21668"/>
                </a:lnTo>
                <a:lnTo>
                  <a:pt x="1400" y="20268"/>
                </a:lnTo>
                <a:lnTo>
                  <a:pt x="20200" y="20268"/>
                </a:lnTo>
                <a:close/>
              </a:path>
              <a:path fill="lighten" w="21600" h="21668">
                <a:moveTo>
                  <a:pt x="0" y="216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8"/>
                </a:lnTo>
                <a:close/>
              </a:path>
              <a:path fill="darken" w="21600" h="21668">
                <a:moveTo>
                  <a:pt x="3794" y="10834"/>
                </a:moveTo>
                <a:lnTo>
                  <a:pt x="17806" y="3827"/>
                </a:lnTo>
                <a:lnTo>
                  <a:pt x="17806" y="1784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42920" y="1197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修辞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27280" y="24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）对比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27280" y="33577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）排比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27280" y="4365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）反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50240" y="2852640"/>
            <a:ext cx="15634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加强语气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增强效果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80000" y="2565360"/>
            <a:ext cx="576360" cy="2519280"/>
          </a:xfrm>
          <a:custGeom>
            <a:avLst/>
            <a:gdLst>
              <a:gd name="textAreaLeft" fmla="*/ 0 w 576360"/>
              <a:gd name="textAreaRight" fmla="*/ 208080 w 57636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028160" y="304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本文写作小结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12193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褒贬色彩的词语形成强烈对比，表达讲演者的强烈的爱憎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4952880"/>
            <a:ext cx="68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称代词不断变换，有利于配合讲演者表达思想感情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1240" y="2590920"/>
            <a:ext cx="11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式的灵活运用，格外具有感人的力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35053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复、排比、对比的运用，更增加了表达的效果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7828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讲演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8380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讲演词又叫演说词、讲话稿，是一种供口头向群众宣传的带有鼓动性的文章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09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讲演词的结构灵活多样，不管采用什么形式，但大体都有三部分内容：开头提出问题，或亮出讲话要点，以引起听众的兴趣和关注；重点是中间部分对演讲主旨的阐述；结尾回应开头，结束全文，或提出希望和祝愿，使听众受到激励和鼓舞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510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724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讲演词有以下特点：第一，有的放矢，考虑听众对象。第二，观点集中、鲜明。第三，理论联系实际。第四，语言通俗生动，感情深厚充沛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讲演要求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发音正确，声音响亮，不加字、减字、改字，句读分明，不重复，不读破句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突出重音，掌握节奏，读得流畅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感情充沛，慷慨激昂，爱憎分明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724280"/>
            <a:ext cx="540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我的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3.15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召唤雷锋精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趣味运动会动员演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71640" y="4149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推荐话题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04920" y="3429000"/>
            <a:ext cx="3352680" cy="3075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666880" y="1676520"/>
            <a:ext cx="3353040" cy="3017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5562720" y="380880"/>
            <a:ext cx="3200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04920" y="3429000"/>
            <a:ext cx="3352680" cy="3075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2666880" y="1676520"/>
            <a:ext cx="3353040" cy="3017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562720" y="380880"/>
            <a:ext cx="3200400" cy="2819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28600" y="304920"/>
            <a:ext cx="85345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背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日战争胜利后，美帝国主义和蒋介石反动政府内外勾结，疯狂策划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反共反人民的内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种倒行逆施，遭到全国人民的反对，一个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“反内战、反独裁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爱国民主运动在全国范围内蓬勃兴起。国民党反动派冒天下之大不韪，一方面撕毁政协会议，派兵向解放区大举进攻，另一方面，在他们暂时统治的区域里制造白色恐怖，甚至采取暗杀手段疯狂镇压人民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，著名的爱国民主战士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李公朴先生在昆明遇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，云南大学召开李公朴先生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追悼大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闻一多先生主持了这次会议。会上，他拍案而起，满腔悲愤地发表了这篇讲演。会后闻一多先生又到《民主周刊》社参加了记者招待会，在他离社返家途中，被特务分子暗杀了。这篇讲演就成了他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“最后一次讲演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228600"/>
            <a:ext cx="56516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作者简介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名家骅，湖北省浠水县人。著名诗人，学者，爱国民主战士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92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出版第一本诗集《红烛》，闪耀的反帝爱国的火花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928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出版第二部诗集《死水》，表现出深沉的爱国主义激情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946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遭暗杀，遗著由朱自清先生编成《闻一多全集》四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791320" y="620640"/>
            <a:ext cx="33526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31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  <a:ea typeface="华文行楷"/>
              </a:rPr>
              <a:t>预习检测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685800"/>
            <a:ext cx="8839080" cy="5394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读准音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卑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劣</a:t>
            </a:r>
            <a:r>
              <a:rPr b="1" lang="zh-CN" sz="3200" spc="-1" strike="noStrike">
                <a:solidFill>
                  <a:srgbClr val="5b5249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捶</a:t>
            </a:r>
            <a:r>
              <a:rPr b="1" lang="zh-CN" sz="3200" spc="-1" strike="noStrike">
                <a:solidFill>
                  <a:srgbClr val="5b5249"/>
                </a:solidFill>
                <a:latin typeface="Verdana"/>
              </a:rPr>
              <a:t>打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予</a:t>
            </a:r>
            <a:r>
              <a:rPr b="1" lang="zh-CN" sz="3200" spc="-1" strike="noStrike">
                <a:solidFill>
                  <a:srgbClr val="5b5249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诬蔑</a:t>
            </a:r>
            <a:r>
              <a:rPr b="1" lang="zh-CN" sz="3200" spc="-1" strike="noStrike">
                <a:solidFill>
                  <a:srgbClr val="5b5249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挑拨离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间   蛮横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辨清形（组词）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诬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蔑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跨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陪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侮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篾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垮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赔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弄懂义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他们制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恐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其实是他们自己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恐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啊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们杀死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李公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会有千万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李公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站起来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0"/>
            <a:ext cx="838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整体感知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作者就什么事情做讲演？你们读了文章后有何感受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为什么说这一事件是“最卑劣”、“最无耻”的呢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闻一多先生对不同的听众表现出了怎样不同的感情、态度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那么闻一多先生预言敌人“快完了”，人民一定胜利，有什么根据？请从文中找出答案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“‘黎明’必然来临，但不会在等待中来临，‘我们’该去迎接黎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!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那我们该怎样去迎接黎明呢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从闻一多先生激烈的言辞中，你感受到了讲演者怎样的形象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谈谈这篇演讲的结构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270828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7301" y="10813"/>
                </a:moveTo>
                <a:lnTo>
                  <a:pt x="17806" y="3807"/>
                </a:lnTo>
                <a:lnTo>
                  <a:pt x="17806" y="17820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5456" y="3807"/>
                </a:lnTo>
                <a:lnTo>
                  <a:pt x="5456" y="17820"/>
                </a:lnTo>
                <a:lnTo>
                  <a:pt x="3794" y="17820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04-03-16T00:23:12Z</dcterms:modified>
  <cp:revision>42</cp:revision>
  <dc:subject/>
  <dc:title>PowerPoint 演示文稿</dc:title>
</cp:coreProperties>
</file>