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chimes.wav" ContentType="audio/x-wav"/>
  <Override PartName="/ppt/media/image6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17B-A177-4FAC-91CF-4850D8C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474-8546-416C-B9C4-288ED9E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C6B-2579-42AC-89CC-38F1D31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01A-CA5A-46D7-A8FB-72440B18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4D4-398F-4313-9F9B-7CF95CAE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ED3-AD09-493D-93D3-A7978ED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626-8FF2-4308-AF07-E395013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2D1-74E0-4550-BC91-F6D2E3D2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5C8-E573-461A-95D1-72CBF6C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F04-609B-49C3-AF00-2A9AD9DE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F79-55A7-46B1-A1C8-BFCA14D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BE7-8052-46BB-A634-1FBD2C5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84C6-77AA-4E9A-BD6A-EE31A04880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9"/>
          <p:cNvSpPr/>
          <p:nvPr/>
        </p:nvSpPr>
        <p:spPr>
          <a:xfrm>
            <a:off x="2771640" y="1413000"/>
            <a:ext cx="4319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新魏"/>
              </a:rPr>
              <a:t>纸   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华文新魏"/>
              </a:rPr>
              <a:t>         </a:t>
            </a:r>
            <a:r>
              <a:rPr b="0" lang="zh-CN" sz="4800" spc="-1" strike="noStrike">
                <a:solidFill>
                  <a:srgbClr val="333399"/>
                </a:solidFill>
                <a:latin typeface="华文新魏"/>
              </a:rPr>
              <a:t>寄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01"/>
          <p:cNvSpPr/>
          <p:nvPr/>
        </p:nvSpPr>
        <p:spPr>
          <a:xfrm>
            <a:off x="3813120" y="4638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华文行楷"/>
              </a:rPr>
              <a:t>作者：冰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华文隶书"/>
              </a:rPr>
              <a:t>相关链接：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与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纸船</a:t>
            </a:r>
            <a:r>
              <a:rPr b="0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同在太平洋舟中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54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梦里的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　来安慰病中的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絮絮地温人的爱语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几次醒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　药杯儿自不在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海风压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　明灯依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我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　是如何的惆怅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无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5363"/>
          <p:cNvSpPr/>
          <p:nvPr/>
        </p:nvSpPr>
        <p:spPr>
          <a:xfrm>
            <a:off x="3299760" y="98100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惆怅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梦里水乡.mid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38040" cy="3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7498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24000" y="1989000"/>
            <a:ext cx="6553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课外阅读冰心的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繁星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春水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，吟诵其中表现母爱的诗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84836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我从来不肯妄弃了一张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总是留着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留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叠成一只一只很小的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从舟上抛下在海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有的被天风吹卷到舟中的窗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有的被海浪打湿，沾在船头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我仍是不灰心的每天的叠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总希望有一只能流到我要他到的地方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母亲，倘若你梦中看见一只很小的白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不要惊讶他无端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这是你至爱的女儿含着泪叠的，万水千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　求他载着她的爱和悲哀归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新魏"/>
              </a:rPr>
              <a:t>                      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华文新魏"/>
              </a:rPr>
              <a:t>八，二十七，一九二三太平洋舟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绿色琴音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90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5123"/>
          <p:cNvSpPr/>
          <p:nvPr/>
        </p:nvSpPr>
        <p:spPr>
          <a:xfrm>
            <a:off x="250920" y="47628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冰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124"/>
          <p:cNvSpPr/>
          <p:nvPr/>
        </p:nvSpPr>
        <p:spPr>
          <a:xfrm>
            <a:off x="250920" y="162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原名谢婉莹，现代散文家、小说家、诗人、儿童文学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5"/>
          <p:cNvSpPr/>
          <p:nvPr/>
        </p:nvSpPr>
        <p:spPr>
          <a:xfrm>
            <a:off x="395280" y="306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　主要作品有：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寄小读者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冰心小说集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冰心诗集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小桔灯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6"/>
          <p:cNvSpPr/>
          <p:nvPr/>
        </p:nvSpPr>
        <p:spPr>
          <a:xfrm>
            <a:off x="324000" y="458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文学作品中主要体现她的爱的哲学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母爱、童心、自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创作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　冰心在</a:t>
            </a:r>
            <a:r>
              <a:rPr b="0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1923</a:t>
            </a:r>
            <a:r>
              <a:rPr b="0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年初夏，以优异的成绩毕业于燕京大学，获得了燕京女子大学的姊妹学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美国威尔斯利女子大学的奖学金，准备赴美留学。这位茹苦勤勉的学子、探索人生的作家，现在又站在一段新航程的起点上。但对女作家来说，这次游学在她的女性纤柔敏锐的神经上是不堪负荷的沉沉重担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忍受着使她的灵魂为之战栗的离别之苦，于是对母亲的倾诉成为缓解离别之苦的唯一方式。但在邮轮之上</a:t>
            </a:r>
            <a:r>
              <a:rPr b="0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海浪涛涛，用何寄情呢？作者想到了纸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课文分析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左大括号 9219"/>
          <p:cNvSpPr/>
          <p:nvPr/>
        </p:nvSpPr>
        <p:spPr>
          <a:xfrm>
            <a:off x="1763640" y="1052640"/>
            <a:ext cx="216000" cy="18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220"/>
          <p:cNvSpPr/>
          <p:nvPr/>
        </p:nvSpPr>
        <p:spPr>
          <a:xfrm>
            <a:off x="326880" y="162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复活童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221"/>
          <p:cNvSpPr/>
          <p:nvPr/>
        </p:nvSpPr>
        <p:spPr>
          <a:xfrm>
            <a:off x="3456360" y="836640"/>
            <a:ext cx="213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妄弃一张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留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222"/>
          <p:cNvSpPr/>
          <p:nvPr/>
        </p:nvSpPr>
        <p:spPr>
          <a:xfrm>
            <a:off x="3375360" y="1413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叠成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一只只纸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9223"/>
          <p:cNvSpPr/>
          <p:nvPr/>
        </p:nvSpPr>
        <p:spPr>
          <a:xfrm>
            <a:off x="2195640" y="191628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把一只只小船抛下海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想干什么？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225"/>
          <p:cNvSpPr/>
          <p:nvPr/>
        </p:nvSpPr>
        <p:spPr>
          <a:xfrm>
            <a:off x="326880" y="35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似愚若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左大括号 9226"/>
          <p:cNvSpPr/>
          <p:nvPr/>
        </p:nvSpPr>
        <p:spPr>
          <a:xfrm>
            <a:off x="1908000" y="3141720"/>
            <a:ext cx="71640" cy="12952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227"/>
          <p:cNvSpPr/>
          <p:nvPr/>
        </p:nvSpPr>
        <p:spPr>
          <a:xfrm>
            <a:off x="2787840" y="299736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风吹浪打“船”尽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228"/>
          <p:cNvSpPr/>
          <p:nvPr/>
        </p:nvSpPr>
        <p:spPr>
          <a:xfrm>
            <a:off x="2766240" y="357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仍不灰心天天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9229"/>
          <p:cNvSpPr/>
          <p:nvPr/>
        </p:nvSpPr>
        <p:spPr>
          <a:xfrm>
            <a:off x="3757320" y="4149720"/>
            <a:ext cx="26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总望一只能如愿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脑子进水了？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230"/>
          <p:cNvSpPr/>
          <p:nvPr/>
        </p:nvSpPr>
        <p:spPr>
          <a:xfrm>
            <a:off x="326880" y="537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托船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大括号 9231"/>
          <p:cNvSpPr/>
          <p:nvPr/>
        </p:nvSpPr>
        <p:spPr>
          <a:xfrm>
            <a:off x="1835280" y="4941720"/>
            <a:ext cx="72720" cy="1656000"/>
          </a:xfrm>
          <a:custGeom>
            <a:avLst/>
            <a:gdLst>
              <a:gd name="textAreaLeft" fmla="*/ 46440 w 72720"/>
              <a:gd name="textAreaRight" fmla="*/ 73080 w 72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32"/>
          <p:cNvSpPr/>
          <p:nvPr/>
        </p:nvSpPr>
        <p:spPr>
          <a:xfrm>
            <a:off x="2694600" y="4797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此愿无偿寄托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33"/>
          <p:cNvSpPr/>
          <p:nvPr/>
        </p:nvSpPr>
        <p:spPr>
          <a:xfrm>
            <a:off x="2694600" y="5373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梦中小船船思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9234"/>
          <p:cNvSpPr/>
          <p:nvPr/>
        </p:nvSpPr>
        <p:spPr>
          <a:xfrm>
            <a:off x="2124000" y="6021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篇末一点主题明。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噢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原来如此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235"/>
          <p:cNvSpPr/>
          <p:nvPr/>
        </p:nvSpPr>
        <p:spPr>
          <a:xfrm>
            <a:off x="909720" y="1150920"/>
            <a:ext cx="671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9236"/>
          <p:cNvSpPr/>
          <p:nvPr/>
        </p:nvSpPr>
        <p:spPr>
          <a:xfrm rot="10800000">
            <a:off x="8172360" y="907560"/>
            <a:ext cx="216000" cy="352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1800 h 3527640"/>
              <a:gd name="textAreaBottom" fmla="*/ 343584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9237"/>
          <p:cNvSpPr/>
          <p:nvPr/>
        </p:nvSpPr>
        <p:spPr>
          <a:xfrm>
            <a:off x="8247600" y="1707480"/>
            <a:ext cx="66780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蓄　　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左大括号 9238"/>
          <p:cNvSpPr/>
          <p:nvPr/>
        </p:nvSpPr>
        <p:spPr>
          <a:xfrm rot="10800000">
            <a:off x="8172360" y="486900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39"/>
          <p:cNvSpPr/>
          <p:nvPr/>
        </p:nvSpPr>
        <p:spPr>
          <a:xfrm>
            <a:off x="8247600" y="4944600"/>
            <a:ext cx="6678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突　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文眼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这是你女儿含着泪叠的，万水千山求他载着她的爱和悲哀归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195"/>
          <p:cNvSpPr/>
          <p:nvPr/>
        </p:nvSpPr>
        <p:spPr>
          <a:xfrm>
            <a:off x="927000" y="3645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主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6"/>
          <p:cNvSpPr/>
          <p:nvPr/>
        </p:nvSpPr>
        <p:spPr>
          <a:xfrm>
            <a:off x="539640" y="4941720"/>
            <a:ext cx="70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　书写诗人思念母亲的深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问题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１、叠纸船为什么含着泪？为什么除了爱还有悲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7171"/>
          <p:cNvSpPr/>
          <p:nvPr/>
        </p:nvSpPr>
        <p:spPr>
          <a:xfrm>
            <a:off x="539640" y="306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一个人如果有初次离开母亲远走他乡的感情体验，就能深刻的理解这首小诗的感情。在母亲身边对母亲的依恋已习以为常，一旦远走想念妈妈的滋味最是难受。眼泪与悲哀也就随之而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２、作者为什么要借纸船来抒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诗歌抒情总是借助某种形象，托物抒情，作者在太平洋舟中，无法与母亲通信，唯有幻想纸船能够载着他的爱与悲哀归去，纸船又富有童稚气，适合表达子女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文隶书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诗人以纸船为题，托物言情，赋予纸船特别的含义。纸船象征漂泊无依的孤独，象征思念母亲、思念祖国的一颗心，象征诗人纯洁、美好的愿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10:30:38Z</dcterms:created>
  <dc:creator>张翔翼</dc:creator>
  <dc:description>作者：张翔翼（固原市原州区甘城中学）（于2005年12月）</dc:description>
  <cp:keywords>冰心-《纸船》</cp:keywords>
  <dc:language>en-US</dc:language>
  <cp:lastModifiedBy>admin</cp:lastModifiedBy>
  <dcterms:modified xsi:type="dcterms:W3CDTF">2019-05-09T09:27:03Z</dcterms:modified>
  <cp:revision>9</cp:revision>
  <dc:subject>教学课件</dc:subject>
  <dc:title>新诗欣赏之冰心《纸船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