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91D-1452-440C-8178-047401DB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77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3964320"/>
            <a:ext cx="777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551-CC13-4B1F-AF82-24F1E6EF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396432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0480" y="396432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112-3A47-49F1-B0A4-5E032AA2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250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4720" y="1600200"/>
            <a:ext cx="250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50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3964320"/>
            <a:ext cx="250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4720" y="3964320"/>
            <a:ext cx="250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50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CC2-DAA7-4F47-8504-0F40769B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C9F4-638C-4A93-8A22-D7D18EB3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5280" y="160020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3475-87FA-4A38-8D83-0DAD69C6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D9F4-79BE-406D-BBDF-0E4E94AD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3795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795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9ACB-8E0A-4DFD-9729-A2E64E19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5468-81B9-42F2-9C07-EB630774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777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0DD8-70F0-4607-BC32-C1C0D3E7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795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5280" y="396432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6B9A-2903-476C-8E49-ABE515FE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160020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33CB-67C2-4BB6-A13B-C3825595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3795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0480" y="396432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6927-D622-4AF6-8759-FD7C9135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5280" y="3964320"/>
            <a:ext cx="777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5453-6A22-4C15-8F44-D27C6731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77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5280" y="3964320"/>
            <a:ext cx="777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7D8D-EFCF-4711-B291-AD14CB70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280" y="396432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0480" y="396432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DA6C-2261-4CFE-AA24-DE1B3B1E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250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4720" y="1600200"/>
            <a:ext cx="250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50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5280" y="3964320"/>
            <a:ext cx="250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4720" y="3964320"/>
            <a:ext cx="250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50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EDA1-D6B9-4AD5-B906-CB912827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91B-4B31-4FD9-B076-870AAA5E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3795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795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401-3AE0-4D28-8715-9C4EDCEE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7DE-D67D-4BA1-955E-74EC6120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777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314-3A74-416B-BD54-54D7CEE0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795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396432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67D-5248-4ECB-BDDA-5B7CF5FB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3795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0480" y="396432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1A5-4820-45E2-B716-B23F060D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79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3964320"/>
            <a:ext cx="777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0B74-F460-4196-9C96-28D84E1A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47FF-EBAE-4671-A27D-88B96E74AD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55280" y="160020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5280" y="160020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2504-83BA-4520-AC0B-7163F2F63F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看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411280" y="1897200"/>
            <a:ext cx="51134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Arial"/>
                <a:ea typeface="宋体"/>
              </a:rPr>
              <a:t>中国石拱桥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新魏"/>
              </a:rPr>
              <a:t>——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新魏"/>
              </a:rPr>
              <a:t>茅以升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900000" y="119700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新魏"/>
              </a:rPr>
              <a:t>卢沟桥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1" name="Picture 3" descr="lugouqiao"/>
          <p:cNvPicPr/>
          <p:nvPr/>
        </p:nvPicPr>
        <p:blipFill>
          <a:blip r:embed="rId1"/>
          <a:stretch/>
        </p:blipFill>
        <p:spPr>
          <a:xfrm>
            <a:off x="3429000" y="404640"/>
            <a:ext cx="571500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lgq4"/>
          <p:cNvPicPr/>
          <p:nvPr/>
        </p:nvPicPr>
        <p:blipFill>
          <a:blip r:embed="rId2"/>
          <a:stretch/>
        </p:blipFill>
        <p:spPr>
          <a:xfrm>
            <a:off x="250920" y="3357720"/>
            <a:ext cx="60958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070800" y="404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新魏"/>
              </a:rPr>
              <a:t>卢沟桥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477080" y="1341360"/>
            <a:ext cx="278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位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位于永定河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950760" y="1916280"/>
            <a:ext cx="671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历史和修建年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修建于公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18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年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19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年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已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8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年的历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879480" y="3500280"/>
            <a:ext cx="729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构特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半圆形的石拱组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个石拱长度不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几乎与河面平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两个石拱之间有石砌桥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石拱联成一个整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是一座联拱石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lgq2"/>
          <p:cNvPicPr/>
          <p:nvPr/>
        </p:nvPicPr>
        <p:blipFill>
          <a:blip r:embed="rId1"/>
          <a:stretch/>
        </p:blipFill>
        <p:spPr>
          <a:xfrm>
            <a:off x="2455920" y="404640"/>
            <a:ext cx="43336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lgq1"/>
          <p:cNvPicPr/>
          <p:nvPr/>
        </p:nvPicPr>
        <p:blipFill>
          <a:blip r:embed="rId1"/>
          <a:stretch/>
        </p:blipFill>
        <p:spPr>
          <a:xfrm>
            <a:off x="4211640" y="765000"/>
            <a:ext cx="4753080" cy="2989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lgq3"/>
          <p:cNvPicPr/>
          <p:nvPr/>
        </p:nvPicPr>
        <p:blipFill>
          <a:blip r:embed="rId2"/>
          <a:stretch/>
        </p:blipFill>
        <p:spPr>
          <a:xfrm>
            <a:off x="0" y="2770200"/>
            <a:ext cx="5364000" cy="4087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808200" y="927000"/>
            <a:ext cx="36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华文新魏"/>
              </a:rPr>
              <a:t>卢沟桥的狮子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zhaozhouqiao3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3">
            <a:hlinkClick r:id="rId2" action="ppaction://hlinksldjump"/>
          </p:cNvPr>
          <p:cNvSpPr/>
          <p:nvPr/>
        </p:nvSpPr>
        <p:spPr>
          <a:xfrm>
            <a:off x="7596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7孔桥2"/>
          <p:cNvPicPr/>
          <p:nvPr/>
        </p:nvPicPr>
        <p:blipFill>
          <a:blip r:embed="rId1"/>
          <a:stretch/>
        </p:blipFill>
        <p:spPr>
          <a:xfrm>
            <a:off x="468360" y="404640"/>
            <a:ext cx="8128080" cy="4800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908000" y="558972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北京颐和园—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17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孔桥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苏州-宝带桥"/>
          <p:cNvPicPr/>
          <p:nvPr/>
        </p:nvPicPr>
        <p:blipFill>
          <a:blip r:embed="rId1"/>
          <a:stretch/>
        </p:blipFill>
        <p:spPr>
          <a:xfrm>
            <a:off x="900000" y="907920"/>
            <a:ext cx="7419960" cy="3705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2771640" y="5013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苏州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宝带桥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颐和园-玉带桥"/>
          <p:cNvPicPr/>
          <p:nvPr/>
        </p:nvPicPr>
        <p:blipFill>
          <a:blip r:embed="rId1"/>
          <a:stretch/>
        </p:blipFill>
        <p:spPr>
          <a:xfrm>
            <a:off x="900000" y="3500280"/>
            <a:ext cx="2880000" cy="230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zhaozhouqiao3"/>
          <p:cNvPicPr/>
          <p:nvPr/>
        </p:nvPicPr>
        <p:blipFill>
          <a:blip r:embed="rId2"/>
          <a:stretch/>
        </p:blipFill>
        <p:spPr>
          <a:xfrm>
            <a:off x="5796000" y="1628640"/>
            <a:ext cx="2625840" cy="3675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17孔桥1"/>
          <p:cNvPicPr/>
          <p:nvPr/>
        </p:nvPicPr>
        <p:blipFill>
          <a:blip r:embed="rId3"/>
          <a:stretch/>
        </p:blipFill>
        <p:spPr>
          <a:xfrm>
            <a:off x="3132000" y="1989000"/>
            <a:ext cx="3095640" cy="2075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赵州桥2"/>
          <p:cNvPicPr/>
          <p:nvPr/>
        </p:nvPicPr>
        <p:blipFill>
          <a:blip r:embed="rId4"/>
          <a:stretch/>
        </p:blipFill>
        <p:spPr>
          <a:xfrm>
            <a:off x="826920" y="476280"/>
            <a:ext cx="30974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023840" y="225360"/>
            <a:ext cx="7148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宋体"/>
              </a:rPr>
              <a:t>1.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宋体"/>
              </a:rPr>
              <a:t>课文主要写了什么内容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宋体"/>
              </a:rPr>
              <a:t>?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宋体"/>
              </a:rPr>
              <a:t>2.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宋体"/>
              </a:rPr>
              <a:t>本文是按什么顺序说明的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宋体"/>
              </a:rPr>
              <a:t>?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826920" y="1341360"/>
            <a:ext cx="144720" cy="1295640"/>
          </a:xfrm>
          <a:custGeom>
            <a:avLst/>
            <a:gdLst>
              <a:gd name="textAreaLeft" fmla="*/ 92520 w 144720"/>
              <a:gd name="textAreaRight" fmla="*/ 145080 w 1447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182680" y="1127160"/>
            <a:ext cx="5207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1-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国石拱桥的总体特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3-8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体介绍赵州桥和卢沟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9-10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总说我国石拱桥取得成就的原因及其成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569960" y="4116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逻辑顺序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258920" y="765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宋体"/>
              </a:rPr>
              <a:t>中国石拱桥的一般特点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宋体"/>
              </a:rPr>
              <a:t>: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700360" y="1922400"/>
            <a:ext cx="345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．形式优美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．结构坚固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．历史悠久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zzq4"/>
          <p:cNvPicPr/>
          <p:nvPr/>
        </p:nvPicPr>
        <p:blipFill>
          <a:blip r:embed="rId1"/>
          <a:stretch/>
        </p:blipFill>
        <p:spPr>
          <a:xfrm>
            <a:off x="971640" y="1557360"/>
            <a:ext cx="3744720" cy="23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zhaozhouqiao3"/>
          <p:cNvPicPr/>
          <p:nvPr/>
        </p:nvPicPr>
        <p:blipFill>
          <a:blip r:embed="rId2"/>
          <a:stretch/>
        </p:blipFill>
        <p:spPr>
          <a:xfrm>
            <a:off x="5076720" y="692280"/>
            <a:ext cx="3810240" cy="5333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赵州桥1"/>
          <p:cNvPicPr/>
          <p:nvPr/>
        </p:nvPicPr>
        <p:blipFill>
          <a:blip r:embed="rId3"/>
          <a:stretch/>
        </p:blipFill>
        <p:spPr>
          <a:xfrm>
            <a:off x="1042920" y="4076640"/>
            <a:ext cx="3672000" cy="2070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979640" y="45576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新魏"/>
              </a:rPr>
              <a:t>赵州桥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979640" y="50328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华文新魏"/>
              </a:rPr>
              <a:t>赵州桥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699200" y="1557360"/>
            <a:ext cx="278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位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横跨在洨河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187280" y="2276640"/>
            <a:ext cx="67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历史和修建年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修建于公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6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已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4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817280" y="3635280"/>
            <a:ext cx="4921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:  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个大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拱两肩各有两个小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拱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道拱圈拼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全桥结构匀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AutoShape 6">
            <a:hlinkClick r:id="rId1" action="ppaction://hlinksldjump"/>
          </p:cNvPr>
          <p:cNvSpPr/>
          <p:nvPr/>
        </p:nvSpPr>
        <p:spPr>
          <a:xfrm>
            <a:off x="7308720" y="5516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16000" y="5824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这两段文字运用了什么说明顺序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?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运用了哪些说明方法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?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743120" y="2119320"/>
            <a:ext cx="29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逻辑顺序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763640" y="3068640"/>
            <a:ext cx="26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列数字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引用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打比方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BC</cp:lastModifiedBy>
  <dcterms:modified xsi:type="dcterms:W3CDTF">2015-12-23T06:03:51Z</dcterms:modified>
  <cp:revision>1</cp:revision>
  <dc:subject/>
  <dc:title>PowerPoint 演示文稿</dc:title>
</cp:coreProperties>
</file>