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E8C-D02B-47C6-80A9-FEEEDE77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E9A-D0DF-4A62-A108-26C42368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B3A-1397-4C97-BA60-1D35FA7C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7D3-1D3D-4097-8B02-3E4648D0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EF5B-E130-4283-A600-B2B0C3EF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D9A-EDFF-45DB-8AB2-6FA7E885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F7E2-D800-4115-927A-57229405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F65-54D6-4C3F-9B0F-E3014510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4DA-361A-4189-9A66-5B48B842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7B7-C997-4DC1-B877-C3E31F1D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7D7-C66C-4675-8AE0-954AA50D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909-03E6-4BD2-A31C-5D474287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BAE2-F39E-438F-8646-90198EADB4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526185030988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106668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华文楷体"/>
                <a:ea typeface="华文楷体"/>
              </a:rPr>
              <a:t>我爱祖国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华文楷体"/>
                <a:ea typeface="华文楷体"/>
              </a:rPr>
              <a:t>也爱祖国大自然的风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黄河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q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_14386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47760" y="609480"/>
            <a:ext cx="10947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祖国山川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6000" y="3657600"/>
            <a:ext cx="606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黄药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00526184924349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66680" y="26668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诵读全文，体会感情基调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200526184924349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772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572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文鼎中钢笔行楷"/>
                <a:ea typeface="文鼎中钢笔行楷"/>
              </a:rPr>
              <a:t>　　祖国山川——是文章的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文鼎中钢笔行楷"/>
                <a:ea typeface="文鼎中钢笔行楷"/>
              </a:rPr>
              <a:t>　　颂——点明了文体：内容上多是赞美、歌颂；写法上多用铺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19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方正姚体"/>
                <a:ea typeface="文鼎中钢笔行楷"/>
              </a:rPr>
              <a:t>　　</a:t>
            </a:r>
            <a:r>
              <a:rPr b="1" lang="zh-CN" sz="3600" spc="-1" strike="noStrike">
                <a:solidFill>
                  <a:srgbClr val="800000"/>
                </a:solidFill>
                <a:latin typeface="方正姚体"/>
                <a:ea typeface="文鼎中钢笔行楷"/>
              </a:rPr>
              <a:t>“颂”是一种古代文体，刘勰《文心雕龙》中说：“颂者，容也，所以美盛德而述形容也。”《艺文类聚》中也提到：“颂，诗之美者也。”颂，原为歌颂神的舞歌，转为歌功颂德的诗，后来就更为宽泛，一切以赞美、歌颂为主题的都可以称“颂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20052618495952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03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73960" y="533520"/>
            <a:ext cx="185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整体感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6040" y="1523880"/>
            <a:ext cx="38383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华文楷体"/>
                <a:ea typeface="华文楷体"/>
              </a:rPr>
              <a:t>文章是否仅仅赞美了山川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华文楷体"/>
                <a:ea typeface="华文楷体"/>
              </a:rPr>
              <a:t>本文歌颂的对象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200526184924349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10666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楷体"/>
              </a:rPr>
              <a:t>自主点评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8954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华文楷体"/>
                <a:ea typeface="华文楷体"/>
              </a:rPr>
              <a:t>	</a:t>
            </a:r>
            <a:r>
              <a:rPr b="1" lang="zh-CN" sz="4000" spc="-1" strike="noStrike">
                <a:solidFill>
                  <a:srgbClr val="000099"/>
                </a:solidFill>
                <a:latin typeface="华文楷体"/>
                <a:ea typeface="华文楷体"/>
              </a:rPr>
              <a:t>作者黄药眠是著名美学家，他的散文也充满了诗情画意， 请你分别从修辞美、结构美、意韵美等方面进行点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20052618495952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62120" y="2209680"/>
            <a:ext cx="857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文鼎中钢笔行楷"/>
                <a:ea typeface="文鼎中钢笔行楷"/>
              </a:rPr>
              <a:t>	</a:t>
            </a:r>
            <a:r>
              <a:rPr b="1" lang="zh-CN" sz="2800" spc="-1" strike="noStrike">
                <a:solidFill>
                  <a:srgbClr val="003366"/>
                </a:solidFill>
                <a:latin typeface="文鼎中钢笔行楷"/>
                <a:ea typeface="文鼎中钢笔行楷"/>
              </a:rPr>
              <a:t>1</a:t>
            </a:r>
            <a:r>
              <a:rPr b="1" lang="zh-CN" sz="2800" spc="-1" strike="noStrike">
                <a:solidFill>
                  <a:srgbClr val="003366"/>
                </a:solidFill>
                <a:latin typeface="文鼎中钢笔行楷"/>
                <a:ea typeface="文鼎中钢笔行楷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文鼎中钢笔行楷"/>
                <a:ea typeface="文鼎中钢笔行楷"/>
              </a:rPr>
              <a:t>作者写扬子江的发展历程，有什么深层意义 ？你从中得到什么启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文鼎中钢笔行楷"/>
                <a:ea typeface="文鼎中钢笔行楷"/>
              </a:rPr>
              <a:t>	</a:t>
            </a:r>
            <a:r>
              <a:rPr b="1" lang="zh-CN" sz="3600" spc="-1" strike="noStrike">
                <a:solidFill>
                  <a:srgbClr val="000099"/>
                </a:solidFill>
                <a:latin typeface="文鼎中钢笔行楷"/>
                <a:ea typeface="文鼎中钢笔行楷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文鼎中钢笔行楷"/>
                <a:ea typeface="文鼎中钢笔行楷"/>
              </a:rPr>
              <a:t>、通过课文的学习，你能理解祖国的含义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9144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深入探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我们的世界如此美丽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0" y="5943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我们的祖国如此美丽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1" lang="zh-CN" sz="4400" spc="-1" strike="noStrike">
                <a:solidFill>
                  <a:srgbClr val="000066"/>
                </a:solidFill>
                <a:latin typeface="文鼎中钢笔行楷"/>
                <a:ea typeface="文鼎中钢笔行楷"/>
              </a:rPr>
              <a:t>如果让你在下面四首歌中选一首为本文配乐，你将选哪一首？为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文鼎中钢笔行楷"/>
                <a:ea typeface="文鼎中钢笔行楷"/>
              </a:rPr>
              <a:t>    </a:t>
            </a:r>
            <a:r>
              <a:rPr b="1" lang="zh-CN" sz="4400" spc="-1" strike="noStrike">
                <a:solidFill>
                  <a:srgbClr val="000066"/>
                </a:solidFill>
                <a:latin typeface="文鼎中钢笔行楷"/>
                <a:ea typeface="文鼎中钢笔行楷"/>
              </a:rPr>
              <a:t>　</a:t>
            </a:r>
            <a:r>
              <a:rPr b="1" lang="zh-CN" sz="4400" spc="-1" strike="noStrike">
                <a:solidFill>
                  <a:srgbClr val="000066"/>
                </a:solidFill>
                <a:latin typeface="文鼎中钢笔行楷"/>
                <a:ea typeface="文鼎中钢笔行楷"/>
              </a:rPr>
              <a:t>1</a:t>
            </a:r>
            <a:r>
              <a:rPr b="1" lang="zh-CN" sz="4400" spc="-1" strike="noStrike">
                <a:solidFill>
                  <a:srgbClr val="000066"/>
                </a:solidFill>
                <a:latin typeface="文鼎中钢笔行楷"/>
                <a:ea typeface="文鼎中钢笔行楷"/>
              </a:rPr>
              <a:t>、《我们的大中国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文鼎中钢笔行楷"/>
                <a:ea typeface="文鼎中钢笔行楷"/>
              </a:rPr>
              <a:t>    </a:t>
            </a:r>
            <a:r>
              <a:rPr b="1" lang="zh-CN" sz="4400" spc="-1" strike="noStrike">
                <a:solidFill>
                  <a:srgbClr val="000066"/>
                </a:solidFill>
                <a:latin typeface="文鼎中钢笔行楷"/>
                <a:ea typeface="文鼎中钢笔行楷"/>
              </a:rPr>
              <a:t>　</a:t>
            </a:r>
            <a:r>
              <a:rPr b="1" lang="zh-CN" sz="4400" spc="-1" strike="noStrike">
                <a:solidFill>
                  <a:srgbClr val="000066"/>
                </a:solidFill>
                <a:latin typeface="文鼎中钢笔行楷"/>
                <a:ea typeface="文鼎中钢笔行楷"/>
              </a:rPr>
              <a:t>2</a:t>
            </a:r>
            <a:r>
              <a:rPr b="1" lang="zh-CN" sz="4400" spc="-1" strike="noStrike">
                <a:solidFill>
                  <a:srgbClr val="000066"/>
                </a:solidFill>
                <a:latin typeface="文鼎中钢笔行楷"/>
                <a:ea typeface="文鼎中钢笔行楷"/>
              </a:rPr>
              <a:t>、《黄河大合唱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文鼎中钢笔行楷"/>
                <a:ea typeface="文鼎中钢笔行楷"/>
              </a:rPr>
              <a:t>    </a:t>
            </a:r>
            <a:r>
              <a:rPr b="1" lang="zh-CN" sz="4400" spc="-1" strike="noStrike">
                <a:solidFill>
                  <a:srgbClr val="000066"/>
                </a:solidFill>
                <a:latin typeface="文鼎中钢笔行楷"/>
                <a:ea typeface="文鼎中钢笔行楷"/>
              </a:rPr>
              <a:t>　</a:t>
            </a:r>
            <a:r>
              <a:rPr b="1" lang="zh-CN" sz="4400" spc="-1" strike="noStrike">
                <a:solidFill>
                  <a:srgbClr val="000066"/>
                </a:solidFill>
                <a:latin typeface="文鼎中钢笔行楷"/>
                <a:ea typeface="文鼎中钢笔行楷"/>
              </a:rPr>
              <a:t>3</a:t>
            </a:r>
            <a:r>
              <a:rPr b="1" lang="zh-CN" sz="4400" spc="-1" strike="noStrike">
                <a:solidFill>
                  <a:srgbClr val="000066"/>
                </a:solidFill>
                <a:latin typeface="文鼎中钢笔行楷"/>
                <a:ea typeface="文鼎中钢笔行楷"/>
              </a:rPr>
              <a:t>、《我的中国心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文鼎中钢笔行楷"/>
                <a:ea typeface="文鼎中钢笔行楷"/>
              </a:rPr>
              <a:t>    </a:t>
            </a:r>
            <a:r>
              <a:rPr b="1" lang="zh-CN" sz="4400" spc="-1" strike="noStrike">
                <a:solidFill>
                  <a:srgbClr val="000066"/>
                </a:solidFill>
                <a:latin typeface="文鼎中钢笔行楷"/>
                <a:ea typeface="文鼎中钢笔行楷"/>
              </a:rPr>
              <a:t>　</a:t>
            </a:r>
            <a:r>
              <a:rPr b="1" lang="zh-CN" sz="4400" spc="-1" strike="noStrike">
                <a:solidFill>
                  <a:srgbClr val="000066"/>
                </a:solidFill>
                <a:latin typeface="文鼎中钢笔行楷"/>
                <a:ea typeface="文鼎中钢笔行楷"/>
              </a:rPr>
              <a:t>4</a:t>
            </a:r>
            <a:r>
              <a:rPr b="1" lang="zh-CN" sz="4400" spc="-1" strike="noStrike">
                <a:solidFill>
                  <a:srgbClr val="000066"/>
                </a:solidFill>
                <a:latin typeface="文鼎中钢笔行楷"/>
                <a:ea typeface="文鼎中钢笔行楷"/>
              </a:rPr>
              <a:t>、《我爱你，中国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200461123504423378" descr=""/>
          <p:cNvPicPr/>
          <p:nvPr/>
        </p:nvPicPr>
        <p:blipFill>
          <a:blip r:embed="rId1"/>
          <a:stretch/>
        </p:blipFill>
        <p:spPr>
          <a:xfrm>
            <a:off x="6400800" y="4038480"/>
            <a:ext cx="24922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1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09680" y="59436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你去过这些地方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20052811253974" descr=""/>
          <p:cNvPicPr/>
          <p:nvPr/>
        </p:nvPicPr>
        <p:blipFill>
          <a:blip r:embed="rId1"/>
          <a:stretch/>
        </p:blipFill>
        <p:spPr>
          <a:xfrm>
            <a:off x="0" y="-82440"/>
            <a:ext cx="9144000" cy="702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276720" y="2438280"/>
            <a:ext cx="1752480" cy="13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61722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南京田家炳高级中学朱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天涯海角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004052810360985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西双版纳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6:46:47Z</dcterms:created>
  <dc:creator>oizhuzhu</dc:creator>
  <dc:description/>
  <dc:language>en-US</dc:language>
  <cp:lastModifiedBy>oizhuzhu</cp:lastModifiedBy>
  <dcterms:modified xsi:type="dcterms:W3CDTF">2006-02-24T06:33:15Z</dcterms:modified>
  <cp:revision>3</cp:revision>
  <dc:subject/>
  <dc:title>PowerPoint 演示文稿</dc:title>
</cp:coreProperties>
</file>