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F9B-CA58-4B03-A9CD-C621A6B4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461-DE7D-408B-8B63-8C869877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0B6-66C7-47F0-8EC0-A69D9C36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25E-BE36-4144-B66E-6700EAD1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F452-63F9-44EC-9752-44529BB8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A79A-6081-4F8A-B295-C5687165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AC9-C55E-4B33-8B54-6F8BA87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D87-9DFA-464A-987E-1180D8EA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3AA6-B398-4C0F-B481-11DFC22C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720F-95F6-43C4-B84B-A5D0A6A6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EDFA-0E13-4DB7-80DB-C154051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466-AD96-4212-8180-8CB74AC2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557-AD3F-4A64-9E3D-44640B47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7884-2341-4E3D-933C-986EBB7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1C07-5F06-48CA-998F-C9B94F63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B705-0EF5-4D66-9CEA-58D36403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5B4E-E59D-4FD6-AEF8-01ADAA71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EBD-AC86-4724-BD4E-A1F6E259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313-2EF2-4BB3-BA7F-33EB12F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378-3BC0-4BED-8E98-D5F9F7F9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C67-4CE4-4BEA-BF7E-36D3AE6B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A23-A2ED-4366-BECC-850D5F72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40F-265E-4C1A-A07A-E2C6372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0C8-8351-4AB4-B32E-A329908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FE08-8F0E-4B6C-A8B6-899DA4B7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919-A945-4081-8C7C-767DD1FB8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油画-62"/>
          <p:cNvPicPr/>
          <p:nvPr/>
        </p:nvPicPr>
        <p:blipFill>
          <a:blip r:embed="rId1">
            <a:lum bright="48000"/>
          </a:blip>
          <a:srcRect l="0" t="0" r="0" b="768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649880" y="1752480"/>
            <a:ext cx="1689480" cy="10994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 rot="981000">
            <a:off x="4390560" y="1752120"/>
            <a:ext cx="1003680" cy="916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行楷"/>
                <a:ea typeface="华文行楷"/>
              </a:rPr>
              <a:t>失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00400" y="2743200"/>
            <a:ext cx="5029200" cy="1295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51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 </a:t>
            </a:r>
            <a:endParaRPr b="1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114800" y="3962520"/>
            <a:ext cx="4489560" cy="6094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zh-CN" sz="31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7" descr="gclm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304920" y="20574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09480" y="19810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公开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文字上看起来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两年以前，我们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总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夸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地大物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是事实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不久就不再自夸了，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希望着国联，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也是事实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现在是既不夸自己，也不信国联，改为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一味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求神拜佛，怀古伤今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却也是事实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gclm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62120" y="25146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文批驳敌论时，针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信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仿造了两个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有力地嘲讽、揭露了国民党反动派的丑恶本质和嘴脸。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886200" y="297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欺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600200" y="297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他信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80880" y="266688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gw3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754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"/>
          <p:cNvSpPr/>
          <p:nvPr/>
        </p:nvSpPr>
        <p:spPr>
          <a:xfrm>
            <a:off x="685800" y="2514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　　要论中国人，必须不被搽在表面的自欺欺人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脂粉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所诓骗，却看看他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筋骨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脊梁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。自信力的有无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状元宰相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的文章是不足为据的，要自己去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地底下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04920" y="266688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gw02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581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380880" y="838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拓展延伸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457000" y="2362320"/>
            <a:ext cx="51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鲁迅为什么反复强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国的脊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380880" y="2514600"/>
            <a:ext cx="38124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2"/>
                </a:moveTo>
                <a:lnTo>
                  <a:pt x="145529" y="116423"/>
                </a:lnTo>
                <a:lnTo>
                  <a:pt x="190500" y="0"/>
                </a:lnTo>
                <a:lnTo>
                  <a:pt x="235470" y="116423"/>
                </a:lnTo>
                <a:lnTo>
                  <a:pt x="380999" y="116422"/>
                </a:lnTo>
                <a:lnTo>
                  <a:pt x="263263" y="188375"/>
                </a:lnTo>
                <a:lnTo>
                  <a:pt x="308235" y="304799"/>
                </a:lnTo>
                <a:lnTo>
                  <a:pt x="190500" y="232844"/>
                </a:lnTo>
                <a:lnTo>
                  <a:pt x="72764" y="304799"/>
                </a:lnTo>
                <a:lnTo>
                  <a:pt x="117736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385000" y="3352680"/>
            <a:ext cx="49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历史新时期，我们应该怎样做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国的脊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380880" y="3581280"/>
            <a:ext cx="38124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2"/>
                </a:moveTo>
                <a:lnTo>
                  <a:pt x="145529" y="116423"/>
                </a:lnTo>
                <a:lnTo>
                  <a:pt x="190500" y="0"/>
                </a:lnTo>
                <a:lnTo>
                  <a:pt x="235470" y="116423"/>
                </a:lnTo>
                <a:lnTo>
                  <a:pt x="380999" y="116422"/>
                </a:lnTo>
                <a:lnTo>
                  <a:pt x="263263" y="188375"/>
                </a:lnTo>
                <a:lnTo>
                  <a:pt x="308235" y="304799"/>
                </a:lnTo>
                <a:lnTo>
                  <a:pt x="190500" y="232844"/>
                </a:lnTo>
                <a:lnTo>
                  <a:pt x="72764" y="304799"/>
                </a:lnTo>
                <a:lnTo>
                  <a:pt x="117736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3"/>
          <p:cNvSpPr/>
          <p:nvPr/>
        </p:nvSpPr>
        <p:spPr>
          <a:xfrm>
            <a:off x="7451640" y="130968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zlx14"/>
          <p:cNvPicPr/>
          <p:nvPr/>
        </p:nvPicPr>
        <p:blipFill>
          <a:blip r:embed="rId16">
            <a:lum bright="30000"/>
          </a:blip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380880" y="838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目标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00200" y="2438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理解掌握批驳谬论的方法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3565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体会尖锐泼辣的批驳语言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4708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激发民族自信心和自豪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38080" y="2514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5" y="174635"/>
                </a:lnTo>
                <a:lnTo>
                  <a:pt x="228600" y="0"/>
                </a:lnTo>
                <a:lnTo>
                  <a:pt x="282564" y="174635"/>
                </a:lnTo>
                <a:lnTo>
                  <a:pt x="457199" y="174634"/>
                </a:lnTo>
                <a:lnTo>
                  <a:pt x="315915" y="282563"/>
                </a:lnTo>
                <a:lnTo>
                  <a:pt x="369882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38080" y="3657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5" y="174635"/>
                </a:lnTo>
                <a:lnTo>
                  <a:pt x="228600" y="0"/>
                </a:lnTo>
                <a:lnTo>
                  <a:pt x="282564" y="174635"/>
                </a:lnTo>
                <a:lnTo>
                  <a:pt x="457199" y="174634"/>
                </a:lnTo>
                <a:lnTo>
                  <a:pt x="315915" y="282563"/>
                </a:lnTo>
                <a:lnTo>
                  <a:pt x="369882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38080" y="4800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5" y="174635"/>
                </a:lnTo>
                <a:lnTo>
                  <a:pt x="228600" y="0"/>
                </a:lnTo>
                <a:lnTo>
                  <a:pt x="282564" y="174635"/>
                </a:lnTo>
                <a:lnTo>
                  <a:pt x="457199" y="174634"/>
                </a:lnTo>
                <a:lnTo>
                  <a:pt x="315915" y="282563"/>
                </a:lnTo>
                <a:lnTo>
                  <a:pt x="369882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gclm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28600" y="838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复习回顾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358880" y="30211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中国人失掉自信力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2"/>
          <p:cNvGrpSpPr/>
          <p:nvPr/>
        </p:nvGrpSpPr>
        <p:grpSpPr>
          <a:xfrm>
            <a:off x="2819520" y="3886200"/>
            <a:ext cx="5715000" cy="1830600"/>
            <a:chOff x="2819520" y="3886200"/>
            <a:chExt cx="5715000" cy="1830600"/>
          </a:xfrm>
        </p:grpSpPr>
        <p:sp>
          <p:nvSpPr>
            <p:cNvPr id="102" name="Rectangle 7"/>
            <p:cNvSpPr/>
            <p:nvPr/>
          </p:nvSpPr>
          <p:spPr>
            <a:xfrm>
              <a:off x="3124080" y="388620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两年前     总自夸</a:t>
              </a:r>
              <a:r>
                <a:rPr b="0" lang="zh-CN" sz="32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“</a:t>
              </a: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地大物博</a:t>
              </a:r>
              <a:r>
                <a:rPr b="0" lang="zh-CN" sz="32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”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2819520" y="4525920"/>
              <a:ext cx="57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不久不再自夸只希望</a:t>
              </a:r>
              <a:r>
                <a:rPr b="0" lang="zh-CN" sz="32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“</a:t>
              </a: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国联</a:t>
              </a:r>
              <a:r>
                <a:rPr b="0" lang="zh-CN" sz="32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”</a:t>
              </a: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                     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124080" y="5135400"/>
              <a:ext cx="518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现　在　求神拜佛怀古伤今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Rectangle 10"/>
          <p:cNvSpPr/>
          <p:nvPr/>
        </p:nvSpPr>
        <p:spPr>
          <a:xfrm>
            <a:off x="-829800" y="2944800"/>
            <a:ext cx="35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敌论点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-782640" y="3854520"/>
            <a:ext cx="390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敌论据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04920" y="22860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762120" y="2209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文作者摆出的敌方论点和论据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7" descr="x13%5B1%5D"/>
          <p:cNvPicPr/>
          <p:nvPr/>
        </p:nvPicPr>
        <p:blipFill>
          <a:blip r:embed="rId1"/>
          <a:srcRect l="0" t="0" r="0" b="13318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380880" y="838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09480" y="21636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品读语句，辨析下列加注词语的含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2120" y="2971800"/>
            <a:ext cx="7010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我们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自夸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地大物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是事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于是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有人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慨叹曰：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失掉自信力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那也只能说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曾经有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信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在是在发展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欺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04920" y="22860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1295280" y="3429000"/>
            <a:ext cx="761760" cy="76320"/>
            <a:chOff x="1295280" y="3429000"/>
            <a:chExt cx="761760" cy="76320"/>
          </a:xfrm>
        </p:grpSpPr>
        <p:sp>
          <p:nvSpPr>
            <p:cNvPr id="116" name="Line 6"/>
            <p:cNvSpPr/>
            <p:nvPr/>
          </p:nvSpPr>
          <p:spPr>
            <a:xfrm>
              <a:off x="1295280" y="3429000"/>
              <a:ext cx="7617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1295280" y="3505320"/>
              <a:ext cx="7617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2057400" y="4038480"/>
            <a:ext cx="761760" cy="76320"/>
            <a:chOff x="2057400" y="4038480"/>
            <a:chExt cx="761760" cy="76320"/>
          </a:xfrm>
        </p:grpSpPr>
        <p:sp>
          <p:nvSpPr>
            <p:cNvPr id="119" name="Line 10"/>
            <p:cNvSpPr/>
            <p:nvPr/>
          </p:nvSpPr>
          <p:spPr>
            <a:xfrm>
              <a:off x="2057400" y="4038480"/>
              <a:ext cx="7617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057400" y="4114800"/>
              <a:ext cx="7617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4267080" y="4038480"/>
            <a:ext cx="990360" cy="76320"/>
            <a:chOff x="4267080" y="4038480"/>
            <a:chExt cx="990360" cy="76320"/>
          </a:xfrm>
        </p:grpSpPr>
        <p:sp>
          <p:nvSpPr>
            <p:cNvPr id="122" name="Line 13"/>
            <p:cNvSpPr/>
            <p:nvPr/>
          </p:nvSpPr>
          <p:spPr>
            <a:xfrm>
              <a:off x="4267080" y="403848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4267080" y="411480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3200400" y="4724280"/>
            <a:ext cx="990360" cy="76320"/>
            <a:chOff x="3200400" y="4724280"/>
            <a:chExt cx="990360" cy="76320"/>
          </a:xfrm>
        </p:grpSpPr>
        <p:sp>
          <p:nvSpPr>
            <p:cNvPr id="125" name="Line 16"/>
            <p:cNvSpPr/>
            <p:nvPr/>
          </p:nvSpPr>
          <p:spPr>
            <a:xfrm>
              <a:off x="3200400" y="472428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>
              <a:off x="3200400" y="4800600"/>
              <a:ext cx="990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1447920" y="5334120"/>
            <a:ext cx="990000" cy="75960"/>
            <a:chOff x="1447920" y="5334120"/>
            <a:chExt cx="990000" cy="75960"/>
          </a:xfrm>
        </p:grpSpPr>
        <p:sp>
          <p:nvSpPr>
            <p:cNvPr id="128" name="Line 20"/>
            <p:cNvSpPr/>
            <p:nvPr/>
          </p:nvSpPr>
          <p:spPr>
            <a:xfrm>
              <a:off x="1447920" y="5334120"/>
              <a:ext cx="990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1447920" y="5410080"/>
              <a:ext cx="990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Line 29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x13%5B1%5D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41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304920" y="22860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09480" y="21636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思考敌论论点与论据中论述对象有什么变化？说说敌论证过程中的错误在哪儿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295280" y="50292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偷换概念             以偏概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14400" y="3200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敌论点中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中国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指全体中国人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范围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914400" y="388620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敌论据中         所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我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仅是国民党反动派等一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小部分中国人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范围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1" descr="gclm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304920" y="2133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8"/>
                </a:moveTo>
                <a:lnTo>
                  <a:pt x="145529" y="145529"/>
                </a:lnTo>
                <a:lnTo>
                  <a:pt x="190500" y="0"/>
                </a:lnTo>
                <a:lnTo>
                  <a:pt x="235470" y="145529"/>
                </a:lnTo>
                <a:lnTo>
                  <a:pt x="380999" y="145528"/>
                </a:lnTo>
                <a:lnTo>
                  <a:pt x="263263" y="235469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6" y="23546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20098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彻底驳倒敌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还从正面提出了自己的看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他用哪些论据证明自己的观点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0"/>
          <p:cNvGrpSpPr/>
          <p:nvPr/>
        </p:nvGrpSpPr>
        <p:grpSpPr>
          <a:xfrm>
            <a:off x="1828800" y="3382920"/>
            <a:ext cx="5866560" cy="1951920"/>
            <a:chOff x="1828800" y="3382920"/>
            <a:chExt cx="5866560" cy="1951920"/>
          </a:xfrm>
        </p:grpSpPr>
        <p:sp>
          <p:nvSpPr>
            <p:cNvPr id="144" name="Text Box 5"/>
            <p:cNvSpPr/>
            <p:nvPr/>
          </p:nvSpPr>
          <p:spPr>
            <a:xfrm>
              <a:off x="1923120" y="3382920"/>
              <a:ext cx="255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从古以来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1828800" y="4631400"/>
              <a:ext cx="255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现       在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>
              <a:off x="4383720" y="3670920"/>
              <a:ext cx="378000" cy="1344600"/>
            </a:xfrm>
            <a:custGeom>
              <a:avLst/>
              <a:gdLst>
                <a:gd name="textAreaLeft" fmla="*/ 0 w 378000"/>
                <a:gd name="textAreaRight" fmla="*/ 136440 w 378000"/>
                <a:gd name="textAreaTop" fmla="*/ 34920 h 1344600"/>
                <a:gd name="textAreaBottom" fmla="*/ 1309680 h 13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4951440" y="4055040"/>
              <a:ext cx="274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都有“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脊梁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”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Line 12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04920" y="22860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94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有并不失掉自信力的中国人在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请你根据自己的了解为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段中“……的人”注解举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14600" y="3200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514600" y="402264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514600" y="478476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14600" y="5546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54400" y="32274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54400" y="39736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73480" y="4827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73480" y="5573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gclm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14400" y="2286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经过论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关于“自信力”作者得出了怎样的结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14400" y="4038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华文行楷"/>
              </a:rPr>
              <a:t>自信力的有无，状元宰相的文章是不足为据的，要自己去看地底下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457200" y="243828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76"/>
          <p:cNvGrpSpPr/>
          <p:nvPr/>
        </p:nvGrpSpPr>
        <p:grpSpPr>
          <a:xfrm>
            <a:off x="1066680" y="762120"/>
            <a:ext cx="8077320" cy="992880"/>
            <a:chOff x="1066680" y="762120"/>
            <a:chExt cx="8077320" cy="992880"/>
          </a:xfrm>
        </p:grpSpPr>
        <p:sp>
          <p:nvSpPr>
            <p:cNvPr id="169" name="Text Box 2"/>
            <p:cNvSpPr/>
            <p:nvPr/>
          </p:nvSpPr>
          <p:spPr>
            <a:xfrm>
              <a:off x="1066680" y="77616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总自夸“地大物博”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"/>
            <p:cNvSpPr/>
            <p:nvPr/>
          </p:nvSpPr>
          <p:spPr>
            <a:xfrm>
              <a:off x="2895480" y="1295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不自夸只希望国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5333760" y="7621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求神拜佛怀古伤今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Rectangle 9"/>
          <p:cNvSpPr/>
          <p:nvPr/>
        </p:nvSpPr>
        <p:spPr>
          <a:xfrm>
            <a:off x="3751560" y="27194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人失掉自信力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06668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失掉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他信力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48640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发展着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自欺力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828800" y="1981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以偏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概全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77"/>
          <p:cNvGrpSpPr/>
          <p:nvPr/>
        </p:nvGrpSpPr>
        <p:grpSpPr>
          <a:xfrm>
            <a:off x="2414160" y="1086480"/>
            <a:ext cx="4620960" cy="1636920"/>
            <a:chOff x="2414160" y="1086480"/>
            <a:chExt cx="4620960" cy="1636920"/>
          </a:xfrm>
        </p:grpSpPr>
        <p:sp>
          <p:nvSpPr>
            <p:cNvPr id="177" name="Line 10"/>
            <p:cNvSpPr/>
            <p:nvPr/>
          </p:nvSpPr>
          <p:spPr>
            <a:xfrm>
              <a:off x="4648320" y="1752480"/>
              <a:ext cx="0" cy="914400"/>
            </a:xfrm>
            <a:prstGeom prst="line">
              <a:avLst/>
            </a:prstGeom>
            <a:ln w="7632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2414160" y="1086480"/>
              <a:ext cx="1115640" cy="1636920"/>
            </a:xfrm>
            <a:prstGeom prst="line">
              <a:avLst/>
            </a:prstGeom>
            <a:ln w="7632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H="1">
              <a:off x="5842440" y="1113120"/>
              <a:ext cx="1192680" cy="1583640"/>
            </a:xfrm>
            <a:prstGeom prst="line">
              <a:avLst/>
            </a:prstGeom>
            <a:ln w="7632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78"/>
          <p:cNvGrpSpPr/>
          <p:nvPr/>
        </p:nvGrpSpPr>
        <p:grpSpPr>
          <a:xfrm>
            <a:off x="2590560" y="1676520"/>
            <a:ext cx="4191120" cy="838080"/>
            <a:chOff x="2590560" y="1676520"/>
            <a:chExt cx="4191120" cy="838080"/>
          </a:xfrm>
        </p:grpSpPr>
        <p:grpSp>
          <p:nvGrpSpPr>
            <p:cNvPr id="181" name="Group 19"/>
            <p:cNvGrpSpPr/>
            <p:nvPr/>
          </p:nvGrpSpPr>
          <p:grpSpPr>
            <a:xfrm>
              <a:off x="4343040" y="1676520"/>
              <a:ext cx="609840" cy="838080"/>
              <a:chOff x="4343040" y="1676520"/>
              <a:chExt cx="609840" cy="838080"/>
            </a:xfrm>
          </p:grpSpPr>
          <p:sp>
            <p:nvSpPr>
              <p:cNvPr id="182" name="Line 17"/>
              <p:cNvSpPr/>
              <p:nvPr/>
            </p:nvSpPr>
            <p:spPr>
              <a:xfrm flipH="1">
                <a:off x="4343040" y="1676520"/>
                <a:ext cx="60948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8"/>
              <p:cNvSpPr/>
              <p:nvPr/>
            </p:nvSpPr>
            <p:spPr>
              <a:xfrm>
                <a:off x="4343400" y="1676520"/>
                <a:ext cx="60948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22"/>
            <p:cNvGrpSpPr/>
            <p:nvPr/>
          </p:nvGrpSpPr>
          <p:grpSpPr>
            <a:xfrm>
              <a:off x="6171840" y="1676520"/>
              <a:ext cx="609840" cy="838080"/>
              <a:chOff x="6171840" y="1676520"/>
              <a:chExt cx="609840" cy="838080"/>
            </a:xfrm>
          </p:grpSpPr>
          <p:sp>
            <p:nvSpPr>
              <p:cNvPr id="185" name="Line 23"/>
              <p:cNvSpPr/>
              <p:nvPr/>
            </p:nvSpPr>
            <p:spPr>
              <a:xfrm flipH="1">
                <a:off x="6171840" y="1676520"/>
                <a:ext cx="60948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>
                <a:off x="6172200" y="1676520"/>
                <a:ext cx="60948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590560" y="1676520"/>
              <a:ext cx="609840" cy="838080"/>
              <a:chOff x="2590560" y="1676520"/>
              <a:chExt cx="609840" cy="838080"/>
            </a:xfrm>
          </p:grpSpPr>
          <p:sp>
            <p:nvSpPr>
              <p:cNvPr id="188" name="Line 26"/>
              <p:cNvSpPr/>
              <p:nvPr/>
            </p:nvSpPr>
            <p:spPr>
              <a:xfrm flipH="1">
                <a:off x="2590560" y="1676520"/>
                <a:ext cx="60948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27"/>
              <p:cNvSpPr/>
              <p:nvPr/>
            </p:nvSpPr>
            <p:spPr>
              <a:xfrm>
                <a:off x="2590920" y="1676520"/>
                <a:ext cx="60948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1"/>
          <p:cNvSpPr/>
          <p:nvPr/>
        </p:nvSpPr>
        <p:spPr>
          <a:xfrm>
            <a:off x="3404880" y="40147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并不失掉自信力的中国人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2"/>
          <p:cNvSpPr/>
          <p:nvPr/>
        </p:nvSpPr>
        <p:spPr>
          <a:xfrm>
            <a:off x="4419720" y="3124080"/>
            <a:ext cx="457200" cy="990720"/>
          </a:xfrm>
          <a:prstGeom prst="upDownArrow">
            <a:avLst>
              <a:gd name="adj1" fmla="val 50000"/>
              <a:gd name="adj2" fmla="val 4332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429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从古至今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脊梁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53"/>
          <p:cNvGrpSpPr/>
          <p:nvPr/>
        </p:nvGrpSpPr>
        <p:grpSpPr>
          <a:xfrm>
            <a:off x="196920" y="2666880"/>
            <a:ext cx="1174320" cy="431640"/>
            <a:chOff x="196920" y="2666880"/>
            <a:chExt cx="1174320" cy="431640"/>
          </a:xfrm>
        </p:grpSpPr>
        <p:grpSp>
          <p:nvGrpSpPr>
            <p:cNvPr id="194" name="Group 39"/>
            <p:cNvGrpSpPr/>
            <p:nvPr/>
          </p:nvGrpSpPr>
          <p:grpSpPr>
            <a:xfrm>
              <a:off x="228600" y="2666880"/>
              <a:ext cx="1142640" cy="431640"/>
              <a:chOff x="228600" y="2666880"/>
              <a:chExt cx="1142640" cy="431640"/>
            </a:xfrm>
          </p:grpSpPr>
          <p:sp>
            <p:nvSpPr>
              <p:cNvPr id="195" name="Rectangle 40"/>
              <p:cNvSpPr/>
              <p:nvPr/>
            </p:nvSpPr>
            <p:spPr>
              <a:xfrm>
                <a:off x="228600" y="2695320"/>
                <a:ext cx="1028160" cy="403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228600" y="2666880"/>
                <a:ext cx="1142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Rectangle 42"/>
            <p:cNvSpPr/>
            <p:nvPr/>
          </p:nvSpPr>
          <p:spPr>
            <a:xfrm>
              <a:off x="196920" y="2666880"/>
              <a:ext cx="109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敌论点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54"/>
          <p:cNvGrpSpPr/>
          <p:nvPr/>
        </p:nvGrpSpPr>
        <p:grpSpPr>
          <a:xfrm>
            <a:off x="228600" y="4038480"/>
            <a:ext cx="1174320" cy="431640"/>
            <a:chOff x="228600" y="4038480"/>
            <a:chExt cx="1174320" cy="431640"/>
          </a:xfrm>
        </p:grpSpPr>
        <p:grpSp>
          <p:nvGrpSpPr>
            <p:cNvPr id="199" name="Group 55"/>
            <p:cNvGrpSpPr/>
            <p:nvPr/>
          </p:nvGrpSpPr>
          <p:grpSpPr>
            <a:xfrm>
              <a:off x="260280" y="4038480"/>
              <a:ext cx="1142640" cy="431640"/>
              <a:chOff x="260280" y="4038480"/>
              <a:chExt cx="1142640" cy="431640"/>
            </a:xfrm>
          </p:grpSpPr>
          <p:sp>
            <p:nvSpPr>
              <p:cNvPr id="200" name="Rectangle 56"/>
              <p:cNvSpPr/>
              <p:nvPr/>
            </p:nvSpPr>
            <p:spPr>
              <a:xfrm>
                <a:off x="260280" y="4066920"/>
                <a:ext cx="1028160" cy="403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57"/>
              <p:cNvSpPr/>
              <p:nvPr/>
            </p:nvSpPr>
            <p:spPr>
              <a:xfrm>
                <a:off x="260280" y="4038480"/>
                <a:ext cx="1142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Rectangle 58"/>
            <p:cNvSpPr/>
            <p:nvPr/>
          </p:nvSpPr>
          <p:spPr>
            <a:xfrm>
              <a:off x="228600" y="4038480"/>
              <a:ext cx="109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己论点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-31680" y="838080"/>
            <a:ext cx="1174320" cy="431640"/>
            <a:chOff x="-31680" y="838080"/>
            <a:chExt cx="1174320" cy="431640"/>
          </a:xfrm>
        </p:grpSpPr>
        <p:grpSp>
          <p:nvGrpSpPr>
            <p:cNvPr id="204" name="Group 60"/>
            <p:cNvGrpSpPr/>
            <p:nvPr/>
          </p:nvGrpSpPr>
          <p:grpSpPr>
            <a:xfrm>
              <a:off x="0" y="838080"/>
              <a:ext cx="1142640" cy="431640"/>
              <a:chOff x="0" y="838080"/>
              <a:chExt cx="1142640" cy="431640"/>
            </a:xfrm>
          </p:grpSpPr>
          <p:sp>
            <p:nvSpPr>
              <p:cNvPr id="205" name="Rectangle 61"/>
              <p:cNvSpPr/>
              <p:nvPr/>
            </p:nvSpPr>
            <p:spPr>
              <a:xfrm>
                <a:off x="0" y="866520"/>
                <a:ext cx="1028160" cy="403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62"/>
              <p:cNvSpPr/>
              <p:nvPr/>
            </p:nvSpPr>
            <p:spPr>
              <a:xfrm>
                <a:off x="0" y="838080"/>
                <a:ext cx="1142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Rectangle 63"/>
            <p:cNvSpPr/>
            <p:nvPr/>
          </p:nvSpPr>
          <p:spPr>
            <a:xfrm>
              <a:off x="-31680" y="838080"/>
              <a:ext cx="109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敌论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4"/>
          <p:cNvGrpSpPr/>
          <p:nvPr/>
        </p:nvGrpSpPr>
        <p:grpSpPr>
          <a:xfrm>
            <a:off x="0" y="4800600"/>
            <a:ext cx="1174320" cy="431280"/>
            <a:chOff x="0" y="4800600"/>
            <a:chExt cx="1174320" cy="431280"/>
          </a:xfrm>
        </p:grpSpPr>
        <p:grpSp>
          <p:nvGrpSpPr>
            <p:cNvPr id="209" name="Group 65"/>
            <p:cNvGrpSpPr/>
            <p:nvPr/>
          </p:nvGrpSpPr>
          <p:grpSpPr>
            <a:xfrm>
              <a:off x="31680" y="4800600"/>
              <a:ext cx="1142640" cy="431280"/>
              <a:chOff x="31680" y="4800600"/>
              <a:chExt cx="1142640" cy="431280"/>
            </a:xfrm>
          </p:grpSpPr>
          <p:sp>
            <p:nvSpPr>
              <p:cNvPr id="210" name="Rectangle 66"/>
              <p:cNvSpPr/>
              <p:nvPr/>
            </p:nvSpPr>
            <p:spPr>
              <a:xfrm>
                <a:off x="31680" y="4829040"/>
                <a:ext cx="1028160" cy="402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67"/>
              <p:cNvSpPr/>
              <p:nvPr/>
            </p:nvSpPr>
            <p:spPr>
              <a:xfrm>
                <a:off x="31680" y="4800600"/>
                <a:ext cx="1142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68"/>
            <p:cNvSpPr/>
            <p:nvPr/>
          </p:nvSpPr>
          <p:spPr>
            <a:xfrm>
              <a:off x="0" y="4800600"/>
              <a:ext cx="109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己论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75"/>
          <p:cNvSpPr/>
          <p:nvPr/>
        </p:nvSpPr>
        <p:spPr>
          <a:xfrm>
            <a:off x="2600640" y="5668920"/>
            <a:ext cx="44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信力的有无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状元宰相的文章不足为据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看地底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9"/>
          <p:cNvSpPr/>
          <p:nvPr/>
        </p:nvSpPr>
        <p:spPr>
          <a:xfrm>
            <a:off x="8153280" y="2971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0"/>
          <p:cNvSpPr/>
          <p:nvPr/>
        </p:nvSpPr>
        <p:spPr>
          <a:xfrm flipV="1">
            <a:off x="4648320" y="4419720"/>
            <a:ext cx="0" cy="457200"/>
          </a:xfrm>
          <a:prstGeom prst="line">
            <a:avLst/>
          </a:prstGeom>
          <a:ln w="7632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91"/>
          <p:cNvGrpSpPr/>
          <p:nvPr/>
        </p:nvGrpSpPr>
        <p:grpSpPr>
          <a:xfrm>
            <a:off x="7668000" y="2209680"/>
            <a:ext cx="790200" cy="1143000"/>
            <a:chOff x="7668000" y="2209680"/>
            <a:chExt cx="790200" cy="1143000"/>
          </a:xfrm>
        </p:grpSpPr>
        <p:sp>
          <p:nvSpPr>
            <p:cNvPr id="217" name="Text Box 81"/>
            <p:cNvSpPr/>
            <p:nvPr/>
          </p:nvSpPr>
          <p:spPr>
            <a:xfrm>
              <a:off x="7668000" y="2209680"/>
              <a:ext cx="79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驳敌论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83"/>
            <p:cNvSpPr/>
            <p:nvPr/>
          </p:nvSpPr>
          <p:spPr>
            <a:xfrm>
              <a:off x="7696080" y="2209680"/>
              <a:ext cx="304920" cy="11430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93"/>
          <p:cNvGrpSpPr/>
          <p:nvPr/>
        </p:nvGrpSpPr>
        <p:grpSpPr>
          <a:xfrm>
            <a:off x="7623720" y="4191120"/>
            <a:ext cx="790200" cy="1143000"/>
            <a:chOff x="7623720" y="4191120"/>
            <a:chExt cx="790200" cy="1143000"/>
          </a:xfrm>
        </p:grpSpPr>
        <p:sp>
          <p:nvSpPr>
            <p:cNvPr id="220" name="Text Box 82"/>
            <p:cNvSpPr/>
            <p:nvPr/>
          </p:nvSpPr>
          <p:spPr>
            <a:xfrm>
              <a:off x="7623720" y="4191120"/>
              <a:ext cx="79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正面立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85"/>
            <p:cNvSpPr/>
            <p:nvPr/>
          </p:nvSpPr>
          <p:spPr>
            <a:xfrm>
              <a:off x="7696080" y="4191120"/>
              <a:ext cx="304920" cy="11430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95"/>
          <p:cNvGrpSpPr/>
          <p:nvPr/>
        </p:nvGrpSpPr>
        <p:grpSpPr>
          <a:xfrm>
            <a:off x="0" y="2438280"/>
            <a:ext cx="8839080" cy="3708000"/>
            <a:chOff x="0" y="2438280"/>
            <a:chExt cx="8839080" cy="3708000"/>
          </a:xfrm>
        </p:grpSpPr>
        <p:grpSp>
          <p:nvGrpSpPr>
            <p:cNvPr id="223" name="Group 74"/>
            <p:cNvGrpSpPr/>
            <p:nvPr/>
          </p:nvGrpSpPr>
          <p:grpSpPr>
            <a:xfrm>
              <a:off x="0" y="5715000"/>
              <a:ext cx="1143000" cy="431280"/>
              <a:chOff x="0" y="5715000"/>
              <a:chExt cx="1143000" cy="431280"/>
            </a:xfrm>
          </p:grpSpPr>
          <p:grpSp>
            <p:nvGrpSpPr>
              <p:cNvPr id="224" name="Group 70"/>
              <p:cNvGrpSpPr/>
              <p:nvPr/>
            </p:nvGrpSpPr>
            <p:grpSpPr>
              <a:xfrm>
                <a:off x="0" y="5715000"/>
                <a:ext cx="1142640" cy="431280"/>
                <a:chOff x="0" y="5715000"/>
                <a:chExt cx="1142640" cy="431280"/>
              </a:xfrm>
            </p:grpSpPr>
            <p:sp>
              <p:nvSpPr>
                <p:cNvPr id="225" name="Rectangle 71"/>
                <p:cNvSpPr/>
                <p:nvPr/>
              </p:nvSpPr>
              <p:spPr>
                <a:xfrm>
                  <a:off x="0" y="5743440"/>
                  <a:ext cx="1028160" cy="4028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Text Box 72"/>
                <p:cNvSpPr/>
                <p:nvPr/>
              </p:nvSpPr>
              <p:spPr>
                <a:xfrm>
                  <a:off x="0" y="5715000"/>
                  <a:ext cx="1142640" cy="396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Rectangle 73"/>
              <p:cNvSpPr/>
              <p:nvPr/>
            </p:nvSpPr>
            <p:spPr>
              <a:xfrm>
                <a:off x="44640" y="5715000"/>
                <a:ext cx="109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结   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94"/>
            <p:cNvGrpSpPr/>
            <p:nvPr/>
          </p:nvGrpSpPr>
          <p:grpSpPr>
            <a:xfrm>
              <a:off x="8305920" y="2438280"/>
              <a:ext cx="533160" cy="3505320"/>
              <a:chOff x="8305920" y="2438280"/>
              <a:chExt cx="533160" cy="3505320"/>
            </a:xfrm>
          </p:grpSpPr>
          <p:sp>
            <p:nvSpPr>
              <p:cNvPr id="229" name="AutoShape 86"/>
              <p:cNvSpPr/>
              <p:nvPr/>
            </p:nvSpPr>
            <p:spPr>
              <a:xfrm>
                <a:off x="8305920" y="2438280"/>
                <a:ext cx="228600" cy="259092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67320 h 2590920"/>
                  <a:gd name="textAreaBottom" fmla="*/ 2523600 h 259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87"/>
              <p:cNvSpPr/>
              <p:nvPr/>
            </p:nvSpPr>
            <p:spPr>
              <a:xfrm>
                <a:off x="8534520" y="3733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88"/>
              <p:cNvSpPr/>
              <p:nvPr/>
            </p:nvSpPr>
            <p:spPr>
              <a:xfrm>
                <a:off x="8839080" y="3733920"/>
                <a:ext cx="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90"/>
              <p:cNvSpPr/>
              <p:nvPr/>
            </p:nvSpPr>
            <p:spPr>
              <a:xfrm>
                <a:off x="8381880" y="5943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8:49:50Z</dcterms:modified>
  <cp:revision>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