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applause.wav" ContentType="audio/x-wav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18.png" ContentType="image/png"/>
  <Override PartName="/ppt/media/INSTSEL.WAV" ContentType="audio/x-wav"/>
  <Override PartName="/ppt/media/chimes.wav" ContentType="audio/x-wav"/>
  <Override PartName="/ppt/media/image4.png" ContentType="image/png"/>
  <Override PartName="/ppt/media/image13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  <p:custShowLst>
    <p:custShow name="自定义放映 1" id="0">
      <p:sldLst>
        <p:sld r:id="rId21"/>
      </p:sldLst>
    </p:custShow>
    <p:custShow name="自定义放映 2" id="1">
      <p:sldLst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71A-A98C-4342-B408-766D143C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6E0-A6F4-4C09-9CA8-5F7B41D2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15C5D-F25F-4382-8CB0-9A11035F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C93ED-268C-4E3E-BE99-D3B2F413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0D5F8-C4A4-49DA-A7A4-35CED0B9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286BE-B88E-407C-8DAE-58F9FC6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95007-B72B-49CC-BED5-B0FE65F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A4AF5-F73B-4776-87DA-9FE9EA75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9046D-5740-4F90-9231-20B7A5D6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A7B4E-087E-488F-80E2-3D398E9C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2025B-D58E-4E31-A712-CA2D7DA2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52EC4-9998-4238-A3F6-8A72ED1E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907-769A-477E-B78B-DEA1E053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51D21-7D13-49B7-A761-F07E3A2C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6A8C6-50B5-45E6-AEEB-ECD1C292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A4CFF-1525-47DE-AFB4-19775FC0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46832-1A18-4B1D-9102-778E742E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EF8AB-6E7C-437E-A3CB-B32B3B56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B9664-3E94-4CA4-8C4F-D0BF06A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1DFD6-8C4C-4D28-B86B-14A3309D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19259-A0A0-41DE-9D51-0BF74C03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1670E-DAFA-4040-BB66-420938E5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FFDE7-A071-499F-9527-F89D924C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640-B166-484D-914A-50D7A24A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5FB14-5B9F-426D-92F7-D8BDD213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F0CE8-A7EB-446A-8AF8-C7C194D7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4FC1D-894B-4DB7-866E-3BDCF725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C2437-DBE7-4960-911B-9A974EC3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C64CA-A627-4CDA-AA72-C599E243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C685E-0742-48AD-8050-730447EB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FD764-7A6C-46EA-8554-FF35D1FD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CDE56-27C1-4FCC-89D3-09370AE6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945C9-A4F8-4793-A90F-CA4F507F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C839A-0D1B-4EAB-849F-B5322B65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15D-F744-4EF3-9A9C-57D81FFC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6F604-385C-401D-A3F4-AD13D33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904F0-0EF3-418C-BE51-E1953887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DE49D-4117-413E-B532-350796C4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D617A-55DB-4579-A106-B7B23EFD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9D9BF-A3A0-4AD5-AC3B-A4DC907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47841-5CC8-4794-BA96-11CAA966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92875-0AE3-4B8A-8DCE-AB9B3910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24966-65F2-4E2B-9548-9ABAE482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5A471-372D-4F72-A7DE-D277A258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73BF7-7BB7-4C27-8DED-94367131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4D6-7B11-44E3-A8C6-744A23E8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B385A-A690-48FA-A492-25114F4D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54259-B299-4BD2-8AD3-AEBE5335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5B9C8-CA6A-442B-9F67-6EB9BA76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74E5B-8C46-4F6C-A3FF-93B7E611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83B38-07AD-41D1-9F7D-194759B9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4BBC7-1BDE-486D-880D-04C0B14C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460F2-B732-4079-A7DC-DBC2A89C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213A7-1672-4C40-9F91-E41D19A7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8F17F-B663-4130-AC63-BE12C048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2A938-2D67-4673-8C6E-6D56FD47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FA3D-B0E0-419E-896A-54089A25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61D65-F91D-4156-A036-603FC17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568E2-FC72-41AF-AE9F-C57BB10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6B84D-B277-458C-922D-0244B655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47F40-577D-429E-B2C9-1FB3D3F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DCDFB-1093-45EB-9261-853F3597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9E5DF-C850-48BC-900C-A1B340D8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8F266-2811-4F04-AF7D-36C333F1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7BF8A-2FAB-4DB7-A1C0-4B4501FC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F9C68-5395-440B-889C-6ACDF201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936DF-D76E-4ECC-89CD-5315FDE8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DE79-2780-42EB-B220-150F7959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B6FB2-7484-45E9-ACA8-8DFEC5DB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1848C-E842-4825-8AFA-21060091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4A635-DB16-488F-AE18-458039B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FBD66-18CB-451C-9A6D-C4B78A5C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B7C29-49F2-4EC5-B701-E5576C2A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BA8C4-F3C7-47A4-B745-966E9FD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0F9C0-19F8-4668-8DD4-F4D9E685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AD8C7-5EBC-4AB3-A010-A911E3FA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302C3-C18B-4956-B205-F1E622C8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2FCB7-1517-4AA9-BC7B-3ED674AB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9B04-36ED-43B7-9A8A-8B3F7C12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F27A7-55F7-451D-9777-4747B5AE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DDD12-DCD1-4E5F-BF43-BBAAB26F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87DDE-8915-40D7-A056-EBD24B69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F709C-535B-474B-8F4D-0E3FD14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B5AF6-0EF2-42F1-BB5F-456E784C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C5A19-37C3-49EF-8EA3-6509D82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B4E73-DDB6-4A3B-95FE-C53416CC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557F5-923D-47E8-90E4-C8D36EFD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3A5AA-27F1-4A74-B437-EFCDDAB5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DDFC0-A573-4A3D-8569-F7CB5901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132A-112F-4705-AF35-CF5E52E5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27A79-7D18-4656-811A-53D089C6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E8B4F-FCC4-4B94-9022-9246F784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19D45-6556-48B8-AA2F-76F7DE7F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15886-F29E-4F5B-956B-B04B225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25BDE-7C07-484E-A2B1-42E030F1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A2B43-7847-4A6D-9E9A-29122F4D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2B72C-D5F4-4113-AAB3-D8343FF3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AB101-3C80-4E46-9801-6351A1D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5FE57-4F9E-4A25-A462-A09053C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C6AF4-EA3A-4D38-9B7B-8597ACA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5852-91CE-4F26-81E1-3B09FC99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5E285A-1B0F-41C1-BEA6-B6F94D99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F5A71-AB93-4C4A-99BB-A44F4009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9B1DE-E1E3-4F36-855A-5A85B316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068-5742-40A1-B19C-73F0A22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A386-2823-42E5-8BD1-E950080C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BB23-1BA6-48B1-BFD8-B2C1A75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8964-F440-4022-AC29-7201CFA0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420D-603C-43D5-B6DC-BBD9C133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34E1-01CB-41DC-924B-3FF93BBD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B288-BB27-4E07-B084-F50AC6A3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14DB-2E7B-4836-BB2E-76DD4B2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736C-F760-4501-ACA8-5EA3242B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1F108-9953-400D-BC68-EF50D17F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09DFC-F222-498F-A084-F4B45919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EEF-816F-40F6-93E4-D7843372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D810-0AE2-49A3-954C-87A54266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988A-7D09-431B-BC38-A233C6A5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6D83-61F9-4ED0-95C0-F0CF1755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9F58-6E28-4E34-90F8-7A10400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21D59-41AA-415F-8AA5-A7D4336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72B9-A446-40C5-B2DC-694B6538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877C-371F-4F00-962B-805A042C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92025-2B46-4F1B-AF75-8337225E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17086-9BC5-40A3-B16F-2E5936D3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A016-BF2E-41AC-9047-C9414D6C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CB5-FA7E-442D-A43C-FA1EBF3E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E91B-57B6-421F-8486-2B101095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DC3B-7CBA-4BC4-9C9D-4F2D3D6D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D86C-9E86-47F0-8FC2-53AC4943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E3D0-8DA6-4FC4-A02A-0EB41A3A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A54F-177A-4434-9752-83EC580C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FEBC-3086-4390-8B86-0CCFDB54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53A6-259A-4439-A305-C7E178AA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BB573-7CC1-41DE-AF4A-94DFD39D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3CAF-E9BA-48AE-9FC4-CCCC45C5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64CF-FFA4-45D4-A8C4-97B583F7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6F5-0A89-441F-B4BB-CD5F9E46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9A96-F451-48DB-8E27-C48E18DA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763BD-292D-4442-907A-E5D6FFC1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FF6DE-9AC0-400A-A2C0-FFE70CD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03F37-E19B-4E49-A3CB-7798E82F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BEBAF-4D8E-4222-B2A0-B64BEAAD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8E6B0-1797-4D79-B75C-383C16A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ECC5A-DBB4-442D-B286-229538F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DF00-1342-47E2-A4A3-84A8E156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7184-46CA-4004-AF58-A9FAA115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7335-6525-4256-BDC7-5A0FD9EE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99D-F5E0-461C-BE22-BCEC0071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3ACE-B85C-4102-A8C4-EA158EE9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5213-FBF1-473B-8FB8-8EFBCC5E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F1FB0-9262-4227-9F36-B3233F49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342C5-7D81-4AB7-9F25-3051A462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FBDB4-1B40-47DB-9188-0D4EC38A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7955B-E56A-4DCD-ADD2-FEEBF898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1FBE-4AA1-46A4-9183-1494ECB9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DA767-5367-40A0-ABDF-C5FE5D0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9F34-3BEE-4532-8AAA-B0E3839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C8862-8B05-4754-8B4B-833D0703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AD5-C738-45BC-BC76-81BF446B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051E-1FE9-4DDD-ADE2-DE950FDF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5175-5CD1-4C80-845F-0FBB0941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13620-45B4-483A-AAE3-0ABE4B2C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D6E2F-2253-4E7D-821F-000C96C7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C1D53-8DB5-426D-9D2B-97E9C8BE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A098F-0D1E-4C06-AE86-7B3E3C4A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C3A35-6673-413F-9BCE-1B6C44C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118EF-FC59-480C-B53A-467B318F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8B939-EB6C-4FAB-BC0B-0B220E4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6CB11-076C-43CD-8E06-AC13E59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0D0-15F4-4E7E-B881-566F0EC5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53A16-7CAE-4E86-9BF3-465C5435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4C636-6369-4B1D-9A91-0357E84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BE263-FEAF-48CA-933E-62694772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75BE9-66A1-4C9E-8D0F-B962B0F9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D35F0-979E-4380-89EC-A64A7FF0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A5E0F-501B-42E5-B499-F6031D50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B5F0B-58CD-4736-A186-7692611B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490CF-2D26-418F-B81B-FB423BB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E3F37-2899-44D2-A762-7AB812E6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937F2-0C51-4515-8FA4-3B8FC8EF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400-F50A-4591-8AA5-63899D6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8D5E4-5E6F-4F13-8896-F80E3B29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6F736-785E-4E40-AFA7-AFFA6A94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71F49-A432-4306-82FD-FD9DAB98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2517A-7E53-49C6-808B-6ECB8F5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8DF01-36FD-4863-BEF9-706AFE4C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18C07-6826-4B2F-BD3A-6DF6B44F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FBBF9-9E86-4102-BE4D-9435B972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C6215-F5D0-43C8-BA6D-2526460E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400C4-37DE-4B40-8928-5AAF495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D501A-CCDD-4BE3-9D18-1F8ACA6C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ABAB-22E7-4901-88E2-A19F1E8AF7A0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9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0A6D-6C1A-412B-B882-742A9636895C}" type="slidenum">
              <a:rPr b="0" lang="zh-CN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C994-AC8B-4123-B121-2AA2D84C4A59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9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9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9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9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9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0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AE5-694B-46B2-84B3-851BE897397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60C-A30A-4730-96BA-2A51CD4EB3D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68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8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9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9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9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9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9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69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00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70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02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03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04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05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4D29-2DC2-4AAE-B713-DCF2FEA48E3E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EED4-7263-46DA-8654-D0AD9EBC9E1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4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7B5D-9C95-4CA0-9209-C5770E74DA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b9efee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Garamond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17F1-A228-4983-8AA9-C82D934E6362}" type="slidenum">
              <a:rPr b="0" lang="zh-CN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175B-F8AA-43C8-9B80-FA6695DC39DF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7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2C21-A364-4667-A909-F3A4B344C9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3F58-745A-46D3-B911-39D0B96BD9A5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B186-DBF3-418C-A721-3815C16EC78C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ff0000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ff0000"/>
                  </a:buClr>
                  <a:buSzPct val="9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Clr>
                      <a:srgbClr val="ff0000"/>
                    </a:buClr>
                    <a:buSzPct val="90000"/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866-C549-485F-8585-73AEC15D766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C5A3-BE21-4610-BD65-33E44D4639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28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9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0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1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2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3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4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6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8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9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0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1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2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3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5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6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8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9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450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451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660066"/>
                </a:buClr>
                <a:buSzPct val="9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3A6E-015A-4964-AE55-BD817BFDEE6F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INSTSEL.WAV"/><Relationship Id="rId2" Type="http://schemas.openxmlformats.org/officeDocument/2006/relationships/audio" Target="../media/INSTSE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WordArt 2"/>
          <p:cNvSpPr txBox="1"/>
          <p:nvPr/>
        </p:nvSpPr>
        <p:spPr>
          <a:xfrm>
            <a:off x="100080" y="973080"/>
            <a:ext cx="88200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solidFill>
                  <a:srgbClr val="ffffff"/>
                </a:solidFill>
                <a:latin typeface="华文隶书"/>
              </a:rPr>
              <a:t>中国人失掉自信力了吗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华文隶书"/>
              <a:ea typeface="华文隶书"/>
            </a:endParaRPr>
          </a:p>
        </p:txBody>
      </p:sp>
      <p:pic>
        <p:nvPicPr>
          <p:cNvPr id="834" name="Picture 4" descr="lishi2"/>
          <p:cNvPicPr/>
          <p:nvPr/>
        </p:nvPicPr>
        <p:blipFill>
          <a:blip r:embed="rId1"/>
          <a:stretch/>
        </p:blipFill>
        <p:spPr>
          <a:xfrm>
            <a:off x="911160" y="3068640"/>
            <a:ext cx="71978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2"/>
          <p:cNvSpPr/>
          <p:nvPr/>
        </p:nvSpPr>
        <p:spPr>
          <a:xfrm>
            <a:off x="1523880" y="66996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08b4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1c08b4"/>
                </a:solidFill>
                <a:latin typeface="Arial"/>
                <a:ea typeface="宋体"/>
              </a:rPr>
              <a:t>学习驳论文，首先要看作者怎样抓住批驳的</a:t>
            </a:r>
            <a:r>
              <a:rPr b="1" lang="zh-CN" sz="4000" spc="-1" strike="noStrike">
                <a:solidFill>
                  <a:srgbClr val="1c08b4"/>
                </a:solidFill>
                <a:latin typeface="Times New Roman"/>
                <a:ea typeface="宋体"/>
              </a:rPr>
              <a:t>“</a:t>
            </a:r>
            <a:r>
              <a:rPr b="1" lang="zh-CN" sz="4000" spc="-1" strike="noStrike">
                <a:solidFill>
                  <a:srgbClr val="1c08b4"/>
                </a:solidFill>
                <a:latin typeface="Arial"/>
                <a:ea typeface="宋体"/>
              </a:rPr>
              <a:t>突破口</a:t>
            </a:r>
            <a:r>
              <a:rPr b="1" lang="zh-CN" sz="4000" spc="-1" strike="noStrike">
                <a:solidFill>
                  <a:srgbClr val="1c08b4"/>
                </a:solidFill>
                <a:latin typeface="Times New Roman"/>
                <a:ea typeface="宋体"/>
              </a:rPr>
              <a:t>”</a:t>
            </a:r>
            <a:r>
              <a:rPr b="1" lang="zh-CN" sz="4000" spc="-1" strike="noStrike">
                <a:solidFill>
                  <a:srgbClr val="1c08b4"/>
                </a:solidFill>
                <a:latin typeface="Arial"/>
                <a:ea typeface="宋体"/>
              </a:rPr>
              <a:t>，要学会识别谬论，能够看出它错在哪里，为什么会错。还要学习反驳谬论，是直接驳论点，还是通过驳论据、论证来驳倒论点。此外，还要注意驳论文语言的特点，体会设问、反问等修辞手法对于加强驳论效果的作用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556000" y="-3877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  <a:ea typeface="隶书"/>
              </a:rPr>
              <a:t>思考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-181080" y="475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作者是怎样抓住批驳的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突破口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来驳斥谬误的论点的</a:t>
            </a:r>
            <a:r>
              <a:rPr b="0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?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课文各部分是如何逐层推进的</a:t>
            </a:r>
            <a:r>
              <a:rPr b="0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108000" y="1628640"/>
          <a:ext cx="9036000" cy="5229360"/>
        </p:xfrm>
        <a:graphic>
          <a:graphicData uri="http://schemas.openxmlformats.org/drawingml/2006/table">
            <a:tbl>
              <a:tblPr/>
              <a:tblGrid>
                <a:gridCol w="1247760"/>
                <a:gridCol w="3821040"/>
                <a:gridCol w="3967200"/>
              </a:tblGrid>
              <a:tr h="57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段号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在议论过程所起的作用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所揭示的要旨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①②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③④⑤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69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⑥⑦⑧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⑨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1" name="Text Box 72"/>
          <p:cNvSpPr/>
          <p:nvPr/>
        </p:nvSpPr>
        <p:spPr>
          <a:xfrm>
            <a:off x="1258920" y="2133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揭示对方论点及其论据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2" name="Text Box 73"/>
          <p:cNvSpPr/>
          <p:nvPr/>
        </p:nvSpPr>
        <p:spPr>
          <a:xfrm>
            <a:off x="5003640" y="21337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暗示对方的论证以偏概全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3" name="Text Box 76"/>
          <p:cNvSpPr/>
          <p:nvPr/>
        </p:nvSpPr>
        <p:spPr>
          <a:xfrm>
            <a:off x="1258920" y="278136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驳斥对方的论证</a:t>
            </a:r>
            <a:r>
              <a:rPr b="0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分析对方的论据以偏概全</a:t>
            </a:r>
            <a:r>
              <a:rPr b="0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不能证明对方的论点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4" name="Text Box 83"/>
          <p:cNvSpPr/>
          <p:nvPr/>
        </p:nvSpPr>
        <p:spPr>
          <a:xfrm>
            <a:off x="5246640" y="2852640"/>
            <a:ext cx="38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指出悲观论者早就失掉自信力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只有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他信力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现在则是在发展着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自欺力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5" name="Text Box 91"/>
          <p:cNvSpPr/>
          <p:nvPr/>
        </p:nvSpPr>
        <p:spPr>
          <a:xfrm>
            <a:off x="1332000" y="4292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摆出另一面的论据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证明正确的论点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见解反驳对方的论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6" name="Text Box 93"/>
          <p:cNvSpPr/>
          <p:nvPr/>
        </p:nvSpPr>
        <p:spPr>
          <a:xfrm>
            <a:off x="5110200" y="400536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指出我们有并不失掉自信力的中国人在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说中国人失掉了自信力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用以指一部分人则可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倘若加于全体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那是诬蔑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7" name="Text Box 98"/>
          <p:cNvSpPr/>
          <p:nvPr/>
        </p:nvSpPr>
        <p:spPr>
          <a:xfrm>
            <a:off x="2459160" y="571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作出结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8" name="Text Box 230"/>
          <p:cNvSpPr/>
          <p:nvPr/>
        </p:nvSpPr>
        <p:spPr>
          <a:xfrm>
            <a:off x="5076720" y="567072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指出要论中国人自信力的有无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要看看他的筋骨和脊梁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  <a:ea typeface="宋体"/>
              </a:rPr>
              <a:t>要自己去看地底下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2" descr="f4"/>
          <p:cNvPicPr/>
          <p:nvPr/>
        </p:nvPicPr>
        <p:blipFill>
          <a:blip r:embed="rId1"/>
          <a:stretch/>
        </p:blipFill>
        <p:spPr>
          <a:xfrm>
            <a:off x="5508720" y="2997360"/>
            <a:ext cx="2190600" cy="175248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7" descr="face12"/>
          <p:cNvPicPr/>
          <p:nvPr/>
        </p:nvPicPr>
        <p:blipFill>
          <a:blip r:embed="rId2"/>
          <a:stretch/>
        </p:blipFill>
        <p:spPr>
          <a:xfrm>
            <a:off x="1116000" y="2924280"/>
            <a:ext cx="2209680" cy="176832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10"/>
          <p:cNvSpPr/>
          <p:nvPr/>
        </p:nvSpPr>
        <p:spPr>
          <a:xfrm>
            <a:off x="4267080" y="51577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女孩一定比男孩差吗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2" name="Text Box 11"/>
          <p:cNvSpPr/>
          <p:nvPr/>
        </p:nvSpPr>
        <p:spPr>
          <a:xfrm>
            <a:off x="0" y="5157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男孩一定比女孩强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3" name="WordArt 13"/>
          <p:cNvSpPr txBox="1"/>
          <p:nvPr/>
        </p:nvSpPr>
        <p:spPr>
          <a:xfrm>
            <a:off x="2340000" y="228600"/>
            <a:ext cx="45370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50000">
                      <a:srgbClr val="ff00ff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中宋"/>
              </a:rPr>
              <a:t>辩 论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0033cc"/>
                  </a:gs>
                  <a:gs pos="50000">
                    <a:srgbClr val="ff00ff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904" name="Picture 15" descr="boy6"/>
          <p:cNvPicPr/>
          <p:nvPr/>
        </p:nvPicPr>
        <p:blipFill>
          <a:blip r:embed="rId3"/>
          <a:stretch/>
        </p:blipFill>
        <p:spPr>
          <a:xfrm>
            <a:off x="4114800" y="2057400"/>
            <a:ext cx="793800" cy="1527120"/>
          </a:xfrm>
          <a:prstGeom prst="rect">
            <a:avLst/>
          </a:prstGeom>
          <a:ln w="0">
            <a:noFill/>
          </a:ln>
        </p:spPr>
      </p:pic>
      <p:pic>
        <p:nvPicPr>
          <p:cNvPr id="905" name="将军令.mp3" descr=""/>
          <p:cNvPicPr/>
          <p:nvPr/>
        </p:nvPicPr>
        <p:blipFill>
          <a:blip r:embed="rId4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317056" fill="hold"/>
                                        <p:tgtEl>
                                          <p:spTgt spid="9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3"/>
          <p:cNvSpPr/>
          <p:nvPr/>
        </p:nvSpPr>
        <p:spPr>
          <a:xfrm>
            <a:off x="395280" y="40464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研读赏析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304920" y="228600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8" name="Text Box 5"/>
          <p:cNvSpPr/>
          <p:nvPr/>
        </p:nvSpPr>
        <p:spPr>
          <a:xfrm>
            <a:off x="0" y="1628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思考敌论论点与论据中论述对象有什么变化？说说敌论证过程中的错误在哪儿？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1403280" y="57340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偷换概念             以偏概全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0" name="Text Box 7"/>
          <p:cNvSpPr/>
          <p:nvPr/>
        </p:nvSpPr>
        <p:spPr>
          <a:xfrm>
            <a:off x="0" y="3500280"/>
            <a:ext cx="97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敌论点中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中国人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指全体中国人</a:t>
            </a:r>
            <a:r>
              <a:rPr b="1" lang="en-US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范围大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1" name="Text Box 8"/>
          <p:cNvSpPr/>
          <p:nvPr/>
        </p:nvSpPr>
        <p:spPr>
          <a:xfrm>
            <a:off x="-468360" y="4149720"/>
            <a:ext cx="90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敌论据中   所述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我们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”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仅是国民党反动派等一小部分中国人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范围小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380880" y="914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隶书"/>
              </a:rPr>
              <a:t>研读赏析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4" name="AutoShape 3"/>
          <p:cNvSpPr/>
          <p:nvPr/>
        </p:nvSpPr>
        <p:spPr>
          <a:xfrm>
            <a:off x="0" y="2276640"/>
            <a:ext cx="30492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395280" y="1844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 “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我们有并不失掉自信力的中国人在”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请你根据自己的了解为第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段中“……的人”注解举例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2514600" y="32004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2514600" y="402264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2514600" y="478476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9" name="Rectangle 8"/>
          <p:cNvSpPr/>
          <p:nvPr/>
        </p:nvSpPr>
        <p:spPr>
          <a:xfrm>
            <a:off x="2514600" y="5546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0" name="Rectangle 9"/>
          <p:cNvSpPr/>
          <p:nvPr/>
        </p:nvSpPr>
        <p:spPr>
          <a:xfrm>
            <a:off x="554400" y="32274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1" name="Rectangle 10"/>
          <p:cNvSpPr/>
          <p:nvPr/>
        </p:nvSpPr>
        <p:spPr>
          <a:xfrm>
            <a:off x="554400" y="39736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2" name="Rectangle 11"/>
          <p:cNvSpPr/>
          <p:nvPr/>
        </p:nvSpPr>
        <p:spPr>
          <a:xfrm>
            <a:off x="573480" y="4827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3" name="Rectangle 12"/>
          <p:cNvSpPr/>
          <p:nvPr/>
        </p:nvSpPr>
        <p:spPr>
          <a:xfrm>
            <a:off x="573480" y="55738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4" name="Line 13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 Box 3"/>
          <p:cNvSpPr/>
          <p:nvPr/>
        </p:nvSpPr>
        <p:spPr>
          <a:xfrm>
            <a:off x="0" y="911160"/>
            <a:ext cx="572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　　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要论中国人，必须不被搽在表面的自欺欺人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脂粉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所诓骗，却看看他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筋骨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脊梁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。自信力的有无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状元宰相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的文章是不足为据的，要自己去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地底下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。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26" name="Picture 2" descr="gw3"/>
          <p:cNvPicPr/>
          <p:nvPr/>
        </p:nvPicPr>
        <p:blipFill>
          <a:blip r:embed="rId1"/>
          <a:stretch/>
        </p:blipFill>
        <p:spPr>
          <a:xfrm>
            <a:off x="5651640" y="609480"/>
            <a:ext cx="3492360" cy="567540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4"/>
          <p:cNvSpPr/>
          <p:nvPr/>
        </p:nvSpPr>
        <p:spPr>
          <a:xfrm>
            <a:off x="0" y="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隶书"/>
              </a:rPr>
              <a:t>研读赏析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8" name="AutoShape 5"/>
          <p:cNvSpPr/>
          <p:nvPr/>
        </p:nvSpPr>
        <p:spPr>
          <a:xfrm>
            <a:off x="304920" y="266688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9" name="Line 6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89080" y="907560"/>
            <a:ext cx="882000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给下列画线的字注音，并解释词语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900000" y="263664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慨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叹   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玄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虚    渺茫    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诓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骗                哄骗     怀古伤今       为民请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390240" y="-55440"/>
            <a:ext cx="188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补充练习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时代背景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86840" y="1197000"/>
            <a:ext cx="902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1931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年 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九</a:t>
            </a:r>
            <a:r>
              <a:rPr b="1" lang="en-US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一八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事变后，东北沦陷。三周年之后，国民党的官僚政客和资产阶级的走狗文人以及所谓社会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名人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，散布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中国人失掉了自信力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的失败主义论调。同年</a:t>
            </a: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月</a:t>
            </a: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25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日鲁迅写作本文。义正辞严地批驳了当时对抗战前途悲观亡国的论调，驳斥了上述那些人诬蔑中国革命人民失掉了自信力的无耻谰言，表达了对中国革命前途的信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鲁   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380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1881/9/25-1936/10/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4" descr="油画-62"/>
          <p:cNvPicPr/>
          <p:nvPr/>
        </p:nvPicPr>
        <p:blipFill>
          <a:blip r:embed="rId1"/>
          <a:stretch/>
        </p:blipFill>
        <p:spPr>
          <a:xfrm>
            <a:off x="5029200" y="1828800"/>
            <a:ext cx="3697200" cy="419112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6"/>
          <p:cNvSpPr/>
          <p:nvPr/>
        </p:nvSpPr>
        <p:spPr>
          <a:xfrm>
            <a:off x="304920" y="2819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2" name="Rectangle 7"/>
          <p:cNvSpPr/>
          <p:nvPr/>
        </p:nvSpPr>
        <p:spPr>
          <a:xfrm>
            <a:off x="152280" y="2819520"/>
            <a:ext cx="38862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3" name="Rectangle 8"/>
          <p:cNvSpPr/>
          <p:nvPr/>
        </p:nvSpPr>
        <p:spPr>
          <a:xfrm>
            <a:off x="0" y="1557360"/>
            <a:ext cx="43434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文学家、思想家、革命家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4" name="Oval 9"/>
          <p:cNvSpPr/>
          <p:nvPr/>
        </p:nvSpPr>
        <p:spPr>
          <a:xfrm>
            <a:off x="755640" y="3068640"/>
            <a:ext cx="1219320" cy="23623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周  字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树  豫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  才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5" name="Rectangle 10"/>
          <p:cNvSpPr/>
          <p:nvPr/>
        </p:nvSpPr>
        <p:spPr>
          <a:xfrm>
            <a:off x="2700360" y="2421000"/>
            <a:ext cx="1600200" cy="3860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横  俯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眉  首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冷  甘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  为 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千  孺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夫  子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指  牛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3"/>
          <p:cNvSpPr/>
          <p:nvPr/>
        </p:nvSpPr>
        <p:spPr>
          <a:xfrm>
            <a:off x="0" y="0"/>
            <a:ext cx="45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45472"/>
                </a:solidFill>
                <a:latin typeface="Times New Roman"/>
                <a:ea typeface="隶书"/>
              </a:rPr>
              <a:t>复习回顾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3832200" y="4724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中国人失掉自信力了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48" name="Group 5"/>
          <p:cNvGrpSpPr/>
          <p:nvPr/>
        </p:nvGrpSpPr>
        <p:grpSpPr>
          <a:xfrm>
            <a:off x="1547640" y="2565360"/>
            <a:ext cx="8785080" cy="1952640"/>
            <a:chOff x="1547640" y="2565360"/>
            <a:chExt cx="8785080" cy="1952640"/>
          </a:xfrm>
        </p:grpSpPr>
        <p:sp>
          <p:nvSpPr>
            <p:cNvPr id="849" name="Rectangle 6"/>
            <p:cNvSpPr/>
            <p:nvPr/>
          </p:nvSpPr>
          <p:spPr>
            <a:xfrm>
              <a:off x="2015640" y="2565360"/>
              <a:ext cx="808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两年前     总自夸</a:t>
              </a:r>
              <a:r>
                <a:rPr b="1" lang="zh-CN" sz="40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“</a:t>
              </a: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地大物博</a:t>
              </a:r>
              <a:r>
                <a:rPr b="1" lang="zh-CN" sz="40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”</a:t>
              </a:r>
              <a:endParaRPr b="0" lang="en-US" sz="4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50" name="Rectangle 7"/>
            <p:cNvSpPr/>
            <p:nvPr/>
          </p:nvSpPr>
          <p:spPr>
            <a:xfrm>
              <a:off x="1547640" y="3205080"/>
              <a:ext cx="878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不久不再自夸只希望</a:t>
              </a:r>
              <a:r>
                <a:rPr b="1" lang="zh-CN" sz="40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“</a:t>
              </a: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国联</a:t>
              </a:r>
              <a:r>
                <a:rPr b="1" lang="zh-CN" sz="40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”</a:t>
              </a:r>
              <a:r>
                <a:rPr b="0" lang="zh-CN" sz="32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                        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51" name="Rectangle 8"/>
            <p:cNvSpPr/>
            <p:nvPr/>
          </p:nvSpPr>
          <p:spPr>
            <a:xfrm>
              <a:off x="2015640" y="3814560"/>
              <a:ext cx="7965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现　在　求神拜佛怀古伤今</a:t>
              </a:r>
              <a:endParaRPr b="0" lang="en-US" sz="4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52" name="Rectangle 9"/>
          <p:cNvSpPr/>
          <p:nvPr/>
        </p:nvSpPr>
        <p:spPr>
          <a:xfrm>
            <a:off x="-1224000" y="4292640"/>
            <a:ext cx="389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敌论点：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3" name="Rectangle 10"/>
          <p:cNvSpPr/>
          <p:nvPr/>
        </p:nvSpPr>
        <p:spPr>
          <a:xfrm>
            <a:off x="-1116000" y="1989000"/>
            <a:ext cx="517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敌论据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：</a:t>
            </a:r>
            <a:r>
              <a:rPr b="0" lang="zh-CN" sz="4000" spc="-1" strike="noStrike">
                <a:solidFill>
                  <a:srgbClr val="545472"/>
                </a:solidFill>
                <a:latin typeface="华文新魏"/>
                <a:ea typeface="华文新魏"/>
              </a:rPr>
              <a:t> 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4" name="AutoShape 11"/>
          <p:cNvSpPr/>
          <p:nvPr/>
        </p:nvSpPr>
        <p:spPr>
          <a:xfrm>
            <a:off x="0" y="1484280"/>
            <a:ext cx="30492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5" name="Rectangle 12"/>
          <p:cNvSpPr/>
          <p:nvPr/>
        </p:nvSpPr>
        <p:spPr>
          <a:xfrm>
            <a:off x="250920" y="1341360"/>
            <a:ext cx="975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课文作者摆出的敌方论据和论点</a:t>
            </a:r>
            <a:r>
              <a:rPr b="1" lang="zh-CN" sz="4000" spc="-1" strike="noStrike">
                <a:solidFill>
                  <a:srgbClr val="545472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什么？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6" name="Line 13"/>
          <p:cNvSpPr/>
          <p:nvPr/>
        </p:nvSpPr>
        <p:spPr>
          <a:xfrm>
            <a:off x="684360" y="105264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2"/>
          <p:cNvSpPr/>
          <p:nvPr/>
        </p:nvSpPr>
        <p:spPr>
          <a:xfrm>
            <a:off x="5257800" y="236232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些批驳证明失掉的不是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自信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而是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信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发展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自欺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说明敌方的论据不能证明其论点。。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⑴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自夸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地大物博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是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地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物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并非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自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⑵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希望国联是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他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不是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自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⑶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求神拜佛是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自欺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-1765440" y="620640"/>
            <a:ext cx="103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宋体"/>
              </a:rPr>
              <a:t>2.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宋体"/>
              </a:rPr>
              <a:t>作者为什么认为这个论点是错误的？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5"/>
          <p:cNvSpPr/>
          <p:nvPr/>
        </p:nvSpPr>
        <p:spPr>
          <a:xfrm>
            <a:off x="0" y="260280"/>
            <a:ext cx="9144000" cy="1629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08b4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1c08b4"/>
                </a:solidFill>
                <a:latin typeface="Tahoma"/>
              </a:rPr>
              <a:t>3.</a:t>
            </a:r>
            <a:r>
              <a:rPr b="1" lang="zh-CN" sz="3600" spc="-1" strike="noStrike">
                <a:solidFill>
                  <a:srgbClr val="1c08b4"/>
                </a:solidFill>
                <a:latin typeface="Tahoma"/>
              </a:rPr>
              <a:t>作者正面提出了什么观点？举出哪些论据来加以论证的？采用怎样的论证方法？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1" name="Rectangle 6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论点：“有并不失掉自信力的中国人在”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论据：从古至今都有满怀自信的“中国的脊梁”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针锋相对地提出自己的观点并列举事实证明，从而彻底驳倒对方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4"/>
          <p:cNvSpPr/>
          <p:nvPr/>
        </p:nvSpPr>
        <p:spPr>
          <a:xfrm>
            <a:off x="611280" y="33336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经过论证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,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关于“自信力”作者得出了怎样的结论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324000" y="26370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华文行楷"/>
              </a:rPr>
              <a:t>自信力的有无，状元宰相的文章是不足为据的，要自己去看地底下。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4" name="AutoShape 6"/>
          <p:cNvSpPr/>
          <p:nvPr/>
        </p:nvSpPr>
        <p:spPr>
          <a:xfrm>
            <a:off x="250920" y="692280"/>
            <a:ext cx="30456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5" name=""/>
          <p:cNvGraphicFramePr/>
          <p:nvPr/>
        </p:nvGraphicFramePr>
        <p:xfrm>
          <a:off x="115920" y="1752480"/>
          <a:ext cx="8991720" cy="4495680"/>
        </p:xfrm>
        <a:graphic>
          <a:graphicData uri="http://schemas.openxmlformats.org/drawingml/2006/table">
            <a:tbl>
              <a:tblPr/>
              <a:tblGrid>
                <a:gridCol w="3008160"/>
                <a:gridCol w="2527560"/>
                <a:gridCol w="2846160"/>
                <a:gridCol w="609840"/>
              </a:tblGrid>
              <a:tr h="5184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15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6" name="AutoShape 22"/>
          <p:cNvSpPr/>
          <p:nvPr/>
        </p:nvSpPr>
        <p:spPr>
          <a:xfrm>
            <a:off x="7778880" y="308448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7" name="Text Box 23"/>
          <p:cNvSpPr/>
          <p:nvPr/>
        </p:nvSpPr>
        <p:spPr>
          <a:xfrm>
            <a:off x="7851600" y="342900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事   实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8" name="AutoShape 24"/>
          <p:cNvSpPr/>
          <p:nvPr/>
        </p:nvSpPr>
        <p:spPr>
          <a:xfrm>
            <a:off x="3276720" y="335268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9" name="Text Box 25"/>
          <p:cNvSpPr/>
          <p:nvPr/>
        </p:nvSpPr>
        <p:spPr>
          <a:xfrm>
            <a:off x="3733200" y="350532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曾有“他信力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0" name="Text Box 26"/>
          <p:cNvSpPr/>
          <p:nvPr/>
        </p:nvSpPr>
        <p:spPr>
          <a:xfrm>
            <a:off x="144360" y="2492280"/>
            <a:ext cx="1619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论据：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1" name="Text Box 27"/>
          <p:cNvSpPr/>
          <p:nvPr/>
        </p:nvSpPr>
        <p:spPr>
          <a:xfrm>
            <a:off x="81864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敌方论据论点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2" name="Text Box 28"/>
          <p:cNvSpPr/>
          <p:nvPr/>
        </p:nvSpPr>
        <p:spPr>
          <a:xfrm>
            <a:off x="0" y="51814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论点：中国人失掉自信力了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3" name="Text Box 29"/>
          <p:cNvSpPr/>
          <p:nvPr/>
        </p:nvSpPr>
        <p:spPr>
          <a:xfrm>
            <a:off x="3365640" y="174132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4" name="Text Box 30"/>
          <p:cNvSpPr/>
          <p:nvPr/>
        </p:nvSpPr>
        <p:spPr>
          <a:xfrm>
            <a:off x="3501360" y="42670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5" name="Text Box 31"/>
          <p:cNvSpPr/>
          <p:nvPr/>
        </p:nvSpPr>
        <p:spPr>
          <a:xfrm>
            <a:off x="6172200" y="1752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6" name="Text Box 32"/>
          <p:cNvSpPr/>
          <p:nvPr/>
        </p:nvSpPr>
        <p:spPr>
          <a:xfrm>
            <a:off x="5562720" y="2833560"/>
            <a:ext cx="23619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7" name="Text Box 33"/>
          <p:cNvSpPr/>
          <p:nvPr/>
        </p:nvSpPr>
        <p:spPr>
          <a:xfrm>
            <a:off x="3550680" y="54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自信早就失掉了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8" name="Text Box 34"/>
          <p:cNvSpPr/>
          <p:nvPr/>
        </p:nvSpPr>
        <p:spPr>
          <a:xfrm>
            <a:off x="5649840" y="524340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有并不失掉自信力的中国人在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9" name="Text Box 35"/>
          <p:cNvSpPr/>
          <p:nvPr/>
        </p:nvSpPr>
        <p:spPr>
          <a:xfrm>
            <a:off x="0" y="31240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自夸“地大物博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0" name="Text Box 36"/>
          <p:cNvSpPr/>
          <p:nvPr/>
        </p:nvSpPr>
        <p:spPr>
          <a:xfrm>
            <a:off x="60480" y="3720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只希望国联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1" name="Text Box 37"/>
          <p:cNvSpPr/>
          <p:nvPr/>
        </p:nvSpPr>
        <p:spPr>
          <a:xfrm>
            <a:off x="1440" y="4268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一味求神拜佛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2" name="Text Box 38"/>
          <p:cNvSpPr/>
          <p:nvPr/>
        </p:nvSpPr>
        <p:spPr>
          <a:xfrm>
            <a:off x="8455680" y="3463920"/>
            <a:ext cx="667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结    论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3" name="WordArt 39"/>
          <p:cNvSpPr txBox="1"/>
          <p:nvPr/>
        </p:nvSpPr>
        <p:spPr>
          <a:xfrm>
            <a:off x="3276720" y="53352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9c27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华文隶书"/>
              </a:rPr>
              <a:t>失掉自信力了吗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50000">
                    <a:srgbClr val="9c27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884" name="WordArt 40"/>
          <p:cNvSpPr txBox="1"/>
          <p:nvPr/>
        </p:nvSpPr>
        <p:spPr>
          <a:xfrm>
            <a:off x="568440" y="552600"/>
            <a:ext cx="2555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9c27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华文隶书"/>
              </a:rPr>
              <a:t>中国人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50000">
                    <a:srgbClr val="9c27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slow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NSTS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NSTS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2"/>
          <p:cNvSpPr/>
          <p:nvPr/>
        </p:nvSpPr>
        <p:spPr>
          <a:xfrm>
            <a:off x="836640" y="155592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在生活中，常常听到一些不正确的说法，需要我们写文章批驳，帮助澄清思想，端正认识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驳论是跟立论紧密联系着的，因为反驳对方的错误论点，往往要针锋相对地提出自己的正确论点，以便彻底驳倒错误论点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宋体"/>
              </a:rPr>
              <a:t>以反驳为主的议论文通常叫做驳论文。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4:32:24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8:45:11Z</dcterms:modified>
  <cp:revision>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