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1CE-EFDC-45B2-A53B-8B443752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D59-6829-472F-9023-BFE00FE4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BE78D-EA91-447E-8E35-06595179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1819A-23C2-48A8-99E5-C80A8FA8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13F31-9FC6-40A0-ABD4-A130E290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E41A8-DB33-44FA-BAA4-BD4780D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680E6-C5A5-49C6-8051-71FD6D0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2B206-B45C-4970-8005-374B70B8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58C55-B725-4F0B-924B-C055939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3DF3-C703-4405-BA5D-FB5D8C0A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70A6-44AA-4654-A800-BA3E2A72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D8626-8A3E-4FF8-B060-BE6DD79F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B3E-D93E-4909-877F-2B89430A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40F39-7B6E-4291-AAA3-1ABA74F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8AAD7-C9EC-4729-96A2-C82559A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7CE87-4F6D-42E0-85BC-E0367A86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25476-E3CC-4C51-A2F8-BD42DA5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E3344-48CF-4274-8946-45308A1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C2FA2-5E35-4286-B04F-3AF54FE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1485B-4622-4AD6-AE2E-C363176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6D002-F5EA-4517-B58C-CDBC0EE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3F152-CE5F-49FB-84A1-BB3606DB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CAF0A-09B6-47D4-83F8-508E9AD7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353-DFAE-4F75-8EA9-7B2701D6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533D-E688-42D9-BCCD-D666A21E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4A4E-F27E-4D40-A6D1-D7ACE5B4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7383-AA2D-4F39-918B-64FBA52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F6B5C-4BB7-48BF-815A-659DF3E6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19EEE-8D84-4ED8-B95B-4F32E20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9854B-E73F-4D22-BA55-33B8953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3495A-49DE-4E53-906E-28772DB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8F00D-0A8C-4264-BCFD-55CAD26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C35C2-A363-4557-BFE8-9DF8503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F5896-59D1-444F-89E2-87AB257E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7CCC-9561-40A0-A4F0-BD0D8DB3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4B8CC-AA7A-4848-AD90-7C5463D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C1F38-709C-4A98-A29A-1E9AC7D4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A73D0-56BE-49E8-9C6D-637C9FEA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CB8FB-EE1A-49DA-9414-CFB36CB1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41244-A129-4069-B826-2A25E59E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5638B-3250-4F7D-BA6F-DA32E2EE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46324-DF89-46DF-A5C1-D9A91FD0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6C3E-9A70-4B79-91EF-99AFD185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C99E1-CB70-4CFE-B618-063715DE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BC6FD-7C41-43E9-8045-C43FEF5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5BEF-D9D8-4F03-A510-DCE3B689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955A5-CC0A-459C-9111-4301B3C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DF7C-F861-4B12-B35F-CCC6F8D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CFAC2-CC10-4111-A65D-C521A57D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8DD78-77D2-4F49-8314-C47EA92B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58D40-40E9-41B3-A54E-6854F6B4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CBC79-0D88-4E6C-AB21-A0C447FC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FBDD1-31B2-4201-B6B3-EC6FDF1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BAA63-BD76-45C5-9225-1E81DC57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97352-187A-470E-8203-02CEACD8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41251-AB89-4FF9-8989-646CAE0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D4A-A29A-4FF9-8875-D43375A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2F91B-ED24-4007-BD39-D9C47A5E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B837C-7F97-4492-8C86-ABBF2F3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117CD-481E-4E69-B393-644949A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3DCEC-4E1A-4513-863F-F37CF00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AF98B-476D-4233-A9F2-3B413DAB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38C8A-7ECE-4AFC-A1AE-62C20398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81DB6-3FD4-4939-81DE-4E2C0F02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9AFDF-44DE-4E4E-BC3E-2EA9E735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4F554-B73A-43FC-BA93-0BDA630A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C5BD9-131B-41E5-957C-CE3649B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4135-C6E9-4A5B-B898-67DD88E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7481C-AD75-4162-B77F-C5754735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0B841-67D7-407E-B986-97749D8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DC73C-EB88-4CA5-9870-8EB03D1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75640-9CA7-4179-BDB6-1B4E3D5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62434-08A5-4857-A199-9C8A01D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AE5A1-0200-4D8A-A660-F22432B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5DF56-816B-48D6-9DCA-C864E0A1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CC8F4-4E9E-4B1F-9C0E-0D91CCA9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35AC4-D3F6-4C63-A1BE-7EA6A68E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523-C06E-4409-A44C-3F88311A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FA04-D659-4AD9-9AA2-B14A219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68A-1965-4382-9A5A-707A915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DCA-0B98-459B-BE40-25F95B02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340B-5DDC-4A3A-843E-3F728468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9A9B-79D3-463A-80A8-2ACC0CF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27DA-DAF9-4EC0-ACB3-3B9E333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8E54-A108-4CC1-ACFB-5DB1F79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13DE-45A3-414C-AA4A-CE5FC974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7C16-AAB5-482E-BA98-5F5315B9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0543-34D6-4836-9DE1-A6E1C5B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DE53-B44B-41CA-95F7-10D5F8B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3F75-8AAF-4D21-B66D-8D8968D2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7415-1B22-4427-8F18-7D6EBDE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87B-E2C8-405F-852E-65F09C0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56F4-6794-46F2-AFC7-F2A60EB1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F14B-47CA-4EF9-8ADC-C8C5C2D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0D3A-AB89-46D9-87F3-19C4FA8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DE4D-EAEC-4193-8E86-AB1FAF0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6A90-8ECE-4D10-8D5C-5E88BE8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AE4C-3468-4630-A742-5C515FA1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BA31-6AAD-4EF5-98D1-8CC317F8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7E04-85FC-4BA3-87C8-2C3F5A71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323F-AC95-4117-BC35-9F621A6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E2C8-5D8B-4D59-B217-71AB7C0B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222-7125-4925-8E1E-CBBCABA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EAF3-2D14-4429-819D-573AB32B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26CB-1310-41D5-81FC-41B0FB48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24C7-FCB9-4D9F-AD9F-4C199291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5199-21B2-4F31-938F-E767AB0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77E7-F71A-426E-9D59-4E5C5CD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0E360-1438-45D6-900C-04651BB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1B8A-2853-4BDA-88E0-239EEC15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32AA-FF61-42A9-AB9D-E169AD40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2F2B-CB7D-4399-A6E3-7CED2E0D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D701-7B01-4292-91CF-2EC65300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D99-62A4-4FDD-A06A-D3D5113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EE03-C38A-4C43-A6D3-8ECB25FE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3A631-DEB2-4AFF-ACD2-302A37DD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9AD75-3DC3-4CA8-A55A-27F7AB2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039B-B6B1-437D-B078-C3A333B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A77A-E098-49B3-803E-4130646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D22F-BF83-4CB0-9E93-E589C67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9089-5B19-443E-8DCE-3D32676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DF36-A39E-42DC-A0CD-1A2CB79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F745-7EB8-4A03-A9C0-698169D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00CA-D0BD-4856-947D-53269E78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A84-366E-4DCD-A720-74C68BB7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98061-748A-4EDF-9969-95F47CED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0985-4200-4839-884A-4DCE22AE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62D3E-2D2A-4C75-A798-3996ABA3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5253-88D8-44AD-A71F-0C669542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8FEB6-926D-4369-BA4E-9B671DF3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523C3-CE96-4084-8757-C5CDC44D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42DD-EFBD-481C-8116-CEE4673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9C07-683D-4937-B3C7-02F418C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5A301-2D9B-43C9-81B2-89FC6D9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CB42-5AB2-4E65-B978-10DDAE1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611-6328-4CB3-925D-2B629BD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0F65-0811-4A71-B051-E6D375D2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B670-77A7-4D5E-8A46-E9668419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7547-C3CB-4C45-8B63-1A5BAA61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761BA-507D-4E8A-8991-373921AC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F47FF-284E-4ABE-8843-E5D1BDE8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7993B-B452-4113-A929-5A713976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9417B-4D3F-4FED-910E-A23603F4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7324FA-6FBF-43C8-B787-F7EBC87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B5971-6DF3-4E38-BB13-DD3ABC2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8458D-9280-4599-BB38-F98627D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C52-9231-4AA3-AEB5-A7FD3B9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04011-87DC-4C9E-8BBA-B16C9B07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58875-7B62-4806-80DD-C237137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76C5D-D76D-44B5-A9F2-FE0EE575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78C0F-DFE5-414C-BE3C-2E5CB6F2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855FC5-FBCD-4F31-817E-5C87ECD1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54FF7-3931-4A09-8077-18AD2CF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0D8E-9594-4362-8B55-817C4CEC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202C-F3DA-4864-A3CA-679466D2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07C80-C578-4006-8E5C-8EF8D25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50A4-81D4-4EC9-8709-09652792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E93-B310-4246-9BC4-7C87BDD6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32EC3-1ECA-40D9-A0D5-30B2EEBC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3F0BA-CFD9-46AA-B2BA-AD77268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6B18-7004-4C9C-8771-F73F0FC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09F74-7018-4C8B-B85B-170117D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651B9-41BA-4101-9004-7D2B9A10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F09E-2839-4A9D-AE7D-B7D304A4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9ECE6-AA0E-4963-BA57-27241599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6DB7D-42B1-4C70-A57A-FA21D131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B9B74-9F0C-4ACA-9BB4-EF13A59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57F88-55D6-4DE5-B5CA-DE518B0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5BE-E6C3-40C9-9FE4-4212C4437B3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任意多边形 166918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66919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A96-5ABD-4BE4-B0BE-D542B3CFDC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任意多边形 19968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组合 19968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8" name="任意多边形 19968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19968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19969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组合 19969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22" name="任意多边形 199692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任意多边形 199693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任意多边形 199694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任意多边形 199695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任意多边形 199696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组合 199697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728" name="任意多边形 199698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199699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任意多边形 199700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组合 199701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732" name="任意多边形 199702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任意多边形 199703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任意多边形 199704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任意多边形 199705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任意多边形 199706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7" name="任意多边形 199707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199708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25E-CEF1-4527-8CA5-03DD02095DF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任意多边形 202753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组合 202754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82" name="任意多边形 202755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02756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02757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02758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 202759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任意多边形 202760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任意多边形 202761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任意多边形 202762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任意多边形 202763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任意多边形 202764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202765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202766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02767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202768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96" name="矩形 202769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02770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02771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02772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02773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02774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任意多边形 202775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任意多边形 202776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202777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202778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202779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矩形 202780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202781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202782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02783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02784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202785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02786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02787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202788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202789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202790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任意多边形 202791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202792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202793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202794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任意多边形 202795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202796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202797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202798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202799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202800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202801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202802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202803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202804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矩形 202805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02806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202807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202808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202809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任意多边形 202810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202811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任意多边形 202812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202813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202814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任意多边形 202815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矩形 202816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矩形 202817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202818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202819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202820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202821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202822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202823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202824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202825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202826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202827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202828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202829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202830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202831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202832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202833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202834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202835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202836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202837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202838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202839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202840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202841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202842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202843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202844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202845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202846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202847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202848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202849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202850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202851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202852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202853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202854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202855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202856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202857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202858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202859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202860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202861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任意多边形 202862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202863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202864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矩形 202865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202866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202867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202868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202869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202870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任意多边形 202871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202872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202873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202874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任意多边形 202875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矩形 202876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矩形 202877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202878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202879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202880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202881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202882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202883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202884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202885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202886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202887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矩形 202888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202889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202890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202891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202892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202893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202894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任意多边形 202895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任意多边形 202896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202897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202898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202899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202900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02901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202902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02903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202904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202905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202906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202907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202908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任意多边形 202909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任意多边形 202910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任意多边形 202911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矩形 202912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202913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组合 202919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42" name="任意多边形 202920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202921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202922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202923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202924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202925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202926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202927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202928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202929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202930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202931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202932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F272-1D58-48FD-A7B8-7C4B3CEB7D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3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3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9AB-DB72-4B19-8748-01BB4323BC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20889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8" name="矩形 20889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0889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0" name="组合 20890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1" name="矩形 20890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矩形 20890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矩形 20890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矩形 20890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矩形 20890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矩形 20890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矩形 20890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矩形 20890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矩形 20890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矩形 20891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666-1C88-492C-8692-FF9FD2373CBE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DC2-481B-4116-85B2-735ED40BE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29D8-5A25-44E7-B140-6954E8D312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任意多边形 198657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A00-22B8-4DE8-AF9B-C421AE76435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任意多边形 198663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198664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98665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4" name="任意多边形 198666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98667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98668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98669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98670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98671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98672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98673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98674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198675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4" name="组合 198676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5" name="任意多边形 198677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任意多边形 198678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任意多边形 198679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任意多边形 198680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任意多边形 198681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198682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组合 198683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2" name="任意多边形 198684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任意多边形 19868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任意多边形 198686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任意多边形 198687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任意多边形 198688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任意多边形 198689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任意多边形 198690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任意多边形 198691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" name="组合 198692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1" name="任意多边形 198693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98694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98695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164" name="组合 198696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165" name="任意多边形 198697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组合 198698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167" name="任意多边形 198699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任意多边形 198700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任意多边形 198701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任意多边形 198702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任意多边形 198703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任意多边形 198704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198705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任意多边形 198706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" name="直接连接符 198707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201729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13" name="矩形 201730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201731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201732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01733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01734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201735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01736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01737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201738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201739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201740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201741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01742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201743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201744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201745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201746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201747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201748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201749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201750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201751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201752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01753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01754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201755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201756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201757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01758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01759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01760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01761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201762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201763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201764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201765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201766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201767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201768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任意多边形 201769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201770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201771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201772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201773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201774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201775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201776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201777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201778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201779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201780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01781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01782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01783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201784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201785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201786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201787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201788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201789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201790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任意多边形 201791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任意多边形 201792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201793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201794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201795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201796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201797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201798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201799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01800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201801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201802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201803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201804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201805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201806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201807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201808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201809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201810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201811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201812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201813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201814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201815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201816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201817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201818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201819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201820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201821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201822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201823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201824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01825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201826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201827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01828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201829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01830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201831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01832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201833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201834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201835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201836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201837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201838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01839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01840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201841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201842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201843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01844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01845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201846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201847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201848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201849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201850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201851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201852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201853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201854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201855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201856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201857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201858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201859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201860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201861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201862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201863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201864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201865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201866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201867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201868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201869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01870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201871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201872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201873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201874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01875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59" name="任意多边形 201876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01877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201878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任意多边形 201879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201880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201881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201882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201883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201884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201885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201886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201887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201888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201889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73" name="任意多边形 201890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201891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201892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201893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201894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201895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201896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201897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201898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201899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201900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201901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201902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201903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87" name="任意多边形 201904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201905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201906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201907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201908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201909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201910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201911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201912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201913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201914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201915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201916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01917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01" name="任意多边形 201918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201919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201920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201921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201922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201923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201924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201925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201926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201927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201928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201929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201930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201931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15" name="任意多边形 201932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201933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201934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201935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201936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201937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01938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01939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201940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201941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201942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201943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201944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01945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29" name="任意多边形 201946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201947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201948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201949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201950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201951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01952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201953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201954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201955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201956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201957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201958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201959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43" name="任意多边形 201960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组合 201961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45" name="任意多边形 201962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任意多边形 201963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任意多边形 201964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任意多边形 201965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任意多边形 201966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任意多边形 201967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任意多边形 201968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任意多边形 201969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任意多边形 201970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任意多边形 201971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任意多边形 201972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任意多边形 201973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201974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687-B239-49E8-9284-C0E950299C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7344-50DB-4CC3-9A77-58F30C0FE4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B185-D6C1-4CB6-9D44-7AB121A241B4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组合 20787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3" name="矩形 207876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207877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207878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207879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07880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07881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07882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07883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207884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任意多边形 167942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167943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4534-FCF3-46C5-B674-B26F2D7E1C3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9536-03C8-4C71-A721-A54F49DFE5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矩形 73732"/>
          <p:cNvSpPr/>
          <p:nvPr/>
        </p:nvSpPr>
        <p:spPr>
          <a:xfrm>
            <a:off x="1332000" y="170028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92929"/>
                </a:solidFill>
                <a:latin typeface="华文行楷"/>
                <a:ea typeface="华文行楷"/>
              </a:rPr>
              <a:t>周   公   诫   子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仿写一篇言简意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条理清楚的议论短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2050"/>
          <p:cNvSpPr/>
          <p:nvPr/>
        </p:nvSpPr>
        <p:spPr>
          <a:xfrm>
            <a:off x="1066680" y="26668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教学目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00000" y="1698120"/>
            <a:ext cx="7710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知识与能力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了解有关韩婴及其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韩诗外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文学常识；并能积累常用文言词语，提高阅读浅易文言文的能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过程与方法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能结合注释和工具书，读懂文章大意；并能把握课文内容，领悟选文主旨，学习言简意赅的写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情感价值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从课文内容中受到教育，培养自己良好的道德品质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婴，西汉古今诗学“韩诗学”的开创者。燕（今北京）人。治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，兼治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易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。文帝时，任博士。景帝时，为常山王刘舜太傅。著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诗内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诗外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。南宋以后，仅存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外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。清赵怀玉曾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内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佚文；马国喻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玉函山房辑佚书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辑有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诗外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二卷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诗内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一卷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韩诗说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一卷，是研究西汉今文诗学的重要资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周公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周公西周初年政治家。姬姓，名旦，亦称叔旦。他是周文王之子，周武王之弟，因采邑在周，称为周公。曾助武王灭商。武王死后，成王年幼，由他摄政。其兄弟管叔、蔡叔、霍叔等人不服，联合武庚和东方彝族反叛。他出师东征，平定反判，大规模分封诸侯；并营建洛邑（今河南洛阳）作为东都。相传他制礼作乐，建立典章制度，主张“明德慎罚”其言论见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尚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康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多士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立政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等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7164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相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g):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辅助。如：吉人天相。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xiāng) 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互相。如：相识。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表示一方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另一方的动作。如：好言相劝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ǔ): 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喂。如：哺育。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咀嚼着的食物。    如  ：吐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睿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ruì): &lt;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书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看得深远。如：睿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桀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jié):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夏朝末代君主，相传是个暴君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纣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zhòu):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商（殷）朝末代君主相传是个暴君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欤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yú):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古汉语助词，表示疑问或感叹，用法跟    “乎” 大致 相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 点 实 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3774960" cy="39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告诫，警告劝诫。（多用于上级对下级或长辈对晚辈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骄：怠慢，轻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哺：口中含嚼的食物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相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辅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德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道德品行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宽裕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宽大，宽容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保持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肃敬，谦逊有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荣华显贵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356000" y="1341360"/>
            <a:ext cx="399096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行为约束而有节制，不放纵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尊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位高势盛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聪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指明察事理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睿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聪慧，明智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愚拙，不巧伪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明智，聪明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奉行，遵从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谨慎，慎重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博闻强记：见识广博，记忆力强。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板书设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5" name="文本框 33795"/>
          <p:cNvSpPr/>
          <p:nvPr/>
        </p:nvSpPr>
        <p:spPr>
          <a:xfrm>
            <a:off x="903960" y="1916280"/>
            <a:ext cx="66780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公诫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左中括号 33796"/>
          <p:cNvSpPr/>
          <p:nvPr/>
        </p:nvSpPr>
        <p:spPr>
          <a:xfrm>
            <a:off x="1763640" y="1844640"/>
            <a:ext cx="515880" cy="3429000"/>
          </a:xfrm>
          <a:custGeom>
            <a:avLst/>
            <a:gdLst>
              <a:gd name="textAreaLeft" fmla="*/ 151560 w 515880"/>
              <a:gd name="textAreaRight" fmla="*/ 516240 w 51588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33799"/>
          <p:cNvSpPr/>
          <p:nvPr/>
        </p:nvSpPr>
        <p:spPr>
          <a:xfrm>
            <a:off x="2484360" y="162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代诫子背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33800"/>
          <p:cNvSpPr/>
          <p:nvPr/>
        </p:nvSpPr>
        <p:spPr>
          <a:xfrm>
            <a:off x="2272680" y="2349360"/>
            <a:ext cx="606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      承     转     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3801"/>
          <p:cNvSpPr/>
          <p:nvPr/>
        </p:nvSpPr>
        <p:spPr>
          <a:xfrm>
            <a:off x="3059280" y="2349360"/>
            <a:ext cx="44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以鲁国骄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论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双括号 33802"/>
          <p:cNvSpPr/>
          <p:nvPr/>
        </p:nvSpPr>
        <p:spPr>
          <a:xfrm>
            <a:off x="3132000" y="3068640"/>
            <a:ext cx="4348440" cy="703440"/>
          </a:xfrm>
          <a:prstGeom prst="bracketPair">
            <a:avLst>
              <a:gd name="adj" fmla="val 16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3803"/>
          <p:cNvSpPr/>
          <p:nvPr/>
        </p:nvSpPr>
        <p:spPr>
          <a:xfrm>
            <a:off x="3348000" y="292428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公执政“握发吐哺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事实论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33804"/>
          <p:cNvSpPr/>
          <p:nvPr/>
        </p:nvSpPr>
        <p:spPr>
          <a:xfrm>
            <a:off x="3348000" y="3500280"/>
            <a:ext cx="43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圣言相告，六种谦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道理论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33805"/>
          <p:cNvSpPr/>
          <p:nvPr/>
        </p:nvSpPr>
        <p:spPr>
          <a:xfrm>
            <a:off x="7524720" y="31417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33806"/>
          <p:cNvSpPr/>
          <p:nvPr/>
        </p:nvSpPr>
        <p:spPr>
          <a:xfrm>
            <a:off x="3059280" y="407664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桀、纣不谦失天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面事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33807"/>
          <p:cNvSpPr/>
          <p:nvPr/>
        </p:nvSpPr>
        <p:spPr>
          <a:xfrm>
            <a:off x="2987640" y="48690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不慎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反问结束，首尾呼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直接连接符 33808"/>
          <p:cNvSpPr/>
          <p:nvPr/>
        </p:nvSpPr>
        <p:spPr>
          <a:xfrm>
            <a:off x="7740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33809"/>
          <p:cNvSpPr/>
          <p:nvPr/>
        </p:nvSpPr>
        <p:spPr>
          <a:xfrm>
            <a:off x="7524720" y="407664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右中括号 33811"/>
          <p:cNvSpPr/>
          <p:nvPr/>
        </p:nvSpPr>
        <p:spPr>
          <a:xfrm>
            <a:off x="7956720" y="1773360"/>
            <a:ext cx="152280" cy="3504960"/>
          </a:xfrm>
          <a:custGeom>
            <a:avLst/>
            <a:gdLst>
              <a:gd name="textAreaLeft" fmla="*/ 0 w 152280"/>
              <a:gd name="textAreaRight" fmla="*/ 106920 w 152280"/>
              <a:gd name="textAreaTop" fmla="*/ 145800 h 3504960"/>
              <a:gd name="textAreaBottom" fmla="*/ 335916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3812"/>
          <p:cNvSpPr/>
          <p:nvPr/>
        </p:nvSpPr>
        <p:spPr>
          <a:xfrm>
            <a:off x="8319960" y="2060640"/>
            <a:ext cx="5461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谦虚谨慎    礼贤下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-828720" y="2282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 作 探 究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1763280" y="1628640"/>
            <a:ext cx="8153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公为什么诫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公诫子的中心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周公怎样劝诫儿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认为文中提到的“六德”在今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何现实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-1621080" y="228600"/>
            <a:ext cx="87850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成   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550520" y="1915920"/>
            <a:ext cx="72946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博闻强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贵为天子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富有四海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握发吐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5:34:07Z</dcterms:created>
  <dc:creator>理化组</dc:creator>
  <dc:description/>
  <dc:language>en-US</dc:language>
  <cp:lastModifiedBy>admin</cp:lastModifiedBy>
  <dcterms:modified xsi:type="dcterms:W3CDTF">2019-04-04T07:58:13Z</dcterms:modified>
  <cp:revision>32</cp:revision>
  <dc:subject/>
  <dc:title>教学目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