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EF6-C9E3-44AF-AD3E-243B39EA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791-E397-438C-82B5-6BFBC282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3ED71-A2E3-45D5-AECA-8A59EEC5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412F1-B964-435E-B82D-2DBD4F66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FE0F0-D862-4E30-B631-B1E43E45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D6C7C-8E4A-40AA-B4A7-E1F24E71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33898-E6A8-4D57-9F2D-150D7D8B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8D1FC-7E5B-4446-B5BF-9863DAF7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6167E-2D82-496D-8882-4627CF26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D1FD7-FC19-4F21-B2BC-7E767325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C46AA-8CD1-4C1F-A503-65980A96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54F18-6D6C-42E6-AC88-6B0F696F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871E-3BFE-4CF3-BCD8-33D1DDBB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07F84-B72E-4EBF-AE96-6D545A9E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1524B-68E4-48EE-B970-3D5F01E2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D1521-E198-4B39-B64A-4EA0A445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B4F73-F69F-4B3D-AA09-54881FF8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81EEC-855E-4E7B-A2B7-86A87AD8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04213-8AAD-4F7B-9538-56F7A14F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16E3F-20F9-4005-B4BB-C0A61275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387CC-F6B6-451E-A4F7-EE5B6440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B9F0D-F9FD-48EF-8FAA-0EFAAF03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ECFD7-856C-4476-83FE-1B29D2F7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18E-56B2-4C3D-B2D8-C145FD4A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D1F80-80B1-4824-81BC-A8D54622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7A7E7-B0D8-498D-8312-8C17B7CC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C9DD0-4D4F-4838-B9E7-45D5F02B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E843C-8C9D-475E-81D4-D4A3DA68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45C9B-E1A5-4292-914B-C5959F50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F58E2-501E-4A22-A915-9FDE7283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E1301-6C86-40BC-B93E-57CA1302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FA978-9192-4D92-8085-1FD9CBB7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DF3FC-475B-408C-8316-ECDD72E9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AF85D-ED7B-4992-8E41-A080A7A3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2FA8-183F-4EDB-AD32-696574DA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1FFF0-8397-470E-B9EA-9541076B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96002-30E2-4F0A-B9F7-7E65EE7A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4E8FC-8265-44DD-8866-B453402D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7ACD1-7D4B-4926-928C-0B662A29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E0DF1-12B1-4F89-9435-9D9DE475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DD9A0-6AE9-4FD8-9180-CD4275FD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05FEE-7183-4089-87DC-7542F22B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0240B-C6FB-4387-BDEA-8F8CDEB0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30AAE-3779-4D31-9022-BACF3F5F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0B324-CD45-4202-9577-52B6105A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F760-4CDA-431E-8AB8-9393CF61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981EF-93F1-4CDE-A824-63780280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9FF73-B886-46CB-BF60-527CF24D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677AC-81FE-4024-85AE-021D0A3B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1DE5F-9FC1-4A5B-8DC9-48986B2F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705D4-6EF4-4AC4-9A69-BEC4803A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519E2-43CE-4657-A9AB-6E589C09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1F04AF-84F4-4AD7-A6DA-103CD070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FAAB7-FD02-408E-BA88-59A91AD9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EBE9F-78F3-4052-8C2B-10CAD6D7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C890BF-1B2E-4408-A35E-349A9015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7FA4-393C-4733-9F71-FE818724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D6831B-46BB-4276-A3BD-57DB75CE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48FE3-9ABA-44B0-A08D-A6E33BD0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A47F8-4871-4762-8DB9-6EAD82E5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C7A14-3D6F-46EA-9929-32FFFF84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C5F92F-8E0D-434C-A33F-622C9644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442CF6-8BE6-4649-8AB9-A1B92F04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29AA5-C74F-485A-B510-F57E0BC4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49960-A656-4608-A448-A1CDE1E3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60D216-3F66-467C-95DD-C8F1BF1C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CF3B10-7BB6-4973-BA05-38C115D2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CB44-C106-4E2F-931D-D834D7BA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451584-A3BC-4EDB-B94A-B97C210A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CDBB57-A3E2-4F4D-B500-C3E6A717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E911BF-633C-47E7-BD32-0B1F02B9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D856B-11BE-481C-A3B2-BB1C237D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A69B6-29BE-4283-A5AC-587F3412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F6C19C-50F7-40F3-A0CB-748837E6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CB9A83-F8A9-4767-A9EF-6D7F64C8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4E694-29D8-4579-8445-F5D3BF13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33F77F-8EA0-4CEE-9941-2A3B558B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A87F75-BE2D-40DE-9443-5E64028A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9F76-8376-4354-8C45-8B6F29E3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71D629-331C-487B-B95D-46C19BBC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E51FCB-0173-4AA1-A349-4292D860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2E75B0-B6E9-4954-A41C-920BC5E9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9B9B3A-59E5-459D-918D-DFC41E4C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48E441-437F-476B-92FF-935547C8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EB2435-C0A5-4184-9F09-6380F790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C9CAEA-F105-4190-97F0-55AD8E3D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4D7135-BA7D-40D2-8B6A-E16A3842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F2899A-9051-4583-8D7E-EA515F9F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E27AA3-34E9-49C1-AB31-575CD144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71EF-3781-4C97-9B49-7C41EAA4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FC0E18-F897-4ABD-B08C-438CF259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3C8659-E381-4C48-82A2-1CC2650A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F5AA3D-F212-48AC-BF28-B5F4429A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76A820-2EA4-4E3C-BBB1-3E5FDCEA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FC7C76-91C0-42B1-BEE8-D07454A3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B4B118-748F-478F-A912-F3B2E026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ED591-49C5-472C-B3A3-C9759110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8D2DEE-04A7-4330-A29B-26FBC182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FA5E1D-CB24-4EE6-B7FF-809F0D70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E97440-05B7-4A7D-90C9-30232AE0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5603-1208-473D-9EF9-24969678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FE8A02-2D3A-495C-9B27-8E30B77E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0D0BB8-10F8-45EA-AF59-F8074C04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27F218-3DDF-47DE-BF9E-C480E20C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005519-9FE0-44B5-AEDD-60D76976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013090-1DED-4BDC-8DC8-9F806A6B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92A0A3-B2A3-44F7-BE73-32183577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21F05F-1AED-4341-9D0D-A6696774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44B91C-DE38-4E26-8956-3103618F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BB03FC-2C57-4FE4-A82B-D5D0E2EB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F6E4D2-72AF-44D1-8151-00EE23A2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E797-595D-472F-926C-61810442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71EA-67DF-4487-9801-1CB8308A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677BFA-210E-4668-A5BC-B2CFDCEB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5033B2-73BB-4F9E-BCC3-2FA72B14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9AD590-EF71-4ACD-B8E9-8ADA609B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EA2E6D-544C-4CF0-B5B5-E1015F96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F05911-794C-4434-AE35-CFD81F12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FD38BC-A955-4763-B509-55A9458A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CED683-1BDE-4EC8-A114-5288781E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2D912A-6F94-4E9D-844E-0B686A5B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6F0401-9367-4AC5-836C-BDFBACC9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237122-45A1-4C42-A952-E604BEC7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65C0-6CBF-4AD9-92E0-EF751061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E60F6B-BD0B-48A8-B07E-8A20EC9D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23CC00-3D2C-497D-9D38-64696FAF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E82A33-9B56-4F02-8D63-24E894F5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9E7EBE-DCCE-42AD-830F-47C41B07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F3B4C8-61D9-4CE0-B8FE-00A9CE55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453154-F713-4008-93FA-43C505F4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766BE9-17E1-4340-8AD2-1E38A74E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670D30-C3A8-40DD-A92B-4938E639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5FD43C-6971-4AB1-BF15-A0145638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0E7730-4BA6-4E38-9675-2D555349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1677-A29A-45CA-AABF-09031393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1C74B5-E68C-4A5D-9927-42A6293E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27CC25-8979-4EE9-ADD6-D62AB726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485866-73E3-4901-BEE9-5EAEC72A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A73D22-E4AA-4281-B50C-3CA28D34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9A638F-528E-4A85-95B9-60B2A84C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DFE30A-FE9E-4DFB-A126-CB3B8E04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AF965E-718A-47DA-9A66-30DFE141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6ED041-8692-43E8-AEBB-40FC5580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2D1A72-83E0-4A20-B497-C739241B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3D6E26-F594-41BE-BD50-BA13AE66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7E8A-686B-426F-B672-2A4DFCBC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145AAC-3E44-4E48-A6B2-DAD2CAAF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6F367A-2C2F-456F-BDEB-02FACE2E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80E2CF-0B76-4840-8200-E1E8CB87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1CD8C6-882F-4006-8519-73F3BECB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3E8CE5-18CA-4CF5-9020-AEDA51E9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4E9DEF-7153-4C14-9BCA-F51C73F9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716803-3F6B-444F-A64B-0FE97896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784CC7-3C52-487D-8456-49BA4397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02A960-F9FA-4A9C-A504-F0F2FDE0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7409F6-5EDE-40C1-AAA5-44654DF2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FC8F-E8FA-47FC-8F41-51DA9A49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2A281F-7E9C-4C9D-BE2C-C9B39BDD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6013F1-F4E9-489D-BA56-903ED701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94DEE0-450F-438B-AB3A-C0E52C2E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ADDF08-40E5-4887-BBC7-4B5EFFC3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BB439E-41C4-4968-9469-3D4AD1C1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DA1771-132B-4E65-A4A5-B50B2C3E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7692D9-4A83-4B49-8336-E84A1F56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557558-A2A8-4521-914F-28D089B3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DB8AD0-0838-40E6-A58C-D88D4168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F505D3-E2E8-4698-AB0E-A3E0C705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A56BF-22D6-4F75-86E3-63503CD3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0D3C2A-81E7-47D2-BA04-4C18ACD5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480751-DCD1-48D1-BDAC-E72380C0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8E6662-FBF4-475D-A5DA-F1AFC9F0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F88A6E-52AE-4ECF-9EFB-3C19F4E8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F6A13A-0D21-4D6B-A299-9ACF64F7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3DDF15-2286-4969-AE28-901C2FAF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247797-0BF2-4D8D-B3A1-767AE445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3C0BFF-6127-47E2-AD77-2F9BAB4B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B1209E-D4B9-4CA9-8485-458F73EE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5E931C-59B3-462D-BD90-E43EB5FF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3F7E0-42FC-4049-96B1-0FF18114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90F0A4-9C41-4A4F-B9B2-071E5946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8F57D7-DA02-49B8-AD0D-69B67079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F8C30A-691C-41AE-99DD-1D2C4886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AB94E3-1751-4A82-873B-867A0C83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259AD2-59A9-4DCB-ADF7-F109A99B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34EA3AD-A9AE-4320-8BE7-32812709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A22C31C-0AE2-446F-B91D-38A5C3E9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9861E1D-E6C5-4D55-950B-3A4D4DF2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E288930-3D2B-4DB8-98D9-C8FB3822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2C1C429-CEFF-4816-944F-DCD8B2F6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9609B-07C7-4521-A1F4-18E9D0E0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C80DF20-5D59-454E-8355-FFB9F72B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6CEB41F-A486-4BDE-BA82-12A56F56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522474A-1788-4C74-945D-9819B461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F31CEF8-78B9-492B-A655-13A68E9D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F2E9C22-F109-4135-B4F9-4AAFC36D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97E0E42-F716-4291-9E5A-203430AC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F360F33-A64F-4325-A4BD-8155652C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3235A7-848F-4730-B266-3E5DE337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E49553-1043-4748-AD91-8CA6F2F1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918DA2-817E-4DED-8DEE-F107F168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4A8F3-E7AB-4C2F-8DD8-D8118DBD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ED578D-82F8-4515-91F9-5D9E50D5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6800AC-F614-4D4C-B3A7-3A6E1959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F5D19C-B70B-4220-B6E3-EC626487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81B992-7935-4F41-A7B7-D815D4CA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D0735C-E1D1-4FDC-91CA-67D0F34B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631266-0447-49DB-BECB-9D59C9A4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1BAE8C-BD09-4FDD-B384-3AE5418D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99AE09-000C-4303-84D8-1186D156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55327F-79C0-4A23-A772-0CDE2859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DA2F8-1B2B-4204-AF80-E2E837EA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EAB9-1A1B-4CF4-99CB-C2540BC6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5C4E2-C774-4BC2-A01C-4E10B7F7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74F0F-D701-4B44-AD59-7B565B87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7C774-6289-49FC-94E6-9C534C1D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D912B-615E-4956-832A-114F639F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2D222-3067-4E04-9EE9-96E3B81C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065EA-61F4-4F79-8D56-EA34F708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B2A8A-CB29-4BF4-B9A8-82089173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1946E-0700-4E44-ABA8-4EA5CAD1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3382A-1814-4EC9-ABA3-81BB8C4D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E12B4-7D73-4362-A126-816FBB8A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BD19-FC98-475C-A57C-A92CAE1F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D7107-85CE-40AA-92C4-881D0EDB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E88C0-4505-42F9-8C22-C1A526EC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AE4FC-0962-41C5-BA78-42EE040C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CD935-EC0A-4246-B0AD-F3A1DEB2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84825-0DC8-47B5-BF28-5234B30E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3F31B-89BD-4ADD-B2C7-22B62645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C020C-623C-4B29-BFC8-46D3CE39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E73B5-1BAB-46ED-8E27-6F402307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B7F12-83A1-4B41-B046-F2D76882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3BDE8-5884-4AF5-8537-4BBA63C6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D1AC-B4B7-40F4-910F-F89EC9C5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B54E1-B474-4133-B8EC-334E37AE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A3037-CB22-4D35-861C-F8ED6A60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545E3-34D8-44D2-96AF-0DC94049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1EF9A-AD39-4FAE-B096-C743DA72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D3072-1DEB-4F6F-86F9-2A76BB37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C4468-F322-4D99-9BEC-AE5FD0B9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13038-B48B-46B8-968E-6988E372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D1F61-D0BF-4FD4-9D66-728C78AF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4A3FC-8B25-4092-A6BA-3D23B65C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4546F-3496-4A3F-B27C-7EC2A4DF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F9A2-62F8-41E8-9DE4-4DAE1F46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B1575-2AE7-4998-9175-AFA21877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4D0DA-896E-452B-ABEF-5E6212C6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513B9-4C9E-4317-BC17-A03ABC20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A134A-58FA-4174-839A-86340C6A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324F0-9E0F-4723-82F1-549A6138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AAC4C-74DD-4C7B-A7D4-53840668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EB576-3A41-4E6B-85F4-6B9B1843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F7320-E9C4-49A9-A418-3138F264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5744D-98BA-41B9-9D10-E1598808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7A244-7464-4C79-A377-D1C0B74C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90C6-BEE9-4E3D-8895-F59900F4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F3171-061C-4442-B563-0B6ABFD4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9716A-A94B-4788-AAA1-092C541D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82D1D-CBF4-41AF-A79A-A4F4AAFA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AB244-A506-4E31-ADFA-0A4D41D4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86B38-46DB-45FF-AAED-A4E8E5EA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9E88A-4AA6-4416-9EDC-3E45F9B0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47823-D1AB-4960-A6DD-662151C9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338BD-7E48-4445-A947-EA7DF3FC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43FD5-2419-4638-B4EB-B7415F3F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57E64-3F2F-46A4-938A-49DBD8E3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59A-3389-46C4-9847-5A243259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C9A54-B80D-425B-8C9D-536F54E0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AECBC-500C-4715-A789-2FB75FAF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6508A-82AB-4A2B-802F-47F3CE7D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8CB33-8474-448C-8C0B-054433B3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88BE3-68BA-4A54-97D6-E685BF88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FD094-DBB8-4872-859A-B89CE75A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A0FA2-6C2F-4CF8-813C-8554A26F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DD909-E895-4210-8FD4-7AF94CAB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529AE-737E-4C52-B91A-0EA1BBD4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816F7-F21D-47AE-BD98-917543C7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9F19-0A9D-49C5-BEE2-ABE62C9E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EC4E4-2AE8-421D-BC09-52E86535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E4077-A880-4D86-B9F5-F30DAC1F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B54D9-766B-4B9D-90F9-905FD81A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BCE81-ABBA-4A8B-9CBC-ACF6E83C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9201D-016A-4D06-B2AC-B9308AD4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C1ED9-F757-4D35-8293-F8FC8999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725B7-C26A-49C4-A9B3-1EF2A392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0E136-CBBC-42D5-9BF3-C3D3370B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FCFD4-BD92-481A-A95B-976196F2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88BA8-4F55-413F-B9A2-882C0B7C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第一课件网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www.1kejian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0B72-AAD7-42C5-BF39-47DC93B8CA6F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A3DB-0135-44E5-8524-7FAD57C9CB1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6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3A62-3D47-498D-8331-BE53BB7B0F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2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AD61-3503-47DD-8039-7A66C6BDB1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06FB-4C8B-425D-A741-A7FD6CE73B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2805-EAC8-4578-9298-772E4CBA57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77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77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E752-D8F4-4947-A833-743D5DEF7BC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1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82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82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dt" idx="4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ftr" idx="4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1AB3-CC9D-4B8D-94F8-465A9433B13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6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67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F454-CD4A-4364-9FCE-A88F31C97B7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11" name="PlaceHolder 1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D295-4C40-43F9-8D4B-C233C101B60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C60E-0097-4AB3-A073-C44AC392C8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8771-C5F4-43A5-AF6E-E714043F33A2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dt" idx="5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 type="sldNum" idx="6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68C3-A233-4A42-AB65-2A7A74BD5C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33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92ED-7940-4717-A478-C208B0DEDA5C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078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dt" idx="6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 type="ftr" idx="6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43DF-D1C8-4F94-9DF9-20864DA69911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ftr" idx="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ldNum" idx="6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2D67-DC3A-4194-930F-B6F791BD6636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2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13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 type="dt" idx="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17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1187" name="PlaceHolder 1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4009-F4EE-4659-BA2C-C99444BD429B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95D1-B91B-45D0-B678-7A5620B336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EB6F-5173-4B2E-8B83-B1E2F35CFB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AF55-EDD0-43B6-A9D7-2D7B674086B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5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8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8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8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9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BE87-9E49-45E2-A450-455A901A1EE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4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4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5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5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232F-7220-43A9-A829-E2AF258848BA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3C00-755F-42F7-B258-F64ACD3258A5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2D97-39FE-4450-9D12-08133EFC5182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24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2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" Target="slide11.xml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6666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我国外流河水文的共同特征及其成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11280" y="3141720"/>
            <a:ext cx="8072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1" lang="zh-CN" sz="29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我国外流河水文特征的差异及原因</a:t>
            </a:r>
            <a:endParaRPr b="0" lang="en-US" sz="37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中国主要河流分布图上找出以下湖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鄱阳湖、洞庭湖、太湖、巢湖、洪泽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海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说说这些湖泊的分布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我国的湖泊：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03360" y="2435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青藏高原湖区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东部平原湖区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394920" y="-6080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阅读洞庭湖的范围变迁图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94920" y="4292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洞庭湖的面积有什么变化？为什么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长江的分洪、蓄洪有什么不利影响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1" name=""/>
          <p:cNvSpPr/>
          <p:nvPr/>
        </p:nvSpPr>
        <p:spPr>
          <a:xfrm>
            <a:off x="2115000" y="5229360"/>
            <a:ext cx="530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由于人们滥砍乱伐植被导致水土流失加剧，泥沙淤积和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围湖造田使湖泊面积缩小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397320" y="6338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分洪、蓄洪的能力减弱，洪涝灾害加剧。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83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090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讨论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：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国南水北调工程的利与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418480" y="2781360"/>
            <a:ext cx="508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利：解决华北地区工农业与城市用水，补充地下水，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促进经济发展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108880" y="414972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弊：华北土壤盐碱化，长江入海口倒灌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c0039"/>
                </a:solidFill>
                <a:latin typeface="Arial"/>
              </a:rPr>
              <a:t>小结：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/>
          </p:nvPr>
        </p:nvSpPr>
        <p:spPr>
          <a:xfrm>
            <a:off x="-324000" y="141300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下列河流中位于非季风区，属于外流河的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塔里木河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额尔齐斯河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黑龙江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黄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关于我国外流河的叙述，正确的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气降水是主要补给水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受季风影响，河流水位变化大，多为季节性河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山冰雪融水是主要补给水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北方地区的河流冬季冰期较长，但含沙量很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影响我国外流河汛期长短的气候条件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气温的高低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雨季的长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温差的大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降水量的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秦岭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淮河以南的水文特征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量太大，汛期较短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量丰富，汛期长，冰期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汛期短，含沙量大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量丰富，汛期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250920" y="333360"/>
            <a:ext cx="482580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考一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2" name=""/>
          <p:cNvSpPr/>
          <p:nvPr/>
        </p:nvSpPr>
        <p:spPr>
          <a:xfrm>
            <a:off x="7450200" y="130032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5596920" y="227664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245280" y="44370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806000" y="52293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国外流区和内流区的河流丰水期都在夏季，其主要原因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受气温的影响，夏季全国普遍高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受季风影响，全国大部分地区雨热同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国大部分地区降水集中于夏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东部季风区受夏季风影响，西部受高温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黑龙江和松花江水量丰富而含沙量小，主要原因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温低，降水多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形平坦，水流平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候湿润，森林茂盛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陆性气候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366360" y="98100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1904760" y="4397400"/>
            <a:ext cx="406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0" name="" descr=""/>
          <p:cNvPicPr/>
          <p:nvPr/>
        </p:nvPicPr>
        <p:blipFill>
          <a:blip r:embed="rId1"/>
          <a:stretch/>
        </p:blipFill>
        <p:spPr>
          <a:xfrm>
            <a:off x="395280" y="733320"/>
            <a:ext cx="828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pic>
        <p:nvPicPr>
          <p:cNvPr id="130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58000"/>
          </a:xfrm>
          <a:prstGeom prst="rect">
            <a:avLst/>
          </a:prstGeom>
          <a:ln w="0">
            <a:noFill/>
          </a:ln>
        </p:spPr>
      </p:pic>
      <p:pic>
        <p:nvPicPr>
          <p:cNvPr id="1304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8820000" cy="5859360"/>
          </a:xfrm>
          <a:prstGeom prst="rect">
            <a:avLst/>
          </a:prstGeom>
          <a:ln w="0">
            <a:noFill/>
          </a:ln>
        </p:spPr>
      </p:pic>
      <p:pic>
        <p:nvPicPr>
          <p:cNvPr id="1305" name="" descr=""/>
          <p:cNvPicPr/>
          <p:nvPr/>
        </p:nvPicPr>
        <p:blipFill>
          <a:blip r:embed="rId4"/>
          <a:stretch/>
        </p:blipFill>
        <p:spPr>
          <a:xfrm>
            <a:off x="0" y="260280"/>
            <a:ext cx="8748720" cy="6345360"/>
          </a:xfrm>
          <a:prstGeom prst="rect">
            <a:avLst/>
          </a:prstGeom>
          <a:ln w="0">
            <a:noFill/>
          </a:ln>
        </p:spPr>
      </p:pic>
      <p:pic>
        <p:nvPicPr>
          <p:cNvPr id="1306" name="" descr=""/>
          <p:cNvPicPr/>
          <p:nvPr/>
        </p:nvPicPr>
        <p:blipFill>
          <a:blip r:embed="rId5"/>
          <a:stretch/>
        </p:blipFill>
        <p:spPr>
          <a:xfrm>
            <a:off x="0" y="40464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1307" name="">
            <a:hlinkClick r:id="rId6" action="ppaction://hlinksldjump"/>
          </p:cNvPr>
          <p:cNvSpPr/>
          <p:nvPr/>
        </p:nvSpPr>
        <p:spPr>
          <a:xfrm>
            <a:off x="8101080" y="6337440"/>
            <a:ext cx="1042920" cy="520560"/>
          </a:xfrm>
          <a:custGeom>
            <a:avLst/>
            <a:gdLst>
              <a:gd name="textAreaLeft" fmla="*/ 33480 w 1042920"/>
              <a:gd name="textAreaRight" fmla="*/ 1009440 w 1042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43260" h="21600">
                <a:moveTo>
                  <a:pt x="0" y="0"/>
                </a:moveTo>
                <a:lnTo>
                  <a:pt x="43260" y="0"/>
                </a:lnTo>
                <a:lnTo>
                  <a:pt x="43260" y="21600"/>
                </a:lnTo>
                <a:lnTo>
                  <a:pt x="0" y="21600"/>
                </a:lnTo>
                <a:close/>
              </a:path>
              <a:path fill="lightenLess" w="43260" h="21600">
                <a:moveTo>
                  <a:pt x="0" y="0"/>
                </a:moveTo>
                <a:lnTo>
                  <a:pt x="43260" y="0"/>
                </a:lnTo>
                <a:lnTo>
                  <a:pt x="41860" y="1400"/>
                </a:lnTo>
                <a:lnTo>
                  <a:pt x="1400" y="1400"/>
                </a:lnTo>
                <a:close/>
              </a:path>
              <a:path fill="darken" w="43260" h="21600">
                <a:moveTo>
                  <a:pt x="43260" y="0"/>
                </a:moveTo>
                <a:lnTo>
                  <a:pt x="43260" y="21600"/>
                </a:lnTo>
                <a:lnTo>
                  <a:pt x="41860" y="20200"/>
                </a:lnTo>
                <a:lnTo>
                  <a:pt x="41860" y="1400"/>
                </a:lnTo>
                <a:close/>
              </a:path>
              <a:path fill="darkenLess" w="43260" h="21600">
                <a:moveTo>
                  <a:pt x="43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60" y="20200"/>
                </a:lnTo>
                <a:close/>
              </a:path>
              <a:path fill="lighten" w="43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60" h="21600">
                <a:moveTo>
                  <a:pt x="14623" y="10800"/>
                </a:moveTo>
                <a:lnTo>
                  <a:pt x="28636" y="3794"/>
                </a:lnTo>
                <a:lnTo>
                  <a:pt x="2863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08" name="" descr=""/>
          <p:cNvPicPr/>
          <p:nvPr/>
        </p:nvPicPr>
        <p:blipFill>
          <a:blip r:embed="rId7"/>
          <a:stretch/>
        </p:blipFill>
        <p:spPr>
          <a:xfrm>
            <a:off x="395280" y="0"/>
            <a:ext cx="824400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10" name="" descr=""/>
          <p:cNvPicPr/>
          <p:nvPr/>
        </p:nvPicPr>
        <p:blipFill>
          <a:blip r:embed="rId1"/>
          <a:stretch/>
        </p:blipFill>
        <p:spPr>
          <a:xfrm>
            <a:off x="0" y="-195120"/>
            <a:ext cx="8893080" cy="6859440"/>
          </a:xfrm>
          <a:prstGeom prst="rect">
            <a:avLst/>
          </a:prstGeom>
          <a:ln w="0">
            <a:noFill/>
          </a:ln>
        </p:spPr>
      </p:pic>
      <p:sp>
        <p:nvSpPr>
          <p:cNvPr id="1311" name="">
            <a:hlinkClick r:id="rId2" action="ppaction://hlinksldjump"/>
          </p:cNvPr>
          <p:cNvSpPr/>
          <p:nvPr/>
        </p:nvSpPr>
        <p:spPr>
          <a:xfrm>
            <a:off x="8388360" y="6453360"/>
            <a:ext cx="755640" cy="404640"/>
          </a:xfrm>
          <a:custGeom>
            <a:avLst/>
            <a:gdLst>
              <a:gd name="textAreaLeft" fmla="*/ 25920 w 755640"/>
              <a:gd name="textAreaRight" fmla="*/ 729720 w 755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0320" h="21600">
                <a:moveTo>
                  <a:pt x="0" y="0"/>
                </a:moveTo>
                <a:lnTo>
                  <a:pt x="40320" y="0"/>
                </a:lnTo>
                <a:lnTo>
                  <a:pt x="40320" y="21600"/>
                </a:lnTo>
                <a:lnTo>
                  <a:pt x="0" y="21600"/>
                </a:lnTo>
                <a:close/>
              </a:path>
              <a:path fill="lightenLess" w="40320" h="21600">
                <a:moveTo>
                  <a:pt x="0" y="0"/>
                </a:moveTo>
                <a:lnTo>
                  <a:pt x="40320" y="0"/>
                </a:lnTo>
                <a:lnTo>
                  <a:pt x="38920" y="1400"/>
                </a:lnTo>
                <a:lnTo>
                  <a:pt x="1400" y="1400"/>
                </a:lnTo>
                <a:close/>
              </a:path>
              <a:path fill="darken" w="40320" h="21600">
                <a:moveTo>
                  <a:pt x="40320" y="0"/>
                </a:moveTo>
                <a:lnTo>
                  <a:pt x="40320" y="21600"/>
                </a:lnTo>
                <a:lnTo>
                  <a:pt x="38920" y="20200"/>
                </a:lnTo>
                <a:lnTo>
                  <a:pt x="38920" y="1400"/>
                </a:lnTo>
                <a:close/>
              </a:path>
              <a:path fill="darkenLess" w="40320" h="21600">
                <a:moveTo>
                  <a:pt x="40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20" y="20200"/>
                </a:lnTo>
                <a:close/>
              </a:path>
              <a:path fill="lighten" w="40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320" h="21600">
                <a:moveTo>
                  <a:pt x="13154" y="7493"/>
                </a:moveTo>
                <a:lnTo>
                  <a:pt x="16661" y="7493"/>
                </a:lnTo>
                <a:lnTo>
                  <a:pt x="16661" y="12828"/>
                </a:lnTo>
                <a:cubicBezTo>
                  <a:pt x="16661" y="13751"/>
                  <a:pt x="17462" y="14482"/>
                  <a:pt x="18498" y="14482"/>
                </a:cubicBezTo>
                <a:lnTo>
                  <a:pt x="20160" y="14482"/>
                </a:lnTo>
                <a:cubicBezTo>
                  <a:pt x="21196" y="14482"/>
                  <a:pt x="21996" y="13751"/>
                  <a:pt x="21996" y="12828"/>
                </a:cubicBezTo>
                <a:lnTo>
                  <a:pt x="21996" y="7493"/>
                </a:lnTo>
                <a:lnTo>
                  <a:pt x="20160" y="7493"/>
                </a:lnTo>
                <a:lnTo>
                  <a:pt x="23668" y="3985"/>
                </a:lnTo>
                <a:lnTo>
                  <a:pt x="27341" y="7493"/>
                </a:lnTo>
                <a:lnTo>
                  <a:pt x="25504" y="7493"/>
                </a:lnTo>
                <a:lnTo>
                  <a:pt x="25504" y="12828"/>
                </a:lnTo>
                <a:cubicBezTo>
                  <a:pt x="25504" y="15596"/>
                  <a:pt x="22928" y="18155"/>
                  <a:pt x="20160" y="18155"/>
                </a:cubicBezTo>
                <a:lnTo>
                  <a:pt x="18498" y="18155"/>
                </a:lnTo>
                <a:cubicBezTo>
                  <a:pt x="15730" y="18155"/>
                  <a:pt x="13154" y="15596"/>
                  <a:pt x="13154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restart="whenNotActive" nodeType="interactiveSeq" fill="hold">
                <p:stCondLst>
                  <p:cond evt="onClick">
                    <p:tgtEl>
                      <p:spTgt spid="1310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1310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3" dur="1" fill="hold"/>
                                        <p:tgtEl>
                                          <p:spTgt spid="1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9" name=""/>
          <p:cNvGraphicFramePr/>
          <p:nvPr/>
        </p:nvGraphicFramePr>
        <p:xfrm>
          <a:off x="395280" y="1413000"/>
          <a:ext cx="8353440" cy="432108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1152720"/>
                <a:gridCol w="2303280"/>
                <a:gridCol w="2881440"/>
              </a:tblGrid>
              <a:tr h="8636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夏季风盛行时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水文特征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水量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水位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结冰期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成因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5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冬季风盛行时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水文特征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成因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0" name=""/>
          <p:cNvSpPr/>
          <p:nvPr/>
        </p:nvSpPr>
        <p:spPr>
          <a:xfrm>
            <a:off x="2524320" y="2454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水量大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169880" y="230976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水位上涨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形成汛期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689160" y="242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无结冰期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772680" y="3389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气温高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449160" y="3389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降水量大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524320" y="42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水量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014720" y="40053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水位下降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形成枯水期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482880" y="4005360"/>
            <a:ext cx="152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秦岭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淮河以北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的河流有结冰期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377520" y="5013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降水量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31480" y="4941720"/>
            <a:ext cx="115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月气温在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0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以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0" name="">
            <a:hlinkClick r:id="rId1" action="ppaction://hlinksldjump"/>
          </p:cNvPr>
          <p:cNvSpPr/>
          <p:nvPr/>
        </p:nvSpPr>
        <p:spPr>
          <a:xfrm>
            <a:off x="8424720" y="6148440"/>
            <a:ext cx="719280" cy="709560"/>
          </a:xfrm>
          <a:custGeom>
            <a:avLst/>
            <a:gdLst>
              <a:gd name="textAreaLeft" fmla="*/ 45720 w 719280"/>
              <a:gd name="textAreaRight" fmla="*/ 673560 w 71928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1896" h="21600">
                <a:moveTo>
                  <a:pt x="0" y="0"/>
                </a:moveTo>
                <a:lnTo>
                  <a:pt x="21896" y="0"/>
                </a:lnTo>
                <a:lnTo>
                  <a:pt x="21896" y="21600"/>
                </a:lnTo>
                <a:lnTo>
                  <a:pt x="0" y="21600"/>
                </a:lnTo>
                <a:close/>
              </a:path>
              <a:path fill="lightenLess" w="21896" h="21600">
                <a:moveTo>
                  <a:pt x="0" y="0"/>
                </a:moveTo>
                <a:lnTo>
                  <a:pt x="21896" y="0"/>
                </a:lnTo>
                <a:lnTo>
                  <a:pt x="20496" y="1400"/>
                </a:lnTo>
                <a:lnTo>
                  <a:pt x="1400" y="1400"/>
                </a:lnTo>
                <a:close/>
              </a:path>
              <a:path fill="darken" w="21896" h="21600">
                <a:moveTo>
                  <a:pt x="21896" y="0"/>
                </a:moveTo>
                <a:lnTo>
                  <a:pt x="21896" y="21600"/>
                </a:lnTo>
                <a:lnTo>
                  <a:pt x="20496" y="20200"/>
                </a:lnTo>
                <a:lnTo>
                  <a:pt x="20496" y="1400"/>
                </a:lnTo>
                <a:close/>
              </a:path>
              <a:path fill="darkenLess" w="21896" h="21600">
                <a:moveTo>
                  <a:pt x="21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96" y="20200"/>
                </a:lnTo>
                <a:close/>
              </a:path>
              <a:path fill="lighten" w="21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96" h="21600">
                <a:moveTo>
                  <a:pt x="14447" y="10800"/>
                </a:moveTo>
                <a:lnTo>
                  <a:pt x="3941" y="17806"/>
                </a:lnTo>
                <a:lnTo>
                  <a:pt x="3941" y="3794"/>
                </a:lnTo>
                <a:close/>
              </a:path>
              <a:path fill="darken" w="21896" h="21600">
                <a:moveTo>
                  <a:pt x="16292" y="3794"/>
                </a:moveTo>
                <a:lnTo>
                  <a:pt x="16292" y="17806"/>
                </a:lnTo>
                <a:lnTo>
                  <a:pt x="17954" y="17806"/>
                </a:lnTo>
                <a:lnTo>
                  <a:pt x="17954" y="3794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/>
          </p:nvPr>
        </p:nvSpPr>
        <p:spPr>
          <a:xfrm>
            <a:off x="0" y="217944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图中四条河流，哪条河流流量最大？哪两条河流流量较小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珠江、长江、黄河的汛期分别从何月开始至何月结束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地理填充地图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页，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题：我国东部主要河流流量年变化曲线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2037960" y="2924280"/>
            <a:ext cx="44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长江流量最大，珠江次之，黄河和松花江流量较小</a:t>
            </a:r>
            <a:r>
              <a:rPr b="1" lang="zh-CN" sz="1800" spc="-1" strike="noStrike">
                <a:solidFill>
                  <a:srgbClr val="006699"/>
                </a:solidFill>
                <a:latin typeface="Verdana"/>
              </a:rPr>
              <a:t>。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757520" y="4221000"/>
            <a:ext cx="483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珠江、长江、黄河汛期起止时间分别为：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月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8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月和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9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月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11280" y="494172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6" name=""/>
          <p:cNvGraphicFramePr/>
          <p:nvPr/>
        </p:nvGraphicFramePr>
        <p:xfrm>
          <a:off x="395280" y="1090440"/>
          <a:ext cx="8424720" cy="5537520"/>
        </p:xfrm>
        <a:graphic>
          <a:graphicData uri="http://schemas.openxmlformats.org/drawingml/2006/table">
            <a:tbl>
              <a:tblPr/>
              <a:tblGrid>
                <a:gridCol w="893880"/>
                <a:gridCol w="896760"/>
                <a:gridCol w="1738440"/>
                <a:gridCol w="1511280"/>
                <a:gridCol w="1671480"/>
                <a:gridCol w="171288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地区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河流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量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（大、小）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汛期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长、短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含沙量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（大、小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结冰期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长、短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东北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黑龙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江及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支流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松花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江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秦岭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—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淮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河以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北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辽河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海河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黄河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秦岭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—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淮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河以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南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长江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珠江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7" name=""/>
          <p:cNvSpPr/>
          <p:nvPr/>
        </p:nvSpPr>
        <p:spPr>
          <a:xfrm>
            <a:off x="2451240" y="2143080"/>
            <a:ext cx="94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水量丰富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（流经湿润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地区、半湿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润地区）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195640" y="3573360"/>
            <a:ext cx="264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水量较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（流经半湿润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地区、半干旱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地区）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340000" y="5241960"/>
            <a:ext cx="287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水量丰富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（降水量大，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流经湿润地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区）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264560" y="2143080"/>
            <a:ext cx="91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汛期较短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（有春汛、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夏汛）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251240" y="394344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汛期短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（雨季短）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251240" y="545472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汛期长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（雨季长）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742000" y="214308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（森林茂密）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835600" y="3654360"/>
            <a:ext cx="94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大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（植被少，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水土流失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严重）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784840" y="5238720"/>
            <a:ext cx="790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（流域内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植被覆盖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多）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7475760" y="2214720"/>
            <a:ext cx="94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长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（纬度高，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位于中温带、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寒温带）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020000" y="3789360"/>
            <a:ext cx="21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短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（位于暖温带）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7323840" y="5167440"/>
            <a:ext cx="131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无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（流经亚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热带，冬温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在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0℃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以上）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760400" y="2221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我国外流河水文特征的差异及原因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 txBox="1"/>
          <p:nvPr/>
        </p:nvSpPr>
        <p:spPr>
          <a:xfrm>
            <a:off x="468360" y="333360"/>
            <a:ext cx="298764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思考！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61" name=""/>
          <p:cNvSpPr/>
          <p:nvPr/>
        </p:nvSpPr>
        <p:spPr>
          <a:xfrm>
            <a:off x="1864440" y="1557360"/>
            <a:ext cx="51440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、我国东部河流（东北河流除外）的汛期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有什么变化规律？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、我国大多数河流只有一个汛期（夏汛）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为什么东北的河流有两个汛期（春汛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夏汛）？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2106360" y="5084640"/>
            <a:ext cx="466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我国大部份河流的汛期出现在夏季，是高温多雨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造成的，东北地区的河流因冬末春初积雪融化，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还会形成一次春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755640" y="256536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我国东部河流（除东北河流）汛期变化的规律是自南向北，汛期越来越短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我国内流河的水文特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280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分布地区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主要特征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水源补给：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高山冰雪融水和山地降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多为季节性河流：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夏季冰雪大量融化，成为丰水期，其它季节为枯水期，水量少，冬季有的河流出现断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流程：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不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"/>
          <p:cNvSpPr/>
          <p:nvPr/>
        </p:nvSpPr>
        <p:spPr>
          <a:xfrm>
            <a:off x="4106880" y="105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西北内陆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7" name="">
            <a:hlinkClick r:id="" action="ppaction://hlinkshowjump?jump=lastslide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9261" y="7301"/>
                </a:moveTo>
                <a:lnTo>
                  <a:pt x="10175" y="7301"/>
                </a:lnTo>
                <a:lnTo>
                  <a:pt x="10558" y="7667"/>
                </a:lnTo>
                <a:lnTo>
                  <a:pt x="19766" y="7667"/>
                </a:lnTo>
                <a:lnTo>
                  <a:pt x="20323" y="8224"/>
                </a:lnTo>
                <a:lnTo>
                  <a:pt x="20323" y="8772"/>
                </a:lnTo>
                <a:lnTo>
                  <a:pt x="22168" y="8772"/>
                </a:lnTo>
                <a:lnTo>
                  <a:pt x="22534" y="8224"/>
                </a:lnTo>
                <a:lnTo>
                  <a:pt x="23274" y="8224"/>
                </a:lnTo>
                <a:lnTo>
                  <a:pt x="23274" y="13376"/>
                </a:lnTo>
                <a:lnTo>
                  <a:pt x="22534" y="13376"/>
                </a:lnTo>
                <a:lnTo>
                  <a:pt x="22168" y="12828"/>
                </a:lnTo>
                <a:lnTo>
                  <a:pt x="20323" y="12828"/>
                </a:lnTo>
                <a:lnTo>
                  <a:pt x="20323" y="14107"/>
                </a:lnTo>
                <a:lnTo>
                  <a:pt x="10741" y="14107"/>
                </a:lnTo>
                <a:lnTo>
                  <a:pt x="10741" y="9877"/>
                </a:lnTo>
                <a:lnTo>
                  <a:pt x="10558" y="9877"/>
                </a:lnTo>
                <a:lnTo>
                  <a:pt x="10175" y="10243"/>
                </a:lnTo>
                <a:lnTo>
                  <a:pt x="9261" y="10243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21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br>
              <a:rPr sz="4800"/>
            </a:b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为什么我国西北地区多为季节性的河流？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539640" y="3284640"/>
            <a:ext cx="8229600" cy="31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因为我国西北地区气候干旱，降水少，沙漠广布，河流的水量主要来源于高山上的冰雪融水，夏季气温高，冰雪融水量大，水量大，而夏季过后，气温降低，融水量减小，在冬季甚至会断流，所以多为水量随气温的变化而变化的季节性河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我国最长的内流河——塔里木河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250920" y="51577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7~9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月为汛期，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月以后中下游断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水源补给：天山、昆仑山上的冰雪融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2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889440" cy="42498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/>
          <p:nvPr/>
        </p:nvSpPr>
        <p:spPr>
          <a:xfrm>
            <a:off x="46836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特征：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74" name="" descr=""/>
          <p:cNvPicPr/>
          <p:nvPr/>
        </p:nvPicPr>
        <p:blipFill>
          <a:blip r:embed="rId2"/>
          <a:stretch/>
        </p:blipFill>
        <p:spPr>
          <a:xfrm>
            <a:off x="4211640" y="907920"/>
            <a:ext cx="465624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790884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塔里木河近几年来出现了哪些生态问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1:53:36Z</dcterms:created>
  <dc:creator>gg</dc:creator>
  <dc:description/>
  <dc:language>en-US</dc:language>
  <cp:lastModifiedBy>User</cp:lastModifiedBy>
  <dcterms:modified xsi:type="dcterms:W3CDTF">2010-10-31T09:10:35Z</dcterms:modified>
  <cp:revision>59</cp:revision>
  <dc:subject/>
  <dc:title>幻灯片 1</dc:title>
</cp:coreProperties>
</file>