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62AB-ADF5-47F1-B4DC-2EC45FEA2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9E2B-13C6-41D0-A9C8-A4C299095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057-AA53-47BA-8595-EA765B509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2A2A-4018-4B35-89A1-CC7D4114F3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E2B-D2B2-44BA-87C7-9D3692CAC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9080" y="4571640"/>
            <a:ext cx="5050080" cy="43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2D4-C40C-4EB6-95AA-7EFF4DA4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BEF-CF6D-498B-8E30-7BE6625D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E8B-162B-4299-92B3-CD7932BF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FBD-3716-434E-A5F5-8981AD31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34ED-E65A-4F4A-9191-624BDF9E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847C-D7EA-43E1-8FAA-B9F4A27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FAA-CB45-4933-B462-F38781E3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EDC3-AB58-40D2-822F-17BCEB0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B0C-5E5E-4B1B-A8DC-70E7F93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F3D5-4E6B-4370-991D-220ABCC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F8DA-1A40-4CB0-B1E0-8F301AE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5FC-EBD6-430F-8E7A-4CB6FD28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E960-0214-450C-9313-F5644C8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6451-DCB3-48B4-8A5F-C3F188F9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0503-B1B7-4545-A46A-043FB65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15AF-1094-4A77-B3D3-CCC55890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6C9E-0E38-466B-A460-3F52E4A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704-9496-49AC-B68B-7DCCD0B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233-E7AC-4D80-8951-5A8D914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D5C-F1C5-4621-A0FE-B6717327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29C-D6EF-4C2E-A942-25291FA7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F66-ED5D-4C10-8187-14E9F0C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E52-49E3-48AC-9B3B-B4A3861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EB3-C18B-4222-B027-3E4256B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766-0EC3-4141-A831-0B60C8E5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CFC-D5F6-4C2F-B35F-D88066267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10.xml"/><Relationship Id="rId3" Type="http://schemas.openxmlformats.org/officeDocument/2006/relationships/slide" Target="slide29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小说三要素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人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情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环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743200" y="1905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外貌、语言、神态、动作、心理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895480" y="35053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开端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发展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高潮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结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743200" y="51814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自然环境、社会环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Program Files\Common Files\Microsoft Shared\Clipart\cagcat50\SY01265_.wmf"/>
          <p:cNvPicPr/>
          <p:nvPr/>
        </p:nvPicPr>
        <p:blipFill>
          <a:blip r:embed="rId1"/>
          <a:stretch/>
        </p:blipFill>
        <p:spPr>
          <a:xfrm>
            <a:off x="0" y="0"/>
            <a:ext cx="1638360" cy="5562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1524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66"/>
                </a:solidFill>
                <a:latin typeface="方正舒体"/>
                <a:ea typeface="方正舒体"/>
              </a:rPr>
              <a:t>倒  叙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52320" y="380520"/>
            <a:ext cx="4876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把祥林嫂悲惨的结局放在开头，巧妙地设置了悬念，使读者寄予探求事情的原委，有一定的吸引力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把祝福的景象和祥林嫂的死连在一起，形成强烈的对比，有震撼人心的力量，突出反封建的主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研读：人物形象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祥林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阅读课文，写出祥林嫂人生悲剧的情节提纲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找出文中对祥林嫂进行的三次肖像描写，看看她发生了怎样的变化，这样描写的作用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610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初到鲁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肖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头上扎着白头绳，乌裙，蓝夹袄，月白背心，脸色青黄，但两颊还是红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顺着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Times New Roman"/>
                <a:ea typeface="华文隶书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再到鲁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肖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头上扎着白头绳，乌裙，蓝夹袄，月白背心，脸色青黄，只是两颊上已经消失了血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顺着眼，眼角上带些泪痕，眼光也没有先 前那样精神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华文隶书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临死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肖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年前花白的头发，  即今已经全白；脸上瘦削不堪，黄中带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只有那眼珠间或一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祥林嫂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肖像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84280" y="2000160"/>
          <a:ext cx="6099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4280" y="2000160"/>
                    <a:ext cx="6099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"/>
          <p:cNvGraphicFramePr/>
          <p:nvPr/>
        </p:nvGraphicFramePr>
        <p:xfrm>
          <a:off x="228600" y="1447920"/>
          <a:ext cx="9144000" cy="601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91440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7"/>
          <p:cNvSpPr/>
          <p:nvPr/>
        </p:nvSpPr>
        <p:spPr>
          <a:xfrm>
            <a:off x="22860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第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28600" y="3809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第二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52280" y="4952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第三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脸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01028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精神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7150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衣着饰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57200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12408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两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755640"/>
            <a:ext cx="7274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找眼睛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论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到鲁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到鲁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讲阿毛故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捐  门  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让祝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    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问有无灵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141800" y="146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顺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46992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284360" y="198900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顺着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眼角带着泪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867280" y="2133720"/>
            <a:ext cx="3529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受打击，内心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141800" y="29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直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780000" y="350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分外有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851280" y="4149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失神、窈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780000" y="479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眼珠间或一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51280" y="54450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忽然发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75756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神有些麻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6227640" y="344952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有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6661440" y="409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受打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588000" y="472428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6443640" y="543096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丝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祥林嫂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肖像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710320" y="1600200"/>
            <a:ext cx="343368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533520" y="1676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作用：概括了祥林嫂半生悲惨的历史，通过鲜明的对照深刻揭露了封建思想对劳动妇女的摧残和迫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064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祥林嫂是旧中国农村劳动妇女的典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共性</a:t>
            </a:r>
            <a:r>
              <a:rPr b="1" lang="en-US" sz="3600" spc="-1" strike="noStrike">
                <a:solidFill>
                  <a:srgbClr val="1609c3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勤劳、善良、安分、蒙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09c3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个性</a:t>
            </a:r>
            <a:r>
              <a:rPr b="1" lang="en-US" sz="3600" spc="-1" strike="noStrike">
                <a:solidFill>
                  <a:srgbClr val="1609c3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顽强、倔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善良的祥林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为辛勤劳作能安心生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为丧夫失子能博得同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为捐得门槛能减去罪孽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116000" y="4005360"/>
            <a:ext cx="7201080" cy="1191240"/>
          </a:xfrm>
          <a:prstGeom prst="rect">
            <a:avLst/>
          </a:prstGeom>
          <a:gradFill rotWithShape="0">
            <a:gsLst>
              <a:gs pos="0">
                <a:srgbClr val="00cc99">
                  <a:alpha val="40000"/>
                </a:srgbClr>
              </a:gs>
              <a:gs pos="100000">
                <a:srgbClr val="7fe5cc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悲剧人物要使人怜悯，“最重要之点，性格必须善良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亚里士多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小说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914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说是一种通过人物、情节和环境的具体描写来反映现实升活的文学体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603800" y="242784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说三要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133720" y="2209680"/>
            <a:ext cx="609480" cy="3429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49600" y="1897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：典型的艺术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892960" y="349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727360" y="5249880"/>
            <a:ext cx="60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：自然环境、社会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657600" y="26668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098960" y="23623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序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419720" y="28400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403880" y="33526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419720" y="38098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403880" y="42670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038480" y="47451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尾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886200" y="57355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年末雪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867280" y="573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祝福景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629400" y="1905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祥林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祥林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悲惨遭遇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外逃帮佣，初到鲁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被人劫回，被迫改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丧夫失子，再到鲁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捐献门槛，未能赎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逐出鲁家，沦为乞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祝福之夜，凄然死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962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304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物形象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3">
            <a:hlinkClick r:id="rId1" action="ppaction://hlinksldjump"/>
          </p:cNvPr>
          <p:cNvSpPr/>
          <p:nvPr/>
        </p:nvSpPr>
        <p:spPr>
          <a:xfrm>
            <a:off x="2743200" y="2819520"/>
            <a:ext cx="3657600" cy="12189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祥林嫂的形象及社会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>
            <a:hlinkClick r:id="rId2" action="ppaction://hlinksldjump"/>
          </p:cNvPr>
          <p:cNvSpPr/>
          <p:nvPr/>
        </p:nvSpPr>
        <p:spPr>
          <a:xfrm>
            <a:off x="1066680" y="1981080"/>
            <a:ext cx="1752840" cy="91440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模样周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健壮耐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>
            <a:hlinkClick r:id="rId3" action="ppaction://hlinksldjump"/>
          </p:cNvPr>
          <p:cNvSpPr/>
          <p:nvPr/>
        </p:nvSpPr>
        <p:spPr>
          <a:xfrm>
            <a:off x="3886200" y="1219320"/>
            <a:ext cx="1752480" cy="99036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被迫改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强烈反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>
            <a:hlinkClick r:id="rId4" action="ppaction://hlinksldjump"/>
          </p:cNvPr>
          <p:cNvSpPr/>
          <p:nvPr/>
        </p:nvSpPr>
        <p:spPr>
          <a:xfrm>
            <a:off x="6629400" y="2286000"/>
            <a:ext cx="175248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破人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走投无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>
            <a:hlinkClick r:id="rId5" action="ppaction://hlinksldjump"/>
          </p:cNvPr>
          <p:cNvSpPr/>
          <p:nvPr/>
        </p:nvSpPr>
        <p:spPr>
          <a:xfrm>
            <a:off x="6553080" y="4114800"/>
            <a:ext cx="175284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失魂落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沦为乞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>
            <a:hlinkClick r:id="rId6" action="ppaction://hlinksldjump"/>
          </p:cNvPr>
          <p:cNvSpPr/>
          <p:nvPr/>
        </p:nvSpPr>
        <p:spPr>
          <a:xfrm>
            <a:off x="3886200" y="4800600"/>
            <a:ext cx="175248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活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死不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>
            <a:hlinkClick r:id="rId7" action="ppaction://hlinksldjump"/>
          </p:cNvPr>
          <p:cNvSpPr/>
          <p:nvPr/>
        </p:nvSpPr>
        <p:spPr>
          <a:xfrm>
            <a:off x="1066680" y="4191120"/>
            <a:ext cx="1752840" cy="99036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惨死雪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横遭辱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1981080" y="1523520"/>
            <a:ext cx="17528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638680" y="1447920"/>
            <a:ext cx="16002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7391520" y="3276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 flipH="1">
            <a:off x="5714640" y="5105520"/>
            <a:ext cx="1523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 flipH="1" flipV="1">
            <a:off x="2819160" y="4724280"/>
            <a:ext cx="9903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1857240" cy="39942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"/>
          <p:cNvSpPr/>
          <p:nvPr/>
        </p:nvSpPr>
        <p:spPr>
          <a:xfrm>
            <a:off x="2362320" y="21337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   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讨论：造成祥林嫂悲剧的原因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8280" cy="17128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3"/>
          <p:cNvSpPr/>
          <p:nvPr/>
        </p:nvSpPr>
        <p:spPr>
          <a:xfrm>
            <a:off x="6095880" y="4343400"/>
            <a:ext cx="2438640" cy="1676520"/>
          </a:xfrm>
          <a:prstGeom prst="wedgeEllipseCallout">
            <a:avLst>
              <a:gd name="adj1" fmla="val -53125"/>
              <a:gd name="adj2" fmla="val -55018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219320" y="1143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政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5867280" y="457200"/>
            <a:ext cx="2438640" cy="1676520"/>
          </a:xfrm>
          <a:prstGeom prst="wedgeEllipseCallout">
            <a:avLst>
              <a:gd name="adj1" fmla="val -39060"/>
              <a:gd name="adj2" fmla="val 71115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914400" y="685800"/>
            <a:ext cx="2438280" cy="1676520"/>
          </a:xfrm>
          <a:prstGeom prst="wedgeEllipseCallout">
            <a:avLst>
              <a:gd name="adj1" fmla="val 48439"/>
              <a:gd name="adj2" fmla="val 6657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609480" y="4648320"/>
            <a:ext cx="2438640" cy="1676160"/>
          </a:xfrm>
          <a:prstGeom prst="wedgeEllipseCallout">
            <a:avLst>
              <a:gd name="adj1" fmla="val 59375"/>
              <a:gd name="adj2" fmla="val -5956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48520" y="9144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族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6477120" y="4800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神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914400" y="51055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夫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304920" y="3048120"/>
            <a:ext cx="259056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封建礼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6095880" y="30481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封建迷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4572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研读：人物形象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祥林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99072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祥林嫂是旧中国农村劳动妇女的典型。她勤劳、善良、质朴、顽强，但在旧社会她却不但不能掌握自己的命运，反而成为一个被践踏、被迫害、被愚弄、被鄙视的人物，以至被旧社会所吞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Object 3" descr=""/>
          <p:cNvPicPr/>
          <p:nvPr/>
        </p:nvPicPr>
        <p:blipFill>
          <a:blip r:embed="rId1"/>
          <a:stretch/>
        </p:blipFill>
        <p:spPr>
          <a:xfrm>
            <a:off x="1828800" y="1679400"/>
            <a:ext cx="5638680" cy="38833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2057400" y="1905120"/>
            <a:ext cx="5257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讨论：</a:t>
            </a: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人物形象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鲁四老爷、柳妈、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研读：人物形象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鲁四老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914400" y="25146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是当时农村中地主阶级的代表人物。政治上迂腐、保守，思想上守旧、反动，为人自私、冷酷。他是造成祥林嫂悲剧的一个重要人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研读：人物形象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柳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828800" y="2133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371600" y="19810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和祥林嫂一样是旧社会中受压迫的劳动妇女的形象，她虽然同情祥林嫂，但由于受封建礼教和封建迷信的毒害很深，最终也造成了祥林嫂的悲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5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919760" cy="4076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研读：人物形象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—“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我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是全文的线索人物，祥林嫂一生的悲惨遭遇都是通过“我‘的所见所闻来展现的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是一个具有进步思想的小资产阶级知识分子的形象，同情劳动人民，不满黑暗现实，但也有软弱和无能的一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C:\Program Files\Common Files\Microsoft Shared\Clipart\cagcat50\BD00028_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95480" y="2286000"/>
            <a:ext cx="3353040" cy="281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研读：环境描写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小说描写了几次“祝福”？在小说中起什么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小说为什么以“祝福”为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本文的环境描写有什么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ff66"/>
                </a:solidFill>
                <a:latin typeface="华文新魏"/>
                <a:ea typeface="华文新魏"/>
              </a:rPr>
              <a:t>祝      福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鲁  迅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环境描写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祝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祝福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：揭示祥林嫂悲剧的社会根源，预示祥林嫂悲剧的必然性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祝福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：推动情节发展，增强人物形象的真实性和感染力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祝福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：首尾呼应，深化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以“祝福”为题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起于祝福，终于祝福，中间一再写到祝福，情节的发展与祝福密切相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祥林嫂的悲惨遭遇是在祝福的欢乐气氛中展开的，鲜明的对照深化了小说的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语言特色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老舍：一篇作品须有个情调。情调是悲哀的，或是激昂的，我们的语言就须恰好足以配合这悲哀或激昂。比如说，我们要传达悲哀的感情，就须选择些色彩不太强烈的字，声调不太响亮的字，造成稍长的句子，使大家读了，因语调的缓慢、文字的暗淡而感到悲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4648320" y="380880"/>
            <a:ext cx="3733560" cy="1312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沉郁的色调传达悲哀的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总结：主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祝福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通过祥林嫂一生的悲惨遭遇，反映了辛亥革命以后中国的社会矛盾，深刻地揭露了封建礼教吃人的本质，指出彻底反封建的必要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许寿裳：人世间的惨事，不惨在狼吃阿毛，而惨在礼教吃祥林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</a:t>
            </a:r>
            <a:r>
              <a:rPr b="1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）祥林嫂之死的根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）解救办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）祥林嫂有没有反抗精神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523880" y="1143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封建伦理制度  旧文化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600200" y="23623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摧毁旧制度   否定旧文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676520" y="3657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看反抗对象是什么，如果是封建思想和封建社会秩序，她一点反抗性也没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965600" y="2174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布局特点与作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219320" y="7621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点：使用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倒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手法，将结局放在了文章的头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905120" y="1905120"/>
            <a:ext cx="172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355760" y="26668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在情节安排上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悲剧结局放在前面，巧妙地为读者设置了一个悬念，有一定吸引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295280" y="38098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从小说矛盾关系上看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说开头写祥林嫂在富人们的一片祝福声中寂然死去，而且引起了鲁四老爷的愤怒，“不早不迟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就可见是一个谬种！”，突出鲁四老爷与祥林嫂之间的尖锐矛盾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突出反封建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85840" y="6854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拓展阅读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038480" y="2209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我之节烈观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（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1918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娜拉走后怎样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论雷峰塔的倒掉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坚壁清野主义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寡妇主义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Object 5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025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026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7"/>
          <p:cNvSpPr/>
          <p:nvPr/>
        </p:nvSpPr>
        <p:spPr>
          <a:xfrm>
            <a:off x="990720" y="25236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隶书"/>
              </a:rPr>
              <a:t>作者简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8"/>
          <p:cNvSpPr/>
          <p:nvPr/>
        </p:nvSpPr>
        <p:spPr>
          <a:xfrm>
            <a:off x="990720" y="1163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鲁迅，原名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周树人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，字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豫才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，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浙江绍兴人。我国现代伟大的无产阶级文学家、思想家、革命家</a:t>
            </a:r>
            <a:r>
              <a:rPr b="0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。主要作品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29"/>
          <p:cNvSpPr/>
          <p:nvPr/>
        </p:nvSpPr>
        <p:spPr>
          <a:xfrm>
            <a:off x="1736640" y="327672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小说集：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呐喊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彷徨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0"/>
          <p:cNvSpPr/>
          <p:nvPr/>
        </p:nvSpPr>
        <p:spPr>
          <a:xfrm>
            <a:off x="1676520" y="380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历史小说集：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故事新编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1"/>
          <p:cNvSpPr/>
          <p:nvPr/>
        </p:nvSpPr>
        <p:spPr>
          <a:xfrm>
            <a:off x="1812960" y="43434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散文集：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朝花夕拾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2"/>
          <p:cNvSpPr/>
          <p:nvPr/>
        </p:nvSpPr>
        <p:spPr>
          <a:xfrm>
            <a:off x="1812960" y="48769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散文诗集：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野草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3"/>
          <p:cNvSpPr/>
          <p:nvPr/>
        </p:nvSpPr>
        <p:spPr>
          <a:xfrm>
            <a:off x="762120" y="5410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杂文集：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南腔北调集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坟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热风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等十五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1800" y="758520"/>
            <a:ext cx="717732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注   音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暄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送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陈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抟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朱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拓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荸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门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槛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1609c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咀嚼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渣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滓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炮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缩      </a:t>
            </a:r>
            <a:r>
              <a:rPr b="1" lang="zh-CN" sz="3200" spc="-1" strike="noStrike">
                <a:solidFill>
                  <a:srgbClr val="1609c3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享     牲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醴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蹒跚         一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熟      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    醉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醺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20680" y="19684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xu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971800" y="190512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343400" y="198108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u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43600" y="1992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à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093160" y="242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7057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í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160640" y="2754360"/>
            <a:ext cx="7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669400" y="274320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ŭ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649760" y="274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563800" y="2743200"/>
            <a:ext cx="12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lu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237080" y="2708280"/>
            <a:ext cx="7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303200" y="359244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590920" y="3581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130640" y="358128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ī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5960880" y="359244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ĭ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783120" y="35812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u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839880" y="4343400"/>
            <a:ext cx="14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sh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ā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3123360" y="4365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i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4357800" y="4437000"/>
            <a:ext cx="7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5868720" y="4437000"/>
            <a:ext cx="7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ă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7393320" y="4343400"/>
            <a:ext cx="7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ū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04920" y="304920"/>
            <a:ext cx="8610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释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钝响    幽微     监生   寒暄   绞丝银镯子  朱拓   事理通达  心气平和  吓    百无聊赖  间或    悚然     支梧   不更事       怨府      谬种    淡然     俨然   尘芥堆       形骸  中人    周正   顺着眼   定局     沸反盈天  折罪    新正   出格     回头人       荸荠  踌蹰    驯熟   桌帏  讪讪  怔怔  咀嚼赏鉴  善女人  拗     蹇缩  庙祝  惴惴  强  炮烙  窈陷    怜俐       天地圣众歆享牲醴和香烟  悚然   寻死觅活    委实    惶急      忌讳   鄙薄   唾弃        诡秘    烟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整体感知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阅读全文，按故事的“序幕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开端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发展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高潮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结局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尾声”的顺序把全文分为六部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本文的记叙顺序是什么？采用这样的记叙顺序有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271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12400" y="2666880"/>
            <a:ext cx="152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情节简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23880" y="1523880"/>
            <a:ext cx="381240" cy="4800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076120" y="1239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序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889280" y="2438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905120" y="358128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05120" y="403848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905120" y="495288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905120" y="58118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2743200" y="12193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360960" y="93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阴沉低暗的年底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360960" y="1544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旧的鲁四老爷书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5638680" y="12193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715000" y="13161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典型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048120" y="5791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祝福景象和我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629400" y="5735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深化主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048120" y="49737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祥林嫂再到鲁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2743200" y="266688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2971800" y="26668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124080" y="2666880"/>
            <a:ext cx="0" cy="297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286000" y="563868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593440" y="3078000"/>
            <a:ext cx="6069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倒          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4"/>
          <p:cNvSpPr/>
          <p:nvPr/>
        </p:nvSpPr>
        <p:spPr>
          <a:xfrm>
            <a:off x="5257800" y="47242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64300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肖像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5394240" y="525780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众人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6705720" y="51814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6953400" y="4975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听故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7756560" y="49752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猎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6953400" y="5432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祭祀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7851240" y="5432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鄙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2"/>
          <p:cNvSpPr/>
          <p:nvPr/>
        </p:nvSpPr>
        <p:spPr>
          <a:xfrm>
            <a:off x="6705720" y="42670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7029720" y="413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祥林嫂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861680" y="41148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画眼睛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981120" y="46864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柳  妈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528000" y="4059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祥林嫂被迫改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52578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出格”反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943600" y="60199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5867280" y="601992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528000" y="3602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祥林嫂初到鲁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5791320" y="3733920"/>
            <a:ext cx="16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画眼睛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528000" y="23828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沦为乞丐的祥林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我在雪夜的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3"/>
          <p:cNvSpPr/>
          <p:nvPr/>
        </p:nvSpPr>
        <p:spPr>
          <a:xfrm>
            <a:off x="548640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5699160" y="19051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画眼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5715000" y="2590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问三答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5775480" y="3276720"/>
            <a:ext cx="23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们的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情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内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—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顺序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序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结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开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高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尾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909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祝福景象与鲁四老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祥林嫂凄然死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祥林嫂初到鲁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祥林嫂被迫改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祥林嫂再到鲁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祝福景象和我的感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553080" y="2895480"/>
            <a:ext cx="1295640" cy="266724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565560 h 2667240"/>
              <a:gd name="textAreaBottom" fmla="*/ 19569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4" stAng="-5400000" swAng="5400000"/>
                <a:lnTo>
                  <a:pt x="21600" y="11266"/>
                </a:lnTo>
                <a:arcTo wR="21600" hR="9164" stAng="0" swAng="3096674"/>
                <a:lnTo>
                  <a:pt x="6882" y="21122"/>
                </a:lnTo>
                <a:lnTo>
                  <a:pt x="0" y="19379"/>
                </a:lnTo>
                <a:lnTo>
                  <a:pt x="6882" y="16680"/>
                </a:lnTo>
                <a:lnTo>
                  <a:pt x="6882" y="17850"/>
                </a:lnTo>
                <a:arcTo wR="21600" hR="9164" stAng="3096674" swAng="-2928426"/>
                <a:lnTo>
                  <a:pt x="21457" y="10215"/>
                </a:lnTo>
                <a:arcTo wR="21600" hR="9164" stAng="-168248" swAng="-5231752"/>
                <a:close/>
              </a:path>
              <a:path fill="darkenLess" w="21600" h="21600">
                <a:moveTo>
                  <a:pt x="0" y="0"/>
                </a:moveTo>
                <a:arcTo wR="21600" hR="9164" stAng="-5400000" swAng="5400000"/>
                <a:lnTo>
                  <a:pt x="21600" y="11266"/>
                </a:lnTo>
                <a:arcTo wR="21600" hR="9164" stAng="0" swAng="-168248"/>
                <a:lnTo>
                  <a:pt x="21457" y="10215"/>
                </a:lnTo>
                <a:arcTo wR="21600" hR="9164" stAng="-168248" swAng="-523175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8153280" y="32004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倒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00:29:43Z</dcterms:created>
  <dc:creator/>
  <dc:description/>
  <cp:keywords/>
  <dc:language>en-US</dc:language>
  <cp:lastModifiedBy>ABC</cp:lastModifiedBy>
  <dcterms:modified xsi:type="dcterms:W3CDTF">2015-12-23T06:23:51Z</dcterms:modified>
  <cp:revision>43</cp:revision>
  <dc:subject/>
  <dc:title>小说三要素：</dc:title>
</cp:coreProperties>
</file>