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5849938" cy="850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508-741C-4958-AAE7-17279A1C9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B972-D45E-4098-B2C3-7C6AE90E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75A-B5A3-4795-A81E-CD7CCA69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9EF2-8590-4A8E-BBC5-0D0F6E86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2E6D-A9EB-46A4-B262-EF2CDCE4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4D8-081A-46AF-80A2-DEBF8B1A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699F-4EB7-4E51-956C-D595AAC5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11F-6ABC-4397-8534-BCD9BA7D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471B-307E-4DA4-A812-6C148687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FD78-ADD2-4363-B561-4AD5B3AE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443-519B-404C-8013-EA53C8C9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47A-E6FC-4789-8286-D0BFD803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09A4-1ABC-4833-A4A0-4BBDD9E6D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44720" y="1085760"/>
            <a:ext cx="7162560" cy="2196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0099ff"/>
                </a:solidFill>
                <a:latin typeface="微软雅黑"/>
                <a:ea typeface="微软雅黑"/>
              </a:rPr>
              <a:t>枣  核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1026"/>
          <p:cNvSpPr txBox="1"/>
          <p:nvPr/>
        </p:nvSpPr>
        <p:spPr>
          <a:xfrm>
            <a:off x="152280" y="51444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以小见大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66" name="Rectangle 1027"/>
          <p:cNvSpPr/>
          <p:nvPr/>
        </p:nvSpPr>
        <p:spPr>
          <a:xfrm>
            <a:off x="0" y="1276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这篇文章，表现的是海外友人的思乡之情，为什么却以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枣核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命题？而且就这么几颗枣核，作者这样反复渲染，是不是有些小题大作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28"/>
          <p:cNvSpPr/>
          <p:nvPr/>
        </p:nvSpPr>
        <p:spPr>
          <a:xfrm>
            <a:off x="596880" y="2852640"/>
            <a:ext cx="83678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内容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，枣核形象生动地寄托了思乡之情。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结构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，枣核又是本文叙事线索。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写法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，以小（枣核）写大（思乡之情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029"/>
          <p:cNvSpPr/>
          <p:nvPr/>
        </p:nvSpPr>
        <p:spPr>
          <a:xfrm>
            <a:off x="762120" y="4503600"/>
            <a:ext cx="769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感受生活，要由表及里，做深入的思考；反映生活，要通过具体的事物来加以表现，有时不妨就用一个小小的物件，以小见大。）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2"/>
          <p:cNvSpPr txBox="1"/>
          <p:nvPr/>
        </p:nvSpPr>
        <p:spPr>
          <a:xfrm>
            <a:off x="152280" y="51444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以小见大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1276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这篇文章，表现的是海外友人的思乡之情，为什么却以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枣核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命题？而且就这么几颗枣核，作者这样反复渲染，是不是有些小题大作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33520" y="2819520"/>
            <a:ext cx="8076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国主义是个大主题，有些作家通过气势磅礴的重大事件来表现。本文作者却另辟蹊径，通过几颗小小的枣核来表现。对几颗枣核的盼望与爱惜，表现出海外游子的拳拳爱国之情。所以本文不是小题大作，而是以小见大的写法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8"/>
          <p:cNvSpPr/>
          <p:nvPr/>
        </p:nvSpPr>
        <p:spPr>
          <a:xfrm>
            <a:off x="2133720" y="2073240"/>
            <a:ext cx="3276360" cy="28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"/>
          <p:cNvSpPr/>
          <p:nvPr/>
        </p:nvSpPr>
        <p:spPr>
          <a:xfrm>
            <a:off x="1600200" y="4511520"/>
            <a:ext cx="213372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0"/>
          <p:cNvSpPr/>
          <p:nvPr/>
        </p:nvSpPr>
        <p:spPr>
          <a:xfrm flipH="1" flipV="1">
            <a:off x="3809520" y="4511160"/>
            <a:ext cx="2133720" cy="18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1"/>
          <p:cNvSpPr/>
          <p:nvPr/>
        </p:nvSpPr>
        <p:spPr>
          <a:xfrm flipV="1">
            <a:off x="1523880" y="1844640"/>
            <a:ext cx="2133720" cy="2666880"/>
          </a:xfrm>
          <a:prstGeom prst="line">
            <a:avLst/>
          </a:prstGeom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>
            <a:off x="3717000" y="1851840"/>
            <a:ext cx="2243520" cy="2575080"/>
          </a:xfrm>
          <a:prstGeom prst="line">
            <a:avLst/>
          </a:prstGeom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2971800" y="1265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见枣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2971800" y="268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国籍虽改感情不改依恋故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28600" y="42069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索枣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5943600" y="4237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话枣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0"/>
          <p:cNvSpPr/>
          <p:nvPr/>
        </p:nvSpPr>
        <p:spPr>
          <a:xfrm>
            <a:off x="406080" y="48006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设置悬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1"/>
          <p:cNvSpPr/>
          <p:nvPr/>
        </p:nvSpPr>
        <p:spPr>
          <a:xfrm>
            <a:off x="3149280" y="83808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深悬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2"/>
          <p:cNvSpPr/>
          <p:nvPr/>
        </p:nvSpPr>
        <p:spPr>
          <a:xfrm>
            <a:off x="6083280" y="48006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开悬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1026"/>
          <p:cNvSpPr txBox="1"/>
          <p:nvPr/>
        </p:nvSpPr>
        <p:spPr>
          <a:xfrm>
            <a:off x="685800" y="8380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拓展延伸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5" name="Rectangle 1027"/>
          <p:cNvSpPr/>
          <p:nvPr/>
        </p:nvSpPr>
        <p:spPr>
          <a:xfrm>
            <a:off x="990720" y="2057400"/>
            <a:ext cx="7619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思乡爱国一直是人类众多美好情感之一。在这个方面，中华民族灿烂的文化宝库给我们保留了众多优美的诗篇。我们在课内外还读到过哪些表现思乡爱国这一主题的作品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love.mid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3"/>
          <p:cNvSpPr/>
          <p:nvPr/>
        </p:nvSpPr>
        <p:spPr>
          <a:xfrm>
            <a:off x="2214360" y="1679400"/>
            <a:ext cx="511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河山只在我梦萦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祖国已多年未亲近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可是不管怎样也改变不了我的中国心。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洋装虽然穿在身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心依然是中国心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的祖先早已把我的一切烙上中国印。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江、长城、黄山、黄河在我心中重千斤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论何时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论何地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心中一样亲。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流在心里的血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澎湃着中华的声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就算生在他乡也改变不了我的中国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25"/>
          <p:cNvSpPr txBox="1"/>
          <p:nvPr/>
        </p:nvSpPr>
        <p:spPr>
          <a:xfrm>
            <a:off x="2687760" y="790560"/>
            <a:ext cx="332424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我的中国心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8"/>
          <p:cNvSpPr txBox="1"/>
          <p:nvPr/>
        </p:nvSpPr>
        <p:spPr>
          <a:xfrm>
            <a:off x="3048120" y="1295280"/>
            <a:ext cx="3429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作业布置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219320" y="3273480"/>
            <a:ext cx="723888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完成语文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补充习题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P15-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完成语文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优化设计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练习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438280" y="312408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4952880" y="5181480"/>
            <a:ext cx="40388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武进区泰村实验学校执教者：周  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838080" y="1523880"/>
            <a:ext cx="62485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新魏"/>
              </a:rPr>
              <a:t>谢谢大家</a:t>
            </a:r>
            <a:endParaRPr b="0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新魏"/>
              <a:ea typeface="华文新魏"/>
            </a:endParaRPr>
          </a:p>
        </p:txBody>
      </p:sp>
      <p:pic>
        <p:nvPicPr>
          <p:cNvPr id="94" name="结束.mid" descr=""/>
          <p:cNvPicPr/>
          <p:nvPr/>
        </p:nvPicPr>
        <p:blipFill>
          <a:blip r:embed="rId2"/>
          <a:stretch/>
        </p:blipFill>
        <p:spPr>
          <a:xfrm>
            <a:off x="-53352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1752480"/>
            <a:ext cx="7086600" cy="381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蹊跷        山坳       胡同  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掀起        潜艇       镶嵌   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衣兜        种籽        枣核    嫣红        玛瑙        国籍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1030"/>
          <p:cNvSpPr txBox="1"/>
          <p:nvPr/>
        </p:nvSpPr>
        <p:spPr>
          <a:xfrm>
            <a:off x="685800" y="68580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词语积累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533520" y="714240"/>
            <a:ext cx="2590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整体感知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76320" y="1746360"/>
            <a:ext cx="9144000" cy="340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自由朗读课文，试回答下列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请用一句话概括文章的主要内容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请找出文中最能体现文章中心的句子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3284640"/>
            <a:ext cx="9371160" cy="520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友人托我带几颗生枣核，用以在花园里试种一下的事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838080" y="4616280"/>
            <a:ext cx="8077320" cy="520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改了国籍，不等于就改了民族感情；而且没有一个民族像我们这么依恋故土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676520"/>
            <a:ext cx="70866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本文的线索是什么？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围绕枣核，文章可以划分为几个部分？每一部分的主要内容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1027"/>
          <p:cNvSpPr txBox="1"/>
          <p:nvPr/>
        </p:nvSpPr>
        <p:spPr>
          <a:xfrm>
            <a:off x="533520" y="6094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纲举目张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914400" y="237636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枣核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38"/>
          <p:cNvSpPr/>
          <p:nvPr/>
        </p:nvSpPr>
        <p:spPr>
          <a:xfrm>
            <a:off x="762120" y="3887640"/>
            <a:ext cx="655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部分： 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 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枣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二部分：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-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枣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三部分：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1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枣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四部分： 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主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39"/>
          <p:cNvSpPr/>
          <p:nvPr/>
        </p:nvSpPr>
        <p:spPr>
          <a:xfrm>
            <a:off x="4332600" y="3809880"/>
            <a:ext cx="394200" cy="24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457200" y="1763640"/>
            <a:ext cx="84582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这位友人不远万里，再三托付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带去几颗普通的枣核，他想做什么呢？他为什么要这样做呢？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533520" y="609480"/>
            <a:ext cx="2286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体悟情感</a:t>
            </a:r>
            <a:endParaRPr b="0" lang="en-US" sz="2000" spc="-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85800" y="4038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位友人想在自家园中种下一颗枣树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他思念家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026"/>
          <p:cNvSpPr/>
          <p:nvPr/>
        </p:nvSpPr>
        <p:spPr>
          <a:xfrm>
            <a:off x="457200" y="114300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从课文的哪些地方可以看出这位老人思念故乡呢？ （读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-1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69608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纪越大、思乡越切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语言）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厂甸、想隆福寺、想旧历年、想胡同枣树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心理）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栽杨柳、养睡莲、堆假山，还想种枣树。（动作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2280" y="838080"/>
            <a:ext cx="8763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老人的花园里既有垂柳、睡莲，还有北海，还即将种下枣树，老人何以这样不辞辛苦，不嫌麻烦？而且她已到了风烛残年，到哪年才能看到枣树长大？有种枣树的必要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048120" y="4572000"/>
            <a:ext cx="4647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428640"/>
            <a:ext cx="822960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必要，老人是把思乡的感情寄托在这些事物上，寄托在这几颗看来普通平常的枣核上，真是满园景色，满园乡情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就是老人表达思乡之情的独特的方式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1026"/>
          <p:cNvSpPr txBox="1"/>
          <p:nvPr/>
        </p:nvSpPr>
        <p:spPr>
          <a:xfrm>
            <a:off x="228600" y="533520"/>
            <a:ext cx="2666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咬文嚼字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62" name="Rectangle 1027"/>
          <p:cNvSpPr/>
          <p:nvPr/>
        </p:nvSpPr>
        <p:spPr>
          <a:xfrm>
            <a:off x="0" y="1889280"/>
            <a:ext cx="899172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、他托在掌心，像比珍珠玛瑙还贵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若改为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他放在手中，像比什么都贵重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与原句表达效果有什么不同？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、这里一过圣诞，我就想旧历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若改为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里过圣诞，我想旧历年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与原句表达效果有什么不同？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6"/>
          <p:cNvSpPr txBox="1"/>
          <p:nvPr/>
        </p:nvSpPr>
        <p:spPr>
          <a:xfrm>
            <a:off x="228600" y="533520"/>
            <a:ext cx="2666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咬文嚼字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0" y="1609560"/>
            <a:ext cx="899172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他劈头就问我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觉不觉得这花园有点家乡味道？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若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劈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换成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突然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句意有什么变化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你相信吗？那是我开车到几十里以外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一块块亲手挑选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论公斤买下，然后用汽车拉回来的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若删去划线部分，句意有什么变化？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5:40:06Z</dcterms:created>
  <dc:creator/>
  <dc:description>第一PPT模板网-WWW.1PPT.COM
</dc:description>
  <dc:language>en-US</dc:language>
  <cp:lastModifiedBy>Administrator</cp:lastModifiedBy>
  <dcterms:modified xsi:type="dcterms:W3CDTF">2017-08-01T02:41:31Z</dcterms:modified>
  <cp:revision>86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