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1.wmf" ContentType="image/x-wm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jpeg" ContentType="image/jpeg"/>
  <Override PartName="/ppt/media/image12.wmf" ContentType="image/x-wmf"/>
  <Override PartName="/ppt/media/image13.jpeg" ContentType="image/jpeg"/>
  <Override PartName="/ppt/media/coin.wav" ContentType="audio/x-wav"/>
  <Override PartName="/ppt/media/image8.jpeg" ContentType="image/jpeg"/>
  <Override PartName="/ppt/media/image5.jpeg" ContentType="image/jpeg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071-B225-407B-9A8C-4097CDDA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04D-84C2-417A-8A3D-A481D78B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23F-2A4C-4BBB-A492-3E5416C7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326-2434-4026-BC2B-F8948C19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172D-EF22-4853-8DE6-BA976740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5C3-578D-4FCE-BBCF-39744984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EDF-F25C-40B8-8DB5-3EFCC223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E84-4ABB-4356-B3F4-56678239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129-4BF6-4E3F-9CBE-D5249079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27D7-DD9E-4BC8-9B16-BCC2BDCC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4316-5FB1-400F-8025-49EDBA5D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8D5-9BCC-4C38-BFC2-C84EEF92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9DDA-8D3E-4E67-AFCB-A3601B72B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故乡的云.mp3" descr=""/>
          <p:cNvPicPr/>
          <p:nvPr/>
        </p:nvPicPr>
        <p:blipFill>
          <a:blip r:embed="rId1"/>
          <a:stretch/>
        </p:blipFill>
        <p:spPr>
          <a:xfrm>
            <a:off x="179280" y="6354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flower_arts_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611280" y="765000"/>
            <a:ext cx="5184720" cy="42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枣  核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隶书"/>
                <a:ea typeface="隶书"/>
              </a:rPr>
              <a:t>萧 乾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隶书"/>
            </a:endParaRPr>
          </a:p>
        </p:txBody>
      </p:sp>
      <p:pic>
        <p:nvPicPr>
          <p:cNvPr id="111" name="Object 1028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Times New Roman"/>
              <a:ea typeface="隶书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5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475920"/>
            <a:ext cx="85406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我心上总像是缺点什么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1920" y="1828440"/>
            <a:ext cx="85410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缺的是踩在祖国大地上的踏实感及主人翁之感，缺的是与故友欢聚的温馨，缺的是故乡亲人的亲情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200273114525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内含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明老华侨思乡之情是根深蒂固的民族感情。体现了中华民族巨大的凝聚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2004318142213"/>
          <p:cNvPicPr/>
          <p:nvPr/>
        </p:nvPicPr>
        <p:blipFill>
          <a:blip r:embed="rId1"/>
          <a:stretch/>
        </p:blipFill>
        <p:spPr>
          <a:xfrm>
            <a:off x="-54144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40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题目的作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76360" y="333000"/>
            <a:ext cx="56163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、“枣核”是本文的线索，用它设置悬念，推进悬念，揭开悬念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“枣核”是抒发游子思乡之情的载体，将海外游子与祖国紧紧连在一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b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167652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河山只在我梦萦，祖国已多年未亲近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可是不管怎样也改变不了，我的中国心。洋装虽然穿在身，我心依然是中国心。我的祖先早已把我的一切烙上中国印。长江、长城、黄山、黄河，在我心中重千斤，无论何时无论何地，心中一样亲。流在心里的血，澎湃着中华的声音。就算生在他乡也改变不了，我的中国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2743200" y="3808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我的中国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我的中国心.mp3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  <p:timing>
    <p:tnLst>
      <p:par>
        <p:cTn id="287" dur="indefinite" restart="never" nodeType="tmRoot">
          <p:childTnLst>
            <p:seq>
              <p:cTn id="288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84360" y="549000"/>
            <a:ext cx="7775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华文隶书"/>
              </a:rPr>
              <a:t>积累游子思乡的千古名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狐死归首丘，故乡安可忘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－曹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却东西门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情重怀土，飞鸟思故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欧阳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送惠勒归余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客一身千里外，未知归日是何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－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崔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望韩公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子悲其故乡，心怆恨以伤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－－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征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时今夕会，万里故乡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－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杜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6"/>
          <p:cNvSpPr/>
          <p:nvPr/>
        </p:nvSpPr>
        <p:spPr>
          <a:xfrm>
            <a:off x="990720" y="152280"/>
            <a:ext cx="731520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 </a:t>
            </a:r>
            <a:r>
              <a:rPr b="1" lang="zh-CN" sz="54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一、理解美籍华人的思乡之情，增强热爱自己民族的感情。 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二、了解作者怎样选用细小的生活材料，曲折地表达一个有深刻意义的中心思想。</a:t>
            </a:r>
            <a:r>
              <a:rPr b="1" lang="zh-CN" sz="4400" spc="-1" strike="noStrike">
                <a:solidFill>
                  <a:srgbClr val="0000cc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27" descr="jgzj3"/>
          <p:cNvPicPr/>
          <p:nvPr/>
        </p:nvPicPr>
        <p:blipFill>
          <a:blip r:embed="rId1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28" descr="13"/>
          <p:cNvPicPr/>
          <p:nvPr/>
        </p:nvPicPr>
        <p:blipFill>
          <a:blip r:embed="rId2"/>
          <a:stretch/>
        </p:blipFill>
        <p:spPr>
          <a:xfrm>
            <a:off x="7086600" y="4800600"/>
            <a:ext cx="244944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萧乾人像"/>
          <p:cNvPicPr/>
          <p:nvPr/>
        </p:nvPicPr>
        <p:blipFill>
          <a:blip r:embed="rId1"/>
          <a:stretch/>
        </p:blipFill>
        <p:spPr>
          <a:xfrm>
            <a:off x="228600" y="304920"/>
            <a:ext cx="3886200" cy="5790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4495680" y="685800"/>
            <a:ext cx="3505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宋体"/>
              </a:rPr>
              <a:t>萧乾（</a:t>
            </a:r>
            <a:r>
              <a:rPr b="1" lang="en-US" sz="4000" spc="-1" strike="noStrike">
                <a:solidFill>
                  <a:srgbClr val="008080"/>
                </a:solidFill>
                <a:latin typeface="宋体"/>
              </a:rPr>
              <a:t>1910-1999</a:t>
            </a:r>
            <a:r>
              <a:rPr b="1" lang="zh-CN" sz="4000" spc="-1" strike="noStrike">
                <a:solidFill>
                  <a:srgbClr val="008080"/>
                </a:solidFill>
                <a:latin typeface="宋体"/>
              </a:rPr>
              <a:t>），出生在一个汉化了的蒙族贫民家庭，当代著名作家、翻译家、记者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35636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注音或写汉字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17733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蹊跷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  山</a:t>
            </a: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坳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嫣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红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劈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头     </a:t>
            </a: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潜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艇   厂</a:t>
            </a: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甸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种</a:t>
            </a: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籽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  枣</a:t>
            </a: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核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6000" spc="-1" strike="noStrike">
                <a:solidFill>
                  <a:srgbClr val="cc3300"/>
                </a:solidFill>
                <a:latin typeface="隶书"/>
                <a:ea typeface="隶书"/>
              </a:rPr>
              <a:t>yīn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切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玛</a:t>
            </a:r>
            <a:r>
              <a:rPr b="1" lang="en-US" sz="6000" spc="-1" strike="noStrike">
                <a:solidFill>
                  <a:srgbClr val="cc3300"/>
                </a:solidFill>
                <a:latin typeface="隶书"/>
                <a:ea typeface="隶书"/>
              </a:rPr>
              <a:t>nǎo</a:t>
            </a: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国</a:t>
            </a:r>
            <a:r>
              <a:rPr b="1" lang="en-US" sz="6000" spc="-1" strike="noStrike">
                <a:solidFill>
                  <a:srgbClr val="cc3300"/>
                </a:solidFill>
                <a:latin typeface="隶书"/>
                <a:ea typeface="隶书"/>
              </a:rPr>
              <a:t>j</a:t>
            </a:r>
            <a:r>
              <a:rPr b="1" lang="en-US" sz="6000" spc="-1" strike="noStrike">
                <a:solidFill>
                  <a:srgbClr val="cc3300"/>
                </a:solidFill>
                <a:latin typeface="BankGothic Md BT"/>
                <a:ea typeface="隶书"/>
              </a:rPr>
              <a:t>í</a:t>
            </a:r>
            <a:r>
              <a:rPr b="1" lang="en-US" sz="6000" spc="-1" strike="noStrike">
                <a:solidFill>
                  <a:srgbClr val="cc3300"/>
                </a:solidFill>
                <a:latin typeface="隶书"/>
                <a:ea typeface="隶书"/>
              </a:rPr>
              <a:t>    </a:t>
            </a:r>
            <a:r>
              <a:rPr b="1" lang="zh-CN" sz="6000" spc="-1" strike="noStrike">
                <a:solidFill>
                  <a:srgbClr val="cc3300"/>
                </a:solidFill>
                <a:latin typeface="隶书"/>
                <a:ea typeface="隶书"/>
              </a:rPr>
              <a:t>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481040" y="1843200"/>
            <a:ext cx="180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qīqiā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083200" y="177012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à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782840" y="1843200"/>
            <a:ext cx="112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yā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554120" y="263376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p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5083200" y="26337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qiá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815600" y="2778120"/>
            <a:ext cx="13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dià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1625760" y="3641760"/>
            <a:ext cx="136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z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227920" y="37130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h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8302320" y="37004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457848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308560" y="4433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4425840" y="62294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164360" y="4508640"/>
            <a:ext cx="165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qiá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7" descr="13"/>
          <p:cNvPicPr/>
          <p:nvPr/>
        </p:nvPicPr>
        <p:blipFill>
          <a:blip r:embed="rId1"/>
          <a:stretch/>
        </p:blipFill>
        <p:spPr>
          <a:xfrm>
            <a:off x="6694560" y="0"/>
            <a:ext cx="2449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86000" y="2316240"/>
            <a:ext cx="4572000" cy="22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360" y="1417680"/>
            <a:ext cx="7056360" cy="33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学指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用三步读书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读课文，圈点勾画，利用页下注和手头资料（包括词典）解决疑难字词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读课文，标出段落序号，理清作者的写作思路和结构层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读课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简明的语言概括课文内容，文章讲了一个怎样的故事，表达了怎样的思想感情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枣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题好在什么地方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6"/>
          <p:cNvSpPr/>
          <p:nvPr/>
        </p:nvSpPr>
        <p:spPr>
          <a:xfrm>
            <a:off x="1078200" y="0"/>
            <a:ext cx="107532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　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中宋"/>
                <a:ea typeface="华文中宋"/>
              </a:rPr>
              <a:t>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中宋"/>
                <a:ea typeface="华文中宋"/>
              </a:rPr>
              <a:t>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中宋"/>
                <a:ea typeface="华文中宋"/>
              </a:rPr>
              <a:t>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主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7"/>
          <p:cNvSpPr/>
          <p:nvPr/>
        </p:nvSpPr>
        <p:spPr>
          <a:xfrm>
            <a:off x="2556000" y="2049480"/>
            <a:ext cx="990360" cy="485640"/>
          </a:xfrm>
          <a:prstGeom prst="rightArrow">
            <a:avLst>
              <a:gd name="adj1" fmla="val 50000"/>
              <a:gd name="adj2" fmla="val 509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8"/>
          <p:cNvSpPr/>
          <p:nvPr/>
        </p:nvSpPr>
        <p:spPr>
          <a:xfrm>
            <a:off x="2556000" y="3573360"/>
            <a:ext cx="976320" cy="48600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9"/>
          <p:cNvSpPr/>
          <p:nvPr/>
        </p:nvSpPr>
        <p:spPr>
          <a:xfrm>
            <a:off x="2556000" y="4944960"/>
            <a:ext cx="976320" cy="48600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3962160" y="449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设置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3635280" y="16686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获至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加深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2"/>
          <p:cNvSpPr/>
          <p:nvPr/>
        </p:nvSpPr>
        <p:spPr>
          <a:xfrm>
            <a:off x="3711600" y="31924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解开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为解乡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4038480" y="45640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明主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爱国情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4"/>
          <p:cNvSpPr/>
          <p:nvPr/>
        </p:nvSpPr>
        <p:spPr>
          <a:xfrm>
            <a:off x="380880" y="754200"/>
            <a:ext cx="457200" cy="4647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0960 h 4647960"/>
              <a:gd name="textAreaBottom" fmla="*/ 4527000 h 464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5"/>
          <p:cNvSpPr/>
          <p:nvPr/>
        </p:nvSpPr>
        <p:spPr>
          <a:xfrm>
            <a:off x="914400" y="449280"/>
            <a:ext cx="53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索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6"/>
          <p:cNvSpPr/>
          <p:nvPr/>
        </p:nvSpPr>
        <p:spPr>
          <a:xfrm>
            <a:off x="2556000" y="52560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7"/>
          <p:cNvSpPr/>
          <p:nvPr/>
        </p:nvSpPr>
        <p:spPr>
          <a:xfrm>
            <a:off x="838080" y="19731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8"/>
          <p:cNvSpPr/>
          <p:nvPr/>
        </p:nvSpPr>
        <p:spPr>
          <a:xfrm>
            <a:off x="921240" y="34210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9"/>
          <p:cNvSpPr/>
          <p:nvPr/>
        </p:nvSpPr>
        <p:spPr>
          <a:xfrm>
            <a:off x="838080" y="4869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0"/>
          <p:cNvSpPr/>
          <p:nvPr/>
        </p:nvSpPr>
        <p:spPr>
          <a:xfrm>
            <a:off x="5651640" y="830160"/>
            <a:ext cx="457200" cy="4343400"/>
          </a:xfrm>
          <a:custGeom>
            <a:avLst/>
            <a:gdLst>
              <a:gd name="textAreaLeft" fmla="*/ 0 w 457200"/>
              <a:gd name="textAreaRight" fmla="*/ 164880 w 4572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1"/>
          <p:cNvSpPr/>
          <p:nvPr/>
        </p:nvSpPr>
        <p:spPr>
          <a:xfrm>
            <a:off x="6156360" y="227664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中宋"/>
                <a:ea typeface="华文中宋"/>
              </a:rPr>
              <a:t>海外华人对故土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华文中宋"/>
                <a:ea typeface="华文中宋"/>
              </a:rPr>
              <a:t>依恋和思念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coin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00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开头是怎样巧设悬念的？有何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73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79280" y="1268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索要急切，不明用途。一设悬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285444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隶书"/>
              </a:rPr>
              <a:t>如获至宝，不宣用途。再设悬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24000" y="407664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作用：吊起读者的好奇心，迫切想了解真相，引人入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425840" y="62294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583092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思乡的心理活动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1773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79280" y="1268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心上总像是缺点什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79280" y="1916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体会出游子的心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79280" y="256536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想厂甸，想隆福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213000"/>
            <a:ext cx="86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4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这里一过圣诞，我就想旧历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5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近来老是想总布胡同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里那棵枣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425840" y="62294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book3"/>
          <p:cNvPicPr/>
          <p:nvPr/>
        </p:nvPicPr>
        <p:blipFill>
          <a:blip r:embed="rId1"/>
          <a:stretch/>
        </p:blipFill>
        <p:spPr>
          <a:xfrm>
            <a:off x="7467480" y="457200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3240" y="615960"/>
            <a:ext cx="5175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思乡的行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1773360"/>
            <a:ext cx="89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79280" y="1268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栽杨柳树，种睡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191628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亲手建造“北海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0" y="256536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3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追忆在北海泛舟的日子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32130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4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、试种家乡的枣树。（ 暂未做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5840" y="62294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50920" y="441972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选材特点：以小见大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doghouse"/>
          <p:cNvPicPr/>
          <p:nvPr/>
        </p:nvPicPr>
        <p:blipFill>
          <a:blip r:embed="rId1"/>
          <a:stretch/>
        </p:blipFill>
        <p:spPr>
          <a:xfrm>
            <a:off x="6705720" y="5334120"/>
            <a:ext cx="1066680" cy="129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doghouse"/>
          <p:cNvPicPr/>
          <p:nvPr/>
        </p:nvPicPr>
        <p:blipFill>
          <a:blip r:embed="rId2"/>
          <a:stretch/>
        </p:blipFill>
        <p:spPr>
          <a:xfrm>
            <a:off x="7543800" y="49528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06:35:04Z</dcterms:created>
  <dc:creator/>
  <dc:description>第一PPT模板网-WWW.1PPT.COM
</dc:description>
  <dc:language>en-US</dc:language>
  <cp:lastModifiedBy>Administrator</cp:lastModifiedBy>
  <dcterms:modified xsi:type="dcterms:W3CDTF">2017-08-01T02:52:07Z</dcterms:modified>
  <cp:revision>32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