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coin.wav" ContentType="audio/x-wav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5849938" cy="850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8D75-4F99-4BAA-8DE9-D17B06AE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43C7-05E5-4FF7-A065-4B117536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8444-93ED-4AE2-8A0C-9D151E9B3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BB0D-49DC-440B-BE2D-CB507F2C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4250-0C44-4ACF-89D3-21F9D1B7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750-9C11-451A-BA75-2820E34D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168E-B2C2-4E9A-8A7A-553B827B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9C46-8191-4FAE-8011-BC5ABFA7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CA01-9239-40FF-8781-816774CB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C5B6-4148-4E0A-84C2-2580CE7F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1F30-EA63-4A28-9BC9-B182F4EF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D22-C260-4480-A0AD-46822C32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5111-4A0F-48BA-951B-96DECCF72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 Box 3" descr=""/>
          <p:cNvPicPr/>
          <p:nvPr/>
        </p:nvPicPr>
        <p:blipFill>
          <a:blip r:embed="rId2"/>
          <a:stretch/>
        </p:blipFill>
        <p:spPr>
          <a:xfrm>
            <a:off x="898560" y="692280"/>
            <a:ext cx="720072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026"/>
          <p:cNvSpPr/>
          <p:nvPr/>
        </p:nvSpPr>
        <p:spPr>
          <a:xfrm>
            <a:off x="457200" y="1143000"/>
            <a:ext cx="8458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从课文的哪些地方可以看出这位老人思念故乡呢？ （读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-10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小节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696080" cy="289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纪越大、思乡越切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语言）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厂甸、想隆福寺、想旧历年、想胡同枣树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追忆起当年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心理）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栽杨柳、养睡莲、堆假山，还想种枣树。（动作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52280" y="838080"/>
            <a:ext cx="876312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老人的花园里既有垂柳、睡莲，还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北海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还即将种下枣树，老人何以这样不辞辛苦，不嫌麻烦？而且她已到了风烛残年，到哪年才能看到枣树长大？有种枣树的必要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048120" y="4572000"/>
            <a:ext cx="46479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428640"/>
            <a:ext cx="8229600" cy="205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必要，老人是把思乡的感情寄托在这些事物上，寄托在这几颗看来普通平常的枣核上，真是满园景色，满园乡情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就是老人表达思乡之情的独特的方式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0" y="1413000"/>
            <a:ext cx="899172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、她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托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在掌心，像比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珍珠玛瑙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还贵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若改为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她放在手中，像比什么都贵重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与原句表达效果有什么不同？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她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劈头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就问我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觉不觉得这花园有点家乡味道？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若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劈头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换成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突然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句意有什么变化？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324000" y="511200"/>
            <a:ext cx="355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行楷"/>
              </a:rPr>
              <a:t>质疑探究—咬文嚼字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69228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9810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朋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有点不好意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地解释说，买这座大房子时，孩子们还上着学，如今都成家立业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朋友解释原因时，为什么“有点不好意思”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可是我心上总像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缺点什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。也许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没有出息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怎么年纪越大，思乡越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朋友心上缺点什么？如何理解“没出息”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?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0" y="1341360"/>
            <a:ext cx="8991720" cy="417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这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过圣诞，我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就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想旧历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若改为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里过圣诞，我就想旧历年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与原句表达效果有什么不同？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相信吗？那是我开车到几十里以外，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宋体"/>
              </a:rPr>
              <a:t>一块块亲手挑选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论公斤买下，然后用汽车拉回来的。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若删去划线部分，句意有什么变化？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152280" y="51444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行楷"/>
              </a:rPr>
              <a:t>探究质疑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1276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这篇文章，表现的是海外友人的思乡之情，为什么却以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枣核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命题？而且就这么几颗枣核，作者这样反复渲染，是不是有些小题大作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96880" y="2852640"/>
            <a:ext cx="836784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从内容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，枣核形象生动地寄托了思乡之情。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从结构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，枣核又是本文叙事线索。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从写法上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看，以小（枣核）写大（思乡之情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762120" y="4503600"/>
            <a:ext cx="7696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感受生活，要由表及里，做深入的思考；反映生活，要通过具体的事物来加以表现，有时不妨就用一个小小的物件，以小见大。）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050"/>
          <p:cNvSpPr txBox="1"/>
          <p:nvPr/>
        </p:nvSpPr>
        <p:spPr>
          <a:xfrm>
            <a:off x="3059280" y="1125360"/>
            <a:ext cx="2361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行楷"/>
              </a:rPr>
              <a:t>以小见大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sp>
        <p:nvSpPr>
          <p:cNvPr id="82" name="Text Box 2051"/>
          <p:cNvSpPr/>
          <p:nvPr/>
        </p:nvSpPr>
        <p:spPr>
          <a:xfrm>
            <a:off x="468360" y="2349360"/>
            <a:ext cx="80773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爱国主义是个大主题，有些作家通过气势磅礴的重大事件来表现。本文作者却另辟蹊径，通过几颗小小的枣核来表现。对几颗枣核的盼望与爱惜，表现出海外游子的拳拳爱国之情。所以本文不是小题大作，而是以小见大的写法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5"/>
          <p:cNvSpPr/>
          <p:nvPr/>
        </p:nvSpPr>
        <p:spPr>
          <a:xfrm>
            <a:off x="102384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735120" y="1649520"/>
            <a:ext cx="7437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、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文章虽然写得如叙家常，侃侃道来，但是作者围绕“枣核”，突出中心、精心安排，你能说说作者的巧妙构思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提示：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请找出文中涉及枣核的句子体会它们在文中的作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2133720" y="2073240"/>
            <a:ext cx="3276360" cy="28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3"/>
          <p:cNvSpPr/>
          <p:nvPr/>
        </p:nvSpPr>
        <p:spPr>
          <a:xfrm>
            <a:off x="1600200" y="4511520"/>
            <a:ext cx="2133720" cy="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4"/>
          <p:cNvSpPr/>
          <p:nvPr/>
        </p:nvSpPr>
        <p:spPr>
          <a:xfrm flipH="1" flipV="1">
            <a:off x="3809520" y="4511160"/>
            <a:ext cx="2133720" cy="1800"/>
          </a:xfrm>
          <a:prstGeom prst="line">
            <a:avLst/>
          </a:prstGeom>
          <a:ln w="38160">
            <a:solidFill>
              <a:srgbClr val="3333cc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5"/>
          <p:cNvSpPr/>
          <p:nvPr/>
        </p:nvSpPr>
        <p:spPr>
          <a:xfrm flipV="1">
            <a:off x="1523880" y="1844640"/>
            <a:ext cx="2133720" cy="2666880"/>
          </a:xfrm>
          <a:prstGeom prst="line">
            <a:avLst/>
          </a:prstGeom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6"/>
          <p:cNvSpPr/>
          <p:nvPr/>
        </p:nvSpPr>
        <p:spPr>
          <a:xfrm>
            <a:off x="3717000" y="1851840"/>
            <a:ext cx="2243520" cy="2575080"/>
          </a:xfrm>
          <a:prstGeom prst="line">
            <a:avLst/>
          </a:prstGeom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971800" y="12654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见枣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971800" y="2682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国籍虽改感情不改依恋故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28600" y="420696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索枣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5943600" y="4237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话枣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406080" y="48006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设置悬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3149280" y="83808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加深悬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6083280" y="480060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解开悬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6"/>
          <p:cNvSpPr/>
          <p:nvPr/>
        </p:nvSpPr>
        <p:spPr>
          <a:xfrm>
            <a:off x="3191760" y="278136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设置悬念，引人入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191760" y="346716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用词精当，形象生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191760" y="404352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线索清楚，以小见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3212640" y="2205000"/>
            <a:ext cx="70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叙事朴实，语言自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WordArt 11"/>
          <p:cNvSpPr txBox="1"/>
          <p:nvPr/>
        </p:nvSpPr>
        <p:spPr>
          <a:xfrm>
            <a:off x="152280" y="51444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行楷"/>
              </a:rPr>
              <a:t>总结课文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611280" y="134136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写作特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026"/>
          <p:cNvSpPr/>
          <p:nvPr/>
        </p:nvSpPr>
        <p:spPr>
          <a:xfrm>
            <a:off x="1185840" y="212760"/>
            <a:ext cx="739764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ff"/>
                </a:solidFill>
                <a:latin typeface="Microsoft Sans Serif"/>
                <a:ea typeface="黑体"/>
              </a:rPr>
              <a:t> </a:t>
            </a:r>
            <a:r>
              <a:rPr b="1" lang="zh-CN" sz="5400" spc="-1" strike="noStrike">
                <a:solidFill>
                  <a:srgbClr val="cc00ff"/>
                </a:solidFill>
                <a:latin typeface="Microsoft Sans Serif"/>
                <a:ea typeface="黑体"/>
              </a:rPr>
              <a:t>学习目标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一、理解美籍华人的思乡之情，增强热爱自己民族的感情。 </a:t>
            </a:r>
            <a:br>
              <a:rPr sz="4400"/>
            </a:b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二、了解作者选用细小的生活材料，曲折地表达中心思想的方法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三、体会词语的准确性。</a:t>
            </a:r>
            <a:r>
              <a:rPr b="1" lang="zh-CN" sz="4400" spc="-1" strike="noStrike">
                <a:solidFill>
                  <a:srgbClr val="0000cc"/>
                </a:solidFill>
                <a:latin typeface="Microsoft Sans Serif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027" descr="jgzj3"/>
          <p:cNvPicPr/>
          <p:nvPr/>
        </p:nvPicPr>
        <p:blipFill>
          <a:blip r:embed="rId1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oin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685800" y="8380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拓展延伸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990720" y="2057400"/>
            <a:ext cx="7619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思乡爱国一直是人类众多美好情感之一。在这个方面，中华民族灿烂的文化宝库给我们保留了众多优美的诗篇。我们在课内外还读到过哪些表现思乡爱国这一主题的作品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3"/>
          <p:cNvSpPr/>
          <p:nvPr/>
        </p:nvSpPr>
        <p:spPr>
          <a:xfrm>
            <a:off x="2214360" y="1679400"/>
            <a:ext cx="511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河山只在我梦萦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祖国已多年未亲近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可是不管怎样也改变不了我的中国心。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洋装虽然穿在身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心依然是中国心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的祖先早已把我的一切烙上中国印。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长江、长城、黄山、黄河在我心中重千斤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论何时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论何地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心中一样亲。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流在心里的血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澎湃着中华的声音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,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就算生在他乡也改变不了我的中国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25"/>
          <p:cNvSpPr txBox="1"/>
          <p:nvPr/>
        </p:nvSpPr>
        <p:spPr>
          <a:xfrm>
            <a:off x="2687760" y="790560"/>
            <a:ext cx="332424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行楷"/>
              </a:rPr>
              <a:t>我的中国心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pic>
        <p:nvPicPr>
          <p:cNvPr id="107" name="wdzgx.mp3" descr=""/>
          <p:cNvPicPr/>
          <p:nvPr/>
        </p:nvPicPr>
        <p:blipFill>
          <a:blip r:embed="rId1"/>
          <a:stretch/>
        </p:blipFill>
        <p:spPr>
          <a:xfrm>
            <a:off x="7308720" y="436572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8893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8"/>
          <p:cNvSpPr txBox="1"/>
          <p:nvPr/>
        </p:nvSpPr>
        <p:spPr>
          <a:xfrm>
            <a:off x="3048120" y="1295280"/>
            <a:ext cx="3429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行楷"/>
              </a:rPr>
              <a:t>作业布置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900000" y="2852640"/>
            <a:ext cx="7239240" cy="147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完成语文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补充习题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练习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p.20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练习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完成语文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学案与测评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》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P.10-1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P.70-7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萧乾人像"/>
          <p:cNvPicPr/>
          <p:nvPr/>
        </p:nvPicPr>
        <p:blipFill>
          <a:blip r:embed="rId1"/>
          <a:stretch/>
        </p:blipFill>
        <p:spPr>
          <a:xfrm>
            <a:off x="179280" y="476280"/>
            <a:ext cx="3886200" cy="57913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4067280" y="1916280"/>
            <a:ext cx="4825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宋体"/>
              </a:rPr>
              <a:t>萧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宋体"/>
              </a:rPr>
              <a:t>（</a:t>
            </a:r>
            <a:r>
              <a:rPr b="1" lang="en-US" sz="4000" spc="-1" strike="noStrike">
                <a:solidFill>
                  <a:srgbClr val="008080"/>
                </a:solidFill>
                <a:latin typeface="宋体"/>
              </a:rPr>
              <a:t>1910-1999</a:t>
            </a:r>
            <a:r>
              <a:rPr b="1" lang="zh-CN" sz="4000" spc="-1" strike="noStrike">
                <a:solidFill>
                  <a:srgbClr val="008080"/>
                </a:solidFill>
                <a:latin typeface="宋体"/>
              </a:rPr>
              <a:t>），出生在一个汉化了的蒙族贫民家庭，当代著名作家、翻译家、记者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WordArt 5"/>
          <p:cNvSpPr txBox="1"/>
          <p:nvPr/>
        </p:nvSpPr>
        <p:spPr>
          <a:xfrm>
            <a:off x="5003640" y="549360"/>
            <a:ext cx="29386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行楷"/>
              </a:rPr>
              <a:t>作者简介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640720" cy="45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蹊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   ） 　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指一算（       ）故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虚（         ）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切（        ）　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嫣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红（        ）　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玛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（       ） 　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枫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树（        ）　      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坪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山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 ）　     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 ） 　　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卵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石（       ）　　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株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 ） 　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核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艇（        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匀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 ）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685800" y="68580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词语积累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152280" y="51444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行楷"/>
              </a:rPr>
              <a:t>总结课文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640720" cy="45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蹊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ī qiāo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 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指一算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i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故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虚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uá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殷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切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ī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　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嫣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红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ā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　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玛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ǎ nǎo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 　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枫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树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ēng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　     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坪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íng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山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坳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ào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　         厂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甸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à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 　　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卵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石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uǎ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　　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株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hū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 　　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核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艇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iá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匀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èn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685800" y="68580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词语积累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916280"/>
            <a:ext cx="8640720" cy="453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解词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感慨良深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感慨很深。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很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风烛残年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喻人已经到了晚年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蹊跷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奇怪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游子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离家在外或久居外乡的人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故弄玄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故意玩弄花招，迷惑  欺骗人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玄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迷惑人的花招。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3"/>
          <p:cNvSpPr txBox="1"/>
          <p:nvPr/>
        </p:nvSpPr>
        <p:spPr>
          <a:xfrm>
            <a:off x="685800" y="68580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词语积累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533520" y="714240"/>
            <a:ext cx="2590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行楷"/>
              </a:rPr>
              <a:t>整体感知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76320" y="1746360"/>
            <a:ext cx="9144000" cy="340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自由朗读课文，试回答下列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请用一句话概括文章的主要内容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、请找出文中最能体现文章中心的句子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57200" y="3284640"/>
            <a:ext cx="9371160" cy="5205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友人托我带几颗生枣核，用以在花园里试种一下的事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68360" y="4581360"/>
            <a:ext cx="8077320" cy="5205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改了国籍，不等于就改了民族感情；而且没有一个民族像我们这么依恋故土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557360"/>
            <a:ext cx="777744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本文的线索是什么？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围绕枣核，文章写了哪些事？文章可以划分为几个部分？每一部分的主要内容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116000" y="1989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线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------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枣核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762120" y="3887640"/>
            <a:ext cx="655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部分： 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 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枣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二部分：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-4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枣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三部分：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-1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枣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四部分： 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主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4332600" y="3809880"/>
            <a:ext cx="394200" cy="246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21"/>
          <p:cNvSpPr txBox="1"/>
          <p:nvPr/>
        </p:nvSpPr>
        <p:spPr>
          <a:xfrm>
            <a:off x="152280" y="51444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行楷"/>
              </a:rPr>
              <a:t>理清文脉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457200" y="1763640"/>
            <a:ext cx="84582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这位友人不远万里，再三托付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带去几颗普通的枣核，她想做什么呢？她为什么要这样做呢？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WordArt 6"/>
          <p:cNvSpPr txBox="1"/>
          <p:nvPr/>
        </p:nvSpPr>
        <p:spPr>
          <a:xfrm>
            <a:off x="533520" y="609480"/>
            <a:ext cx="2286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c3d9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体悟情感</a:t>
            </a:r>
            <a:endParaRPr b="0" lang="en-US" sz="2000" spc="-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85800" y="4038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位友人想在自家园中种下一颗枣树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她思念家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15:40:06Z</dcterms:created>
  <dc:creator/>
  <dc:description>第一PPT模板网-WWW.1PPT.COM
</dc:description>
  <dc:language>en-US</dc:language>
  <cp:lastModifiedBy>Administrator</cp:lastModifiedBy>
  <dcterms:modified xsi:type="dcterms:W3CDTF">2017-08-01T02:45:19Z</dcterms:modified>
  <cp:revision>119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