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whoosh.wav" ContentType="audio/x-wav"/>
  <Override PartName="/ppt/media/image2.gif" ContentType="image/gif"/>
  <Override PartName="/ppt/media/image8.jpeg" ContentType="image/jpeg"/>
  <Override PartName="/ppt/media/image5.jpeg" ContentType="image/jpeg"/>
  <Override PartName="/ppt/media/arrow.wav" ContentType="audio/x-wav"/>
  <Override PartName="/ppt/media/coin.wav" ContentType="audio/x-wav"/>
  <Override PartName="/ppt/media/applause.wav" ContentType="audio/x-wav"/>
  <Override PartName="/ppt/media/image6.jpeg" ContentType="image/jpeg"/>
  <Override PartName="/ppt/media/breeze.wav" ContentType="audio/x-wav"/>
  <Override PartName="/ppt/media/laser.wav" ContentType="audio/x-wav"/>
  <Override PartName="/ppt/media/image4.jpeg" ContentType="image/jpeg"/>
  <Override PartName="/ppt/media/chimes.wav" ContentType="audio/x-wav"/>
  <Override PartName="/ppt/media/wind.wav" ContentType="audio/x-wav"/>
  <Override PartName="/ppt/media/image14.jpeg" ContentType="image/jpeg"/>
  <Override PartName="/ppt/media/bomb.wav" ContentType="audio/x-wav"/>
  <Override PartName="/ppt/media/camera.wav" ContentType="audio/x-wav"/>
  <Override PartName="/ppt/media/image7.jpeg" ContentType="image/jpeg"/>
  <Override PartName="/ppt/media/push.wav" ContentType="audio/x-wav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0.gif" ContentType="image/gif"/>
  <Override PartName="/ppt/media/cashreg.wav" ContentType="audio/x-wav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73B-266D-40AD-8850-588323CD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C25-DD85-4D21-AC63-0E40F136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BE2-E20A-4F53-899E-96852BD9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0CE-8784-4670-A93E-A6BA1C22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71D-E513-4D99-A160-6347631D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D67-CB1F-417A-BCDE-E30437F8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E9C-82A3-45EB-8C83-E6E50117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DC5-8C4C-48D4-8B06-DD0DE58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EEF-D490-44A3-BB85-59FE7429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D18-0B52-4C5A-AF28-8F78A28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CA4-B698-4C9B-B3AB-9666E0A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799-7B4D-4179-9B45-F85BE96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7E69-50CF-4403-B8A7-7A05DEE56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39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39152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87280" y="549360"/>
            <a:ext cx="809640" cy="74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4319640" cy="414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0920" y="1052640"/>
            <a:ext cx="1440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彩云"/>
                <a:ea typeface="华文彩云"/>
              </a:rPr>
              <a:t>枣  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27640" y="587700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815240" y="1844640"/>
            <a:ext cx="428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11480" y="1986120"/>
            <a:ext cx="428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125360"/>
            <a:ext cx="84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枣儿”是亲情的象征，是故乡的象征，也是传统生活的象征和精神家园的象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49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剧中写的是老人和男孩因“枣儿”而发生的一段交往，但其内涵却是对当今社会状态以及各代人生存状态的一种隐喻，一种象征。“枣儿”所代表的是亲情和历史，也代表一种文化传统、一种生活方式；“枣儿”所牵涉的老人与男孩的情感困惑，以及老人与儿子、男孩与父亲等人物之间的关系，是当今社会的缩影，喻示的是社会转型期人们普遍面对的现实：在剧烈深刻的社会变革中，人们的情感心态、思想观念、生存方式、精神归宿都面临着严重的考验。剧本运用象征手法，赋予了“枣儿”以丰富而深刻的社会内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2960" y="260280"/>
            <a:ext cx="39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怎样理解剧中的象征手法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  <p:sndAc>
      <p:stSnd>
        <p:snd r:embed="rId3" name="push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6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剧中有不少富有象征意味的台词，以下台词中加横线的句子都有很强的象征意味，试做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403360"/>
            <a:ext cx="793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男孩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爹回来会带巧克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巧克力你吃过吗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可好吃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老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 （心事重重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你有了巧克力，就不会来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男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来呢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你的枣儿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coin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47840" y="201600"/>
            <a:ext cx="80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课文开头和结尾都用了同一首童谣，读一读，想想它在剧中起什么作用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48428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文开头和结尾都用了同一首童谣。这首童谣表达了在“枣儿”中所融入的父母疼爱子女的亲情。课文以这种富有民间特色的童谣形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开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黑体"/>
              </a:rPr>
              <a:t>隐含了全剧与“枣儿”有关、与亲情有关的特定内容，并将人们带入具有民族传统风情、充满乡土气息的特定情境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结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也用了这首童谣，但情境有所变化，由幕后换为前台，由哼唱变成呼喊，由没人回应转为“响起无数个童声呼唤的声音”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黑体"/>
              </a:rPr>
              <a:t>既与开头相呼应，又强化了剧中的情境和内容，深化了全剧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  <p:sndAc>
      <p:stSnd>
        <p:snd r:embed="rId2" name="bomb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3520" y="1197000"/>
            <a:ext cx="88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  <a:ea typeface="黑体"/>
              </a:rPr>
              <a:t>作者想要借枣儿表达一种什么思想感情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216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剧中，枣儿是亲情的象征，是故乡的象征，但更主要的是传统生活的象征，是精神家园的象征。全剧以枣儿为象征，借枣儿来写亲情，又借亲情来反映我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传统社会向现代社会转型过程中人们生存状态的变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作者在剧本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既表现了现代化进程中传统的失落、精神家园的失落，以及人们对传统的固守、对精神家园的追寻，也企盼和呼唤人们认识和适应时代发展带来的变化，走出家园、走出封闭、走出传统，而迈进现代社会的新生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138240"/>
            <a:ext cx="43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题思想研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050920"/>
            <a:ext cx="7918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《枣儿》是一个话剧小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全剧围绕着“枣儿”展开情节，描写了老人和男孩之间的一段亲切交往，表现了老人对儿子、男孩对父亲的深切亲情，反映了我国在现代化进程中的社会变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620640"/>
            <a:ext cx="28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总   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  <p:sndAc>
      <p:stSnd>
        <p:snd r:embed="rId2" name="applause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318600" y="121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32000" y="1700280"/>
            <a:ext cx="5943600" cy="27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40000" y="333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剧情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557360"/>
            <a:ext cx="779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分角色朗读课文，把握剧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70828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63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老人——老一辈代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3085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男孩——新一辈代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7080" y="3573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华文新魏"/>
              </a:rPr>
              <a:t>枣儿——老人的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4365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  <a:ea typeface="华文新魏"/>
              </a:rPr>
              <a:t>我爹——男孩的父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wind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836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试用自己的话概括剧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916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在乡间一棵挂满红枣的老树下。一位老人遇到了一个捡枣儿的男孩，这一老一少交谈起来，十分亲热。在谈话中，老人回忆有关“枣儿”的往事，流露出自己对儿子的思念；男孩要把“枣儿”留给父亲吃，流露出自己对父亲的盼望。他们满怀亲情，呼唤各自的亲人回归故乡，回到自己身边，来吃这家乡的“枣儿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lase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2200" y="76500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关于老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341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老人在与男孩的谈话中，回忆了哪些事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何认识老人的心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6200" y="2492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人在与男孩的谈话中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忆了枣儿小时候的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儿子“枣儿”一名的来历，儿子只顾摘枣竟尿了老人一脖子，枣儿小时候一有尿就尿到枣树下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忆了自己小时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偷枣而长出小枣树的事、枣儿落到鬼子的钢盔上吓跑鬼子、闹灾荒时靠枣儿活命的故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7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人在谈话中“沉思”“心事重重”“闪着泪花”，流露出老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对儿子的思念，对以往岁月的怀念，对故土的热爱之情，有一种浓浓的失落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0"/>
            <a:ext cx="43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人物形象分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  <p:sndAc>
      <p:stSnd>
        <p:snd r:embed="rId2" name="applause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765000"/>
            <a:ext cx="75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老人对男孩的态度如何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84464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人请男孩吃枣，老人让男孩骑跨在自己肩上摘枣，老人给男孩讲故事，老人与男孩拉勾发誓，老人紧紧搂住男孩，“将枣儿塞进男孩嘴里，自己也拿起枣儿咀嚼”，这些都表现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人对男孩的疼爱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现出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种不是祖孙而如同祖孙般的长辈对晚辈的关爱，也折射出他对儿子的亲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  <p:sndAc>
      <p:stSnd>
        <p:snd r:embed="rId2" name="whoosh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63480" y="476280"/>
            <a:ext cx="6364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如何评价老人这个形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5120" y="14176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剧中的老人首先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一辈的农民形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他一生劳作，不离乡土，如今老迈，儿子离乡外出，他继续留守家园。其次他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具有更普遍意义的老一代的长者形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他满怀亲情，富有爱心，他关爱已成年的下一代，又疼爱尚年幼的新一代；作为过来人，他怀旧而又传统，面对生活的变化不失爱心、不失希望而又有所失落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vert"/>
    <p:sndAc>
      <p:stSnd>
        <p:snd r:embed="rId2" name="arrow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0"/>
            <a:ext cx="261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关于男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120" y="981000"/>
            <a:ext cx="77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谈谈你对剧中男孩这一形象的认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1700280"/>
            <a:ext cx="83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剧中的男孩想把枣子留给父亲吃，喜欢吃巧克力盼望父亲带巧克力回来，他蹑手蹑脚捡枣子，把枣子藏在红肚兜上的衣袋里，温顺地扶老人，认真听老人讲故事，和老人拉勾发誓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男孩是年幼的新生一代的形象：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他思念父亲，喜爱心疼自己的老人，好奇而懂事，在他身上处处表现了儿童纯真可爱的天性。他的父亲在城里又有了一个家，他爱吃巧克力并盼望父亲带巧克力回来，则显示了男孩成长环境的鲜明时代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  <p:sndAc>
      <p:stSnd>
        <p:snd r:embed="rId2" name="breeze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83600" y="33336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关于老人的儿子和男孩的父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5120" y="1116000"/>
            <a:ext cx="73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你对剧中未出场的这两个人物怎么看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这反映了怎样的社会现实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8200" y="2570040"/>
            <a:ext cx="78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老人的儿子，不再像老一辈那样。终身不离乡土，而是远离故乡和亲人，闯荡于外面的世界；男孩的父亲，离开乡村而定居于城里，抛弃了旧家而另成新家。这两个人物从不同的侧面反映了社会的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  <p:sndAc>
      <p:stSnd>
        <p:snd r:embed="rId2" name="camera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981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枣儿”在剧中起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83024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全剧以“枣儿”为标题，并以“枣儿”贯穿全剧，借“枣儿”牵系和寄托人物的感情：老人和男孩因“枣儿”而相遇、而亲近，又因“枣儿”而引起他们对亲人的思念和呼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让老人与男孩围绕“枣儿”进行对话，展开情节。在剧中，老人的经历、情感乃至命运，都与“枣儿”有着不解之缘；男孩对父亲的思念，也与“枣儿”相牵连。“枣儿”是全剧情节发展的线索，是人物对白的话题，全剧的结构与内容都与“枣儿”密切相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0"/>
            <a:ext cx="43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艺术手法品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  <p:sndAc>
      <p:stSnd>
        <p:snd r:embed="rId2" name="cashreg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07:06:29Z</dcterms:created>
  <dc:creator>lgs</dc:creator>
  <dc:description/>
  <dc:language>en-US</dc:language>
  <cp:lastModifiedBy>Lenovo User</cp:lastModifiedBy>
  <dcterms:modified xsi:type="dcterms:W3CDTF">2007-01-18T00:30:05Z</dcterms:modified>
  <cp:revision>18</cp:revision>
  <dc:subject/>
  <dc:title>PowerPoint 演示文稿</dc:title>
</cp:coreProperties>
</file>