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291-2C44-4CE8-AED5-C96F82EB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93A-FE7E-4BEC-A160-A2845BE1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BEF56-79C2-4F89-8EC8-FF0036F1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FBA9-5BB2-4265-A33C-30D47C71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E516E-CF3D-4F29-96E8-2FE6730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C817-EF31-494F-87C2-F1A2E82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99F9F-F40F-4827-BE58-3067B24E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7A607-4532-4D68-953B-35D9255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B560-E023-4A90-BAFA-FA53386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6B17-7C16-47BA-A53A-F0EDFFA5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F4133-7305-47EE-A6B7-C71106B1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F4397-9ED1-4F66-9B3A-FF7B14DB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1E3-6F6C-4179-811D-0A6E5517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BA3AA-2C28-4647-A3A0-F3FF54E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7BF89-7C9E-412C-8E81-D3E025C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689D0-55AF-43BC-A706-B35B2C5D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3DC01D-2387-46D9-842B-D806654D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C175E-590A-4FB3-A024-46523001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499E6-E0C2-4B74-933B-4D7C0FA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C50D72-8082-4D31-B5B2-686C89B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0E753-C3DC-4387-BFB3-42186E3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70D16-BA4D-40E8-99F9-66EBCB0B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8F2A5C-DD60-4C70-9F4F-E4F42237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D22-BD16-4D77-9D3A-6DF5C094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9F0B02-7A88-400B-84F6-62157DA2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D4C38-41B3-4F0D-897B-CB40D77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4E75-5C88-44C5-B6EB-907ACE2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2BDC7-9CFB-491A-95B7-7CC747EE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2BCA6-16FC-4E66-8840-A73C0850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10E49-184C-46CA-92D6-BBF2F277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E58F0-9BC4-4811-8D44-6A9D32A7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A01C-E85A-49A1-BF38-52350C5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5FB59-905D-43B1-B7E4-3A46FC5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A260-F68C-483C-99AB-EDE4D6F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92F1-A69D-4C35-B5A4-2915876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CCCB-C0AC-4FDC-9CB6-CEEBB7D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AA24E-4A1F-49DC-A3C3-1B6A07A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957BE-2019-4781-9A02-2861BD98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33ABD-850C-42E0-A1E9-90C806A1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A04C4-BF3E-4CAA-9C0A-9C34340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08B3A-5FD1-4877-B811-3C1D0848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B1E9A-4F17-4F3E-88E8-3202F343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C07C5-18FF-46CC-8E8E-AEDAB7AA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87F95-7710-4911-B97A-155EF187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934BE-CBC9-41E2-9D01-E4952DF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5E6A-5E67-4507-B94D-8A18362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E813D-7364-4BC4-B2BF-77B0B89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84C3E-73AE-4929-A464-61EF651F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67A79-0D27-47C4-B092-13B61D8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5D45-C9ED-4DCB-8F76-F9F4C2D8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84B9D-6F55-43EC-A1B7-02A36F78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3CAD1-3471-4B70-84B8-7F98E4B3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28F9B-3BDC-4181-A9A7-F4BDD5CE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25EC0-F1BC-4018-9546-60E5BDB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36932-6655-40D1-B037-14652AA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21D01-2CF7-4C2F-A1BA-2199CCBE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7568-ED7F-4445-B337-E1F27FC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5055A-3B12-4DD6-8961-C43DC77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39466-03D5-4896-B000-AA5CCC5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24620-08E9-4ECC-927A-09FBAFB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F4976-9FCF-4890-B84C-FD77D851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55DFC-B1E1-408D-AC60-F869F03C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43262-696E-4C40-9B3D-E994D5F4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C2D68-726B-4756-87AE-05A3B18A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5C0-18BF-48BB-934E-83E7212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C475-634C-4035-B62D-34498C47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BA33-F128-4E51-9F10-342BC3EE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1CBD-BE8D-40D5-9A22-DF9492A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4DF-B9BB-481F-BA4F-8B4E85F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4E26-AD11-4E61-BA60-BAFAEE7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8450-6653-4A4F-87B6-1C37FA5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C74-0F4D-48D2-8CDD-EFDF85B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86A4-F115-4807-98B6-929BFA88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AC22-AF25-48A9-A1D9-A273089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5C13-E7C4-4321-843C-2C6494A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D3A2-3596-4A2B-9AA9-2CA4E362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E38B-2435-47C5-86DE-B808F4F2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17AD-8B58-483A-AF56-EB6879A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DA32-3973-4E5F-91F2-9AAA35EF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257-6914-4E8F-9FAC-2189960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C3D1-2552-432D-8B31-FD516F5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FD91-C24B-4785-B852-E86B565D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412D-67FA-4B20-A7B6-80FF9C8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BFB7-9268-437D-8BA0-D8B0489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4F47-9A7C-4AA2-993A-5306B52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BF89-94EC-45E8-8B45-B3E9C23B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A2AA-4F1F-4E72-BC50-92D49D6F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2CE7-98DB-425E-A4FD-53196EBE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EF5F-D074-4EF8-94FD-7F18E017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F068-56DF-45EA-AAF0-B3E49F7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664-CFAB-4FF9-AFF1-8FB2BF8A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9B9D-BD59-4DFF-B89B-0F33190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C2D9-A36A-4C85-A5DA-FFF7B9E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FF54-8B8D-47D9-B7C4-52A76F8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2189-69AE-4919-A690-EC96C79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E7CA-6036-4AE5-BEEA-02AA9EC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EFBB-3772-4CAF-AD5C-E4BB4C9E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644D-D2B4-49BA-8188-37A7AA4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98A7-64AB-4969-8FAD-97EBD0B5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9CC4-584E-4F30-B00E-B96EB39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9E2D-79E5-49B0-AC07-AB1AE8C5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445-A49A-4030-B486-33A1FA13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18DA-DD12-46B4-BC2E-D67C8A4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E0B9-9BEB-43FF-993A-2B38DA7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67B6-4947-426D-A743-BC9F1F16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F503-5A2A-4EEE-8516-BBAA202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592A1-F32A-457B-B66D-4623B78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55AD-3F58-4DC5-96BE-B985DF5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D754-066B-47D7-B1A1-FD5510B9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62CC-276C-4333-AA67-2134F55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E1B2-2E32-4906-AD62-F4EF73E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9502-B93A-4DB8-B78E-FA4944CF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A90-5D04-463A-B598-123626F1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723B-67DA-4A67-A3C7-57475DB9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DAB8-2324-4F5E-A1FA-CAD91A0B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A8ECE-1024-4804-99B8-AA4899CD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A0F8-537F-4468-BD9B-FBA4B4F4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61C47-24AC-47CC-97D1-7489240D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F381-F71D-4AA1-BF82-F1A834BA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05AF-573A-4D24-84C0-2286949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4951-A8DB-407B-B0B1-DB78C68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76BD-1776-4D03-90D9-3856CC9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477A-6B43-4489-AC90-700D4A7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5E9-D8A7-43B3-ADE9-2BC54CB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EF65-12C0-4D0F-A3E2-B7900AC9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7728-1BE7-4EF2-9EA2-41A65E6B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F0C0C-F30C-41BE-88FF-CECD4C41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4635-666E-4000-9DB3-0B07050B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A307-FC9A-49CC-A27F-E67B214B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5B704-0284-4617-BC28-BAA985D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7F7A-64F3-4913-8C80-460056CD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3192-C098-44C0-A612-6C870A6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B078-5ADE-4E75-9FF4-0241F64E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3E81-7B67-4356-9701-19CD862E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4F2-81D7-4770-AE4F-7DF5CA7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7BE07-8751-44C0-A0E3-924AB08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A3B1-F367-45F5-A2CC-C675A67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244C-8E99-4C8B-A479-943FB3E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BF6F-4F76-430F-A4A5-4353BB8F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11A2-89B9-4034-B4F8-D4EF645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7AD4-BD7A-47C9-83AE-77FDEA8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5303-6B2F-4B53-AB71-8216964B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A434-3BCD-4A5F-94A2-682C5D6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84842-F1D9-454E-885A-9BFEB60F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A170-7F8E-40BF-8D5B-6C984AF0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6A6-82AE-463F-B268-C77AC590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580D-DD2F-4424-B858-F16DD18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EE88-A818-4D4D-A6A0-1FF0BD2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0C1D0-709D-4F56-9A8D-58F0C0E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5ADAA-BB19-4F2C-8B7B-1011A04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5E078-A381-480C-AA23-C99C585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9F92-805F-4754-A307-E36532D2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A53C-ADDA-4B43-BBAB-D5D03BBF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F8563-5EFE-4D21-881C-BB5B0C2A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98BE9-8F21-4492-B3BE-64E52E1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EEF26-F478-4150-91C5-0FA580CC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0E82-A7C9-47CD-A117-B179F0795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BAF3-0370-41D4-A612-BFE0FECB699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0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PlaceHolder 1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0DD6-1711-48E1-8C90-260FFACC288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3EDA-86BA-4A78-BAAF-81C00B1F1E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9D4-EDDA-4E8F-89DE-DBF94804AD1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A4A-6586-4495-9938-AD03C518EB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6A3-1ABB-446E-AAFA-1936ABF225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3350-9D3F-40C2-AC03-F35BE401400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25F-7F70-4776-93BE-6D4DF0AE7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7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280A-DCBE-41C6-B95F-14565A61A4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108D-C449-410A-8353-99361652F3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6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1109-F2F2-411B-BDF9-725EB56DA56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C3D-55DA-401F-BD4C-9B9AA919F23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4267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0252" fill="hold"/>
                                        <p:tgtEl>
                                          <p:spTgt spid="6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638680" y="5410080"/>
            <a:ext cx="312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大 连 格 致 中 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做课人：张  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166520" y="990720"/>
            <a:ext cx="1094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华文琥珀"/>
              </a:rPr>
              <a:t>枣    儿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76520" y="289548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孙  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209680" y="27432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概 括 故 事 情 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791320" y="41911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685800" y="685800"/>
            <a:ext cx="1600200" cy="1333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05120" y="342900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33"/>
                </a:solidFill>
                <a:latin typeface="Arial"/>
                <a:ea typeface="经典隶书简"/>
              </a:rPr>
              <a:t>把 握 戏 剧 冲 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352680" y="28954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华文琥珀"/>
              </a:rPr>
              <a:t>分 析 人 物 形 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2133720" cy="16905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152280" y="5334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213372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048120" y="730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课   堂   练   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43000" y="15238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楷体_GB2312"/>
              </a:rPr>
              <a:t>运用戏剧塑造人物的方法丰富下列场景内容。（要求：任选其一，十句左右的小对话。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143000" y="25750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搬入新的教学楼，面对初三崭新的开始，你和新老师的第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次见面会是怎样的呢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39466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清晨，当你迟到时，推开教室的门，你与老师之间会有怎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样的情景呢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143000" y="516564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面对检测，无论是怎样的成绩，你和你的任课老师会有怎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样的交流呢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828800" y="2057400"/>
            <a:ext cx="5715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谢谢大家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下课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8-03-26T07:56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