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9CC0-DE0C-49BB-889D-E93FD87F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CDE7-2E60-4E3F-B4E8-F6489041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F7F-E5CD-40DC-8124-7630378C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3B38-2C90-4810-8C45-66FA20BC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610-D3BB-49BB-8D72-84BA0C13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774-BF5F-469A-BF66-ADB46EAF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8D41-8D08-4CD2-A239-47FE09D8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864-06E9-46E3-9534-2E87EB13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062B-3C6B-4049-ADF9-6E2792DE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BB4-2808-4B28-A5F6-83FA0CFB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3F7-6A12-4979-93C6-742115AD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691-C557-458D-9272-7FF9A511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6D68-09BA-4A0B-B0D0-7767E0EFB7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2209680"/>
            <a:ext cx="7543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_x000b__x000c_"/>
                <a:ea typeface="华文新魏"/>
              </a:rPr>
              <a:t>与诸子登岘山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孟浩然</a:t>
            </a: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从静悟中得之，故语淡而味终不薄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清沈德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【生平简介】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孟浩然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(68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740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襄州襄阳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今湖北襄樊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，唐代著名的山水诗人。其诗与王维齐名，时称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王孟</a:t>
            </a:r>
            <a:r>
              <a:rPr b="1" lang="zh-CN" sz="2400" spc="-1" strike="noStrike">
                <a:solidFill>
                  <a:srgbClr val="000000"/>
                </a:solidFill>
                <a:latin typeface="_x000b__x000c_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是唐代一位不甘隐居，却以隐居终老的诗人。壮年时曾往吴越漫游，后又赴长安谋求官职，但以“当路无人”，只好还归故园。开元二十八年（七四零）诗人王昌龄游襄阳，和他相聚甚欢，但此时孟浩然背上正生毒疮，据说就是因为“食鲜疾动”，终于病故，年五十二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孟浩然的一生，徘徊于求官与归隐的矛盾之中，直到碰了钉子才了结了求官的愿望。他虽然隐居林下，但仍与当时达官显宦如张九龄等有往还，和诗人王维、李白、王昌龄也有酬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孟浩然的诗已摆脱了初唐应制，咏物的狭窄境界，更多地抒写了个人的怀抱，给开元诗坛带来了新鲜气息，并得到时人的倾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李白称颂他“高山安可仰，徒此揖清芬”，杜甫礼赞他“清诗句句尽堪传”。可见他在当时即享有盛名。他死后不到十年，诗集便两经编定，并送上「秘府」保存。现有《孟浩然集》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3760" y="198108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_x000b__x000c_"/>
              </a:rPr>
              <a:t>人事有代谢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_x000b__x000c_"/>
              </a:rPr>
              <a:t>往来成古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_x000b__x000c_"/>
              </a:rPr>
              <a:t>江山留胜迹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_x000b__x000c_"/>
              </a:rPr>
              <a:t>我辈复登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_x000b__x000c_"/>
              </a:rPr>
              <a:t>水落鱼梁浅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_x000b__x000c_"/>
              </a:rPr>
              <a:t>天寒梦泽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_x000b__x000c_"/>
              </a:rPr>
              <a:t>羊公碑尚在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_x000b__x000c_"/>
              </a:rPr>
              <a:t>读罢泪沾襟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4648320" cy="6019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029200" y="0"/>
            <a:ext cx="3886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_x000b__x000c_"/>
              </a:rPr>
              <a:t>与诸子登岘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孟浩然</a:t>
            </a:r>
            <a:br>
              <a:rPr sz="72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_x000b__x000c_"/>
              </a:rPr>
              <a:t>与诸子登岘山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_x000b__x000c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_x000b__x000c_"/>
              </a:rPr>
              <a:t>人事有代谢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_x000b__x000c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_x000b__x000c_"/>
              </a:rPr>
              <a:t>往来成古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_x000b__x000c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_x000b__x000c_"/>
              </a:rPr>
              <a:t>江山留胜迹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_x000b__x000c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_x000b__x000c_"/>
              </a:rPr>
              <a:t>我辈复登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_x000b__x000c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_x000b__x000c_"/>
              </a:rPr>
              <a:t>水落鱼梁浅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_x000b__x000c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_x000b__x000c_"/>
              </a:rPr>
              <a:t>天寒梦泽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羊公碑尚在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读罢泪沾襟！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28640" y="144756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间的事情都有更替变化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来来往往的时日形成了古和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江上留下许多名胜古迹，我们又来登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水落下去鱼梁显露出来，天气寒冷，云梦泽显得格外深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羊公碑如今还在，读完上面的文字不觉泪水沾湿了衣襟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诗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吊古伤今诗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登山见羊公碑，泪沾襟，引心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吊古伤今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羊祜生前有政绩，死后百姓为其立碑建庙，朝代更替人事变迁四百余年，碑尚屹立，令人敬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赏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首联：生老病死，悲欢离合，人事变化，寒来暑往，春去秋来，时光流逝，心事浩渺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颔联：古胜迹，今登临，感心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赏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颈联：水落梁露，寒泽深远辽阔。萧条寒凄，景中藏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尾联：尚字传情，功业不朽。沾襟泣泪，焉能无为无业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全文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全篇理景情相融，情挚动人，平淡深远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【品读与探讨】</a:t>
            </a:r>
            <a:br>
              <a:rPr sz="4400"/>
            </a:b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作者是如何表达吊古伤今这种情感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05280" y="1905120"/>
            <a:ext cx="9448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联凭空落笔，似不入题，但却引出了诗人的无限感慨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联紧扣上联的“古”“今”，道出自己的怀古伤今来自于这次的登临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诗歌的前两联具有一定的哲理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联写登临所见，严冬天寒，更衬托出登临者的伤感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联既是写景，也是吊古伤今。“读罢泪沾襟”，是诗人的自我感伤，也暗用了“堕泪碑”的典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寓怀古伤今之情于说理和叙事写景之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柴小丽</dc:creator>
  <dc:description/>
  <dc:language>en-US</dc:language>
  <cp:lastModifiedBy>zmj</cp:lastModifiedBy>
  <dcterms:modified xsi:type="dcterms:W3CDTF">2010-03-23T05:15:38Z</dcterms:modified>
  <cp:revision>3</cp:revision>
  <dc:subject/>
  <dc:title>与诸子登岘山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01000000000001024120</vt:lpwstr>
  </property>
</Properties>
</file>