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2.gif" ContentType="image/gif"/>
  <Override PartName="/ppt/media/image4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9.gif" ContentType="image/gif"/>
  <Override PartName="/ppt/media/image1.png" ContentType="image/png"/>
  <Override PartName="/ppt/media/image3.jpeg" ContentType="image/jpeg"/>
  <Override PartName="/ppt/media/image6.png" ContentType="image/pn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F47-BA21-4A12-9F17-7215D278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FFC7-BFFE-476E-BD48-7695E200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04025-DFF2-4616-B7B2-AF34F24B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16840-047B-42FF-8541-77CD1F80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BD107-72CE-464C-AC44-A32302E3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C9C22-883F-4F3A-AFF9-E7FE0BFE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39CC2-6DBE-4026-AAB4-3ED38E3D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2B10F-6D3E-41E1-A12A-360DE154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543E6-D910-44F3-8426-EF916839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D89F0-FB8B-4519-99F4-5F1124E3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D5997-2547-4874-9BBC-449B67F5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7A023-619B-4C35-B10F-6A489F77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8E6-4CAB-4343-8C63-32BFE4DC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67303-A43C-4F30-9132-DB732AE1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35FF3-FB3C-48A4-A2AA-DD1F29EF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778B5-BB11-4AEB-88D9-89FD29B0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E0FA0-A328-461C-8486-61BA8F52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9849E-1ED1-456A-B834-4C489AB4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A8C45-02C0-437A-BEAB-9F7AAB0E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193DB-9E95-40C1-8D5E-5E50FD8B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4D349-DEE0-4DE8-98A4-6E515A88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67197-E54F-4885-891C-46EDAB59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BADEF-0DE2-4ADE-9254-C7A56D9F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D9E-46D4-4A2C-B31F-4AF9F62F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9BF86-E5A6-4CBE-B157-A18A9C75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B705-8709-4BE3-9A49-BAEF78EB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1703-4145-43C1-B7B4-BC5C754B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35BE-AC60-4CDA-A4D1-550C3114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DE18-B826-43DE-B6E5-B47808D4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986C-AB54-4C00-8E1E-14EFC1B3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83D7-9939-4453-8C98-549CD5EB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146D-62BD-4896-AB79-BF465941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448-753B-4358-8A93-0ECA3EB8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5004-5A95-47FE-9DA0-1608C28B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4E4F-A437-41BB-B8C4-63F4B03B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8410-79E0-4E6E-845C-CC895867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2666-EE98-40DC-BB0B-47496A66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6432-3329-42CF-B90E-1C341F46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29152-4604-4FEF-A3CE-60BB52E1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1451F-6193-47E4-910F-FEBAA2C1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4DC26-2B67-4550-968B-FB33862E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7CB92-A5C4-4EDD-9FED-858AAE4E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DEFC1-D0A8-4B00-82C2-ED1A1763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2A7-12F3-4B3E-B40D-E0287B63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E4AF5-FF8B-47DA-ADCD-C536F613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8B92E-BA57-4FEF-86B2-1A19FCE4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F3C19-2C4E-48D2-AAB0-C4DBB8B6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4B7CB-6FB4-4671-B439-850899DB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6FF80-1ACB-41F5-956C-57FD3E61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8B16C-4CCE-45FD-83C5-7FE1708A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BC904-8FD6-4414-BC1F-91CF0DDA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03F08-8E0D-4666-BEEE-B2843C0D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FF957-C5E2-49A0-A13A-A34BC534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BA449-2283-432B-BBF5-C3E31F76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D5B0-CCAB-4087-A453-9598697F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7AE7C-8331-4B14-A015-4BC60C83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B7033-CFD8-4458-89A9-8B1BD68B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0286E-8967-4E3D-A088-932A628A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79AD5-3806-41FE-B822-39368825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DE861-62A0-468E-BFAA-65C77365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9F852-6B59-452A-9C35-3870D95B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3880C-A154-4719-8D2E-5D8B66E9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69F38-248E-4B3E-9238-F0379BEC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7A306-D4B2-4A8B-98CF-3AE8F95B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C2322-BAFF-4E94-A347-31CA7EE9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720-5EEC-4C09-AE30-8C535AE5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A5A19-DC42-454D-B80C-95959A54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5D5BE-933A-4EF6-A083-DF961935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BDFAD-DA71-450A-937A-463EB48A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876DE-8415-4935-9FCF-55DF1F16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119AF-2A3F-4E4A-99CA-BD9B0159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6ABE7-B85D-4B88-B0C2-B1CAD434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6CD5C-DC89-408F-AE90-BDC46548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8F2E4-67C3-40D8-9D36-DBB25295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9410D-4682-408F-985B-225FA5BD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FD278-5436-48BF-9F5A-D7340487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C78-9DAC-4D64-BFFB-BF27555D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0BD09-1015-4B7B-A363-EDF6E8F4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4C5D1-D336-4F79-B1AD-4B0F7CC9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125C2-49B6-476F-9A4B-4F1B1708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DD03A-6E74-48BF-A6EB-54D7E3A0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9862C-5118-4BDF-9105-7A9D0B6E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7EB8A-4F14-419D-B00F-E3C3B03C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53E0E-5AAC-4525-A942-12FAE831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C44A0-7BEC-41F8-BEE1-ED9B5E7C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ECB77-C951-491C-A53C-84B03357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BCEF6-35A4-4ACE-934C-F0F4C036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95C3-7E58-47AB-A84D-C0A0798A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2617C-7009-42EE-9F9B-80A6A8B5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21C3A-F915-482D-A96E-5B2875E0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1D9EB-90D5-492E-ABFF-59ECEF0D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AEE29-E926-4348-B2B8-5F57D021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AC0F9-6DB6-4B3B-8C69-DED09702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BE6A4-C891-4655-B034-C862B211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9F09E-82C4-4BC5-A880-51D9E51B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B8EE0-A9A4-4830-9D10-FFC6D450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CB6D8-7DFE-491C-BAF5-9F113C88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02C94-6818-47CA-8563-3DCF0A3C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550-7670-4E59-8C5F-7248EC14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FAA66-63C8-452C-9D49-30FB63A8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8B9CD-F0DC-47EE-BC6A-BD86DECB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3182B-D979-498B-AD32-9E543BA5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11F3B-2B80-492F-9678-CCBA8C38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968DB-D5A0-4EC4-A47B-67965497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2C0C8-9D48-4C17-A3CE-6076A7E6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8B564-F67F-4B2C-B54B-60D31670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FBE15-2EC3-4A0A-9F2F-8579D846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A7123-D76A-4A58-A76B-368DDADC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ABE55-E78A-4F12-807A-4A7A8D20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3536-EE9C-4C0D-A8AF-96BA528A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E362C-BB35-4CBB-BF0F-84F26D8D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C3B75-1432-4989-8257-4912B6A2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65D8C-38F1-4274-B271-7C30AFF4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3CEB6-FF9B-43FF-8A4D-2B6677BD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0B809-2C2F-44BC-91C2-5F5DDFDC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56F78-DAD0-4805-BEE9-E52B02E3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40266-8B6C-40CE-A9ED-C7F7DAB9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6E45B-5163-4E3D-9F47-04AB9E8F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FCA2A-5604-467E-80D3-AECF5C0F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BD499-4C4C-4B56-B46F-C00E249D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4171-C3A7-4178-9609-1BC37E95EB67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23B9-54CB-4FAE-B9A8-2447FC2E750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3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3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grpSp>
        <p:nvGrpSpPr>
          <p:cNvPr id="74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4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4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sp>
        <p:nvSpPr>
          <p:cNvPr id="75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CCCB-E1A9-40C2-87C7-BB34138BDE39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E455-53CB-48DE-A862-6D8AF28B5C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5B2B-01A2-4B0E-B087-8554767F44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13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1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6B4E-2092-4ECD-BED2-34B5D12F590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2B7F-D4CE-4388-8120-126E068DFFB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508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513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dt" idx="19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ftr" idx="20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sldNum" idx="21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A919-913B-41ED-8CD1-72265576E21C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DDFA-B861-499F-ACEA-97E136FC6564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9913-A8CC-4409-BEFD-571A3DF4038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4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5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grpSp>
            <p:nvGrpSpPr>
              <p:cNvPr id="66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7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7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8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grpSp>
            <p:nvGrpSpPr>
              <p:cNvPr id="68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8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jledu.com.cn/jajb/xiaoxue/tupian/yuwen.htm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3933720"/>
            <a:ext cx="2484360" cy="292428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 txBox="1"/>
          <p:nvPr/>
        </p:nvSpPr>
        <p:spPr>
          <a:xfrm rot="5400000">
            <a:off x="5004360" y="1700640"/>
            <a:ext cx="3311640" cy="216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猜猜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2"/>
          <a:stretch/>
        </p:blipFill>
        <p:spPr>
          <a:xfrm>
            <a:off x="3635280" y="404640"/>
            <a:ext cx="6685200" cy="60487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179280" y="404640"/>
            <a:ext cx="4321440" cy="6048720"/>
          </a:xfrm>
          <a:prstGeom prst="rect">
            <a:avLst/>
          </a:prstGeom>
          <a:noFill/>
          <a:ln w="9360">
            <a:solidFill>
              <a:srgbClr val="d84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15151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6c4404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6c4404"/>
                </a:solidFill>
                <a:latin typeface="Arial"/>
                <a:ea typeface="黑体"/>
              </a:rPr>
              <a:t>使狗国者，从狗门入。今臣使楚，不当从此门入。” </a:t>
            </a:r>
            <a:br>
              <a:rPr sz="4000"/>
            </a:br>
            <a:r>
              <a:rPr b="1" lang="zh-CN" sz="4000" spc="-1" strike="noStrike">
                <a:solidFill>
                  <a:srgbClr val="6c4404"/>
                </a:solidFill>
                <a:latin typeface="Arial"/>
                <a:ea typeface="黑体"/>
              </a:rPr>
              <a:t>　　 “其贤者使使贤主，不肖者使使不肖主。婴最不肖，故宜使楚矣！”</a:t>
            </a:r>
            <a:br>
              <a:rPr sz="4000"/>
            </a:br>
            <a:r>
              <a:rPr b="1" lang="zh-CN" sz="4000" spc="-1" strike="noStrike">
                <a:solidFill>
                  <a:srgbClr val="d84618"/>
                </a:solidFill>
                <a:latin typeface="黑体"/>
                <a:ea typeface="黑体"/>
              </a:rPr>
              <a:t>这个人就是——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5867280" y="4869000"/>
            <a:ext cx="237672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cc33"/>
                  </a:solidFill>
                  <a:miter/>
                </a:ln>
                <a:solidFill>
                  <a:srgbClr val="e33a05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晏子</a:t>
            </a:r>
            <a:endParaRPr b="1" lang="en-US" sz="1800" spc="1" strike="noStrike">
              <a:ln w="12600">
                <a:solidFill>
                  <a:srgbClr val="33cc33"/>
                </a:solidFill>
                <a:miter/>
              </a:ln>
              <a:solidFill>
                <a:srgbClr val="e33a05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7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-757080" y="259920"/>
            <a:ext cx="6945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Comic Sans MS"/>
                <a:ea typeface="黑体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Comic Sans MS"/>
                <a:ea typeface="黑体"/>
              </a:rPr>
              <a:t>翻   译   句   子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5000"/>
              </a:lnSpc>
              <a:spcBef>
                <a:spcPts val="10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  <a:ea typeface="华文细黑"/>
              </a:rPr>
              <a:t>臣请</a:t>
            </a:r>
            <a:r>
              <a:rPr b="1" lang="zh-CN" sz="4000" spc="-1" strike="noStrike">
                <a:solidFill>
                  <a:srgbClr val="ff00ff"/>
                </a:solidFill>
                <a:latin typeface="Comic Sans MS"/>
                <a:ea typeface="华文细黑"/>
              </a:rPr>
              <a:t>改道易行</a:t>
            </a:r>
            <a:r>
              <a:rPr b="1" lang="zh-CN" sz="4000" spc="-1" strike="noStrike">
                <a:solidFill>
                  <a:srgbClr val="0000cc"/>
                </a:solidFill>
                <a:latin typeface="Comic Sans MS"/>
                <a:ea typeface="华文细黑"/>
              </a:rPr>
              <a:t>而治东阿，三年不</a:t>
            </a:r>
            <a:r>
              <a:rPr b="1" lang="zh-CN" sz="4000" spc="-1" strike="noStrike">
                <a:solidFill>
                  <a:srgbClr val="e98521"/>
                </a:solidFill>
                <a:latin typeface="Comic Sans MS"/>
                <a:ea typeface="华文细黑"/>
              </a:rPr>
              <a:t>治</a:t>
            </a:r>
            <a:r>
              <a:rPr b="1" lang="zh-CN" sz="4000" spc="-1" strike="noStrike">
                <a:solidFill>
                  <a:srgbClr val="0000cc"/>
                </a:solidFill>
                <a:latin typeface="Comic Sans MS"/>
                <a:ea typeface="华文细黑"/>
              </a:rPr>
              <a:t>，臣请</a:t>
            </a:r>
            <a:r>
              <a:rPr b="1" lang="zh-CN" sz="4000" spc="-1" strike="noStrike">
                <a:solidFill>
                  <a:srgbClr val="ffef66"/>
                </a:solidFill>
                <a:latin typeface="Comic Sans MS"/>
                <a:ea typeface="华文细黑"/>
              </a:rPr>
              <a:t>死之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细黑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lnSpc>
                <a:spcPct val="85000"/>
              </a:lnSpc>
              <a:spcBef>
                <a:spcPts val="10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  <a:ea typeface="华文细黑"/>
              </a:rPr>
              <a:t>臣愚不能复治东阿，愿</a:t>
            </a:r>
            <a:r>
              <a:rPr b="1" lang="zh-CN" sz="4000" spc="-1" strike="noStrike">
                <a:solidFill>
                  <a:srgbClr val="e98521"/>
                </a:solidFill>
                <a:latin typeface="Comic Sans MS"/>
                <a:ea typeface="华文细黑"/>
              </a:rPr>
              <a:t>乞骸骨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细黑"/>
              </a:rPr>
              <a:t>，</a:t>
            </a:r>
            <a:r>
              <a:rPr b="1" lang="zh-CN" sz="4000" spc="-1" strike="noStrike">
                <a:solidFill>
                  <a:srgbClr val="0000cc"/>
                </a:solidFill>
                <a:latin typeface="Comic Sans MS"/>
                <a:ea typeface="华文细黑"/>
              </a:rPr>
              <a:t>避贤者之路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"/>
          <p:cNvSpPr/>
          <p:nvPr/>
        </p:nvSpPr>
        <p:spPr>
          <a:xfrm>
            <a:off x="250920" y="2205000"/>
            <a:ext cx="8713800" cy="119052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383ad"/>
                </a:solidFill>
                <a:latin typeface="华文新魏"/>
                <a:ea typeface="华文新魏"/>
              </a:rPr>
              <a:t>请允许我</a:t>
            </a:r>
            <a:r>
              <a:rPr b="1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改变办法</a:t>
            </a:r>
            <a:r>
              <a:rPr b="1" lang="zh-CN" sz="4000" spc="-1" strike="noStrike">
                <a:solidFill>
                  <a:srgbClr val="8383ad"/>
                </a:solidFill>
                <a:latin typeface="华文新魏"/>
                <a:ea typeface="华文新魏"/>
              </a:rPr>
              <a:t>来治理东阿</a:t>
            </a:r>
            <a:r>
              <a:rPr b="1" lang="zh-CN" sz="4000" spc="-1" strike="noStrike">
                <a:solidFill>
                  <a:srgbClr val="8383ad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8383ad"/>
                </a:solidFill>
                <a:latin typeface="华文新魏"/>
                <a:ea typeface="华文新魏"/>
              </a:rPr>
              <a:t>如果三年后还</a:t>
            </a:r>
            <a:r>
              <a:rPr b="1" lang="zh-CN" sz="4000" spc="-1" strike="noStrike">
                <a:solidFill>
                  <a:srgbClr val="e98521"/>
                </a:solidFill>
                <a:latin typeface="华文新魏"/>
                <a:ea typeface="华文新魏"/>
              </a:rPr>
              <a:t>治理</a:t>
            </a:r>
            <a:r>
              <a:rPr b="1" lang="zh-CN" sz="4000" spc="-1" strike="noStrike">
                <a:solidFill>
                  <a:srgbClr val="8383ad"/>
                </a:solidFill>
                <a:latin typeface="华文新魏"/>
                <a:ea typeface="华文新魏"/>
              </a:rPr>
              <a:t>不</a:t>
            </a:r>
            <a:r>
              <a:rPr b="1" lang="zh-CN" sz="4000" spc="-1" strike="noStrike">
                <a:solidFill>
                  <a:srgbClr val="e98521"/>
                </a:solidFill>
                <a:latin typeface="华文新魏"/>
                <a:ea typeface="华文新魏"/>
              </a:rPr>
              <a:t>好</a:t>
            </a:r>
            <a:r>
              <a:rPr b="1" lang="zh-CN" sz="4000" spc="-1" strike="noStrike">
                <a:solidFill>
                  <a:srgbClr val="8383ad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8383ad"/>
                </a:solidFill>
                <a:latin typeface="华文新魏"/>
                <a:ea typeface="华文新魏"/>
              </a:rPr>
              <a:t>就让我</a:t>
            </a:r>
            <a:r>
              <a:rPr b="1" lang="zh-CN" sz="4000" spc="-1" strike="noStrike">
                <a:solidFill>
                  <a:srgbClr val="ffef66"/>
                </a:solidFill>
                <a:latin typeface="华文新魏"/>
                <a:ea typeface="华文新魏"/>
              </a:rPr>
              <a:t>为此而死</a:t>
            </a:r>
            <a:r>
              <a:rPr b="1" lang="zh-CN" sz="4000" spc="-1" strike="noStrike">
                <a:solidFill>
                  <a:srgbClr val="8383ad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50920" y="4653000"/>
            <a:ext cx="8642160" cy="642240"/>
          </a:xfrm>
          <a:prstGeom prst="rect">
            <a:avLst/>
          </a:prstGeom>
          <a:noFill/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383ad"/>
                </a:solidFill>
                <a:latin typeface="Arial"/>
                <a:ea typeface="华文新魏"/>
              </a:rPr>
              <a:t>我很愚蠢，不能再去治理东阿了，</a:t>
            </a:r>
            <a:r>
              <a:rPr b="1" lang="zh-CN" sz="4000" spc="-1" strike="noStrike">
                <a:solidFill>
                  <a:srgbClr val="e98521"/>
                </a:solidFill>
                <a:latin typeface="Arial"/>
                <a:ea typeface="华文新魏"/>
              </a:rPr>
              <a:t>请求</a:t>
            </a:r>
            <a:r>
              <a:rPr b="1" lang="zh-CN" sz="4000" spc="-1" strike="noStrike">
                <a:solidFill>
                  <a:srgbClr val="8383ad"/>
                </a:solidFill>
                <a:latin typeface="Arial"/>
                <a:ea typeface="华文新魏"/>
              </a:rPr>
              <a:t>您让我</a:t>
            </a:r>
            <a:r>
              <a:rPr b="1" lang="zh-CN" sz="4000" spc="-1" strike="noStrike">
                <a:solidFill>
                  <a:srgbClr val="e98521"/>
                </a:solidFill>
                <a:latin typeface="Arial"/>
                <a:ea typeface="华文新魏"/>
              </a:rPr>
              <a:t>退休</a:t>
            </a:r>
            <a:r>
              <a:rPr b="1" lang="zh-CN" sz="4000" spc="-1" strike="noStrike">
                <a:solidFill>
                  <a:srgbClr val="8383ad"/>
                </a:solidFill>
                <a:latin typeface="Arial"/>
                <a:ea typeface="华文新魏"/>
              </a:rPr>
              <a:t>，给有才能的人让路。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611280" y="476280"/>
            <a:ext cx="324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知识点</a:t>
            </a:r>
            <a:endParaRPr b="0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19" name=""/>
          <p:cNvSpPr/>
          <p:nvPr/>
        </p:nvSpPr>
        <p:spPr>
          <a:xfrm>
            <a:off x="2641680" y="620640"/>
            <a:ext cx="496548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华文新魏"/>
                <a:ea typeface="华文新魏"/>
              </a:rPr>
              <a:t>古今异义：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华文新魏"/>
                <a:ea typeface="华文新魏"/>
              </a:rPr>
              <a:t>词类活用：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华文新魏"/>
                <a:ea typeface="华文新魏"/>
              </a:rPr>
              <a:t>通假字：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华文新魏"/>
                <a:ea typeface="华文新魏"/>
              </a:rPr>
              <a:t>重要虚词：</a:t>
            </a:r>
            <a:r>
              <a:rPr b="1" lang="zh-CN" sz="4000" spc="-1" strike="noStrike">
                <a:solidFill>
                  <a:srgbClr val="e98521"/>
                </a:solidFill>
                <a:latin typeface="华文新魏"/>
                <a:ea typeface="华文新魏"/>
              </a:rPr>
              <a:t>之（</a:t>
            </a:r>
            <a:r>
              <a:rPr b="1" lang="zh-CN" sz="4000" spc="-1" strike="noStrike">
                <a:solidFill>
                  <a:srgbClr val="e98521"/>
                </a:solidFill>
                <a:latin typeface="华文新魏"/>
                <a:ea typeface="华文新魏"/>
              </a:rPr>
              <a:t>14</a:t>
            </a:r>
            <a:r>
              <a:rPr b="1" lang="zh-CN" sz="4000" spc="-1" strike="noStrike">
                <a:solidFill>
                  <a:srgbClr val="e98521"/>
                </a:solidFill>
                <a:latin typeface="华文新魏"/>
                <a:ea typeface="华文新魏"/>
              </a:rPr>
              <a:t>个，标序号）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华文新魏"/>
                <a:ea typeface="华文新魏"/>
              </a:rPr>
              <a:t>特殊句式：</a:t>
            </a:r>
            <a:r>
              <a:rPr b="1" lang="zh-CN" sz="4000" spc="-1" strike="noStrike">
                <a:solidFill>
                  <a:srgbClr val="e98521"/>
                </a:solidFill>
                <a:latin typeface="华文新魏"/>
                <a:ea typeface="华文新魏"/>
              </a:rPr>
              <a:t>判断句、倒装句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24000" y="3068640"/>
            <a:ext cx="15825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4211640" y="47628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归纳</a:t>
            </a:r>
            <a:endParaRPr b="0" lang="en-US" sz="8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Comic Sans MS"/>
                <a:ea typeface="黑体"/>
              </a:rPr>
              <a:t>于是</a:t>
            </a:r>
            <a:r>
              <a:rPr b="1" lang="zh-CN" sz="3600" spc="-1" strike="noStrike">
                <a:solidFill>
                  <a:srgbClr val="327ac2"/>
                </a:solidFill>
                <a:latin typeface="Comic Sans MS"/>
                <a:ea typeface="黑体"/>
              </a:rPr>
              <a:t>明年</a:t>
            </a:r>
            <a:r>
              <a:rPr b="1" lang="zh-CN" sz="3600" spc="-1" strike="noStrike">
                <a:solidFill>
                  <a:srgbClr val="cc0099"/>
                </a:solidFill>
                <a:latin typeface="Comic Sans MS"/>
                <a:ea typeface="黑体"/>
              </a:rPr>
              <a:t>上计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Comic Sans MS"/>
                <a:ea typeface="黑体"/>
              </a:rPr>
              <a:t>属托</a:t>
            </a:r>
            <a:r>
              <a:rPr b="1" lang="zh-CN" sz="3600" spc="-1" strike="noStrike">
                <a:solidFill>
                  <a:srgbClr val="327ac2"/>
                </a:solidFill>
                <a:latin typeface="Comic Sans MS"/>
                <a:ea typeface="黑体"/>
              </a:rPr>
              <a:t>不行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Comic Sans MS"/>
                <a:ea typeface="黑体"/>
              </a:rPr>
              <a:t>便事</a:t>
            </a:r>
            <a:r>
              <a:rPr b="1" lang="zh-CN" sz="3600" spc="-1" strike="noStrike">
                <a:solidFill>
                  <a:srgbClr val="327ac2"/>
                </a:solidFill>
                <a:latin typeface="Comic Sans MS"/>
                <a:ea typeface="黑体"/>
              </a:rPr>
              <a:t>左右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327ac2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7ac2"/>
                </a:solidFill>
                <a:latin typeface="黑体"/>
                <a:ea typeface="黑体"/>
              </a:rPr>
              <a:t>改道</a:t>
            </a: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易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327ac2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7ac2"/>
                </a:solidFill>
                <a:latin typeface="黑体"/>
                <a:ea typeface="黑体"/>
              </a:rPr>
              <a:t>仓库</a:t>
            </a: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少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276720" y="189000"/>
            <a:ext cx="2879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古今异义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25" name=""/>
          <p:cNvSpPr/>
          <p:nvPr/>
        </p:nvSpPr>
        <p:spPr>
          <a:xfrm>
            <a:off x="3564000" y="1052640"/>
            <a:ext cx="4897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83ad"/>
                </a:solidFill>
                <a:latin typeface="Arial"/>
                <a:ea typeface="黑体"/>
              </a:rPr>
              <a:t>古义：第二年；今义：今年的下一年，是未到来的年份。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783320" y="206064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83ad"/>
                </a:solidFill>
                <a:latin typeface="Arial"/>
                <a:ea typeface="黑体"/>
              </a:rPr>
              <a:t>古义：不去做；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83ad"/>
                </a:solidFill>
                <a:latin typeface="Arial"/>
                <a:ea typeface="黑体"/>
              </a:rPr>
              <a:t>今义：没本领，不能够。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354200" y="3357720"/>
            <a:ext cx="146088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83ad"/>
                </a:solidFill>
                <a:latin typeface="Arial"/>
                <a:ea typeface="黑体"/>
              </a:rPr>
              <a:t>古义：近臣；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83ad"/>
                </a:solidFill>
                <a:latin typeface="Arial"/>
                <a:ea typeface="黑体"/>
              </a:rPr>
              <a:t>今义：表示方位。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140360" y="4581360"/>
            <a:ext cx="23144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83ad"/>
                </a:solidFill>
                <a:latin typeface="Arial"/>
                <a:ea typeface="黑体"/>
              </a:rPr>
              <a:t>古义：</a:t>
            </a:r>
            <a:r>
              <a:rPr b="1" lang="zh-CN" sz="2800" spc="-1" strike="noStrike">
                <a:solidFill>
                  <a:srgbClr val="8383ad"/>
                </a:solidFill>
                <a:latin typeface="Arial"/>
                <a:ea typeface="黑体"/>
              </a:rPr>
              <a:t>更换行事方法；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83ad"/>
                </a:solidFill>
                <a:latin typeface="Arial"/>
                <a:ea typeface="黑体"/>
              </a:rPr>
              <a:t>今义：改变行动路线。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987640" y="5877000"/>
            <a:ext cx="583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83ad"/>
                </a:solidFill>
                <a:latin typeface="Arial"/>
                <a:ea typeface="黑体"/>
              </a:rPr>
              <a:t>古义：国库；今义：泛指仓库。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1692360" y="404640"/>
            <a:ext cx="5688000" cy="65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8521"/>
                </a:solidFill>
                <a:latin typeface="Times New Roman"/>
                <a:ea typeface="黑体"/>
              </a:rPr>
              <a:t>1.  </a:t>
            </a:r>
            <a:r>
              <a:rPr b="1" lang="zh-CN" sz="3200" spc="-1" strike="noStrike">
                <a:solidFill>
                  <a:srgbClr val="e98521"/>
                </a:solidFill>
                <a:latin typeface="Times New Roman"/>
                <a:ea typeface="黑体"/>
              </a:rPr>
              <a:t>景公召而数之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8521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e98521"/>
                </a:solidFill>
                <a:latin typeface="Times New Roman"/>
                <a:ea typeface="黑体"/>
              </a:rPr>
              <a:t>景公许之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8521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e98521"/>
                </a:solidFill>
                <a:latin typeface="Times New Roman"/>
                <a:ea typeface="黑体"/>
              </a:rPr>
              <a:t>景公迎而贺之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8521"/>
                </a:solidFill>
                <a:latin typeface="Times New Roman"/>
                <a:ea typeface="黑体"/>
              </a:rPr>
              <a:t>13.</a:t>
            </a:r>
            <a:r>
              <a:rPr b="1" lang="zh-CN" sz="3200" spc="-1" strike="noStrike">
                <a:solidFill>
                  <a:srgbClr val="e98521"/>
                </a:solidFill>
                <a:latin typeface="Times New Roman"/>
                <a:ea typeface="黑体"/>
              </a:rPr>
              <a:t>景公乃下席而谢之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7ac2"/>
                </a:solidFill>
                <a:latin typeface="Times New Roman"/>
                <a:ea typeface="黑体"/>
              </a:rPr>
              <a:t>2.  </a:t>
            </a:r>
            <a:r>
              <a:rPr b="1" lang="zh-CN" sz="3200" spc="-1" strike="noStrike">
                <a:solidFill>
                  <a:srgbClr val="327ac2"/>
                </a:solidFill>
                <a:latin typeface="Times New Roman"/>
                <a:ea typeface="黑体"/>
              </a:rPr>
              <a:t>臣请死之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5.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甚善矣，子之治东阿也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6.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前臣之治东阿也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9.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今臣后之治东阿也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7/10.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陂池之鱼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8/11.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当此之时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12.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避贤者之路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14.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东阿者 ，子之东阿也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407280" y="13413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8521"/>
                </a:solidFill>
                <a:latin typeface="Times New Roman"/>
                <a:ea typeface="楷体_GB2312"/>
              </a:rPr>
              <a:t>代词，他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767640" y="3357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助词，取消独立性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372360" y="53006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助词，的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443640" y="3357720"/>
            <a:ext cx="216000" cy="122364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82"/>
                </a:lnTo>
                <a:cubicBezTo>
                  <a:pt x="10800" y="9982"/>
                  <a:pt x="16200" y="10882"/>
                  <a:pt x="21600" y="10882"/>
                </a:cubicBezTo>
                <a:cubicBezTo>
                  <a:pt x="16200" y="10882"/>
                  <a:pt x="10800" y="11782"/>
                  <a:pt x="10800" y="1268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156360" y="4797360"/>
            <a:ext cx="216000" cy="165600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82"/>
                </a:lnTo>
                <a:cubicBezTo>
                  <a:pt x="10800" y="9982"/>
                  <a:pt x="16200" y="10882"/>
                  <a:pt x="21600" y="10882"/>
                </a:cubicBezTo>
                <a:cubicBezTo>
                  <a:pt x="16200" y="10882"/>
                  <a:pt x="10800" y="11782"/>
                  <a:pt x="10800" y="1268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372360" y="2565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7ac2"/>
                </a:solidFill>
                <a:latin typeface="Times New Roman"/>
                <a:ea typeface="楷体_GB2312"/>
              </a:rPr>
              <a:t>代词，此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140360" y="2997360"/>
            <a:ext cx="2016000" cy="0"/>
          </a:xfrm>
          <a:prstGeom prst="line">
            <a:avLst/>
          </a:prstGeom>
          <a:ln w="57240">
            <a:solidFill>
              <a:srgbClr val="327a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395280" y="3141720"/>
            <a:ext cx="1079640" cy="107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之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39" name=""/>
          <p:cNvSpPr/>
          <p:nvPr/>
        </p:nvSpPr>
        <p:spPr>
          <a:xfrm>
            <a:off x="6084720" y="1052640"/>
            <a:ext cx="216000" cy="1512720"/>
          </a:xfrm>
          <a:custGeom>
            <a:avLst/>
            <a:gdLst>
              <a:gd name="textAreaLeft" fmla="*/ 0 w 216000"/>
              <a:gd name="textAreaRight" fmla="*/ 7812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82"/>
                </a:lnTo>
                <a:cubicBezTo>
                  <a:pt x="10800" y="9982"/>
                  <a:pt x="16200" y="10882"/>
                  <a:pt x="21600" y="10882"/>
                </a:cubicBezTo>
                <a:cubicBezTo>
                  <a:pt x="16200" y="10882"/>
                  <a:pt x="10800" y="11782"/>
                  <a:pt x="10800" y="1268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e985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403280" y="981000"/>
            <a:ext cx="360360" cy="547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985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 rot="5400000">
            <a:off x="3923640" y="-99360"/>
            <a:ext cx="1008000" cy="316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华文新魏"/>
              </a:rPr>
              <a:t>通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华文新魏"/>
              </a:rPr>
              <a:t>假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华文新魏"/>
              </a:rPr>
              <a:t>字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42" name=""/>
          <p:cNvSpPr/>
          <p:nvPr/>
        </p:nvSpPr>
        <p:spPr>
          <a:xfrm>
            <a:off x="13716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40417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176"/>
                </a:solidFill>
                <a:latin typeface="华文新魏"/>
                <a:ea typeface="华文新魏"/>
              </a:rPr>
              <a:t>  </a:t>
            </a:r>
            <a:r>
              <a:rPr b="1" lang="zh-CN" sz="4400" spc="-1" strike="noStrike">
                <a:solidFill>
                  <a:srgbClr val="404176"/>
                </a:solidFill>
                <a:latin typeface="华文新魏"/>
                <a:ea typeface="华文新魏"/>
              </a:rPr>
              <a:t>并曾赋敛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40417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176"/>
                </a:solidFill>
                <a:latin typeface="华文新魏"/>
                <a:ea typeface="华文新魏"/>
              </a:rPr>
              <a:t>  </a:t>
            </a:r>
            <a:r>
              <a:rPr b="1" lang="zh-CN" sz="4400" spc="-1" strike="noStrike">
                <a:solidFill>
                  <a:srgbClr val="404176"/>
                </a:solidFill>
                <a:latin typeface="华文新魏"/>
                <a:ea typeface="华文新魏"/>
              </a:rPr>
              <a:t>仓库少内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40417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176"/>
                </a:solidFill>
                <a:latin typeface="华文新魏"/>
                <a:ea typeface="华文新魏"/>
              </a:rPr>
              <a:t>  </a:t>
            </a:r>
            <a:r>
              <a:rPr b="1" lang="zh-CN" sz="4400" spc="-1" strike="noStrike">
                <a:solidFill>
                  <a:srgbClr val="404176"/>
                </a:solidFill>
                <a:latin typeface="华文新魏"/>
                <a:ea typeface="华文新魏"/>
              </a:rPr>
              <a:t>再拜便辟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371600" y="5157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b853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b853f"/>
                </a:solidFill>
                <a:latin typeface="华文新魏"/>
                <a:ea typeface="华文新魏"/>
              </a:rPr>
              <a:t>  </a:t>
            </a:r>
            <a:r>
              <a:rPr b="1" lang="zh-CN" sz="4400" spc="-1" strike="noStrike">
                <a:solidFill>
                  <a:srgbClr val="cb853f"/>
                </a:solidFill>
                <a:latin typeface="华文新魏"/>
                <a:ea typeface="华文新魏"/>
              </a:rPr>
              <a:t>属托不行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b853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003640" y="270828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6780a"/>
                </a:solidFill>
                <a:latin typeface="华文新魏"/>
                <a:ea typeface="华文新魏"/>
              </a:rPr>
              <a:t>曾——增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003640" y="349884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6780a"/>
                </a:solidFill>
                <a:latin typeface="华文新魏"/>
                <a:ea typeface="华文新魏"/>
              </a:rPr>
              <a:t>内——纳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003640" y="436392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6780a"/>
                </a:solidFill>
                <a:latin typeface="华文新魏"/>
                <a:ea typeface="华文新魏"/>
              </a:rPr>
              <a:t>辟——避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003640" y="515628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华文新魏"/>
                <a:ea typeface="华文新魏"/>
              </a:rPr>
              <a:t>属——嘱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300"/>
                            </p:stCondLst>
                            <p:childTnLst>
                              <p:par>
                                <p:cTn id="1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600"/>
                            </p:stCondLst>
                            <p:childTnLst>
                              <p:par>
                                <p:cTn id="1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/>
          </p:nvPr>
        </p:nvSpPr>
        <p:spPr>
          <a:xfrm>
            <a:off x="468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945e28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45e28"/>
                </a:solidFill>
                <a:latin typeface="华文新魏"/>
                <a:ea typeface="华文新魏"/>
              </a:rPr>
              <a:t>臣请死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945e28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45e28"/>
                </a:solidFill>
                <a:latin typeface="华文新魏"/>
                <a:ea typeface="华文新魏"/>
              </a:rPr>
              <a:t>以利贫民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945e28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45e28"/>
                </a:solidFill>
                <a:latin typeface="华文新魏"/>
                <a:ea typeface="华文新魏"/>
              </a:rPr>
              <a:t>而君反以罪臣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"/>
          <p:cNvSpPr/>
          <p:nvPr/>
        </p:nvSpPr>
        <p:spPr>
          <a:xfrm>
            <a:off x="3203640" y="981000"/>
            <a:ext cx="3600360" cy="1008360"/>
          </a:xfrm>
          <a:prstGeom prst="rect">
            <a:avLst/>
          </a:prstGeom>
          <a:noFill/>
          <a:ln w="9360">
            <a:solidFill>
              <a:srgbClr val="e985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ef66"/>
                </a:solidFill>
                <a:latin typeface="华文新魏"/>
                <a:ea typeface="华文新魏"/>
              </a:rPr>
              <a:t>词类活用</a:t>
            </a:r>
            <a:endParaRPr b="0" lang="en-US" sz="6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492360" y="2852640"/>
            <a:ext cx="53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黑体"/>
              </a:rPr>
              <a:t>死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黑体"/>
              </a:rPr>
              <a:t>为动用法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黑体"/>
              </a:rPr>
              <a:t>为……而死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95640" y="371628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黑体"/>
              </a:rPr>
              <a:t>利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黑体"/>
              </a:rPr>
              <a:t>, 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黑体"/>
              </a:rPr>
              <a:t>使……收益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246560" y="458136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黑体"/>
              </a:rPr>
              <a:t>罪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黑体"/>
              </a:rPr>
              <a:t>名词作动词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黑体"/>
              </a:rPr>
              <a:t>加罪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53964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华文新魏"/>
                <a:ea typeface="华文新魏"/>
              </a:rPr>
              <a:t>寡人将加大诛</a:t>
            </a:r>
            <a:r>
              <a:rPr b="0" lang="zh-CN" sz="4000" spc="-1" strike="noStrike">
                <a:solidFill>
                  <a:srgbClr val="e98521"/>
                </a:solidFill>
                <a:latin typeface="华文新魏"/>
                <a:ea typeface="华文新魏"/>
              </a:rPr>
              <a:t>于子</a:t>
            </a:r>
            <a:r>
              <a:rPr b="0" lang="zh-CN" sz="4000" spc="-1" strike="noStrike">
                <a:solidFill>
                  <a:srgbClr val="3366ff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华文新魏"/>
                <a:ea typeface="华文新魏"/>
              </a:rPr>
              <a:t>东阿</a:t>
            </a:r>
            <a:r>
              <a:rPr b="0" lang="zh-CN" sz="4000" spc="-1" strike="noStrike">
                <a:solidFill>
                  <a:srgbClr val="e98521"/>
                </a:solidFill>
                <a:latin typeface="华文新魏"/>
                <a:ea typeface="华文新魏"/>
              </a:rPr>
              <a:t>者</a:t>
            </a:r>
            <a:r>
              <a:rPr b="0" lang="zh-CN" sz="4000" spc="-1" strike="noStrike">
                <a:solidFill>
                  <a:srgbClr val="3366ff"/>
                </a:solidFill>
                <a:latin typeface="华文新魏"/>
                <a:ea typeface="华文新魏"/>
              </a:rPr>
              <a:t>，子之东阿</a:t>
            </a:r>
            <a:r>
              <a:rPr b="0" lang="zh-CN" sz="4000" spc="-1" strike="noStrike">
                <a:solidFill>
                  <a:srgbClr val="e98521"/>
                </a:solidFill>
                <a:latin typeface="华文新魏"/>
                <a:ea typeface="华文新魏"/>
              </a:rPr>
              <a:t>也</a:t>
            </a:r>
            <a:r>
              <a:rPr b="0" lang="zh-CN" sz="4000" spc="-1" strike="noStrike">
                <a:solidFill>
                  <a:srgbClr val="3366ff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98521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98521"/>
                </a:solidFill>
                <a:latin typeface="华文新魏"/>
                <a:ea typeface="华文新魏"/>
              </a:rPr>
              <a:t>甚善矣</a:t>
            </a:r>
            <a:r>
              <a:rPr b="0" lang="zh-CN" sz="4000" spc="-1" strike="noStrike">
                <a:solidFill>
                  <a:srgbClr val="3366ff"/>
                </a:solidFill>
                <a:latin typeface="华文新魏"/>
                <a:ea typeface="华文新魏"/>
              </a:rPr>
              <a:t>，子之治东阿也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"/>
          <p:cNvSpPr/>
          <p:nvPr/>
        </p:nvSpPr>
        <p:spPr>
          <a:xfrm>
            <a:off x="3492360" y="836640"/>
            <a:ext cx="3313080" cy="91692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9933"/>
                </a:solidFill>
                <a:latin typeface="华文新魏"/>
                <a:ea typeface="华文新魏"/>
              </a:rPr>
              <a:t> </a:t>
            </a:r>
            <a:r>
              <a:rPr b="0" lang="zh-CN" sz="5400" spc="-1" strike="noStrike">
                <a:solidFill>
                  <a:srgbClr val="339933"/>
                </a:solidFill>
                <a:latin typeface="华文新魏"/>
                <a:ea typeface="华文新魏"/>
              </a:rPr>
              <a:t>特殊句式</a:t>
            </a: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991120" y="29638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98521"/>
                </a:solidFill>
                <a:latin typeface="Times New Roman"/>
                <a:ea typeface="楷体_GB2312"/>
              </a:rPr>
              <a:t>状语后置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320880" y="3716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98521"/>
                </a:solidFill>
                <a:latin typeface="Times New Roman"/>
                <a:ea typeface="楷体_GB2312"/>
              </a:rPr>
              <a:t>判断句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783480" y="4437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98521"/>
                </a:solidFill>
                <a:latin typeface="Times New Roman"/>
                <a:ea typeface="楷体_GB2312"/>
              </a:rPr>
              <a:t>主谓倒装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4890600">
            <a:off x="2957040" y="1587240"/>
            <a:ext cx="781200" cy="2444760"/>
          </a:xfrm>
          <a:custGeom>
            <a:avLst/>
            <a:gdLst>
              <a:gd name="textAreaLeft" fmla="*/ 104400 w 781200"/>
              <a:gd name="textAreaRight" fmla="*/ 676800 w 781200"/>
              <a:gd name="textAreaTop" fmla="*/ 462600 h 2444760"/>
              <a:gd name="textAreaBottom" fmla="*/ 1819080 h 24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76" stAng="-5400000" swAng="-5400000"/>
                <a:lnTo>
                  <a:pt x="0" y="11983"/>
                </a:lnTo>
                <a:arcTo wR="21600" hR="8176" stAng="10800000" swAng="-1813505"/>
                <a:lnTo>
                  <a:pt x="9832" y="20280"/>
                </a:lnTo>
                <a:lnTo>
                  <a:pt x="21600" y="18256"/>
                </a:lnTo>
                <a:lnTo>
                  <a:pt x="9832" y="13591"/>
                </a:lnTo>
                <a:lnTo>
                  <a:pt x="9832" y="15032"/>
                </a:lnTo>
                <a:arcTo wR="21600" hR="8176" stAng="8986495" swAng="1502842"/>
                <a:lnTo>
                  <a:pt x="594" y="10080"/>
                </a:lnTo>
                <a:arcTo wR="21600" hR="8176" stAng="-10489337" swAng="5089337"/>
                <a:close/>
              </a:path>
              <a:path fill="darkenLess" w="21600" h="21600">
                <a:moveTo>
                  <a:pt x="21600" y="0"/>
                </a:moveTo>
                <a:arcTo wR="21600" hR="8176" stAng="-5400000" swAng="-5400000"/>
                <a:lnTo>
                  <a:pt x="0" y="8176"/>
                </a:lnTo>
                <a:arcTo wR="21600" hR="8176" stAng="10800000" swAng="-310663"/>
                <a:lnTo>
                  <a:pt x="594" y="10080"/>
                </a:lnTo>
                <a:arcTo wR="21600" hR="8176" stAng="-10489337" swAng="5089337"/>
                <a:close/>
              </a:path>
            </a:pathLst>
          </a:custGeom>
          <a:solidFill>
            <a:srgbClr val="e98521"/>
          </a:solidFill>
          <a:ln w="9360">
            <a:solidFill>
              <a:srgbClr val="945e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 flipV="1" rot="5254200">
            <a:off x="3701880" y="2786040"/>
            <a:ext cx="1235160" cy="5687640"/>
          </a:xfrm>
          <a:custGeom>
            <a:avLst/>
            <a:gdLst>
              <a:gd name="textAreaLeft" fmla="*/ 165240 w 1235160"/>
              <a:gd name="textAreaRight" fmla="*/ 1069920 w 1235160"/>
              <a:gd name="textAreaTop" fmla="*/ 1120320 h 5687640"/>
              <a:gd name="textAreaBottom" fmla="*/ 4229640 h 56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11" stAng="-5400000" swAng="-5400000"/>
                <a:lnTo>
                  <a:pt x="0" y="11807"/>
                </a:lnTo>
                <a:arcTo wR="21600" hR="8511" stAng="10800000" swAng="-1998978"/>
                <a:lnTo>
                  <a:pt x="10494" y="20389"/>
                </a:lnTo>
                <a:lnTo>
                  <a:pt x="21600" y="18670"/>
                </a:lnTo>
                <a:lnTo>
                  <a:pt x="10494" y="14529"/>
                </a:lnTo>
                <a:lnTo>
                  <a:pt x="10494" y="15811"/>
                </a:lnTo>
                <a:arcTo wR="21600" hR="8511" stAng="8801022" swAng="1732168"/>
                <a:lnTo>
                  <a:pt x="409" y="10159"/>
                </a:lnTo>
                <a:arcTo wR="21600" hR="8511" stAng="-10533190" swAng="5133190"/>
                <a:close/>
              </a:path>
              <a:path fill="darkenLess" w="21600" h="21600">
                <a:moveTo>
                  <a:pt x="21600" y="0"/>
                </a:moveTo>
                <a:arcTo wR="21600" hR="8511" stAng="-5400000" swAng="-5400000"/>
                <a:lnTo>
                  <a:pt x="0" y="8511"/>
                </a:lnTo>
                <a:arcTo wR="21600" hR="8511" stAng="10800000" swAng="-266810"/>
                <a:lnTo>
                  <a:pt x="409" y="10159"/>
                </a:lnTo>
                <a:arcTo wR="21600" hR="8511" stAng="-10533190" swAng="5133190"/>
                <a:close/>
              </a:path>
            </a:pathLst>
          </a:custGeom>
          <a:solidFill>
            <a:srgbClr val="e98521"/>
          </a:solidFill>
          <a:ln w="9360">
            <a:solidFill>
              <a:srgbClr val="945e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" descr=""/>
          <p:cNvPicPr/>
          <p:nvPr/>
        </p:nvPicPr>
        <p:blipFill>
          <a:blip r:embed="rId1"/>
          <a:stretch/>
        </p:blipFill>
        <p:spPr>
          <a:xfrm>
            <a:off x="0" y="6048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-360" y="105264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e6a2a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e6a2a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e6a2a"/>
                </a:solidFill>
                <a:latin typeface="黑体"/>
                <a:ea typeface="黑体"/>
              </a:rPr>
              <a:t>、对下列四句中划线词语的解释，  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3121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e6a2a"/>
                </a:solidFill>
                <a:latin typeface="黑体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e6a2a"/>
                </a:solidFill>
                <a:latin typeface="黑体"/>
                <a:ea typeface="黑体"/>
              </a:rPr>
              <a:t>错误的一项是 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312120" indent="0">
              <a:lnSpc>
                <a:spcPct val="9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e6a2a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e6a2a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e6a2a"/>
                </a:solidFill>
                <a:latin typeface="华文新魏"/>
                <a:ea typeface="华文新魏"/>
              </a:rPr>
              <a:t>. </a:t>
            </a:r>
            <a:r>
              <a:rPr b="1" lang="zh-CN" sz="4400" spc="-1" strike="noStrike">
                <a:solidFill>
                  <a:srgbClr val="0e6a2a"/>
                </a:solidFill>
                <a:latin typeface="华文新魏"/>
                <a:ea typeface="华文新魏"/>
              </a:rPr>
              <a:t>景公召而</a:t>
            </a:r>
            <a:r>
              <a:rPr b="1" lang="zh-CN" sz="4400" spc="-1" strike="noStrike" u="sng">
                <a:solidFill>
                  <a:srgbClr val="0e6a2a"/>
                </a:solidFill>
                <a:uFillTx/>
                <a:latin typeface="华文新魏"/>
                <a:ea typeface="华文新魏"/>
              </a:rPr>
              <a:t>数</a:t>
            </a:r>
            <a:r>
              <a:rPr b="1" lang="zh-CN" sz="4400" spc="-1" strike="noStrike">
                <a:solidFill>
                  <a:srgbClr val="0e6a2a"/>
                </a:solidFill>
                <a:latin typeface="华文新魏"/>
                <a:ea typeface="华文新魏"/>
              </a:rPr>
              <a:t>之     数：责备 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12120" indent="0">
              <a:lnSpc>
                <a:spcPct val="9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6a2a"/>
                </a:solidFill>
                <a:latin typeface="华文新魏"/>
                <a:ea typeface="华文新魏"/>
              </a:rPr>
              <a:t>  </a:t>
            </a:r>
            <a:r>
              <a:rPr b="1" lang="zh-CN" sz="4400" spc="-1" strike="noStrike">
                <a:solidFill>
                  <a:srgbClr val="0e6a2a"/>
                </a:solidFill>
                <a:latin typeface="华文新魏"/>
                <a:ea typeface="华文新魏"/>
              </a:rPr>
              <a:t>B. </a:t>
            </a:r>
            <a:r>
              <a:rPr b="1" lang="zh-CN" sz="4400" spc="-1" strike="noStrike">
                <a:solidFill>
                  <a:srgbClr val="0e6a2a"/>
                </a:solidFill>
                <a:latin typeface="华文新魏"/>
                <a:ea typeface="华文新魏"/>
              </a:rPr>
              <a:t>而君反以</a:t>
            </a:r>
            <a:r>
              <a:rPr b="1" lang="zh-CN" sz="4400" spc="-1" strike="noStrike" u="sng">
                <a:solidFill>
                  <a:srgbClr val="0e6a2a"/>
                </a:solidFill>
                <a:uFillTx/>
                <a:latin typeface="华文新魏"/>
                <a:ea typeface="华文新魏"/>
              </a:rPr>
              <a:t>罪</a:t>
            </a:r>
            <a:r>
              <a:rPr b="1" lang="zh-CN" sz="4400" spc="-1" strike="noStrike">
                <a:solidFill>
                  <a:srgbClr val="0e6a2a"/>
                </a:solidFill>
                <a:latin typeface="华文新魏"/>
                <a:ea typeface="华文新魏"/>
              </a:rPr>
              <a:t>臣 　　罪：加罪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12120" indent="0">
              <a:lnSpc>
                <a:spcPct val="9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6a2a"/>
                </a:solidFill>
                <a:latin typeface="华文新魏"/>
                <a:ea typeface="华文新魏"/>
              </a:rPr>
              <a:t>  </a:t>
            </a:r>
            <a:r>
              <a:rPr b="1" lang="zh-CN" sz="4400" spc="-1" strike="noStrike">
                <a:solidFill>
                  <a:srgbClr val="0e6a2a"/>
                </a:solidFill>
                <a:latin typeface="华文新魏"/>
                <a:ea typeface="华文新魏"/>
              </a:rPr>
              <a:t>C. </a:t>
            </a:r>
            <a:r>
              <a:rPr b="1" lang="zh-CN" sz="4400" spc="-1" strike="noStrike" u="sng">
                <a:solidFill>
                  <a:srgbClr val="0e6a2a"/>
                </a:solidFill>
                <a:uFillTx/>
                <a:latin typeface="华文新魏"/>
                <a:ea typeface="华文新魏"/>
              </a:rPr>
              <a:t>避</a:t>
            </a:r>
            <a:r>
              <a:rPr b="1" lang="zh-CN" sz="4400" spc="-1" strike="noStrike">
                <a:solidFill>
                  <a:srgbClr val="0e6a2a"/>
                </a:solidFill>
                <a:latin typeface="华文新魏"/>
                <a:ea typeface="华文新魏"/>
              </a:rPr>
              <a:t>贤者之路   　　避：避开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12120" indent="0">
              <a:lnSpc>
                <a:spcPct val="9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6a2a"/>
                </a:solidFill>
                <a:latin typeface="华文新魏"/>
                <a:ea typeface="华文新魏"/>
              </a:rPr>
              <a:t>  </a:t>
            </a:r>
            <a:r>
              <a:rPr b="1" lang="zh-CN" sz="4400" spc="-1" strike="noStrike">
                <a:solidFill>
                  <a:srgbClr val="0e6a2a"/>
                </a:solidFill>
                <a:latin typeface="华文新魏"/>
                <a:ea typeface="华文新魏"/>
              </a:rPr>
              <a:t>D. </a:t>
            </a:r>
            <a:r>
              <a:rPr b="1" lang="zh-CN" sz="4400" spc="-1" strike="noStrike">
                <a:solidFill>
                  <a:srgbClr val="0e6a2a"/>
                </a:solidFill>
                <a:latin typeface="华文新魏"/>
                <a:ea typeface="华文新魏"/>
              </a:rPr>
              <a:t>景公乃下席而</a:t>
            </a:r>
            <a:r>
              <a:rPr b="1" lang="zh-CN" sz="4400" spc="-1" strike="noStrike" u="sng">
                <a:solidFill>
                  <a:srgbClr val="0e6a2a"/>
                </a:solidFill>
                <a:uFillTx/>
                <a:latin typeface="华文新魏"/>
                <a:ea typeface="华文新魏"/>
              </a:rPr>
              <a:t>谢</a:t>
            </a:r>
            <a:r>
              <a:rPr b="1" lang="zh-CN" sz="4400" spc="-1" strike="noStrike">
                <a:solidFill>
                  <a:srgbClr val="0e6a2a"/>
                </a:solidFill>
                <a:latin typeface="华文新魏"/>
                <a:ea typeface="华文新魏"/>
              </a:rPr>
              <a:t>之 谢：感谢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 rot="206400">
            <a:off x="3851280" y="5734080"/>
            <a:ext cx="34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楷体"/>
              </a:rPr>
              <a:t>D   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楷体"/>
              </a:rPr>
              <a:t>道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楷体"/>
              <a:ea typeface="华文楷体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27ac2"/>
                </a:solidFill>
                <a:latin typeface="Arial"/>
                <a:ea typeface="隶书"/>
              </a:rPr>
              <a:t>练  习</a:t>
            </a:r>
            <a:endParaRPr b="0" lang="en-US" sz="60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53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6a2a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e6a2a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e6a2a"/>
                </a:solidFill>
                <a:latin typeface="华文新魏"/>
                <a:ea typeface="华文新魏"/>
              </a:rPr>
              <a:t>下列各句中划线的词语在文中的意义</a:t>
            </a:r>
            <a:r>
              <a:rPr b="1" lang="zh-CN" sz="3600" spc="-1" strike="noStrike">
                <a:solidFill>
                  <a:srgbClr val="0e6a2a"/>
                </a:solidFill>
                <a:latin typeface="华文新魏"/>
                <a:ea typeface="华文新魏"/>
              </a:rPr>
              <a:t>, </a:t>
            </a:r>
            <a:r>
              <a:rPr b="1" lang="zh-CN" sz="3600" spc="-1" strike="noStrike">
                <a:solidFill>
                  <a:srgbClr val="0e6a2a"/>
                </a:solidFill>
                <a:latin typeface="华文新魏"/>
                <a:ea typeface="华文新魏"/>
              </a:rPr>
              <a:t>与现代汉语相同的一项是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6a2a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e6a2a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e6a2a"/>
                </a:solidFill>
                <a:latin typeface="Times New Roman"/>
                <a:ea typeface="Times New Roman"/>
              </a:rPr>
              <a:t>．臣请</a:t>
            </a:r>
            <a:r>
              <a:rPr b="1" lang="zh-CN" sz="3600" spc="-1" strike="noStrike" u="sng">
                <a:solidFill>
                  <a:srgbClr val="0e6a2a"/>
                </a:solidFill>
                <a:uFillTx/>
                <a:latin typeface="Times New Roman"/>
                <a:ea typeface="Times New Roman"/>
              </a:rPr>
              <a:t>改道</a:t>
            </a:r>
            <a:r>
              <a:rPr b="1" lang="zh-CN" sz="3600" spc="-1" strike="noStrike">
                <a:solidFill>
                  <a:srgbClr val="0e6a2a"/>
                </a:solidFill>
                <a:latin typeface="Times New Roman"/>
                <a:ea typeface="Times New Roman"/>
              </a:rPr>
              <a:t>易行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6a2a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6a2a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e6a2a"/>
                </a:solidFill>
                <a:latin typeface="Times New Roman"/>
                <a:ea typeface="Times New Roman"/>
              </a:rPr>
              <a:t>B</a:t>
            </a:r>
            <a:r>
              <a:rPr b="1" lang="zh-CN" sz="3600" spc="-1" strike="noStrike">
                <a:solidFill>
                  <a:srgbClr val="0e6a2a"/>
                </a:solidFill>
                <a:latin typeface="Times New Roman"/>
                <a:ea typeface="Times New Roman"/>
              </a:rPr>
              <a:t>．</a:t>
            </a:r>
            <a:r>
              <a:rPr b="1" lang="zh-CN" sz="3600" spc="-1" strike="noStrike" u="sng">
                <a:solidFill>
                  <a:srgbClr val="0e6a2a"/>
                </a:solidFill>
                <a:uFillTx/>
                <a:latin typeface="Times New Roman"/>
                <a:ea typeface="Times New Roman"/>
              </a:rPr>
              <a:t>仓库</a:t>
            </a:r>
            <a:r>
              <a:rPr b="1" lang="zh-CN" sz="3600" spc="-1" strike="noStrike">
                <a:solidFill>
                  <a:srgbClr val="0e6a2a"/>
                </a:solidFill>
                <a:latin typeface="Times New Roman"/>
                <a:ea typeface="Times New Roman"/>
              </a:rPr>
              <a:t>少内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6a2a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e6a2a"/>
                </a:solidFill>
                <a:latin typeface="Times New Roman"/>
                <a:ea typeface="Times New Roman"/>
              </a:rPr>
              <a:t>C</a:t>
            </a:r>
            <a:r>
              <a:rPr b="1" lang="zh-CN" sz="3600" spc="-1" strike="noStrike">
                <a:solidFill>
                  <a:srgbClr val="0e6a2a"/>
                </a:solidFill>
                <a:latin typeface="Times New Roman"/>
                <a:ea typeface="Times New Roman"/>
              </a:rPr>
              <a:t>．</a:t>
            </a:r>
            <a:r>
              <a:rPr b="1" lang="zh-CN" sz="3600" spc="-1" strike="noStrike" u="sng">
                <a:solidFill>
                  <a:srgbClr val="0e6a2a"/>
                </a:solidFill>
                <a:uFillTx/>
                <a:latin typeface="Times New Roman"/>
                <a:ea typeface="Times New Roman"/>
              </a:rPr>
              <a:t>陂池</a:t>
            </a:r>
            <a:r>
              <a:rPr b="1" lang="zh-CN" sz="3600" spc="-1" strike="noStrike">
                <a:solidFill>
                  <a:srgbClr val="0e6a2a"/>
                </a:solidFill>
                <a:latin typeface="Times New Roman"/>
                <a:ea typeface="Times New Roman"/>
              </a:rPr>
              <a:t>之鱼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6a2a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e6a2a"/>
                </a:solidFill>
                <a:latin typeface="Times New Roman"/>
                <a:ea typeface="Times New Roman"/>
              </a:rPr>
              <a:t>D</a:t>
            </a:r>
            <a:r>
              <a:rPr b="1" lang="zh-CN" sz="3600" spc="-1" strike="noStrike">
                <a:solidFill>
                  <a:srgbClr val="0e6a2a"/>
                </a:solidFill>
                <a:latin typeface="Times New Roman"/>
                <a:ea typeface="Times New Roman"/>
              </a:rPr>
              <a:t>．属托</a:t>
            </a:r>
            <a:r>
              <a:rPr b="1" lang="zh-CN" sz="3600" spc="-1" strike="noStrike" u="sng">
                <a:solidFill>
                  <a:srgbClr val="0e6a2a"/>
                </a:solidFill>
                <a:uFillTx/>
                <a:latin typeface="Times New Roman"/>
                <a:ea typeface="Times New Roman"/>
              </a:rPr>
              <a:t>不行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6948360" y="3789360"/>
            <a:ext cx="1252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866" name=""/>
          <p:cNvSpPr/>
          <p:nvPr/>
        </p:nvSpPr>
        <p:spPr>
          <a:xfrm>
            <a:off x="1547640" y="4653000"/>
            <a:ext cx="367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780a"/>
                </a:solidFill>
                <a:latin typeface="Arial"/>
              </a:rPr>
              <a:t>古今 ：水泽池塘 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332000" y="220500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852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e98521"/>
                </a:solidFill>
                <a:latin typeface="Arial"/>
              </a:rPr>
              <a:t>更换行事方法 </a:t>
            </a:r>
            <a:r>
              <a:rPr b="1" lang="zh-CN" sz="3600" spc="-1" strike="noStrike">
                <a:solidFill>
                  <a:srgbClr val="e98521"/>
                </a:solidFill>
                <a:latin typeface="Arial"/>
              </a:rPr>
              <a:t>/ </a:t>
            </a:r>
            <a:r>
              <a:rPr b="1" lang="zh-CN" sz="3600" spc="-1" strike="noStrike">
                <a:solidFill>
                  <a:srgbClr val="e98521"/>
                </a:solidFill>
                <a:latin typeface="Arial"/>
              </a:rPr>
              <a:t>今：改变行动路线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403280" y="34290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8521"/>
                </a:solidFill>
                <a:latin typeface="Arial"/>
              </a:rPr>
              <a:t>国库 </a:t>
            </a:r>
            <a:r>
              <a:rPr b="1" lang="zh-CN" sz="3600" spc="-1" strike="noStrike">
                <a:solidFill>
                  <a:srgbClr val="e98521"/>
                </a:solidFill>
                <a:latin typeface="Arial"/>
              </a:rPr>
              <a:t>/ </a:t>
            </a:r>
            <a:r>
              <a:rPr b="1" lang="zh-CN" sz="3600" spc="-1" strike="noStrike">
                <a:solidFill>
                  <a:srgbClr val="e98521"/>
                </a:solidFill>
                <a:latin typeface="Arial"/>
              </a:rPr>
              <a:t>今：泛指仓库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547640" y="5950080"/>
            <a:ext cx="56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8521"/>
                </a:solidFill>
                <a:latin typeface="Arial"/>
              </a:rPr>
              <a:t>不做 </a:t>
            </a:r>
            <a:r>
              <a:rPr b="1" lang="zh-CN" sz="3600" spc="-1" strike="noStrike">
                <a:solidFill>
                  <a:srgbClr val="e98521"/>
                </a:solidFill>
                <a:latin typeface="Arial"/>
              </a:rPr>
              <a:t>/ </a:t>
            </a:r>
            <a:r>
              <a:rPr b="1" lang="zh-CN" sz="3600" spc="-1" strike="noStrike">
                <a:solidFill>
                  <a:srgbClr val="e98521"/>
                </a:solidFill>
                <a:latin typeface="Arial"/>
              </a:rPr>
              <a:t>今</a:t>
            </a:r>
            <a:r>
              <a:rPr b="1" lang="zh-CN" sz="3600" spc="-1" strike="noStrike">
                <a:solidFill>
                  <a:srgbClr val="e98521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e98521"/>
                </a:solidFill>
                <a:latin typeface="Arial"/>
              </a:rPr>
              <a:t>不可以、不中用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0" y="6048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871" name="PlaceHolder 1"/>
          <p:cNvSpPr>
            <a:spLocks noGrp="1"/>
          </p:cNvSpPr>
          <p:nvPr>
            <p:ph/>
          </p:nvPr>
        </p:nvSpPr>
        <p:spPr>
          <a:xfrm>
            <a:off x="-360" y="692280"/>
            <a:ext cx="93963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6a2a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e6a2a"/>
                </a:solidFill>
                <a:latin typeface="Arial"/>
              </a:rPr>
              <a:t>、比较下列两组句子中划线字的用法，判   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6a2a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e6a2a"/>
                </a:solidFill>
                <a:latin typeface="Arial"/>
              </a:rPr>
              <a:t>断正确的一项是 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6a2a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e6a2a"/>
                </a:solidFill>
                <a:latin typeface="华文新魏"/>
                <a:ea typeface="华文新魏"/>
              </a:rPr>
              <a:t>今臣</a:t>
            </a:r>
            <a:r>
              <a:rPr b="1" lang="zh-CN" sz="4000" spc="-1" strike="noStrike" u="sng">
                <a:solidFill>
                  <a:srgbClr val="0e6a2a"/>
                </a:solidFill>
                <a:uFillTx/>
                <a:latin typeface="华文新魏"/>
                <a:ea typeface="华文新魏"/>
              </a:rPr>
              <a:t>之</a:t>
            </a:r>
            <a:r>
              <a:rPr b="1" lang="zh-CN" sz="4000" spc="-1" strike="noStrike">
                <a:solidFill>
                  <a:srgbClr val="0e6a2a"/>
                </a:solidFill>
                <a:latin typeface="华文新魏"/>
                <a:ea typeface="华文新魏"/>
              </a:rPr>
              <a:t>治东阿     今子治</a:t>
            </a:r>
            <a:r>
              <a:rPr b="1" lang="zh-CN" sz="4000" spc="-1" strike="noStrike" u="sng">
                <a:solidFill>
                  <a:srgbClr val="0e6a2a"/>
                </a:solidFill>
                <a:uFillTx/>
                <a:latin typeface="华文新魏"/>
                <a:ea typeface="华文新魏"/>
              </a:rPr>
              <a:t>而</a:t>
            </a:r>
            <a:r>
              <a:rPr b="1" lang="zh-CN" sz="4000" spc="-1" strike="noStrike">
                <a:solidFill>
                  <a:srgbClr val="0e6a2a"/>
                </a:solidFill>
                <a:latin typeface="华文新魏"/>
                <a:ea typeface="华文新魏"/>
              </a:rPr>
              <a:t>乱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e6a2a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0e6a2a"/>
                </a:solidFill>
                <a:latin typeface="华文新魏"/>
                <a:ea typeface="华文新魏"/>
              </a:rPr>
              <a:t>景公许</a:t>
            </a:r>
            <a:r>
              <a:rPr b="1" lang="zh-CN" sz="4000" spc="-1" strike="noStrike" u="sng">
                <a:solidFill>
                  <a:srgbClr val="0e6a2a"/>
                </a:solidFill>
                <a:uFillTx/>
                <a:latin typeface="华文新魏"/>
                <a:ea typeface="华文新魏"/>
              </a:rPr>
              <a:t>之</a:t>
            </a:r>
            <a:r>
              <a:rPr b="1" lang="zh-CN" sz="4000" spc="-1" strike="noStrike">
                <a:solidFill>
                  <a:srgbClr val="0e6a2a"/>
                </a:solidFill>
                <a:latin typeface="华文新魏"/>
                <a:ea typeface="华文新魏"/>
              </a:rPr>
              <a:t>         景公迎</a:t>
            </a:r>
            <a:r>
              <a:rPr b="1" lang="zh-CN" sz="4000" spc="-1" strike="noStrike" u="sng">
                <a:solidFill>
                  <a:srgbClr val="0e6a2a"/>
                </a:solidFill>
                <a:uFillTx/>
                <a:latin typeface="华文新魏"/>
                <a:ea typeface="华文新魏"/>
              </a:rPr>
              <a:t>而</a:t>
            </a:r>
            <a:r>
              <a:rPr b="1" lang="zh-CN" sz="4000" spc="-1" strike="noStrike">
                <a:solidFill>
                  <a:srgbClr val="0e6a2a"/>
                </a:solidFill>
                <a:latin typeface="华文新魏"/>
                <a:ea typeface="华文新魏"/>
              </a:rPr>
              <a:t>贺之曰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6a2a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e6a2a"/>
                </a:solidFill>
                <a:latin typeface="Arial"/>
              </a:rPr>
              <a:t>A. </a:t>
            </a:r>
            <a:r>
              <a:rPr b="1" lang="zh-CN" sz="3600" spc="-1" strike="noStrike">
                <a:solidFill>
                  <a:srgbClr val="0e6a2a"/>
                </a:solidFill>
                <a:latin typeface="Arial"/>
              </a:rPr>
              <a:t>两个“之”字相同，两个“而”字不同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6a2a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e6a2a"/>
                </a:solidFill>
                <a:latin typeface="Arial"/>
              </a:rPr>
              <a:t>B. </a:t>
            </a:r>
            <a:r>
              <a:rPr b="1" lang="zh-CN" sz="3600" spc="-1" strike="noStrike">
                <a:solidFill>
                  <a:srgbClr val="0e6a2a"/>
                </a:solidFill>
                <a:latin typeface="Arial"/>
              </a:rPr>
              <a:t>两个“之”字相同，两个“而”字也相同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6a2a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e6a2a"/>
                </a:solidFill>
                <a:latin typeface="Arial"/>
              </a:rPr>
              <a:t>C. </a:t>
            </a:r>
            <a:r>
              <a:rPr b="1" lang="zh-CN" sz="3600" spc="-1" strike="noStrike">
                <a:solidFill>
                  <a:srgbClr val="0e6a2a"/>
                </a:solidFill>
                <a:latin typeface="Arial"/>
              </a:rPr>
              <a:t>两个“之”字不同，两个“而”字相同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6a2a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e6a2a"/>
                </a:solidFill>
                <a:latin typeface="Arial"/>
              </a:rPr>
              <a:t>D. </a:t>
            </a:r>
            <a:r>
              <a:rPr b="1" lang="zh-CN" sz="3600" spc="-1" strike="noStrike">
                <a:solidFill>
                  <a:srgbClr val="0e6a2a"/>
                </a:solidFill>
                <a:latin typeface="Arial"/>
              </a:rPr>
              <a:t>两个“之”字不同，两个“而”字也不同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4284720" y="1341360"/>
            <a:ext cx="93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873" name=""/>
          <p:cNvSpPr/>
          <p:nvPr/>
        </p:nvSpPr>
        <p:spPr>
          <a:xfrm>
            <a:off x="684360" y="2349360"/>
            <a:ext cx="215640" cy="935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643280" y="234936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      </a:t>
            </a: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晏子是春秋时期著名的思想家、政治家和外交家。名婴，谥曰平，字仲，故又称晏仲或晏平。由于其影响甚大，被人尊称为晏子。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      晏子忠君而不保守，机智灵活而不固执呆板，遵礼尚贤而又节俭爱民。他是一个丑陋的矮个子，却当上相国。不仅当上相国，而且能够以各种巧妙的方式，</a:t>
            </a:r>
            <a:r>
              <a:rPr b="1" lang="zh-CN" sz="3600" spc="-1" strike="noStrike">
                <a:solidFill>
                  <a:srgbClr val="cc0099"/>
                </a:solidFill>
                <a:latin typeface="华文新魏"/>
                <a:ea typeface="华文新魏"/>
              </a:rPr>
              <a:t>影响灵公、庄公、景公三代君主和臣民，</a:t>
            </a: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并使齐国的影响，在春秋各国中不可小视。在中国历史上充满智慧的人物中</a:t>
            </a: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, </a:t>
            </a:r>
            <a:r>
              <a:rPr b="1" lang="zh-CN" sz="3600" spc="-1" strike="noStrike">
                <a:solidFill>
                  <a:srgbClr val="5b5249"/>
                </a:solidFill>
                <a:latin typeface="华文新魏"/>
                <a:ea typeface="华文新魏"/>
              </a:rPr>
              <a:t>晏婴是很独特的一个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4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以下句子分别编为四组，全与晏子治理东阿正确作法有关的一组是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①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臣请改道易行而治东阿  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②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属托不行，货赂不至  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③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甚善矣，子之治东阿也  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④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并曾赋敛，仓库少内  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⑤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陂池之鱼，以利贫民 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⑥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当此之时，民无饥者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A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．①③⑥        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B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．②⑤ 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C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．①④          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D</a:t>
            </a: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．②③⑤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7020000" y="5229360"/>
            <a:ext cx="143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877" name=""/>
          <p:cNvSpPr/>
          <p:nvPr/>
        </p:nvSpPr>
        <p:spPr>
          <a:xfrm>
            <a:off x="5151600" y="148428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8521"/>
                </a:solidFill>
                <a:latin typeface="黑体"/>
                <a:ea typeface="黑体"/>
              </a:rPr>
              <a:t>不是做法</a:t>
            </a:r>
            <a:r>
              <a:rPr b="1" lang="zh-CN" sz="3600" spc="-1" strike="noStrike">
                <a:solidFill>
                  <a:srgbClr val="e98521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e98521"/>
                </a:solidFill>
                <a:latin typeface="华文新魏"/>
                <a:ea typeface="华文新魏"/>
              </a:rPr>
              <a:t>是请求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006880" y="2708280"/>
            <a:ext cx="41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8521"/>
                </a:solidFill>
                <a:latin typeface="华文新魏"/>
                <a:ea typeface="华文新魏"/>
              </a:rPr>
              <a:t>景公</a:t>
            </a:r>
            <a:r>
              <a:rPr b="1" lang="zh-CN" sz="3600" spc="-1" strike="noStrike">
                <a:solidFill>
                  <a:srgbClr val="e98521"/>
                </a:solidFill>
                <a:latin typeface="黑体"/>
                <a:ea typeface="黑体"/>
              </a:rPr>
              <a:t>称赞晏子</a:t>
            </a:r>
            <a:r>
              <a:rPr b="1" lang="zh-CN" sz="3600" spc="-1" strike="noStrike">
                <a:solidFill>
                  <a:srgbClr val="e98521"/>
                </a:solidFill>
                <a:latin typeface="华文新魏"/>
                <a:ea typeface="华文新魏"/>
              </a:rPr>
              <a:t>的话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637160" y="3357720"/>
            <a:ext cx="45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8521"/>
                </a:solidFill>
                <a:latin typeface="华文新魏"/>
                <a:ea typeface="华文新魏"/>
              </a:rPr>
              <a:t>二治东阿的</a:t>
            </a:r>
            <a:r>
              <a:rPr b="1" lang="zh-CN" sz="3600" spc="-1" strike="noStrike">
                <a:solidFill>
                  <a:srgbClr val="e98521"/>
                </a:solidFill>
                <a:latin typeface="黑体"/>
                <a:ea typeface="黑体"/>
              </a:rPr>
              <a:t>错误做法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334120" y="450864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8521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e98521"/>
                </a:solidFill>
                <a:latin typeface="华文新魏"/>
                <a:ea typeface="华文新魏"/>
              </a:rPr>
              <a:t>治理东阿的</a:t>
            </a:r>
            <a:r>
              <a:rPr b="1" lang="zh-CN" sz="3600" spc="-1" strike="noStrike">
                <a:solidFill>
                  <a:srgbClr val="e98521"/>
                </a:solidFill>
                <a:latin typeface="黑体"/>
                <a:ea typeface="黑体"/>
              </a:rPr>
              <a:t>业绩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2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7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2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/>
          </p:nvPr>
        </p:nvSpPr>
        <p:spPr>
          <a:xfrm>
            <a:off x="-324000" y="404640"/>
            <a:ext cx="9468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e6a2a"/>
                </a:solidFill>
                <a:latin typeface="幼圆"/>
                <a:ea typeface="幼圆"/>
              </a:rPr>
              <a:t>5.</a:t>
            </a:r>
            <a:r>
              <a:rPr b="1" lang="zh-CN" sz="3200" spc="-1" strike="noStrike">
                <a:solidFill>
                  <a:srgbClr val="0e6a2a"/>
                </a:solidFill>
                <a:latin typeface="幼圆"/>
                <a:ea typeface="幼圆"/>
              </a:rPr>
              <a:t>下列对原文内容的叙述和分析</a:t>
            </a:r>
            <a:r>
              <a:rPr b="1" lang="zh-CN" sz="3200" spc="-1" strike="noStrike">
                <a:solidFill>
                  <a:srgbClr val="0e6a2a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e6a2a"/>
                </a:solidFill>
                <a:latin typeface="幼圆"/>
                <a:ea typeface="幼圆"/>
              </a:rPr>
              <a:t>不正确的一项是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e6a2a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e6a2a"/>
                </a:solidFill>
                <a:uFillTx/>
                <a:latin typeface="黑体"/>
                <a:ea typeface="黑体"/>
              </a:rPr>
              <a:t>A</a:t>
            </a:r>
            <a:r>
              <a:rPr b="1" lang="zh-CN" sz="3200" spc="-1" strike="noStrike" u="sng">
                <a:solidFill>
                  <a:srgbClr val="0e6a2a"/>
                </a:solidFill>
                <a:uFillTx/>
                <a:latin typeface="黑体"/>
                <a:ea typeface="黑体"/>
              </a:rPr>
              <a:t>．晏子先前治理东阿，三年恪尽职守、廉洁自律、—心为民，虽然把东阿治理得好好的，但却遭受到景公的责怪，而且还要大大地责罚他。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e6a2a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e6a2a"/>
                </a:solidFill>
                <a:uFillTx/>
                <a:latin typeface="黑体"/>
                <a:ea typeface="黑体"/>
              </a:rPr>
              <a:t>B</a:t>
            </a:r>
            <a:r>
              <a:rPr b="1" lang="zh-CN" sz="3200" spc="-1" strike="noStrike" u="sng">
                <a:solidFill>
                  <a:srgbClr val="0e6a2a"/>
                </a:solidFill>
                <a:uFillTx/>
                <a:latin typeface="黑体"/>
                <a:ea typeface="黑体"/>
              </a:rPr>
              <a:t>．晏子第二次治理东阿</a:t>
            </a:r>
            <a:r>
              <a:rPr b="1" lang="zh-CN" sz="3200" spc="-1" strike="noStrike" u="sng">
                <a:solidFill>
                  <a:srgbClr val="0e6a2a"/>
                </a:solidFill>
                <a:uFillTx/>
                <a:latin typeface="黑体"/>
                <a:ea typeface="黑体"/>
              </a:rPr>
              <a:t>,</a:t>
            </a:r>
            <a:r>
              <a:rPr b="1" lang="zh-CN" sz="3200" spc="-1" strike="noStrike" u="sng">
                <a:solidFill>
                  <a:srgbClr val="0e6a2a"/>
                </a:solidFill>
                <a:uFillTx/>
                <a:latin typeface="黑体"/>
                <a:ea typeface="黑体"/>
              </a:rPr>
              <a:t>他“改道易行”，采取广征多敛、少向国家交纳赋税的策略，结果尽管没治理好东阿，百姓饥饿难挨，但景公却迎接祝贺，并且赞扬他有成绩。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e6a2a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e6a2a"/>
                </a:solidFill>
                <a:uFillTx/>
                <a:latin typeface="黑体"/>
                <a:ea typeface="黑体"/>
              </a:rPr>
              <a:t>C</a:t>
            </a:r>
            <a:r>
              <a:rPr b="1" lang="zh-CN" sz="3200" spc="-1" strike="noStrike" u="sng">
                <a:solidFill>
                  <a:srgbClr val="0e6a2a"/>
                </a:solidFill>
                <a:uFillTx/>
                <a:latin typeface="黑体"/>
                <a:ea typeface="黑体"/>
              </a:rPr>
              <a:t>．晏子治理好东阿时遭责罚，治理不好时却反而受到赞赏。究其深层原因，不难推断出是景公偏听偏信、不做实际调查研究所致。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e6a2a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e6a2a"/>
                </a:solidFill>
                <a:uFillTx/>
                <a:latin typeface="黑体"/>
                <a:ea typeface="黑体"/>
              </a:rPr>
              <a:t>D</a:t>
            </a:r>
            <a:r>
              <a:rPr b="1" lang="zh-CN" sz="3200" spc="-1" strike="noStrike" u="sng">
                <a:solidFill>
                  <a:srgbClr val="0e6a2a"/>
                </a:solidFill>
                <a:uFillTx/>
                <a:latin typeface="黑体"/>
                <a:ea typeface="黑体"/>
              </a:rPr>
              <a:t>．面对偏听偏信，不做实际调查就轻下结论从而赏罚不明的景公，晏子已经不屑再为他做事，虽然景公封他为“东阿王” ，但不能动摇他 “避贤者之路”的归隐决心。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3132000" y="2637000"/>
            <a:ext cx="247680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e6a2a"/>
                </a:solidFill>
                <a:latin typeface="华文新魏"/>
                <a:ea typeface="华文新魏"/>
              </a:rPr>
              <a:t>晏子的目的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e6a2a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e6a2a"/>
                </a:solidFill>
                <a:latin typeface="华文新魏"/>
                <a:ea typeface="华文新魏"/>
              </a:rPr>
              <a:t>用事实说话，明用人之道。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e6a2a"/>
                </a:solidFill>
                <a:latin typeface="华文新魏"/>
                <a:ea typeface="华文新魏"/>
              </a:rPr>
              <a:t>刘向的用意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e6a2a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e6a2a"/>
                </a:solidFill>
                <a:latin typeface="华文新魏"/>
                <a:ea typeface="华文新魏"/>
              </a:rPr>
              <a:t>劝君主：勿聚敛，任贤能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3132000" y="907920"/>
            <a:ext cx="273528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小结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3"/>
          <a:stretch/>
        </p:blipFill>
        <p:spPr>
          <a:xfrm>
            <a:off x="5940360" y="5084640"/>
            <a:ext cx="122400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70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04176"/>
                </a:solidFill>
                <a:latin typeface="Arial"/>
                <a:ea typeface="隶书"/>
              </a:rPr>
              <a:t>景公中兴</a:t>
            </a:r>
            <a:endParaRPr b="0" lang="en-US" sz="6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84618"/>
                </a:solidFill>
                <a:latin typeface="Arial"/>
                <a:ea typeface="华文新魏"/>
              </a:rPr>
              <a:t>        </a:t>
            </a:r>
            <a:r>
              <a:rPr b="0" lang="zh-CN" sz="4400" spc="-1" strike="noStrike">
                <a:solidFill>
                  <a:srgbClr val="d84618"/>
                </a:solidFill>
                <a:latin typeface="Arial"/>
                <a:ea typeface="华文新魏"/>
              </a:rPr>
              <a:t>齐景公此后认定晏子是一个德才兼备的人，便更加敬重他，并任命他为国相。在晏子的精心辅佐下，齐国日益兴盛，史称“景公中兴”。</a:t>
            </a:r>
            <a:br>
              <a:rPr sz="4400"/>
            </a:br>
            <a:r>
              <a:rPr b="0" lang="zh-CN" sz="4400" spc="-1" strike="noStrike">
                <a:solidFill>
                  <a:srgbClr val="d8461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84618"/>
                </a:solidFill>
                <a:latin typeface="Arial"/>
                <a:ea typeface="华文新魏"/>
              </a:rPr>
              <a:t> 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04176"/>
                </a:solidFill>
                <a:latin typeface="Arial"/>
              </a:rPr>
              <a:t>思考</a:t>
            </a:r>
            <a:endParaRPr b="0" lang="en-US" sz="5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176"/>
                </a:solidFill>
                <a:latin typeface="Arial"/>
                <a:ea typeface="华文新魏"/>
              </a:rPr>
              <a:t>除了默认错误，晏子还可以怎样对待国君的责备？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176"/>
                </a:solidFill>
                <a:latin typeface="Arial"/>
                <a:ea typeface="华文新魏"/>
              </a:rPr>
              <a:t>晏子默认错误并请求二治东阿，只是为了证明自己清白吗？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176"/>
                </a:solidFill>
                <a:latin typeface="Arial"/>
                <a:ea typeface="华文新魏"/>
              </a:rPr>
              <a:t>晏子“乱治”东阿三年，你认为值不值得？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4"/>
          <a:stretch/>
        </p:blipFill>
        <p:spPr>
          <a:xfrm>
            <a:off x="5580000" y="590400"/>
            <a:ext cx="1008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176"/>
                </a:solidFill>
                <a:latin typeface="Arial"/>
              </a:rPr>
              <a:t>齐景公痛失晏子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176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404176"/>
                </a:solidFill>
                <a:latin typeface="黑体"/>
                <a:ea typeface="黑体"/>
              </a:rPr>
              <a:t>晏子死了。齐景公在游玩时听说了这一消息，就催促赶快驾车回去。景公自认为马跑得太慢，就下车自己跑，但还是没有车子跑得快，就又上了车，先后四次下车急跑。最后是边走边哭，进了晏子家，然后伏在晏子的尸体上放声大哭，说：</a:t>
            </a:r>
            <a:r>
              <a:rPr b="0" lang="zh-CN" sz="3200" spc="-1" strike="noStrike">
                <a:solidFill>
                  <a:srgbClr val="404176"/>
                </a:solidFill>
                <a:latin typeface="黑体"/>
                <a:ea typeface="黑体"/>
              </a:rPr>
              <a:t>"</a:t>
            </a:r>
            <a:r>
              <a:rPr b="0" lang="zh-CN" sz="3200" spc="-1" strike="noStrike">
                <a:solidFill>
                  <a:srgbClr val="404176"/>
                </a:solidFill>
                <a:latin typeface="黑体"/>
                <a:ea typeface="黑体"/>
              </a:rPr>
              <a:t>先生不分白天黑夜地规劝我，细小的过失也不放过，我还是纵欲放荡而不知收敛。灾祸没落在我的头上，却落在先生的身上，齐国危险了，百姓将向谁去诉说啊！</a:t>
            </a:r>
            <a:r>
              <a:rPr b="0" lang="zh-CN" sz="3200" spc="-1" strike="noStrike">
                <a:solidFill>
                  <a:srgbClr val="404176"/>
                </a:solidFill>
                <a:latin typeface="黑体"/>
                <a:ea typeface="黑体"/>
              </a:rPr>
              <a:t>"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17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176"/>
                </a:solidFill>
                <a:latin typeface="Arial"/>
              </a:rPr>
              <a:t>阅读下面一段文言文，完成</a:t>
            </a:r>
            <a:r>
              <a:rPr b="0" lang="zh-CN" sz="4000" spc="-1" strike="noStrike">
                <a:solidFill>
                  <a:srgbClr val="404176"/>
                </a:solidFill>
                <a:latin typeface="Arial"/>
              </a:rPr>
              <a:t>1—6</a:t>
            </a:r>
            <a:r>
              <a:rPr b="0" lang="zh-CN" sz="4000" spc="-1" strike="noStrike">
                <a:solidFill>
                  <a:srgbClr val="404176"/>
                </a:solidFill>
                <a:latin typeface="Arial"/>
              </a:rPr>
              <a:t>题。 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176"/>
                </a:solidFill>
                <a:latin typeface="Arial"/>
              </a:rPr>
              <a:t>晏子治东阿三年，景公召而数之曰：“吾以子为可，而使子治东阿，今子治而乱。子退而自察也，寡人将加大诛于子。”晏子对曰：“臣请改道易行而治东阿，三年不治，臣请死之。”景公许之。于是明年上计（年终考核地方官的治绩），景公迎而贺之曰：“甚善矣，子之治东阿也！”晏子对曰：“前臣之治东阿也，属托不行，货赂不至；陂池之鱼，以利贫民。当此之时，民无饥者，而君反以罪臣。今臣之治东阿也，属托行，货赂至，并曾赋敛，仓库少内，便事左右，陂波之鱼，入于权家。当此之时，饥者过半矣，君乃反迎而贺。臣愚不能复治东阿，愿乞骸骨，避贤者之路。”再拜便辟。景公乃下席而谢之曰：“子强复治东阿。东阿者 ，子之东阿也，寡人无复与焉。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7634160" y="1600200"/>
            <a:ext cx="671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rot="5400000">
            <a:off x="4566600" y="1552320"/>
            <a:ext cx="5724720" cy="3429000"/>
          </a:xfrm>
          <a:prstGeom prst="horizontalScroll">
            <a:avLst>
              <a:gd name="adj" fmla="val 12500"/>
            </a:avLst>
          </a:prstGeom>
          <a:solidFill>
            <a:srgbClr val="fcefec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153280" y="1219320"/>
            <a:ext cx="54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743880" y="1135080"/>
            <a:ext cx="54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934320" y="647712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1" name=""/>
          <p:cNvSpPr txBox="1"/>
          <p:nvPr/>
        </p:nvSpPr>
        <p:spPr>
          <a:xfrm rot="5400000">
            <a:off x="5291640" y="2853360"/>
            <a:ext cx="431964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晏子知多少？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02" name=""/>
          <p:cNvSpPr/>
          <p:nvPr/>
        </p:nvSpPr>
        <p:spPr>
          <a:xfrm>
            <a:off x="250920" y="0"/>
            <a:ext cx="5329080" cy="68580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5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90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620640"/>
            <a:ext cx="4178520" cy="5689800"/>
          </a:xfrm>
          <a:prstGeom prst="rect">
            <a:avLst/>
          </a:prstGeom>
          <a:ln w="9360">
            <a:solidFill>
              <a:srgbClr val="56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-3967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ba10f"/>
                </a:solidFill>
                <a:latin typeface="方正舒体"/>
                <a:ea typeface="方正舒体"/>
              </a:rPr>
              <a:t>名 句 采 撷</a:t>
            </a:r>
            <a:endParaRPr b="0" lang="en-US" sz="5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5280" y="1628640"/>
            <a:ext cx="7991640" cy="44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                </a:t>
            </a: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人不学</a:t>
            </a: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 u="sng">
                <a:solidFill>
                  <a:srgbClr val="404176"/>
                </a:solidFill>
                <a:uFillTx/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;</a:t>
            </a: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玉不琢</a:t>
            </a:r>
            <a:r>
              <a:rPr b="1" lang="zh-CN" sz="3200" spc="-1" strike="noStrike" u="sng">
                <a:solidFill>
                  <a:srgbClr val="404176"/>
                </a:solidFill>
                <a:uFillTx/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故</a:t>
            </a:r>
            <a:r>
              <a:rPr b="1" lang="zh-CN" sz="3200" spc="-1" strike="noStrike" u="sng">
                <a:solidFill>
                  <a:srgbClr val="404176"/>
                </a:solidFill>
                <a:uFillTx/>
                <a:latin typeface="华文新魏"/>
                <a:ea typeface="华文新魏"/>
              </a:rPr>
              <a:t>                     </a:t>
            </a: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，无以至千 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里；</a:t>
            </a:r>
            <a:r>
              <a:rPr b="1" lang="zh-CN" sz="3200" spc="-1" strike="noStrike" u="sng">
                <a:solidFill>
                  <a:srgbClr val="404176"/>
                </a:solidFill>
                <a:uFillTx/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，无以成江海。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骐骥一跃，</a:t>
            </a:r>
            <a:r>
              <a:rPr b="1" lang="zh-CN" sz="3200" spc="-1" strike="noStrike" u="sng">
                <a:solidFill>
                  <a:srgbClr val="404176"/>
                </a:solidFill>
                <a:uFillTx/>
                <a:latin typeface="华文新魏"/>
                <a:ea typeface="华文新魏"/>
              </a:rPr>
              <a:t>                        </a:t>
            </a: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；                      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驽马十驾，</a:t>
            </a:r>
            <a:r>
              <a:rPr b="1" lang="zh-CN" sz="3200" spc="-1" strike="noStrike" u="sng">
                <a:solidFill>
                  <a:srgbClr val="404176"/>
                </a:solidFill>
                <a:uFillTx/>
                <a:latin typeface="华文新魏"/>
                <a:ea typeface="华文新魏"/>
              </a:rPr>
              <a:t>                          </a:t>
            </a: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。    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 u="sng">
                <a:solidFill>
                  <a:srgbClr val="404176"/>
                </a:solidFill>
                <a:uFillTx/>
                <a:latin typeface="华文新魏"/>
                <a:ea typeface="华文新魏"/>
              </a:rPr>
              <a:t>                </a:t>
            </a: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，</a:t>
            </a:r>
            <a:r>
              <a:rPr b="1" lang="zh-CN" sz="3200" spc="-1" strike="noStrike" u="sng">
                <a:solidFill>
                  <a:srgbClr val="404176"/>
                </a:solidFill>
                <a:uFillTx/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；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锲而不舍，  金石可镂。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          </a:t>
            </a: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桔生淮南则为桔</a:t>
            </a: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 u="sng">
                <a:solidFill>
                  <a:srgbClr val="404176"/>
                </a:solidFill>
                <a:uFillTx/>
                <a:latin typeface="华文新魏"/>
                <a:ea typeface="华文新魏"/>
              </a:rPr>
              <a:t>                               </a:t>
            </a:r>
            <a:r>
              <a:rPr b="1" lang="zh-CN" sz="3200" spc="-1" strike="noStrike">
                <a:solidFill>
                  <a:srgbClr val="404176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348000" y="1484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a10f"/>
                </a:solidFill>
                <a:latin typeface="华文楷体"/>
                <a:ea typeface="华文楷体"/>
              </a:rPr>
              <a:t>不知道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012000" y="1484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a10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ba10f"/>
                </a:solidFill>
                <a:latin typeface="华文楷体"/>
                <a:ea typeface="华文楷体"/>
              </a:rPr>
              <a:t>不成器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500720" y="5373720"/>
            <a:ext cx="35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a10f"/>
                </a:solidFill>
                <a:latin typeface="华文楷体"/>
                <a:ea typeface="华文楷体"/>
              </a:rPr>
              <a:t>生于淮北则为枳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268360" y="2060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a10f"/>
                </a:solidFill>
                <a:latin typeface="华文楷体"/>
                <a:ea typeface="华文楷体"/>
              </a:rPr>
              <a:t>不积跬步</a:t>
            </a:r>
            <a:r>
              <a:rPr b="0" lang="zh-CN" sz="3200" spc="-1" strike="noStrike">
                <a:solidFill>
                  <a:srgbClr val="fba10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411280" y="26370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a10f"/>
                </a:solidFill>
                <a:latin typeface="华文楷体"/>
                <a:ea typeface="华文楷体"/>
              </a:rPr>
              <a:t>不积小流</a:t>
            </a:r>
            <a:r>
              <a:rPr b="0" lang="zh-CN" sz="3200" spc="-1" strike="noStrike">
                <a:solidFill>
                  <a:srgbClr val="fba10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059280" y="3141720"/>
            <a:ext cx="26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a10f"/>
                </a:solidFill>
                <a:latin typeface="华文楷体"/>
                <a:ea typeface="华文楷体"/>
              </a:rPr>
              <a:t>不能十步</a:t>
            </a:r>
            <a:r>
              <a:rPr b="0" lang="zh-CN" sz="3200" spc="-1" strike="noStrike">
                <a:solidFill>
                  <a:srgbClr val="fba10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203640" y="3716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a10f"/>
                </a:solidFill>
                <a:latin typeface="华文楷体"/>
                <a:ea typeface="华文楷体"/>
              </a:rPr>
              <a:t>功在不舍</a:t>
            </a:r>
            <a:r>
              <a:rPr b="0" lang="zh-CN" sz="3200" spc="-1" strike="noStrike">
                <a:solidFill>
                  <a:srgbClr val="fba10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187280" y="4292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a10f"/>
                </a:solidFill>
                <a:latin typeface="华文楷体"/>
                <a:ea typeface="华文楷体"/>
              </a:rPr>
              <a:t>锲而舍之     朽木不折</a:t>
            </a:r>
            <a:r>
              <a:rPr b="0" lang="zh-CN" sz="3200" spc="-1" strike="noStrike">
                <a:solidFill>
                  <a:srgbClr val="fba10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9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5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66ff"/>
                </a:solidFill>
                <a:uFillTx/>
                <a:latin typeface="华文新魏"/>
                <a:ea typeface="华文新魏"/>
              </a:rPr>
              <a:t>齐侯问于晏子曰：“为政何患？”对曰：“患善恶之不分。”公曰：“何以察之？”对曰：“审择左右，左右善，则百僚各得其所宜而善恶分。”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66ff"/>
                </a:solidFill>
                <a:uFillTx/>
                <a:latin typeface="华文新魏"/>
                <a:ea typeface="华文新魏"/>
              </a:rPr>
              <a:t>孔子闻之曰：“此言也信矣，善言进，则不善无由入矣；不进善言，则善无由入矣。”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2843280" y="9079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华文新魏"/>
              </a:rPr>
              <a:t>为政何患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371600" y="32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a3d7a"/>
                </a:solidFill>
                <a:latin typeface="Times New Roman"/>
                <a:ea typeface="黑体"/>
              </a:rPr>
              <a:t>晏子治东阿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1719360" y="2852640"/>
            <a:ext cx="7424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9933"/>
                </a:solidFill>
                <a:latin typeface="Comic Sans MS"/>
                <a:ea typeface="华文新魏"/>
              </a:rPr>
              <a:t>有什么发现？</a:t>
            </a: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9933"/>
                </a:solidFill>
                <a:latin typeface="Comic Sans MS"/>
                <a:ea typeface="华文新魏"/>
              </a:rPr>
              <a:t>有什么疑惑？</a:t>
            </a: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187280" y="119700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66ff"/>
                </a:solidFill>
                <a:latin typeface="Times New Roman"/>
                <a:ea typeface="隶书"/>
              </a:rPr>
              <a:t>揣摩文意</a:t>
            </a:r>
            <a:endParaRPr b="0" lang="en-US" sz="7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1654200" y="13413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b853f"/>
                </a:solidFill>
                <a:latin typeface="Times New Roman"/>
                <a:ea typeface="华文彩云"/>
              </a:rPr>
              <a:t>朗读课文</a:t>
            </a:r>
            <a:endParaRPr b="0" lang="en-US" sz="6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050920" y="2997360"/>
            <a:ext cx="85410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Comic Sans MS"/>
                <a:ea typeface="华文行楷"/>
              </a:rPr>
              <a:t>读准字音</a:t>
            </a: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Comic Sans MS"/>
                <a:ea typeface="华文行楷"/>
              </a:rPr>
              <a:t>注意停顿</a:t>
            </a: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2268360" y="2924280"/>
            <a:ext cx="504036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349"/>
              </a:spcBef>
              <a:buClr>
                <a:srgbClr val="e67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6780a"/>
                </a:solidFill>
                <a:latin typeface="Comic Sans MS"/>
                <a:ea typeface="华文新魏"/>
              </a:rPr>
              <a:t>提出疑难</a:t>
            </a: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349"/>
              </a:spcBef>
              <a:buClr>
                <a:srgbClr val="e67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6780a"/>
                </a:solidFill>
                <a:latin typeface="Comic Sans MS"/>
                <a:ea typeface="华文新魏"/>
              </a:rPr>
              <a:t>讨论交流</a:t>
            </a: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1042920" y="1628640"/>
            <a:ext cx="3745080" cy="5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合作翻译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964720" cy="75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晏子治东阿，三年，景公召而</a:t>
            </a:r>
            <a:r>
              <a:rPr b="1" lang="zh-CN" sz="3000" spc="-1" strike="noStrike">
                <a:solidFill>
                  <a:srgbClr val="cc0099"/>
                </a:solidFill>
                <a:latin typeface="黑体"/>
                <a:ea typeface="黑体"/>
              </a:rPr>
              <a:t>数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之曰：“吾以子为可，而使子</a:t>
            </a:r>
            <a:r>
              <a:rPr b="1" lang="zh-CN" sz="3000" spc="-1" strike="noStrike">
                <a:solidFill>
                  <a:srgbClr val="cc0099"/>
                </a:solidFill>
                <a:latin typeface="黑体"/>
                <a:ea typeface="黑体"/>
              </a:rPr>
              <a:t>治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东阿，今子治而乱，子退而自</a:t>
            </a:r>
            <a:r>
              <a:rPr b="1" lang="zh-CN" sz="3000" spc="-1" strike="noStrike">
                <a:solidFill>
                  <a:srgbClr val="cc0099"/>
                </a:solidFill>
                <a:latin typeface="黑体"/>
                <a:ea typeface="黑体"/>
              </a:rPr>
              <a:t>察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也，寡人将加大</a:t>
            </a:r>
            <a:r>
              <a:rPr b="1" lang="zh-CN" sz="3000" spc="-1" strike="noStrike">
                <a:solidFill>
                  <a:srgbClr val="cc0099"/>
                </a:solidFill>
                <a:latin typeface="黑体"/>
                <a:ea typeface="黑体"/>
              </a:rPr>
              <a:t>诛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于子。”晏子对曰：“臣请</a:t>
            </a:r>
            <a:r>
              <a:rPr b="1" lang="zh-CN" sz="3000" spc="-1" strike="noStrike">
                <a:solidFill>
                  <a:srgbClr val="cc0099"/>
                </a:solidFill>
                <a:latin typeface="黑体"/>
                <a:ea typeface="黑体"/>
              </a:rPr>
              <a:t>改道易行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而治东阿，三年不</a:t>
            </a:r>
            <a:r>
              <a:rPr b="1" lang="zh-CN" sz="3000" spc="-1" strike="noStrike">
                <a:solidFill>
                  <a:srgbClr val="cc0099"/>
                </a:solidFill>
                <a:latin typeface="黑体"/>
                <a:ea typeface="黑体"/>
              </a:rPr>
              <a:t>治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臣请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死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之。”景公许之。于是明年上计，景公迎而贺之曰</a:t>
            </a:r>
            <a:r>
              <a:rPr b="1" lang="zh-CN" sz="3000" spc="-1" strike="noStrike">
                <a:solidFill>
                  <a:srgbClr val="cc0099"/>
                </a:solidFill>
                <a:latin typeface="黑体"/>
                <a:ea typeface="黑体"/>
              </a:rPr>
              <a:t>：</a:t>
            </a:r>
            <a:r>
              <a:rPr b="1" lang="zh-CN" sz="3000" spc="-1" strike="noStrike" u="sng">
                <a:solidFill>
                  <a:srgbClr val="cc0099"/>
                </a:solidFill>
                <a:uFillTx/>
                <a:latin typeface="黑体"/>
                <a:ea typeface="黑体"/>
              </a:rPr>
              <a:t>“甚善矣！子之治东阿也。”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晏子对曰：“前臣之治东阿也，</a:t>
            </a:r>
            <a:r>
              <a:rPr b="1" lang="zh-CN" sz="3000" spc="-1" strike="noStrike">
                <a:solidFill>
                  <a:srgbClr val="cc0099"/>
                </a:solidFill>
                <a:latin typeface="黑体"/>
                <a:ea typeface="黑体"/>
              </a:rPr>
              <a:t>属托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行，货赂不至，陂池之鱼，以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利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贫民，当此之时，民无饥者，而君反以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罪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臣；今臣后之治东阿也，属托行，货赂至，并</a:t>
            </a:r>
            <a:r>
              <a:rPr b="1" lang="zh-CN" sz="3000" spc="-1" strike="noStrike">
                <a:solidFill>
                  <a:srgbClr val="006600"/>
                </a:solidFill>
                <a:latin typeface="黑体"/>
                <a:ea typeface="黑体"/>
              </a:rPr>
              <a:t>曾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赋敛，仓库少</a:t>
            </a:r>
            <a:r>
              <a:rPr b="1" lang="zh-CN" sz="3000" spc="-1" strike="noStrike">
                <a:solidFill>
                  <a:srgbClr val="006600"/>
                </a:solidFill>
                <a:latin typeface="黑体"/>
                <a:ea typeface="黑体"/>
              </a:rPr>
              <a:t>内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000" spc="-1" strike="noStrike">
                <a:solidFill>
                  <a:srgbClr val="cc0099"/>
                </a:solidFill>
                <a:latin typeface="黑体"/>
                <a:ea typeface="黑体"/>
              </a:rPr>
              <a:t>便事左右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陂池之鱼，入于权家，当此之时，饥者过半矣，君乃反迎而贺。臣愚不能复治东阿，愿</a:t>
            </a:r>
            <a:r>
              <a:rPr b="1" lang="zh-CN" sz="3000" spc="-1" strike="noStrike">
                <a:solidFill>
                  <a:srgbClr val="cc0099"/>
                </a:solidFill>
                <a:latin typeface="黑体"/>
                <a:ea typeface="黑体"/>
              </a:rPr>
              <a:t>乞骸骨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避贤者之路。”再拜便</a:t>
            </a:r>
            <a:r>
              <a:rPr b="1" lang="zh-CN" sz="3000" spc="-1" strike="noStrike">
                <a:solidFill>
                  <a:srgbClr val="006600"/>
                </a:solidFill>
                <a:latin typeface="黑体"/>
                <a:ea typeface="黑体"/>
              </a:rPr>
              <a:t>辟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。景公乃下席而</a:t>
            </a:r>
            <a:r>
              <a:rPr b="1" lang="zh-CN" sz="3000" spc="-1" strike="noStrike">
                <a:solidFill>
                  <a:srgbClr val="cc0099"/>
                </a:solidFill>
                <a:latin typeface="黑体"/>
                <a:ea typeface="黑体"/>
              </a:rPr>
              <a:t>谢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之曰：“子</a:t>
            </a:r>
            <a:r>
              <a:rPr b="1" lang="zh-CN" sz="3000" spc="-1" strike="noStrike">
                <a:solidFill>
                  <a:srgbClr val="cc0099"/>
                </a:solidFill>
                <a:latin typeface="黑体"/>
                <a:ea typeface="黑体"/>
              </a:rPr>
              <a:t>强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复治东阿，</a:t>
            </a:r>
            <a:r>
              <a:rPr b="1" lang="zh-CN" sz="3000" spc="-1" strike="noStrike" u="sng">
                <a:solidFill>
                  <a:srgbClr val="cc0099"/>
                </a:solidFill>
                <a:uFillTx/>
                <a:latin typeface="黑体"/>
                <a:ea typeface="黑体"/>
              </a:rPr>
              <a:t>东阿者，子之东阿也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寡人无复</a:t>
            </a:r>
            <a:r>
              <a:rPr b="1" lang="zh-CN" sz="3000" spc="-1" strike="noStrike">
                <a:solidFill>
                  <a:srgbClr val="cc0099"/>
                </a:solidFill>
                <a:latin typeface="黑体"/>
                <a:ea typeface="黑体"/>
              </a:rPr>
              <a:t>与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焉。”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晏子治理东阿，三年后，齐景公召他来并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责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说：“我认为你还可以，才让你去治理东阿；如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东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却被你治理得混乱不堪。你退下去自已仔细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反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吧，我要对你施加严厉的责罚。”晏子回答说：“臣子我请求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改变方针和办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来治理东阿，如果三年后还治理不好，就让我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此事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而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” 景公答应了他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2411280" y="33336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译文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7380360" y="5589720"/>
            <a:ext cx="1224000" cy="10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样，到了第二年年终朝廷考核地方官政绩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行表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景公迎上来祝贺晏子说：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“您治理东阿很好啊！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晏子回答说：“臣子我从前治理东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听从私人请托，不接受财物送礼；水泽池塘的鱼，全用来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贫苦百姓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受利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这个时候，百姓没有挨饿的，可是国君您反倒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怪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。如今我治理东阿，听从私人请托，接受财物送礼，加倍征收赋税，少上交给国库，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逢迎讨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您的近臣。水泽池塘的鱼，交给权贵人家。在这时候，挨饿的百姓已超过半数了，国君您反倒迎接我、祝贺我。臣我很愚蠢，不能再去治理东阿了，希望能让我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告老还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给有才能的人让路。”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2411280" y="33336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译文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7885080" y="6022800"/>
            <a:ext cx="100800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晏子说罢，</a:t>
            </a:r>
            <a:r>
              <a:rPr b="1" lang="zh-CN" sz="3600" spc="-1" strike="noStrike">
                <a:solidFill>
                  <a:srgbClr val="cc0099"/>
                </a:solidFill>
                <a:latin typeface="宋体"/>
              </a:rPr>
              <a:t>拜了两拜</a:t>
            </a:r>
            <a:r>
              <a:rPr b="1" lang="zh-CN" sz="3600" spc="-1" strike="noStrike">
                <a:solidFill>
                  <a:srgbClr val="292929"/>
                </a:solidFill>
                <a:latin typeface="宋体"/>
              </a:rPr>
              <a:t>就退避一旁，景公于是离开座位向晏子</a:t>
            </a:r>
            <a:r>
              <a:rPr b="1" lang="zh-CN" sz="3600" spc="-1" strike="noStrike">
                <a:solidFill>
                  <a:srgbClr val="cc0099"/>
                </a:solidFill>
                <a:latin typeface="宋体"/>
              </a:rPr>
              <a:t>道歉</a:t>
            </a:r>
            <a:r>
              <a:rPr b="1" lang="zh-CN" sz="3600" spc="-1" strike="noStrike">
                <a:solidFill>
                  <a:srgbClr val="292929"/>
                </a:solidFill>
                <a:latin typeface="宋体"/>
              </a:rPr>
              <a:t>说：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您尽力再去治理东阿吧。东阿，是您的东阿，我不再</a:t>
            </a:r>
            <a:r>
              <a:rPr b="1" lang="zh-CN" sz="3600" spc="-1" strike="noStrike">
                <a:solidFill>
                  <a:srgbClr val="cc0099"/>
                </a:solidFill>
                <a:latin typeface="宋体"/>
              </a:rPr>
              <a:t>干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了。”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7020000" y="4971960"/>
            <a:ext cx="1224000" cy="101448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 txBox="1"/>
          <p:nvPr/>
        </p:nvSpPr>
        <p:spPr>
          <a:xfrm>
            <a:off x="2411280" y="33336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译文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5:26:57Z</dcterms:created>
  <dc:creator>hp</dc:creator>
  <dc:description/>
  <dc:language>en-US</dc:language>
  <cp:lastModifiedBy>ZhouLiang</cp:lastModifiedBy>
  <dcterms:modified xsi:type="dcterms:W3CDTF">2006-05-16T13:07:20Z</dcterms:modified>
  <cp:revision>45</cp:revision>
  <dc:subject/>
  <dc:title>幻灯片 1</dc:title>
</cp:coreProperties>
</file>