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amera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AE47-F41B-4FA2-A214-AB7020FB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5E92-22FE-4D04-9CEE-E1779A04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6A36-2E5B-4D6E-B8D2-01E95AF1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6139-7B82-455D-8DEF-CF7CD651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CDD1-D06C-40F5-A911-EBD15DF0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9CBB-66B4-439E-882C-8211E1A2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8D04-8F72-478C-883F-CFA754BC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8D23-BFD9-41A1-847B-FBD8ED6B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8420-BCFC-4C55-82BC-FE9AA253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CFE7-8364-45BC-9B2E-0041A48F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C0A4-5942-4B6B-BD15-2FAFE89B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501A-B25A-4012-95A9-F854ABC0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D418-579C-4748-BF35-EF0B7436D2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38600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99ccff"/>
                </a:solidFill>
                <a:latin typeface="Times New Roman"/>
                <a:ea typeface="华文新魏"/>
              </a:rPr>
              <a:t>晏子使楚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27280" y="3733920"/>
            <a:ext cx="354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ccff"/>
                </a:solidFill>
                <a:latin typeface="Times New Roman"/>
                <a:ea typeface="华文行楷"/>
              </a:rPr>
              <a:t>《晏子春秋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2120" y="9144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、美国记者采访周总理时问：“我们美国人走路抬头挺胸，为什么你们中国人走路老低着头？”你能替周总理回答这个问题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37339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因为我们走的是上坡路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715000" y="42670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15000" y="426708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28600"/>
            <a:ext cx="914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晏  子  将  使  楚。 楚王     闻        之，         谓  左右  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晏婴，齐  之    习     辞     者     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今    方   来，吾  欲  辱  之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何      以      也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     左右对曰：“为 其 来也，臣请        缚  一人过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行。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王曰，何  为  者  也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  曰：齐人也。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王  曰，何           坐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曰，  坐   盗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685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出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858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听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685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代这个消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685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对 ……  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判断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905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1905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熟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1905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将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0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代晏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宾语前置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回答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2819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è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在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2971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请允许干某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67480" y="2971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962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宾语前置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为何  为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é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4038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宾语前置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坐何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7240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犯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5105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犯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7150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楚国君臣事前的密谋策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8080" y="38088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85800"/>
            <a:ext cx="914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晏子至，楚王    赐    晏子酒。  酒             酣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吏二缚 一人 诣 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王曰：“缚者     曷     为  者也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对曰：“齐人也，坐   盗。”王    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晏子曰“齐人   固     善    盗乎？”晏子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避  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对曰：“婴  闻         之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橘 生   淮南  则  为  橘，生 于 淮北则为枳，叶徒相似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实味不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      以          然    者    何？   水土   异    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赏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1143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喝酒喝得正高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3432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7732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209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宾语前置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2209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通假字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曷”通“何”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什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3352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本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3352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善于擅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3352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离开座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4380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代这样的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19280" y="4365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0920" y="4437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变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4343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只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48360" y="44370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它们的果    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的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548640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代词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,    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这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5562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不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1447920"/>
            <a:ext cx="8915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今民生长于齐不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入楚则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得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楚 之 水土 使民   善  盗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王笑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“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圣   人  非  所  与         熙          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寡人  反 取  病  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95680" y="1981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莫非 …… 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?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难道……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2971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2895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熙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通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“嬉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：开玩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01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5181480"/>
            <a:ext cx="66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第二段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写晏子机智地挫败了楚国君臣的阴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48006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8000" y="4805280"/>
            <a:ext cx="2286000" cy="2052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920" y="304920"/>
            <a:ext cx="16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结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0666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古今异义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 坐、其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676520"/>
            <a:ext cx="6788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通假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王曰：“缚者曷为者也？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王笑曰：“圣人非所与熙也，……”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1676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16002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曷”通“何”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什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23623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2743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2666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2590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熙”通“嬉”：开玩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32004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词类活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善：形容词用作动词：善于、擅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3962520"/>
            <a:ext cx="8305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常见文言句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固定格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无 ……  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  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莫非 …… 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?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难道……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判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宾语前置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  <a:hlinkClick r:id="rId2"/>
          </p:cNvPr>
          <p:cNvSpPr/>
          <p:nvPr/>
        </p:nvSpPr>
        <p:spPr>
          <a:xfrm>
            <a:off x="2590920" y="56386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887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7749" h="21600">
                <a:moveTo>
                  <a:pt x="19980" y="14281"/>
                </a:moveTo>
                <a:lnTo>
                  <a:pt x="19980" y="12323"/>
                </a:lnTo>
                <a:cubicBezTo>
                  <a:pt x="19980" y="11496"/>
                  <a:pt x="20311" y="10800"/>
                  <a:pt x="20911" y="10800"/>
                </a:cubicBezTo>
                <a:cubicBezTo>
                  <a:pt x="22043" y="10800"/>
                  <a:pt x="22939" y="9434"/>
                  <a:pt x="22939" y="7849"/>
                </a:cubicBezTo>
                <a:cubicBezTo>
                  <a:pt x="22939" y="5534"/>
                  <a:pt x="21085" y="3794"/>
                  <a:pt x="18875" y="3794"/>
                </a:cubicBezTo>
                <a:cubicBezTo>
                  <a:pt x="16664" y="3794"/>
                  <a:pt x="14993" y="5534"/>
                  <a:pt x="14993" y="7849"/>
                </a:cubicBezTo>
                <a:lnTo>
                  <a:pt x="16847" y="7849"/>
                </a:lnTo>
                <a:cubicBezTo>
                  <a:pt x="16847" y="6709"/>
                  <a:pt x="17769" y="5821"/>
                  <a:pt x="18875" y="5821"/>
                </a:cubicBezTo>
                <a:cubicBezTo>
                  <a:pt x="19980" y="5821"/>
                  <a:pt x="20911" y="6709"/>
                  <a:pt x="20911" y="7849"/>
                </a:cubicBezTo>
                <a:cubicBezTo>
                  <a:pt x="20911" y="8589"/>
                  <a:pt x="20441" y="9320"/>
                  <a:pt x="19980" y="9320"/>
                </a:cubicBezTo>
                <a:cubicBezTo>
                  <a:pt x="18875" y="9320"/>
                  <a:pt x="17769" y="10800"/>
                  <a:pt x="17769" y="12323"/>
                </a:cubicBezTo>
                <a:lnTo>
                  <a:pt x="17769" y="1428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  <a:hlinkClick r:id="rId3"/>
          </p:cNvPr>
          <p:cNvSpPr/>
          <p:nvPr/>
        </p:nvSpPr>
        <p:spPr>
          <a:xfrm>
            <a:off x="182880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0880" y="685800"/>
            <a:ext cx="87631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判断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 晏婴，齐 之 习  辞 者 也。（……是……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圣人 非 所与 熙 也。 （……不是……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前置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何 以 也？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什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何  为  者  也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干什么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王  曰，何 坐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坐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犯了什么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03880" y="0"/>
            <a:ext cx="38401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920" y="380880"/>
            <a:ext cx="4876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晏子使楚。楚人以晏子短，为小门于大门之侧而延晏子。晏子不入，曰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2743200"/>
            <a:ext cx="5181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使狗国者，从狗门入。今臣使楚，不当从此门入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403848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4572000"/>
            <a:ext cx="46479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傧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ī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者更道，从大门入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4012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86200" y="0"/>
            <a:ext cx="52578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见楚王。王曰：“齐无人耶，使子为使？”晏子对曰：“齐之临淄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z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三百闾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，张袂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è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成阴，挥汗成雨，比肩继踵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zhǒ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而在，何为无人！”王曰：“然则何为使子？”晏子对曰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4094280"/>
            <a:ext cx="49528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齐命使，各有所主。其贤者使使贤主，不肖者使使不肖主。婴最不肖，故宜使楚矣！”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09480" y="53352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99"/>
                </a:solidFill>
                <a:uFillTx/>
                <a:latin typeface="Times New Roman"/>
                <a:ea typeface="楷体_GB2312"/>
              </a:rPr>
              <a:t>试一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4479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、魏晋时期文学家孔融小时候很聪明。有个傲慢的大官很瞧不起他，说：“小时候聪明，大了就未必。”你知道孔融是怎么回答的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48006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828800" y="4419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看来你小时侯一定很聪明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9T06:54:45Z</dcterms:created>
  <dc:creator>user26</dc:creator>
  <dc:description/>
  <dc:language>en-US</dc:language>
  <cp:lastModifiedBy>user1</cp:lastModifiedBy>
  <dcterms:modified xsi:type="dcterms:W3CDTF">2004-10-31T06:29:44Z</dcterms:modified>
  <cp:revision>47</cp:revision>
  <dc:subject/>
  <dc:title>PowerPoint 演示文稿</dc:title>
</cp:coreProperties>
</file>