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A7E5-BB62-441C-A771-557CF0A01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A4DF-EA8E-4637-AD49-304F3290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57A2-18B3-44C9-8E7A-B4901C1E5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6328-1F27-4F09-93E5-BD4BDBD9F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08CA-BE62-4741-815B-15EFE7F1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CAAE-48E5-46B0-A81C-577FC50C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B9AF-6099-4CC4-AFA6-F82271F5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E8F2-15E5-4171-B222-6BFCAE31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03DA-DA70-4E95-96DA-91F9C311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B529-92D0-4491-95E1-5E479452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E061-78BA-44E6-A30C-68258220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F93D-588E-409F-B13E-986C7C4B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BC8C-CE5B-42D3-BF63-C61AF17B09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file:///556.mp3" TargetMode="External"/><Relationship Id="rId3" Type="http://schemas.openxmlformats.org/officeDocument/2006/relationships/slide" Target="slide10.xm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solidFill>
            <a:srgbClr val="984b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9144000" y="3429000"/>
            <a:ext cx="360" cy="11030040"/>
            <a:chOff x="9144000" y="3429000"/>
            <a:chExt cx="360" cy="11030040"/>
          </a:xfrm>
        </p:grpSpPr>
        <p:sp>
          <p:nvSpPr>
            <p:cNvPr id="43" name=""/>
            <p:cNvSpPr/>
            <p:nvPr/>
          </p:nvSpPr>
          <p:spPr>
            <a:xfrm>
              <a:off x="9144000" y="3429000"/>
              <a:ext cx="360" cy="360"/>
            </a:xfrm>
            <a:prstGeom prst="rect">
              <a:avLst/>
            </a:prstGeom>
            <a:solidFill>
              <a:srgbClr val="f7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9144000" y="3429000"/>
              <a:ext cx="360" cy="11030040"/>
              <a:chOff x="9144000" y="3429000"/>
              <a:chExt cx="360" cy="11030040"/>
            </a:xfrm>
          </p:grpSpPr>
          <p:sp>
            <p:nvSpPr>
              <p:cNvPr id="45" name=""/>
              <p:cNvSpPr/>
              <p:nvPr/>
            </p:nvSpPr>
            <p:spPr>
              <a:xfrm>
                <a:off x="9144000" y="3429000"/>
                <a:ext cx="360" cy="11030040"/>
              </a:xfrm>
              <a:prstGeom prst="rect">
                <a:avLst/>
              </a:prstGeom>
              <a:solidFill>
                <a:srgbClr val="f7ee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9144000" y="3429000"/>
                <a:ext cx="360" cy="11030040"/>
              </a:xfrm>
              <a:prstGeom prst="rect">
                <a:avLst/>
              </a:prstGeom>
              <a:solidFill>
                <a:srgbClr val="f7ee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http://cs.ustc.edu.cn/csli/cloud/cloud/mingjia/32/yangzhouman.mp3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7" name="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2556000" y="2637000"/>
            <a:ext cx="38862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扬州慢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9" name=""/>
          <p:cNvSpPr/>
          <p:nvPr/>
        </p:nvSpPr>
        <p:spPr>
          <a:xfrm>
            <a:off x="4084200" y="5516640"/>
            <a:ext cx="393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安徽旌德中学语文组  江辉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503" r="0" b="0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-16078320" y="141120"/>
            <a:ext cx="25527240" cy="733680"/>
          </a:xfrm>
          <a:custGeom>
            <a:avLst/>
            <a:gdLst>
              <a:gd name="textAreaLeft" fmla="*/ 16309080 w 25527240"/>
              <a:gd name="textAreaRight" fmla="*/ 25527600 w 25527240"/>
              <a:gd name="textAreaTop" fmla="*/ 19080 h 733680"/>
              <a:gd name="textAreaBottom" fmla="*/ 714600 h 733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9880" y="1447920"/>
            <a:ext cx="457200" cy="1752480"/>
          </a:xfrm>
          <a:custGeom>
            <a:avLst/>
            <a:gdLst>
              <a:gd name="textAreaLeft" fmla="*/ 292320 w 457200"/>
              <a:gd name="textAreaRight" fmla="*/ 457560 w 457200"/>
              <a:gd name="textAreaTop" fmla="*/ 36720 h 1752480"/>
              <a:gd name="textAreaBottom" fmla="*/ 171576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24"/>
                  <a:pt x="10800" y="1448"/>
                </a:cubicBezTo>
                <a:lnTo>
                  <a:pt x="10800" y="9352"/>
                </a:lnTo>
                <a:cubicBezTo>
                  <a:pt x="10800" y="10076"/>
                  <a:pt x="5400" y="10800"/>
                  <a:pt x="0" y="10800"/>
                </a:cubicBezTo>
                <a:cubicBezTo>
                  <a:pt x="5400" y="10800"/>
                  <a:pt x="10800" y="11524"/>
                  <a:pt x="10800" y="12248"/>
                </a:cubicBezTo>
                <a:lnTo>
                  <a:pt x="10800" y="20152"/>
                </a:lnTo>
                <a:cubicBezTo>
                  <a:pt x="10800" y="2087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86200" y="4038480"/>
            <a:ext cx="380880" cy="914400"/>
          </a:xfrm>
          <a:custGeom>
            <a:avLst/>
            <a:gdLst>
              <a:gd name="textAreaLeft" fmla="*/ 243360 w 380880"/>
              <a:gd name="textAreaRight" fmla="*/ 381240 w 3808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宋体"/>
                <a:ea typeface="隶书"/>
              </a:rPr>
              <a:t>思考：词人是从哪些方面来渲染“空城”的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尽荠麦青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景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      废池乔木  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         二十四桥 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空城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    无声冷月  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         寂寞红药 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 声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 ―― 清角吹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昔日的扬州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55640" y="14842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淮左名都，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竹西佳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解鞍少驻初程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过</a:t>
            </a:r>
            <a:r>
              <a:rPr b="1" lang="zh-CN" sz="2800" spc="-1" strike="noStrike" u="sng">
                <a:solidFill>
                  <a:srgbClr val="ff0066"/>
                </a:solidFill>
                <a:uFillTx/>
                <a:latin typeface="Times New Roman"/>
              </a:rPr>
              <a:t>春风十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6c1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题扬州禅智寺    杜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雨过一蝉噪，飘萧松桂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青苔满阶砌，白鸟故迟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暮霭生深树，斜阳下小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谁知竹西路，歌吹是扬州</a:t>
            </a:r>
            <a:r>
              <a:rPr b="1" lang="zh-CN" sz="2800" spc="-1" strike="noStrike">
                <a:solidFill>
                  <a:srgbClr val="c6c1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赠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娉娉袅袅十三馀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/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豆蔻梢头二月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春风十里扬州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/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卷上珠帘总不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-417600"/>
            <a:ext cx="9504360" cy="72756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面对今昔完全不同的扬州的，作者感受如何？直接写到了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杜郎俊赏，算而今重到须惊。</a:t>
            </a:r>
            <a:br>
              <a:rPr sz="3200"/>
            </a:b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纵豆蔻词工，青楼梦好，难赋深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曾经在杜牧笔下流淌过无数赞美扬州诗文，可是面对今日的扬州，杜牧极度的惊讶，再有才华也难赋深情的诗文来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55680" y="266760"/>
            <a:ext cx="8432640" cy="63244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今昔截然不同，是什么导致的呢</a:t>
            </a: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胡马窥江去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南宋王朝南渡后，金人屡次渡淮，扬州变得残破不堪。绍兴三十一年 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公元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1161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年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，金人十万铁骑破扬州，大肆掳掠，“横尸二十里”，破坏极其惨重。虽已时隔十五年了，但作者经过扬州时依然“荠麦青青”，疮痍满目，不禁追忆丧乱，“感慨今昔”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5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3366"/>
                </a:solidFill>
                <a:latin typeface="华文新魏"/>
                <a:ea typeface="华文新魏"/>
              </a:rPr>
              <a:t>名句欣赏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自胡马窥江去后，废池乔木，犹厌言兵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明确：这三句用了拟人的写法。废池、乔木是没有知觉的东西，词人将它们人格化，意即它们是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15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年前那场浩劫的目击者，战争的恐怖、敌人的凶残，种种景象仍然留在它们心中；它们“犹厌言兵”，更何况当地的人民呢？这样写，深刻地反映了人民对侵略战争的极端痛恨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339966"/>
                </a:solidFill>
                <a:latin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>
            <a:lum contrast="-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华文彩云"/>
                <a:ea typeface="华文彩云"/>
              </a:rPr>
              <a:t>“</a:t>
            </a:r>
            <a:r>
              <a:rPr b="1" lang="zh-CN" sz="3600" spc="-1" strike="noStrike">
                <a:solidFill>
                  <a:srgbClr val="993366"/>
                </a:solidFill>
                <a:latin typeface="华文彩云"/>
                <a:ea typeface="华文彩云"/>
              </a:rPr>
              <a:t>二十四桥仍在，波心荡，冷月无声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冷月无声”，月本来无声，可这么一说，反而觉得它是本该有声的了。为什么呢？因为从前的二十四桥明月夜，游人极盛，笑语盈耳，还有美女吹箫唱歌，月儿见此光景也陶醉了，它也跟着人们一起欢笑。可是现在呢？“二十四桥仍在”，而歌声笑语却听不到了，甚至连月儿也没有声息了，只是沉浸在冷冰冰的湖水中，随波荡漾。如此冷落凄凉的景象，怎能不令人伤怀呢？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彩云"/>
                <a:ea typeface="华文彩云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6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1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华文新魏"/>
                <a:ea typeface="华文新魏"/>
              </a:rPr>
              <a:t>“</a:t>
            </a:r>
            <a:r>
              <a:rPr b="1" lang="zh-CN" sz="4400" spc="-1" strike="noStrike">
                <a:solidFill>
                  <a:srgbClr val="3333ff"/>
                </a:solidFill>
                <a:latin typeface="华文新魏"/>
                <a:ea typeface="华文新魏"/>
              </a:rPr>
              <a:t>念桥边红药，年年知为谁生”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04920" y="18284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新魏"/>
                <a:ea typeface="华文新魏"/>
              </a:rPr>
              <a:t>      </a:t>
            </a:r>
            <a:r>
              <a:rPr b="1" lang="zh-CN" sz="3200" spc="-1" strike="noStrike">
                <a:solidFill>
                  <a:srgbClr val="008000"/>
                </a:solidFill>
                <a:latin typeface="华文新魏"/>
                <a:ea typeface="华文新魏"/>
              </a:rPr>
              <a:t>红药一到春天就开始生长，不管人世间发生了怎样的变化，自然物的本性不会改变。往年，它可以供游人观赏，可是现在城空了，人少了，何况国难未息，谁也无心去观赏它。真有点儿“映阶碧草自春色，隔叶黄鹂空好音”的味道。词人借此曲折地表现出劫后扬州人民的凄苦生活情况，以及自己感时伤乱的情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0066"/>
                </a:solidFill>
                <a:latin typeface="隶书"/>
                <a:ea typeface="隶书"/>
              </a:rPr>
              <a:t>词人穿越时空，想象唐朝的杜牧来到扬州，他会是什么感受</a:t>
            </a:r>
            <a:r>
              <a:rPr b="1" lang="zh-CN" sz="4400" spc="-1" strike="noStrike">
                <a:solidFill>
                  <a:srgbClr val="ff0066"/>
                </a:solidFill>
                <a:latin typeface="宋体"/>
              </a:rPr>
              <a:t>？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05120" y="236232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隶书"/>
                <a:ea typeface="隶书"/>
              </a:rPr>
              <a:t>“</a:t>
            </a:r>
            <a:r>
              <a:rPr b="1" lang="zh-CN" sz="4000" spc="-1" strike="noStrike">
                <a:solidFill>
                  <a:srgbClr val="ff0066"/>
                </a:solidFill>
                <a:latin typeface="隶书"/>
                <a:ea typeface="隶书"/>
              </a:rPr>
              <a:t>惊”</a:t>
            </a:r>
            <a:br>
              <a:rPr sz="4000"/>
            </a:br>
            <a:r>
              <a:rPr b="1" lang="zh-CN" sz="4000" spc="-1" strike="noStrike">
                <a:solidFill>
                  <a:srgbClr val="ff0066"/>
                </a:solidFill>
                <a:latin typeface="隶书"/>
                <a:ea typeface="隶书"/>
              </a:rPr>
              <a:t>――因“空”而“惊 ”，返照现实扬州何等凄清荒凉，何等令人心痛！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66"/>
                </a:solidFill>
                <a:latin typeface="华文细黑"/>
                <a:ea typeface="隶书"/>
              </a:rPr>
              <a:t>小结全词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4000" spc="-1" strike="noStrike">
                <a:solidFill>
                  <a:srgbClr val="339966"/>
                </a:solidFill>
                <a:latin typeface="隶书"/>
                <a:ea typeface="隶书"/>
              </a:rPr>
              <a:t>这首词抒发了词人“黍离之悲”，作者即事写景，触景生情，情景交融，我们可以思接千载，体验词人为祖国山河的残破、人民的不幸而极其沉痛的心情。王国维在《人间词话》给予词人极高评价：“古今词人格调之高，无如白石，惜不于意境上用力，故觉无言外之味，弦外之响。”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24000" y="148428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扬州地当要冲，多富商大贾。                                   《旧唐书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·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地理志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2924280"/>
            <a:ext cx="727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扬州富庶甲天下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           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《资治通鉴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55840" y="3219480"/>
            <a:ext cx="6716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258920" y="2637000"/>
            <a:ext cx="727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宋体"/>
              </a:rPr>
              <a:t>腰缠十万贯，</a:t>
            </a:r>
            <a:br>
              <a:rPr sz="6000"/>
            </a:br>
            <a:r>
              <a:rPr b="1" lang="zh-CN" sz="6000" spc="-1" strike="noStrike">
                <a:solidFill>
                  <a:srgbClr val="ff0000"/>
                </a:solidFill>
                <a:latin typeface="宋体"/>
              </a:rPr>
              <a:t>      骑鹤下扬州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慢词介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慢词是依据曲调舒缓的慢曲填写的词，重抒情，一般都比较长。但与长调有别，长调单指字数，习惯上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8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字以内为小令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9—90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为中调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9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字以上为长调。《扬州慢》共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98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个字，是一首长调，也是一首慢词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7120" y="5235480"/>
            <a:ext cx="635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朗读指导：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语速慢，较舒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-457200" y="27000"/>
            <a:ext cx="9601200" cy="6831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14400" y="0"/>
            <a:ext cx="7620120" cy="53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姜 </a:t>
            </a:r>
            <a:r>
              <a:rPr b="1" lang="zh-CN" sz="8800" spc="-1" strike="noStrike">
                <a:solidFill>
                  <a:srgbClr val="ff0000"/>
                </a:solidFill>
                <a:latin typeface="宋体"/>
              </a:rPr>
              <a:t>夔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 （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1155 — 1221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字 尧 章，号 白 石 道 人，江 西 鄱 阳 人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布 衣 终 生，以 清 客 身 份 周 游 四 方，常 作 达 官 贵 人 坐 上 客。擅 长 写 词，尤 精 通 音 律，其 词 作 多 咏 物 纪 游，但 也 暗 寓 国 家 分 裂、江 河 变 异 之 慨。由 于 讲 究 音 律 和 锤 炼 字 句，其 作 品 精 工 典雅，意 蕴谐 婉，但 也 有 用 典 过 多、词 意 幽 晦 等 特 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0000"/>
              </a:buClr>
              <a:buSzPct val="90000"/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835280" y="260280"/>
            <a:ext cx="363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3366"/>
                </a:solidFill>
                <a:latin typeface="Tahoma"/>
                <a:ea typeface="隶书"/>
              </a:rPr>
              <a:t>扬州慢</a:t>
            </a:r>
            <a:r>
              <a:rPr b="0" lang="zh-CN" sz="4400" spc="-1" strike="noStrike">
                <a:solidFill>
                  <a:srgbClr val="993366"/>
                </a:solidFill>
                <a:latin typeface="Tahoma"/>
              </a:rPr>
              <a:t>     </a:t>
            </a:r>
            <a:r>
              <a:rPr b="0" lang="zh-CN" sz="3200" spc="-1" strike="noStrike">
                <a:solidFill>
                  <a:srgbClr val="993366"/>
                </a:solidFill>
                <a:latin typeface="Tahoma"/>
                <a:ea typeface="隶书"/>
              </a:rPr>
              <a:t>小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71640" y="1052640"/>
            <a:ext cx="746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隶书"/>
                <a:ea typeface="隶书"/>
              </a:rPr>
              <a:t>淳熙丙申至日，余过维扬。夜雪初霁，荠麦弥望。入其城则四顾萧条，寒水自碧，暮色渐起，戍角悲吟。予怀怆然，感慨今昔，因自度此曲。千岩老人以为有《黍离》之悲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16360" y="3860640"/>
            <a:ext cx="41036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Times New Roman"/>
              </a:rPr>
              <a:t>词前小序交待了什么内容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写作时间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淳熙丙申至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所见所闻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夜雪初霁，荠麦弥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顾萧条，寒水自碧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暮色渐起，戍角悲吟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写作缘由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感慨今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其他人的评价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有《黍离》之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600200" y="152280"/>
            <a:ext cx="525780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2"/>
              </a:rPr>
              <a:t>扬州慢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姜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1052640"/>
            <a:ext cx="5029200" cy="51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淮左名都，</a:t>
            </a:r>
            <a:br>
              <a:rPr sz="28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竹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佳处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鞍少驻初程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春风十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尽荠麦青青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胡马窥江去后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废池乔木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犹厌言兵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渐黄昏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清角吹寒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都在空城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87640" y="1052640"/>
            <a:ext cx="4572000" cy="51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杜郎俊赏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算而今重到须惊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纵豆蔻词工，</a:t>
            </a:r>
            <a:br>
              <a:rPr sz="28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青楼梦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难赋深情。</a:t>
            </a:r>
            <a:br>
              <a:rPr sz="28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十四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仍在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波心荡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冷月无声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念桥边红药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年知为谁生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15200" y="4952880"/>
            <a:ext cx="30492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请带问题自己读读本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设问一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上一片有哪个词可以来概括今日的扬州城特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设问二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昔日的扬州城是怎么样的呢？请用红笔画出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设问三：造成这种现象的原因是什么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3T12:33:04Z</dcterms:created>
  <dc:creator>妹妹</dc:creator>
  <dc:description/>
  <dc:language>en-US</dc:language>
  <cp:lastModifiedBy>zmj</cp:lastModifiedBy>
  <dcterms:modified xsi:type="dcterms:W3CDTF">2009-07-07T08:27:57Z</dcterms:modified>
  <cp:revision>8</cp:revision>
  <dc:subject/>
  <dc:title>PowerPoint 演示文稿</dc:title>
</cp:coreProperties>
</file>