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32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4.png" ContentType="image/png"/>
  <Override PartName="/ppt/media/image44.jpeg" ContentType="image/jpeg"/>
  <Override PartName="/ppt/media/image37.wmf" ContentType="image/x-wmf"/>
  <Override PartName="/ppt/media/image46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1.jpeg" ContentType="image/jpeg"/>
  <Override PartName="/ppt/media/image4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39D-0AD8-44CE-9610-2789522822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，今天我们要做一件事情，就是去感受扬州、品味扬州、读懂扬州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有苏东坡的豪迈旷达，也没有辛弃疾的英雄气概。一个白衣词人，一个江湖雅士，无一官半职，却情系山河。我们结识了一位江湖雅士，真是太荣幸啦！下面让我们来听听这个故事吧！音乐欣赏《扬州慢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品析虚词“尽”、“犹”等。梳理词人的感情线索。推荐同学朗诵，声情并茂。表达感情的方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师也已经示范朗诵完了，同学们，你们也来朗诵一遍吧！学生齐读。这是个什么故事呢？梳理结构，引入对比手法的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问：原本是冬至日，怎么会“春风十里”，什么意思？“过”字有怎么解呢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扬州地处江苏中部，长江下游北岸，江淮平原南端。扬州城区至今已有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500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的建城史。扬州既是风景秀丽的风景城，又是历史悠久的博物城，还是人文荟萃的文化城。 《旧唐书》和《资治通鉴》均有记载，她不尽地理位置重要，而且富甲天下。在盛唐历史上她曾经一度繁华无比，娇美绝伦。因此，无数的文人墨客在那里久久流连，留下了无数华美的诗句。下面让我们来领略一番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面芍药下面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面芍药下面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扬州美不美？诚然！但是，她也曾经历尽苦难沧桑，饱受了历史风云的席卷，她的容颜为此暗淡。她的身世，便有一段凄清的故事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前，一位词人目睹了这一幕。因此便将这个故事诉说着，一晃就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。这位词人是谁呢？这个故事又是怎么样的呢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51B-6EAC-449D-9E25-B64B2BD6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616-B279-4316-ADC0-FD7AB86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B93-6A36-4F6A-8F0C-92FF01FF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9A7-8FAC-4F48-AC77-2926BEEA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ED8-FEBC-4B6B-B681-03BFFA9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E0F-B702-40DD-9EF7-893D128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668-3C64-4514-BDED-630EC1C2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C84-306F-4F77-B63E-CDCE242D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BE5-7A77-4E2A-A15E-497F8970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3A6-5B8B-4133-855F-783B5B03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872-B959-4118-B4D1-92E09BE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B65-017E-4072-B273-C587DE4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44C3-32E9-4932-959E-43A9DFC71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baike.baidu.com/pic/1/1196007651679315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4.xml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" Target="slide19.xml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" Target="slide17.xml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D6&#1193;&amp;in=30728&amp;cl=2&amp;cm=1&amp;sc=0&amp;lm=-1&amp;pn=6&amp;rn=1&amp;di=2238623576&amp;ln=2000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.baidu.com/i?ct=503316480&amp;z=0&amp;tn=baiduimagedetail&amp;word=&#309;%B5%A4%BB%A8&amp;in=10932&amp;cl=2&amp;cm=1&amp;sc=0&amp;lm=-1&amp;pn=0&amp;rn=1&amp;di=2151226040&amp;ln=2000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.baidu.com/i?ct=503316480&amp;z=0&amp;tn=baiduimagedetail&amp;word=%C9%D6&#1193;&amp;in=30728&amp;cl=2&amp;cm=1&amp;sc=0&amp;lm=-1&amp;pn=5&amp;rn=1&amp;di=2221270616&amp;ln=2000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.baidu.com/i?ct=503316480&amp;z=0&amp;tn=baiduimagedetail&amp;word=&#309;%B5%A4%BB%A8&amp;in=24752&amp;cl=2&amp;cm=1&amp;sc=0&amp;lm=-1&amp;pn=7&amp;rn=1&amp;di=100597281&amp;ln=2000" TargetMode="External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D6&#1193;&amp;in=24752&amp;cl=2&amp;cm=1&amp;sc=0&amp;lm=-1&amp;pn=9&amp;rn=1&amp;di=53782641&amp;ln=2000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image.baidu.com/i?ct=503316480&amp;z=0&amp;tn=baiduimagedetail&amp;word=&#309;%B5%A4%BB%A8&amp;in=4904&amp;cl=2&amp;cm=1&amp;sc=0&amp;lm=-1&amp;pn=11&amp;rn=1&amp;di=1537048801&amp;ln=2000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image.baidu.com/i?ct=503316480&amp;z=0&amp;tn=baiduimagedetail&amp;word=%C9%D6&#1193;&amp;in=24008&amp;cl=2&amp;cm=1&amp;sc=0&amp;lm=-1&amp;pn=36&amp;rn=1&amp;di=829635401&amp;ln=2000&amp;fr=" TargetMode="External"/><Relationship Id="rId6" Type="http://schemas.openxmlformats.org/officeDocument/2006/relationships/image" Target="../media/image47.jpeg"/><Relationship Id="rId7" Type="http://schemas.openxmlformats.org/officeDocument/2006/relationships/hyperlink" Target="http://image.baidu.com/i?ct=503316480&amp;z=0&amp;tn=baiduimagedetail&amp;word=&#309;%B5%A4&amp;in=31762&amp;cl=2&amp;cm=1&amp;sc=0&amp;lm=-1&amp;pn=18&amp;rn=1&amp;di=2382183216&amp;ln=2000&amp;fr=" TargetMode="External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A3%CC%C4&amp;in=30234&amp;cl=2&amp;cm=1&amp;sc=0&amp;lm=-1&amp;pn=7&amp;rn=1&amp;di=1292949776&amp;ln=2000&amp;fr=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image.baidu.com/i?ct=503316480&amp;z=0&amp;tn=baiduimagedetail&amp;word=%BA%A3%CC%C4&amp;in=4196&amp;cl=2&amp;cm=1&amp;sc=0&amp;lm=-1&amp;pn=10&amp;rn=1&amp;di=2227289936&amp;ln=2000&amp;fr=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image.baidu.com/i?ct=503316480&amp;z=0&amp;tn=baiduimagedetail&amp;word=%BA%A3%CC%C4&amp;in=20058&amp;cl=2&amp;cm=1&amp;sc=0&amp;lm=-1&amp;pn=17&amp;rn=1&amp;di=925127300&amp;ln=2000&amp;fr=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image.baidu.com/i?ct=503316480&amp;z=0&amp;tn=baiduimagedetail&amp;word=%BA%A3%CC%C4&amp;in=16901&amp;cl=2&amp;cm=1&amp;sc=0&amp;lm=-1&amp;pn=24&amp;rn=1&amp;di=234755361&amp;ln=2000&amp;fr=" TargetMode="External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7%ED%BB%A8&amp;in=29980&amp;cl=2&amp;cm=1&amp;sc=0&amp;lm=-1&amp;pn=0&amp;rn=1&amp;di=925264820&amp;ln=200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6%FE&#686;%CB%C4%C7%C5%C3%F7%D4%C2&amp;in=17220&amp;cl=2&amp;cm=1&amp;sc=0&amp;lm=-1&amp;pn=8&amp;rn=1&amp;di=987266892&amp;ln=128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hyperlink" Target="http://image.baidu.com/i?ct=503316480&amp;z=0&amp;tn=baiduimagedetail&amp;word=%B8%F6&#1328;&amp;in=32503&amp;cl=2&amp;cm=1&amp;sc=0&amp;lm=-1&amp;pn=16&amp;rn=1&amp;di=372336780&amp;ln=2000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.baidu.com/i?ct=503316480&amp;z=0&amp;tn=baiduimagedetail&amp;word=%BA%CE&#1328;&amp;in=23140&amp;cl=2&amp;cm=1&amp;sc=0&amp;lm=-1&amp;pn=28&amp;rn=1&amp;di=1813501136&amp;ln=2000" TargetMode="External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3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981080" y="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走 进 扬 州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走进词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姜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838080"/>
            <a:ext cx="2589120" cy="3961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943600" y="5105520"/>
            <a:ext cx="302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江湖雅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5940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姜夔，字尧章，号白石道人，鄱阳（今江西波阳）人，生卒年不详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宋中期向后期过渡时期的代表词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词上承周邦彦，下开吴文英、张炎一派，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白石道人诗集》、《白石道人歌曲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常常浪迹江湖、寄食诸侯，是一名耿介清高的雅士。他一生清贫自守，以文艺创作自娱，诗词散文和音乐书法，无不精善，是继苏轼之后又一难得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艺术全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当世名流如辛弃疾、杨万里、范成大、朱熹和萧德藻等人都极为推重，名声却震耀一世。 曾自言“凡世之所谓名公巨儒，皆尝受其知矣”（周密《齐东野语》）。姜夔词的风格是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新峻拔，立意幽远，炼字琢句，倚声协律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905120"/>
            <a:ext cx="83059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淳熙丙申至日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余过维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夜雪初霁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荠麦弥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入其城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顾萧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寒水自碧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暮色渐起，戍角悲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予怀怆然，感慨今昔，因自度此曲。千岩老人以为有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《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黍离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悲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228600"/>
            <a:ext cx="41781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词中有何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228600"/>
            <a:ext cx="41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黍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周幽王残暴无道，犬戎攻破镐京，杀死周幽王。周平王东迁洛邑，是为东周。东周初年，有王朝大夫到镐京去，看到宗庙宫殿均已毁坏，长了庄稼，不胜感慨，因作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彼黍离离，彼稷之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行迈靡靡，中心摇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知我者，谓我心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知我者，谓我何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悠悠苍天，此何人哉？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彼黍离离，彼稷之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行迈靡靡，中心如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知我者，谓我心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知我者，谓我何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悠悠苍天，此何人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彼黍离离，彼稷之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行迈靡靡，中心如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知我者，谓我心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知我者，谓我何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悠悠苍天，此何人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28600"/>
            <a:ext cx="426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黍、稷：两种农作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离离：禾苗成行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靡靡：行步迟缓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摇摇：形容心神不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何人哉：致此颠覆者是什么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儿的黍子茂又繁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那儿的高粱刚发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走上旧地脚步缓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心神不定愁难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理解我的人说我是心中忧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不理解我的人问我把什么寻求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悠远在上的苍天神灵啊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这究竟是个什么样的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黍离之悲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表示家国残破之痛。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交代写作缘起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词人通过扬州昔盛今衰的对比，追怀丧乱，感慨今昔，抒发了对国事的痛惜伤感的黍离之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84440" cy="631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08040" y="620640"/>
            <a:ext cx="26787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Arial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行楷"/>
              </a:rPr>
              <a:t>　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Arial"/>
                <a:ea typeface="黑体"/>
              </a:rPr>
              <a:t>扬州慢　　姜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3300"/>
                </a:solidFill>
                <a:uFillTx/>
                <a:latin typeface="Arial"/>
                <a:ea typeface="华文行楷"/>
              </a:rPr>
              <a:t>　　淮左名都，竹西佳处，解鞍少驻初程。过春风十里，尽荠麦青青。自胡马窥江去后，废池乔木，犹厌言兵。渐黄昏，清角吹寒，都在空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3300"/>
                </a:solidFill>
                <a:uFillTx/>
                <a:latin typeface="Arial"/>
                <a:ea typeface="华文行楷"/>
              </a:rPr>
              <a:t>　　杜郎俊赏，算而今、重到须惊。纵豆蔻词工，青楼梦好，难赋深情。二十四桥仍在，波心荡、冷月无声。念桥边红药，年年知为谁生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4745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精读：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赏析名句，艺术手法和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49560" y="3013200"/>
            <a:ext cx="69944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rcRect l="21035" t="22528" r="0" b="0"/>
          <a:stretch/>
        </p:blipFill>
        <p:spPr>
          <a:xfrm>
            <a:off x="3924360" y="3789360"/>
            <a:ext cx="5219640" cy="3068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比、虚实结合、用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762120"/>
          <a:ext cx="8458200" cy="673740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古事与今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繁华与残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一兴一衰，自不待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昔人与今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词人解鞍沉吟与杜牧风流俊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一身逢乱世一承平之世，不言而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昔景与今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今日荠麦青青，废池乔木与想象春风十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楷体_GB2312"/>
                          <a:ea typeface="楷体_GB2312"/>
                        </a:rPr>
                        <a:t>一寂寞凄凉，一游赏之地，不堪回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27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440" y="0"/>
            <a:ext cx="850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扬州地当要冲，多富商大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5640" y="457200"/>
            <a:ext cx="8506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扬州富庶甲天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d15b1"/>
                </a:solidFill>
                <a:latin typeface="楷体_GB2312"/>
                <a:ea typeface="楷体_GB2312"/>
              </a:rPr>
              <a:t>杜牧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d15b1"/>
                </a:solidFill>
                <a:latin typeface="楷体_GB2312"/>
                <a:ea typeface="楷体_GB2312"/>
              </a:rPr>
              <a:t>扬州三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垂千步柳，霞映两重城。天碧台阁丽，风凉歌管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d15b1"/>
                </a:solidFill>
                <a:latin typeface="楷体_GB2312"/>
                <a:ea typeface="楷体_GB2312"/>
              </a:rPr>
              <a:t>题扬州禅智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过一蝉噪，飘萧松桂秋。青苔满阶砌，白鸟故迟留。暮霭生深树，斜阳下小楼。谁知竹西路，歌吹是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56272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《赠别》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5796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娉娉袅袅十三余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蔻梢头二月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十里扬州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上珠帘总不如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7800" y="2452680"/>
            <a:ext cx="479520" cy="47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1760" y="1557360"/>
            <a:ext cx="3432240" cy="475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25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遣怀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22860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魄江湖载酒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腰纤细掌中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年一觉扬州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赢得青楼薄幸名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26112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寄扬州韩绰判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6408720" cy="4226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29920" y="1557360"/>
            <a:ext cx="56854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山隐隐水迢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尽江南草未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四桥明月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人何处教吹箫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6095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anh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衬（静中见动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渐黄昏”—用来反衬周遭一片沉寂，从而暗示出敌骑威胁未除，而朝廷却只图暂时苟安，以空城防边，这种现象使词人不仅深感凄寂，而且更觉忧心忡忡，哀不可抑。这里揭出空城，用以衬托起首的“佳处”“名都”十分出色，且由此生发出下片词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十四桥仍在，波心荡，冷月无声”—以动写静、融情于景，透露出繁华衰歇、触目伤怀的悲凉情调，流露出 “物是人非事事休，欲语泪先流” 的无限伤痛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拟人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“废池乔木，犹厌言兵”—哀时伤乱，饮恨无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借代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“胡马窥江”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念桥边红药，年年知为谁生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姜夔游扬州时值隆冬，芍药并未抽蕊开花，但扬州芍药向来以“甲天下”著称，作者不禁想象到将来芍药盛开，而名都已成空城，更何况国难未息，还有谁来赏花采摘呢？全词至此一声长叹，真有点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“映阶碧草自春色，隔叶黄鹂空好音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味道。词人借此曲折地表现出劫后扬州人民的凄苦生活情况，以及自己感时伤乱的情怀。把伤今怀古之情推向高潮。也给读者留下深沉的思考和回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0"/>
            <a:ext cx="4660920" cy="348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1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3541680"/>
            <a:ext cx="4432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0"/>
            <a:ext cx="4432320" cy="3316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438360"/>
            <a:ext cx="4572000" cy="341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0"/>
            <a:ext cx="4495680" cy="3363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0"/>
            <a:ext cx="245592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6480" y="3886200"/>
            <a:ext cx="3557520" cy="266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228600"/>
            <a:ext cx="4038480" cy="3051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006800"/>
            <a:ext cx="3809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391520" cy="553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7621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文昌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0840" y="228600"/>
            <a:ext cx="8612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半阕写扬州兵灾后的萧条景象，表现了作者的亡国丧土之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上半阕主要写实，抓住了“荠麦”、“废池”、“乔木”、“清角”、“空城”这些富有特征的战乱之后的景物，又以黄昏相衬托，暗淡、凄凉，令人目不忍视，耳不忍闻，作者怀念故国，憎恨敌人的爱国思想感情从中自然流露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05320"/>
            <a:ext cx="883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半阕运用杜牧故事，处处设想，抒写黍离之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半阕作者运用杜牧的典故，写景抒情有虚有实。“桥”、“月”、“波”是眼前景物，是实写。将杜牧“二十四桥明月夜，玉人何处教吹箫”的诗句带出，用来进行今昔对比，令人产生“桥在人去”的怅惘。这样就使主题更加突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在春日黄昏，路过维扬的年轻词人，漫步于这座寂寞凄凉的空城，周围的残破景象，使他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叹息敌人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蹂躏之深，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同情人民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遭遇之惨，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痛心边境守备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之疏，更结合着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自身流落之悲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而发出了寄慨极深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国之恨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5720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楷体_GB2312"/>
              </a:rPr>
              <a:t>瘦西湖的五亭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7086600" cy="683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09840" y="457200"/>
            <a:ext cx="21913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楷体_GB2312"/>
              </a:rPr>
              <a:t>白塔的风影摇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2360"/>
            <a:ext cx="830592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55720" y="1066680"/>
            <a:ext cx="2754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雪玉洁白 扬州琼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77240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244440"/>
            <a:ext cx="7937640" cy="6348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134840" y="228600"/>
            <a:ext cx="20091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楷体_GB2312"/>
              </a:rPr>
              <a:t>二十四桥的明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4915080"/>
            <a:ext cx="9144000" cy="1942920"/>
            <a:chOff x="0" y="4915080"/>
            <a:chExt cx="9144000" cy="19429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4916520"/>
              <a:ext cx="31320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6068880" y="4915080"/>
              <a:ext cx="307512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3132000" y="4915080"/>
              <a:ext cx="3059280" cy="19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0" y="4676760"/>
            <a:ext cx="9143640" cy="2181240"/>
            <a:chOff x="0" y="4676760"/>
            <a:chExt cx="9143640" cy="218124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0" y="4676760"/>
              <a:ext cx="310968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6034320" y="4676760"/>
              <a:ext cx="310932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3012120" y="4676760"/>
              <a:ext cx="3109680" cy="21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0" y="0"/>
            <a:ext cx="9144000" cy="2133360"/>
            <a:chOff x="0" y="0"/>
            <a:chExt cx="9144000" cy="2133360"/>
          </a:xfrm>
        </p:grpSpPr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6227640" y="0"/>
              <a:ext cx="291636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3168360" cy="21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3059280" cy="210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429000" y="2590920"/>
            <a:ext cx="25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个园何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水石花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962520"/>
            <a:ext cx="47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1320" y="21337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0" y="22096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2" presetSubtype="6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" nodeType="afterEffect" fill="hold" presetClass="exit" presetID="2" presetSubtype="3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7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周维洁</dc:creator>
  <dc:description/>
  <dc:language>en-US</dc:language>
  <cp:lastModifiedBy>zmj</cp:lastModifiedBy>
  <dcterms:modified xsi:type="dcterms:W3CDTF">2009-06-12T12:38:1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