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gif" ContentType="image/gif"/>
  <Override PartName="/ppt/media/image13.png" ContentType="image/png"/>
  <Override PartName="/ppt/media/image9.gif" ContentType="image/gif"/>
  <Override PartName="/ppt/media/image8.png" ContentType="image/png"/>
  <Override PartName="/ppt/media/image11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6.gif" ContentType="image/gif"/>
  <Override PartName="/ppt/media/image2.png" ContentType="image/png"/>
  <Override PartName="/ppt/media/image17.png" ContentType="image/png"/>
  <Override PartName="/ppt/media/image14.gif" ContentType="image/gif"/>
  <Override PartName="/ppt/media/image5.png" ContentType="image/png"/>
  <Override PartName="/ppt/media/image19.gif" ContentType="image/gif"/>
  <Override PartName="/ppt/media/image1.png" ContentType="image/pn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07C-5F9B-4E40-85AF-4F01FA93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86A-CF1C-488D-9124-055F59BE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C50-F3AE-4522-A488-436F882B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F93-C175-416E-8228-64C7531A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E0B-51EF-4F41-A411-21E22F27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2CC-33DF-4D51-A343-70AD40EB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61A-A983-48C2-B2FB-CB879D84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263-B8DC-4448-B3E7-A09247E9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3D0-62DC-43BC-AF5B-F27D3345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531-3818-4387-AE5E-85067A6D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67C-06C4-4278-9668-D0D6710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DD2-6934-4006-96C3-F6D9001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6842-F15A-432E-AE4F-E7168CEF7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" Target="slide1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5320" y="5715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狱中联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681440" cy="6477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26560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3248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2286000" cy="1800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666880" y="99072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473680" y="601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267080" cy="335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473680" y="617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320" y="-152280"/>
            <a:ext cx="9144000" cy="746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571500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05360" cy="5029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51840" y="-95400"/>
            <a:ext cx="692892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   学  要 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默读课文，画出狱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联欢的过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把你认为含义深刻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地方做上记号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选择自己感兴趣的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0" lang="zh-CN" sz="6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练习朗读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370160"/>
            <a:ext cx="6705360" cy="548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20240" y="2728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扭转乾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58160" y="1069560"/>
            <a:ext cx="118584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世界已千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0" y="993240"/>
            <a:ext cx="118584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洞中才数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8610480" y="63244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6933960" cy="567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62320" y="-3168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极乐世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58160" y="232200"/>
            <a:ext cx="1185840" cy="69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渣滓洞中参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280" y="292320"/>
            <a:ext cx="1185840" cy="69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歌乐山下悟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96200" y="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苦尽甜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8160" y="-528840"/>
            <a:ext cx="1185840" cy="80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望窗外已是新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0" y="-316080"/>
            <a:ext cx="1185840" cy="80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看洞中依然旧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246320"/>
            <a:ext cx="6858000" cy="5611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62920" y="64008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184400"/>
            <a:ext cx="6933960" cy="567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20240" y="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大地春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10440" y="3339360"/>
            <a:ext cx="11858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一枝红杏出墙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0" y="-163800"/>
            <a:ext cx="1185840" cy="80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满园春色关不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7543800" y="640080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43200" y="19692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乐在其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58160" y="3241080"/>
            <a:ext cx="118584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一扇风门伸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0" y="536760"/>
            <a:ext cx="1185840" cy="69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两个天窗出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305920" y="64008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086600" cy="5550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05920" y="0"/>
            <a:ext cx="838080" cy="7621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1060560"/>
            <a:ext cx="7086600" cy="579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45720" y="63360"/>
            <a:ext cx="59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人民战争的胜利，就要来到啦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73680" y="632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27400" y="-22860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楷体_GB2312"/>
              </a:rPr>
              <a:t>作业自助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2880" y="1203480"/>
            <a:ext cx="5667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在享受今天的幸福生活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有一些人我们永远不能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记，他们就是为新中国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抛头颅洒热血的革命烈士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共同去学唱革命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曲，阅读革命书籍吧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shine</cp:lastModifiedBy>
  <dcterms:modified xsi:type="dcterms:W3CDTF">2006-05-10T13:13:4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