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F22-1151-4D3A-9800-49D3FAA6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134-C51A-4DA3-8398-EFDAB67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3D8-3BDA-4F2E-BA6A-BAB33A82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C7E-A31A-414E-B186-95BD3CB5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093-A5CC-4A62-99C1-5ACF08D7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DB2D-EC6B-4BA7-B981-A369C1F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D373-23EF-4361-A1B6-53ECEA3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0D12-ABA9-4DEB-B0F6-1C577D3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7E46-51B3-4C89-B443-FA2275DF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476-BF8B-4D26-8673-406B632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3C98-C2ED-4697-A762-C04FFB9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B8E-5F83-4109-81C5-5BCA82CD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20C-DDC8-4CF6-8A34-80EF68E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50AA-CEE8-4F15-9FEE-5F7ED09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253-501B-49F8-9B27-681C05F6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405D-1B5D-4D52-86BE-207FA27D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FA85-8A83-4C9B-9C2E-7DAEC81B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100-2DAC-47B2-A3EE-EA09EB4A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3D1-5A70-4013-9A2B-1629BE7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E0A-BE09-46CE-9C46-A9C84D3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000-0EF1-43DF-A169-9842838E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8D0-3EE7-4970-8B48-23C9A85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345-97B5-4F06-99B2-3B9B919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432-E1D3-4620-BD7F-A640F82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A1F6-43E7-45D6-95A3-30038200C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5BBB-C9B7-4834-B11E-F717A13C80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一枝花</a:t>
            </a: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·</a:t>
            </a: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不伏老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四块玉</a:t>
            </a: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·</a:t>
            </a:r>
            <a:r>
              <a:rPr b="0" lang="zh-CN" sz="4800" spc="-1" strike="noStrike">
                <a:solidFill>
                  <a:srgbClr val="ffffff"/>
                </a:solidFill>
                <a:latin typeface="Arial Rounded MT Bold"/>
              </a:rPr>
              <a:t>别情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（元）关汉卿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自读，划出文中关键词，并把握此曲主要要表达的感情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84464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说说看，除了这些词还有那些景物能展现这种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350028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你能用自己的语言描述一下这种画面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94028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这些环境描写的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曲借不断变换的景物，以景衬情、化情入景，生动地书法了人物缠绵悱恻的离别之情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元曲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960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平常我们说“唐诗、宋词、元曲”，其实元曲的概念要更为复杂，它包括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剧曲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与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散曲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剧曲结合科白用于表演，也就是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元杂剧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散曲只供清唱，更近于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诗歌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所以从西方文学四分法来说，倒是分属于戏剧与诗歌两种文体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散曲按其规模，又分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套数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小令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以及介于两者间的带过曲。小令体制短小，通常只是一支独立的曲子，中学课文里马致远的《天净沙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秋思》。套数又叫套曲，由同一宫调的若干曲子连缀而成，本课《南吕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一枝花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伏老》也是套数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7640" y="47160"/>
            <a:ext cx="5475240" cy="66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关汉卿（约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1220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年──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1300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年），元代杂剧作家。是中国古代戏曲创作的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代表人物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号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已斋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（一作一斋）、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已斋叟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汉族，解州人，关于他的籍贯，还有祁州人，大约生于金代末年，卒于元成宗大德初年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与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马致远、郑光祖、白朴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并称为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“元曲四大家”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，关汉卿位于“元曲四大家”之</a:t>
            </a:r>
            <a:r>
              <a:rPr b="1" lang="zh-CN" sz="2800" spc="-1" strike="noStrike">
                <a:solidFill>
                  <a:srgbClr val="ff3300"/>
                </a:solidFill>
                <a:latin typeface="Arial Rounded MT Bold"/>
              </a:rPr>
              <a:t>首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代表作：《窦娥冤》、《救风尘》、《望江亭》、《拜月亭》、《鲁斋郎》、《单刀会》、《调风月》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24360" y="117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81800" y="328608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称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个普天下的郎君领袖，盖世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浪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头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个蒸不烂、煮不熟、捶不匾、炒不爆、响珰珰一粒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铜豌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189000"/>
            <a:ext cx="5265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时代背景及写作特色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27160"/>
            <a:ext cx="8447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关汉卿历经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金亡、宋亡、元初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当时兵荒马乱，政治黑暗腐败、阶级矛盾、民族矛盾十分突出，百姓生活痛苦。元代人分十等”一官、二吏、三僧、四道、五医、六工、七猎、八娼、九儒、十丐“，知识分子身份低下，进取无门，沦为底层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关汉卿的杂剧内容，既有皇亲国戚、豪权势要葛彪、鲁斋郎的凶横残暴，“动不动挑人眼，剔人骨，剥人皮”的血淋淋现实；又有童养媳窦娥、婢女燕燕的悲剧遭遇。既有对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官场黑暗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的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无情揭露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，又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热情讴歌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了人民的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反抗斗争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慨慷悲歌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乐观奋争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，构成关汉卿剧作的</a:t>
            </a:r>
            <a:r>
              <a:rPr b="0" lang="zh-CN" sz="2800" spc="-1" strike="noStrike">
                <a:solidFill>
                  <a:srgbClr val="ff3300"/>
                </a:solidFill>
                <a:latin typeface="Arial Rounded MT Bold"/>
              </a:rPr>
              <a:t>基调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一枝花 不伏老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642160" cy="551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我是个蒸不烂、煮不熟、捶不匾、炒不爆、响珰珰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dāng]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一粒铜豌豆，恁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nèn]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子弟每谁教你钻入他锄不断、斫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zhuó]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下、解不开、顿不脱、慢腾腾千层锦套头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我玩的是梁园月，饮的是东京酒，赏的是洛阳花，攀的是章台柳。我也会围棋、会蹴踘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cùjū]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会打围、会插科、会歌舞、会吹弹、会咽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yè]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作、会吟诗、会双陆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便是落了我牙、歪了我嘴、瘸了我腿、折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[shé]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了我手，天赐与我这几般儿歹症候，尚兀自不肯休！则除是阎王亲自唤，神鬼自来勾。三魂归地府，七魄丧冥幽。天哪！那其间才不向烟花路儿上走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65188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【尾】我是个蒸不烂、煮不熟、槌不扁、炒不爆、响当当的一粒铜豌豆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那些风流浪子们，谁让你们钻进他那锄不断、砍不下、解不开、摆不脱、慢腾腾、好看又心狠的千层圈套中呢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我赏玩的是梁国之月，饮的是东京美酒，观赏的是洛阳名花，作伴的是章台美女。我也会围棋、蹴踘、狩猎、插科打诨，还会唱歌跳舞、吹拉弹奏、滑稽表演、双陆博戏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即便是打落了我的牙、扭歪了我的口、打跛了我的腿、折了我的手，老天赐给我的这些恶习，还是不肯悔改。除非是阎王爷亲自传唤，神鬼自己来勾，三魂归入地府，七魄丧入黄泉，苍天啊，到那个时候，才有可能不往那妓女出没的场所去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你在课文中读出了一个怎么样的关汉卿，依据是什么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多才多艺、风流倜傥、浪漫不羁、无所顾忌、离经叛道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关汉卿的“浪子形象”是否就是他真实的“面目”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35002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结合时代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429264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诵读：“我是个蒸不烂……”“你便是落了我的牙……”你读出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6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  <a:ea typeface="黑体"/>
              </a:rPr>
              <a:t>淋漓尽致地表达了自己决绝顽抗之心，绝不向黑暗妥协的顽强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曲直抒胸臆，极其鲜明地表现出关汉卿离经叛道、刚烈不屈的精神。显示出作者多才多艺、风流倜傥、绝不与黑暗社会妥协的个性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四块玉  别情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自送别，心难舍，一点相思几时绝？ 　　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凭阑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袖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拂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杨花雪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溪又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斜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山又遮，人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去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也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5772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自从送别爱人之后，心中实在难以割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一缕相思情意不知几时才能断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凭栏远望用衣袖轻拂似飞雪杨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溪水弯曲倾斜，青山又把视线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Rounded MT Bold"/>
                <a:ea typeface="黑体"/>
              </a:rPr>
              <a:t>爱人真的离我远去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3:05:22Z</dcterms:created>
  <dc:creator>www.1kejian.com</dc:creator>
  <dc:description>www.1kejian.com</dc:description>
  <cp:keywords/>
  <dc:language>en-US</dc:language>
  <cp:lastModifiedBy>User</cp:lastModifiedBy>
  <cp:lastPrinted>1899-12-30T00:00:00Z</cp:lastPrinted>
  <dcterms:modified xsi:type="dcterms:W3CDTF">2012-12-12T04:37:02Z</dcterms:modified>
  <cp:revision>1</cp:revision>
  <dc:subject>www.1kejian.com第一课件网</dc:subject>
  <dc:title>www.1kejian.com第一课件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e002000000000001024120</vt:lpwstr>
  </property>
</Properties>
</file>