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C02-600A-4D71-9841-9ABC9E73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96-42B9-4D37-A7DB-50A619D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4E1-2BEF-4504-B03C-BB61074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9E7-662F-483F-A603-E0225C04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392E3-BCE8-404F-84B7-1388CEF3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CC7D2-D021-4CF4-80ED-53BD911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A8FE-ABB2-4394-9A16-1D82D242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C850-3D75-40A3-B60E-8D605670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34C56-7719-4E8A-90B0-A5E06A9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F7B7C-83DD-42EB-AA51-C576434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A838-64ED-47CC-B171-E136446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D59-4626-4FD8-B42A-39253A2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90741-669D-4873-94D3-FA8B09B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B6E93-2A6F-446A-BEC3-C71B291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A7ADA-C3EB-4860-A6A1-CA486AD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F5CB-7E54-4C05-B310-C9BA19F5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098E3-2F61-4008-9B42-4B0129FA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27C-842D-4FC1-8946-3D5B533B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152-E711-4BDE-AC5F-547ACA9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3C1-B7CA-40B5-B056-9881138E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28E-5D5D-4C5F-AA98-57D054F9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E26-8834-4745-A470-FEA9A3E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A88-4CFA-4FE7-805A-3EB6EB7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EA1-524E-44D7-8A1E-E237226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199-7538-47D7-AB79-0D03D467416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7A42-48EB-490D-ABFC-E232F2845D6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 虽然我们生活在宇宙中，但是我们跳出宇宙之外，将它作为纯客观的说明对象来解说，这样能够更清晰、直观地认识宇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 先有宇宙，次有星系，再有恒星，再有行星，让读者从整体上有所了解之后，再深入局部了解细微，这样顺序清楚，层次分明，符合读者的思维习惯，也便于思维的梳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由广阔的宇宙，穿过无尽的空间，最终回到人类的家园，这是探索和发现的过程，表现了人类对宇宙的敬仰和“掌握我们自己的命运”的热情。“人类的未来取决于我们对这个宇宙的了解程度”，由宇宙再反观地球，就是人类的未来之路，说明的顺序和作者的思想达到某种契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 这是电视片的解说词，由摄影的角度来看，先整体后局部便于把握，而先局部后整体，表述上容易混乱，视觉画面也不好协调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7160" cy="689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中宋"/>
                <a:ea typeface="华文中宋"/>
              </a:rPr>
              <a:t>作者对宇宙和人类有怎样的认识？你能说说自己的看法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中宋"/>
                <a:ea typeface="华文中宋"/>
              </a:rPr>
              <a:t>宇宙辽阔无垠，神秘莫测  。 而人类生活的地球，只是宇宙中的沧海一粟，“它的存在可能仅仅对我们有意义”。宇宙不因为地球及生活在地球上的人类而存在，而人类的未来，却取决于对宇宙的了解程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人类在宇宙中是渺小的，“只不过是晨窗中飞扬的一粒尘埃”；人类关心的大多数问题，对宇宙来说更是微不足道、毫无意义；但是人类又是勇敢、光荣的，他们以渺小的身躯，来探索广阔的宇宙，人类在渺小之中进发出宇宙般的伟大。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本文运用了大量的议论与抒情，请举例说明其有什么作用？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这些大段的议论和抒情，是否干扰了对宇宙的说明？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课文补充了许多相关知识，但是更突出的，是作者抒发自己的思想感情，其中有大段的议论和抒情。如开始的三段文字和结尾的两段文字，强烈的议论和抒情色彩，融说理和抒情为一体，而且和说明性的文字配合自然，传达了作者对宇宙和人类的认识。语段中的议论和抒情也是随处可见的，如“假如我们被随意搁置在宇宙之中，我们附着或旁落在一个行星上的机会只有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1033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分之一。在日常生活当中，这样的机会是‘令人羡慕的’。可见天体是多么宝贵”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作为电视片的解说词，不仅要让观众了解宇宙的客观构成和相关知识，还要表达人类对宇宙的主观认识和人类探索宇宙的意义，这样才能感染观众，激发他们对宇宙的兴趣。所以，议论和抒情不仅没有干扰介绍，反而使介绍更具科学意蕴和人文内涵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华文中宋"/>
              </a:rPr>
              <a:t>理解下列语句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ff99"/>
                </a:solidFill>
                <a:latin typeface="Arial"/>
              </a:rPr>
              <a:t>．从宏观来看，人类所关心的大多数问题都可以说是无关紧要的，甚至是微不足道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cc"/>
                </a:solidFill>
                <a:latin typeface="Arial"/>
              </a:rPr>
              <a:t>人类对宇宙来说，是渺小甚至微不足道的。  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华文中宋"/>
              </a:rPr>
              <a:t>理解下列语句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这些探索活动提醒我们：好奇是人类的天性，理解是一种乐趣，知识是生存的先决条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人类对宇宙的探索是本能的，是人类拥有智慧而必须承担的责任，也是人类拥有未来的希望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k</cp:lastModifiedBy>
  <dcterms:modified xsi:type="dcterms:W3CDTF">2007-04-19T16:07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