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85F-E0E6-496B-A80B-48478552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C7B-8566-40A7-8724-6A0FE41B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DD4-87C6-482C-9969-BC5F3B72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461-DAC7-4229-BE79-E8AFB22B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56B-85B4-4DF1-99C2-136691DA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C6C-C3EB-4E3F-9118-4F4E03EB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E9B-ABC3-446C-A5B8-28248531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8C6-F89A-4D6C-8DDB-20306D3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E78-7BDD-41B0-893F-DD72D5DB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668-BA63-4908-BB3C-4703785F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3E2-5F2F-49AD-985E-C71490D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0AB-5632-4F69-BD35-34A13F79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A5C1-4D90-4017-88F0-7A10046DBF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3640" y="623736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1289800">
            <a:off x="2050560" y="1844640"/>
            <a:ext cx="244332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You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58920" y="2349360"/>
            <a:ext cx="533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th is not a time of life; it is a state of mind; it is not a matter of rosy cheeks, red lips and supple knees; it is a matter of the will, a quality of the imagination, a vigor of the emotions; it is /the freshness of the deep springs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春不是年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是心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春不是桃面、丹唇、柔膝，而是深沉意志，恢宏想象，炙热恋情；青春是生命深泉在涌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76560" y="1130400"/>
            <a:ext cx="491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205000"/>
            <a:ext cx="849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th /means a temperamental predominance of courage over timidity, /of the appetite for adventure over the love of ease. This/ often exists in a man of 60/ more than a boy of 20. Nobody grows old merely by a number of years. We grow old by deserting our ide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青春气贯长虹，勇锐盖过怯弱，进取压倒苟安。如此锐气，二十后生而有之，六旬男子则更多见。年岁有加，并非垂老，理想丢弃，方堕暮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ears may wrinkle the skin, /but to give up enthusiasm wrinkles the soul./ Worry, fear/, self-distrust/ bows the heart and turns the spirit back to d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月悠悠，衰微只及肌肤；热忱抛却，颓废必致灵魂。忧烦，惶恐，丧失自信，定使心灵扭曲，意气如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Whether 60 or 16, there is in every human being's heart /the lure of wonders, the unfailing appetite for what's next and the joy of the game of living. /In the center of your heart and my heart, there is a wireless station; /so long as it receives messages of beauty, hope, courage and power from man and from the infinite, so long as you are you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无论年届花甲，拟或二八芳龄，心中皆有生命之欢乐，奇迹之诱惑，孩童般天真久盛不衰。人人心中皆有一台天线，只要你从天上人间接受美好、希望、欢乐、勇气和力量信号，你就青春永驻，风华常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en your aerials are down, and your spirit is covered with snows of cynicism and the ice of pessimism, then you've grown old, even at 20; but as long as your aerials are up, to catch waves of optimism, there's hope you may die young at 8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一旦天线下降，锐气便被冰雪覆盖，玩世不恭、自暴自弃油然而生，即使年方二十，实已垂垂老矣；然则只要树起天线，捕捉乐观信号，你就有望在八十高龄告别尘寰时仍觉年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7:56:05Z</dcterms:created>
  <dc:creator>USER</dc:creator>
  <dc:description/>
  <dc:language>en-US</dc:language>
  <cp:lastModifiedBy>FtpDown</cp:lastModifiedBy>
  <dcterms:modified xsi:type="dcterms:W3CDTF">2012-11-28T07:51:10Z</dcterms:modified>
  <cp:revision>6</cp:revision>
  <dc:subject/>
  <dc:title>幻灯片 1</dc:title>
</cp:coreProperties>
</file>