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wmf" ContentType="image/x-wmf"/>
  <Override PartName="/ppt/media/image17.jpeg" ContentType="image/jpeg"/>
  <Override PartName="/ppt/media/image23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25.gif" ContentType="image/gif"/>
  <Override PartName="/ppt/media/image9.wmf" ContentType="image/x-wmf"/>
  <Override PartName="/ppt/media/image6.gif" ContentType="image/gif"/>
  <Override PartName="/ppt/media/image4.jpeg" ContentType="image/jpeg"/>
  <Override PartName="/ppt/media/image22.gif" ContentType="image/gif"/>
  <Override PartName="/ppt/media/image26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24.gif" ContentType="image/gif"/>
  <Override PartName="/ppt/media/image21.jpeg" ContentType="image/jpeg"/>
  <Override PartName="/ppt/media/image19.gif" ContentType="image/gif"/>
  <Override PartName="/ppt/media/image18.jpeg" ContentType="image/jpeg"/>
  <Override PartName="/ppt/media/image16.gif" ContentType="image/gif"/>
  <Override PartName="/ppt/media/image1.jpeg" ContentType="image/jpeg"/>
  <Override PartName="/ppt/media/image27.gif" ContentType="image/gif"/>
  <Override PartName="/ppt/media/image28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89D-3941-4B41-8B27-4F1D7223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737-B95E-49BA-82AF-E656CA6B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D61-A940-416B-9CC0-5FB0CF52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476-3C44-4E9A-845A-5610DB45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90E-0946-4F7B-8FCE-A31C69FA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6BC-C2C1-4BEA-B8DD-D305E4D9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652-511D-43BE-8A09-B2CDACA1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C88-87E3-4CB0-AB16-85B50330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01F-3713-4197-AC89-ED46BF29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340-362C-4F4B-87EA-409446D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BE2-9FBE-4789-AAB6-A108EB8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D71-F12C-4D26-8DF0-9E46DAD6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45B0-8CCC-48FA-8673-560C9C1B42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ki_hgirl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990720"/>
            <a:ext cx="3200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智子疑邻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3214800"/>
            <a:ext cx="327672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塞翁失马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4" name="BUT2_ANM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1600200" cy="93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648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授课人：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创新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44040" y="525780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李  颖  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666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685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3.</a:t>
            </a:r>
            <a:r>
              <a:rPr b="0" i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归纳重点词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209680"/>
            <a:ext cx="7467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子疑邻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       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不</a:t>
            </a: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筑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暮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而果大</a:t>
            </a: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亡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其财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         )  (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其邻人之父</a:t>
            </a: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亦云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  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096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0033"/>
                </a:solidFill>
                <a:latin typeface="Times New Roman"/>
              </a:rPr>
              <a:t>以……为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200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0033"/>
                </a:solidFill>
                <a:latin typeface="宋体"/>
              </a:rPr>
              <a:t>修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4191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0033"/>
                </a:solidFill>
                <a:latin typeface="宋体"/>
              </a:rPr>
              <a:t>晚上</a:t>
            </a:r>
            <a:r>
              <a:rPr b="0" i="1" lang="zh-CN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191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0033"/>
                </a:solidFill>
                <a:latin typeface="Times New Roman"/>
              </a:rPr>
              <a:t>丢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0033"/>
                </a:solidFill>
                <a:latin typeface="Times New Roman"/>
              </a:rPr>
              <a:t>也这样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6200" y="2286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文章大意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754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宋国有个富人，因下雨，墙塌下来。他儿子说：“如果不（赶紧）修筑它，一定有盗贼进来。”隔壁的老人也这么说。（富人不听他们的话）这天晚上果然丢失了大量财物，这家人很赞赏儿子聪明，却怀疑偷盗是隔壁那个老人干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anner9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hi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19051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概括课文开头写故事发生的背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“</a:t>
            </a: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宋”</a:t>
            </a: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“</a:t>
            </a: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富”</a:t>
            </a:r>
            <a:r>
              <a:rPr b="1" i="1" lang="zh-CN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“</a:t>
            </a: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墙坏”</a:t>
            </a: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“</a:t>
            </a: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墙坏”</a:t>
            </a: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533520"/>
            <a:ext cx="259092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赛一赛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ec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89548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故事发生的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被盗的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天雨”导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             为盗窃者提供了自由进出的条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“</a:t>
            </a: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富人家”</a:t>
            </a:r>
            <a:r>
              <a:rPr b="1" i="1" lang="zh-CN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“</a:t>
            </a: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墙坏”</a:t>
            </a:r>
            <a:r>
              <a:rPr b="1" i="1" lang="zh-CN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9907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（以小组为单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ea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152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概括寓意：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23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提示：正确的意见应采取怎样的态度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26478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寓意：听意见只应听正确的，而不要看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着意见是什么人提出，对人不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持偏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ea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80880" y="533520"/>
            <a:ext cx="281952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塞翁失马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22096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800080"/>
                </a:solidFill>
                <a:latin typeface="华文行楷"/>
                <a:ea typeface="华文行楷"/>
              </a:rPr>
              <a:t>1.</a:t>
            </a:r>
            <a:r>
              <a:rPr b="0" i="1" lang="zh-CN" sz="3600" spc="-1" strike="noStrike">
                <a:solidFill>
                  <a:srgbClr val="800080"/>
                </a:solidFill>
                <a:latin typeface="Times New Roman"/>
              </a:rPr>
              <a:t>自 由 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7638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2.</a:t>
            </a:r>
            <a:r>
              <a:rPr b="0" i="1" lang="zh-CN" sz="3200" spc="-1" strike="noStrike">
                <a:solidFill>
                  <a:srgbClr val="800080"/>
                </a:solidFill>
                <a:latin typeface="Times New Roman"/>
              </a:rPr>
              <a:t>扮 演 角 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200283023202787740" descr=""/>
          <p:cNvPicPr/>
          <p:nvPr/>
        </p:nvPicPr>
        <p:blipFill>
          <a:blip r:embed="rId2"/>
          <a:stretch/>
        </p:blipFill>
        <p:spPr>
          <a:xfrm>
            <a:off x="6858000" y="4648320"/>
            <a:ext cx="12891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File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3049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讨论、质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600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教师归纳</a:t>
            </a:r>
            <a:r>
              <a:rPr b="0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0267" descr=""/>
          <p:cNvPicPr/>
          <p:nvPr/>
        </p:nvPicPr>
        <p:blipFill>
          <a:blip r:embed="rId2"/>
          <a:stretch/>
        </p:blipFill>
        <p:spPr>
          <a:xfrm>
            <a:off x="3962520" y="457200"/>
            <a:ext cx="1371600" cy="81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2590920"/>
            <a:ext cx="3962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皆</a:t>
            </a: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何遽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其马</a:t>
            </a: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胡骏马而归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死者</a:t>
            </a: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十九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2590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宋体"/>
              </a:rPr>
              <a:t>慰 问</a:t>
            </a: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35812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宋体"/>
              </a:rPr>
              <a:t>怎么就，表示反问</a:t>
            </a: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4572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宋体"/>
              </a:rPr>
              <a:t>带 领</a:t>
            </a: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5410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宋体"/>
              </a:rPr>
              <a:t>大多数</a:t>
            </a:r>
            <a:r>
              <a:rPr b="1" i="1" lang="zh-CN" sz="3200" spc="-1" strike="noStrike" u="sng">
                <a:solidFill>
                  <a:srgbClr val="990033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0000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16200" y="2286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隶书"/>
                <a:ea typeface="隶书"/>
              </a:rPr>
              <a:t>文章大意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2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靠近长城一带的人们中，有一个精通术数的人。（一天）他家的马不知什么缘故逃到胡人那边去了，人们都来安慰他，他却说：“这难道不是福气吗？”过了几个月，他那匹马（竟然）带领着一群胡人的骏马回来了。人们都去祝贺他，他却说：“这难道不是祸害吗？”家里有的是好马，他儿子喜欢骑着玩，（有一天）从马上摔下来，摔断了大腿。人们都来安慰他，他却说：“这难道不是福气吗？”过了一年，胡人大举进攻，进了长城，壮年男子拿起武器作战。靠近长城一带的人，绝大多数都战死沙场。他儿子就因为腿的缘故（没有被征去打仗），父子得以保全生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ea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152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概括寓意：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提示：好事能变坏吗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坏事能变好事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397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寓意：祸福在一定条件下可以互相转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bgim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04920" y="4572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比一比</a:t>
            </a:r>
            <a:endParaRPr b="0" lang="en-US" sz="4400" spc="1" strike="noStrike">
              <a:ln w="0">
                <a:noFill/>
              </a:ln>
              <a:solidFill>
                <a:srgbClr val="3333cc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36232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联系实际，讲讲身边类似的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谁能说得好说得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em27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hi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480" y="380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编寓言故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657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A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嘴和眼睛的对话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219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提示：情节要合理具体，情节与寓意要一致，寓意能揭示一种生活道理。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2-2" descr=""/>
          <p:cNvPicPr/>
          <p:nvPr/>
        </p:nvPicPr>
        <p:blipFill>
          <a:blip r:embed="rId2"/>
          <a:stretch/>
        </p:blipFill>
        <p:spPr>
          <a:xfrm>
            <a:off x="4952880" y="0"/>
            <a:ext cx="27432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无标题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049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隶书"/>
              </a:rPr>
              <a:t>教学目的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295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 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翻译《智子疑邻》，《塞翁失马》积累文言词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分析故事情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用自己的话多角度概括寓意，培养发散思维、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学习编写寓言、进一步培养发散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5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培养通过学习，学会观察生活，分析生活，领悟人生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道理，然后正确去对待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9625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隶书"/>
              </a:rPr>
              <a:t>教学重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92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分析故事情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多角度概括寓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shi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59840" y="304920"/>
            <a:ext cx="21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B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树和斧子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gj4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886200" cy="2657520"/>
          </a:xfrm>
          <a:prstGeom prst="rect">
            <a:avLst/>
          </a:prstGeom>
          <a:ln w="0">
            <a:noFill/>
          </a:ln>
        </p:spPr>
      </p:pic>
      <p:pic>
        <p:nvPicPr>
          <p:cNvPr id="144" name="tree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382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shi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01-09-011-10" descr="01-09-011-10.gif (4488 字节)"/>
          <p:cNvPicPr/>
          <p:nvPr/>
        </p:nvPicPr>
        <p:blipFill>
          <a:blip r:embed="rId2"/>
          <a:stretch/>
        </p:blipFill>
        <p:spPr>
          <a:xfrm>
            <a:off x="6172200" y="380880"/>
            <a:ext cx="1474920" cy="1668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2120" y="914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C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画笔和颜料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352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D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蜜蜂与花朵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3" descr=""/>
          <p:cNvPicPr/>
          <p:nvPr/>
        </p:nvPicPr>
        <p:blipFill>
          <a:blip r:embed="rId3"/>
          <a:stretch/>
        </p:blipFill>
        <p:spPr>
          <a:xfrm>
            <a:off x="6858000" y="30481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43000" y="4876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E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0000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14600" y="152280"/>
            <a:ext cx="304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33"/>
                </a:solidFill>
                <a:latin typeface="Times New Roman"/>
                <a:ea typeface="隶书"/>
              </a:rPr>
              <a:t>小       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719360"/>
            <a:ext cx="8305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通过这节课的学习，我们了解寓言故事的一般特点，学习了通过分析情节，从不同角度去理解寓意，并且实习了创作简单的寓言故事。请大家在今后的学习生活中，仔细观察生活，分析生活，还可以多读一些寓言故事，从中领悟人生道理，正确去对待生活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000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362320" y="1981080"/>
            <a:ext cx="4876560" cy="16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再  见 ！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a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990720" y="1523880"/>
            <a:ext cx="57909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比一比，看谁最会说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5" name="em06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em06" descr=""/>
          <p:cNvPicPr/>
          <p:nvPr/>
        </p:nvPicPr>
        <p:blipFill>
          <a:blip r:embed="rId5"/>
          <a:stretch/>
        </p:blipFill>
        <p:spPr>
          <a:xfrm>
            <a:off x="7086600" y="304920"/>
            <a:ext cx="18288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小蜜蜂" descr=""/>
          <p:cNvPicPr/>
          <p:nvPr/>
        </p:nvPicPr>
        <p:blipFill>
          <a:blip r:embed="rId1"/>
          <a:stretch/>
        </p:blipFill>
        <p:spPr>
          <a:xfrm>
            <a:off x="0" y="1440"/>
            <a:ext cx="89568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你知道这些故事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2133720"/>
            <a:ext cx="3809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刻 舟  求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邯 郸 学 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守 株 待 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龟 兔 赛 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狐狸和乌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守株待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宋国有个种田的人，他的田里有棵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一次，一只兔子跑过来，由于跑得太急，一头撞到树上，把脖子撞断死掉了。这个人毫不费力地捡到了这只免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这天起，他干脆放下农具，连活儿也不干了，天天守在这棵树下，希望还能捡到死兔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兔子是再也捡不到了，他的行为反倒成了宋国人谈论的笑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846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00"/>
                </a:solidFill>
                <a:latin typeface="Times New Roman"/>
              </a:rPr>
              <a:t>寓意：收获从劳动中来。不要因为一次偶然的收获，就放弃了勤劳的美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103156" descr=""/>
          <p:cNvPicPr/>
          <p:nvPr/>
        </p:nvPicPr>
        <p:blipFill>
          <a:blip r:embed="rId1"/>
          <a:stretch/>
        </p:blipFill>
        <p:spPr>
          <a:xfrm>
            <a:off x="4648320" y="900000"/>
            <a:ext cx="36576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D05219_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660840" cy="3467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57913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4800" spc="-1" strike="noStrike">
                <a:solidFill>
                  <a:srgbClr val="00cc99"/>
                </a:solidFill>
                <a:latin typeface="Times New Roman"/>
              </a:rPr>
              <a:t>龟兔赛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一天，一只兔子嘲笑乌龟腿短，走起路来慢悠悠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乌龟笑着回答说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虽然你跑起来快得像一阵风一样，但如果赛跑我一定能赢你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兔子认为乌龟的话是在吹牛皮，便同意赛跑，它们商量一致，请狐狸选定跑道，定好终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了比赛那天，它们同时出发，兔子自信天生跑得快，就没把比赛放在心上，跑到中途它在路边躺下来竟呼呼大睡了。等到兔子一觉醒来，奋力快跑，来到终点，发现乌龟早己到达终点，正在那儿恭候呢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03396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这个故事是说，虽然慢点，只要坚持不懈，最终会赢得胜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无标题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地下铁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寓  言 是 什 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寓言是穿着外衣的真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-----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陀罗雪维支（俄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把深刻的道理寄托在一个形象生动的小故事里，这种文学样式就叫寓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NA01441_" descr=""/>
          <p:cNvPicPr/>
          <p:nvPr/>
        </p:nvPicPr>
        <p:blipFill>
          <a:blip r:embed="rId1"/>
          <a:stretch/>
        </p:blipFill>
        <p:spPr>
          <a:xfrm>
            <a:off x="6629400" y="838080"/>
            <a:ext cx="2819520" cy="5267520"/>
          </a:xfrm>
          <a:prstGeom prst="rect">
            <a:avLst/>
          </a:prstGeom>
          <a:ln w="0">
            <a:noFill/>
          </a:ln>
        </p:spPr>
      </p:pic>
      <p:pic>
        <p:nvPicPr>
          <p:cNvPr id="74" name="熊" descr=""/>
          <p:cNvPicPr/>
          <p:nvPr/>
        </p:nvPicPr>
        <p:blipFill>
          <a:blip r:embed="rId2"/>
          <a:stretch/>
        </p:blipFill>
        <p:spPr>
          <a:xfrm>
            <a:off x="6172200" y="3733920"/>
            <a:ext cx="2739960" cy="312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30492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智子疑邻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0033"/>
                </a:solidFill>
                <a:latin typeface="华文行楷"/>
                <a:ea typeface="华文行楷"/>
              </a:rPr>
              <a:t>1.</a:t>
            </a:r>
            <a:r>
              <a:rPr b="0" i="1" lang="zh-CN" sz="3600" spc="-1" strike="noStrike">
                <a:solidFill>
                  <a:srgbClr val="990033"/>
                </a:solidFill>
                <a:latin typeface="宋体"/>
                <a:ea typeface="华文新魏"/>
              </a:rPr>
              <a:t> </a:t>
            </a:r>
            <a:r>
              <a:rPr b="0" i="1" lang="zh-CN" sz="3600" spc="-1" strike="noStrike">
                <a:solidFill>
                  <a:srgbClr val="990033"/>
                </a:solidFill>
                <a:latin typeface="宋体"/>
                <a:ea typeface="华文新魏"/>
              </a:rPr>
              <a:t>齐  读</a:t>
            </a:r>
            <a:r>
              <a:rPr b="0" i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8769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0033"/>
                </a:solidFill>
                <a:latin typeface="华文行楷"/>
                <a:ea typeface="华文行楷"/>
              </a:rPr>
              <a:t>2.</a:t>
            </a:r>
            <a:r>
              <a:rPr b="0" i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用现代汉语讲《智子疑邻》这个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819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正音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20040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895480"/>
            <a:ext cx="48769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老人家的尊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ile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13716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讨论、质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0267" descr=""/>
          <p:cNvPicPr/>
          <p:nvPr/>
        </p:nvPicPr>
        <p:blipFill>
          <a:blip r:embed="rId2"/>
          <a:stretch/>
        </p:blipFill>
        <p:spPr>
          <a:xfrm>
            <a:off x="6019920" y="3657600"/>
            <a:ext cx="22096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4-04-13T04:55:19Z</dcterms:modified>
  <cp:revision>58</cp:revision>
  <dc:subject/>
  <dc:title>PowerPoint Presentation</dc:title>
</cp:coreProperties>
</file>