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9.png" ContentType="image/png"/>
  <Override PartName="/ppt/media/image7.jpeg" ContentType="image/jpeg"/>
  <Override PartName="/ppt/media/image18.png" ContentType="image/png"/>
  <Override PartName="/ppt/media/image17.png" ContentType="image/png"/>
  <Override PartName="/ppt/media/image4.jpeg" ContentType="image/jpeg"/>
  <Override PartName="/ppt/media/image8.gif" ContentType="image/gif"/>
  <Override PartName="/ppt/media/image16.gif" ContentType="image/gif"/>
  <Override PartName="/ppt/media/image13.png" ContentType="image/png"/>
  <Override PartName="/ppt/media/chimes.wav" ContentType="audio/x-wav"/>
  <Override PartName="/ppt/media/image6.jpeg" ContentType="image/jpeg"/>
  <Override PartName="/ppt/media/image1.gif" ContentType="image/gif"/>
  <Override PartName="/ppt/media/image2.jpeg" ContentType="image/jpeg"/>
  <Override PartName="/ppt/media/image3.png" ContentType="image/png"/>
  <Override PartName="/ppt/media/image5.jpeg" ContentType="image/jpeg"/>
  <Override PartName="/ppt/media/image10.jpeg" ContentType="image/jpeg"/>
  <Override PartName="/ppt/media/image11.gif" ContentType="image/gif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EBC8-5676-4259-A217-8401C61AD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0FD2-24C4-4782-9D05-4EBCBE9B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CDA4-1213-458E-B2E0-2B4F896A9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EAFF-F3F0-401C-9DF9-3343857EE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1CA7-D877-455B-A350-B506712C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4A49-1D07-45D1-886A-7BFA5287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6BD8-BB77-43D8-87C0-C3867717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FCBA-0DEE-47AA-9BC7-0AC02937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9704-B319-4DB9-A46A-EA110EF6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D735-4587-400E-893A-F63581CE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4DED-0ADA-4922-8588-15400C58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8FBD-F940-4C58-8AAF-ACCBC801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D983-755C-480D-8A05-F704E6B0C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牛织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1981080" y="182880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迢 迢 牵 牛 星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6"/>
          <p:cNvSpPr/>
          <p:nvPr/>
        </p:nvSpPr>
        <p:spPr>
          <a:xfrm>
            <a:off x="304920" y="304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三至六句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5439960" y="304920"/>
            <a:ext cx="42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纤纤擢素手，札札弄机杼。</a:t>
            </a:r>
            <a:br>
              <a:rPr sz="4000"/>
            </a:b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终日不成章，泣涕零如雨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8" descr="red-008"/>
          <p:cNvPicPr/>
          <p:nvPr/>
        </p:nvPicPr>
        <p:blipFill>
          <a:blip r:embed="rId1"/>
          <a:stretch/>
        </p:blipFill>
        <p:spPr>
          <a:xfrm>
            <a:off x="152280" y="2743200"/>
            <a:ext cx="2800440" cy="38862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9"/>
          <p:cNvSpPr/>
          <p:nvPr/>
        </p:nvSpPr>
        <p:spPr>
          <a:xfrm>
            <a:off x="2514600" y="16002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织女伸出细长而白皙的手，札札地织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3124080" y="26668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一整天不见她织成一匹布，却见她愁容满面，泪落如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WordArt 15"/>
          <p:cNvSpPr txBox="1"/>
          <p:nvPr/>
        </p:nvSpPr>
        <p:spPr>
          <a:xfrm>
            <a:off x="4211640" y="4508640"/>
            <a:ext cx="2209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织女活动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304920" y="304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三至六句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2514600" y="304920"/>
            <a:ext cx="628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纤纤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擢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素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手，札札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弄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机杼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red-008"/>
          <p:cNvPicPr/>
          <p:nvPr/>
        </p:nvPicPr>
        <p:blipFill>
          <a:blip r:embed="rId1"/>
          <a:stretch/>
        </p:blipFill>
        <p:spPr>
          <a:xfrm>
            <a:off x="152280" y="2743200"/>
            <a:ext cx="2800440" cy="388620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10"/>
          <p:cNvSpPr/>
          <p:nvPr/>
        </p:nvSpPr>
        <p:spPr>
          <a:xfrm>
            <a:off x="4952880" y="1371600"/>
            <a:ext cx="1059120" cy="977760"/>
          </a:xfrm>
          <a:prstGeom prst="wedgeRoundRectCallout">
            <a:avLst>
              <a:gd name="adj1" fmla="val -102324"/>
              <a:gd name="adj2" fmla="val -101134"/>
              <a:gd name="adj3" fmla="val 16667"/>
            </a:avLst>
          </a:prstGeom>
          <a:solidFill>
            <a:srgbClr val="ffffcc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色泽白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WordArt 11"/>
          <p:cNvSpPr txBox="1"/>
          <p:nvPr/>
        </p:nvSpPr>
        <p:spPr>
          <a:xfrm>
            <a:off x="2819520" y="1649520"/>
            <a:ext cx="1828800" cy="109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如见其形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3" name="WordArt 12"/>
          <p:cNvSpPr txBox="1"/>
          <p:nvPr/>
        </p:nvSpPr>
        <p:spPr>
          <a:xfrm>
            <a:off x="6400800" y="1649520"/>
            <a:ext cx="1828800" cy="109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如闻其声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3962520" y="3016080"/>
            <a:ext cx="44956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写织女勤劳的姿态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4"/>
          <p:cNvSpPr/>
          <p:nvPr/>
        </p:nvSpPr>
        <p:spPr>
          <a:xfrm>
            <a:off x="5409720" y="112536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终日不成章，泣涕零如雨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5"/>
          <p:cNvSpPr/>
          <p:nvPr/>
        </p:nvSpPr>
        <p:spPr>
          <a:xfrm>
            <a:off x="4038480" y="5257800"/>
            <a:ext cx="44960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写织女思念的情感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4211640" y="400536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相思之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17"/>
          <p:cNvSpPr/>
          <p:nvPr/>
        </p:nvSpPr>
        <p:spPr>
          <a:xfrm>
            <a:off x="1692360" y="1413000"/>
            <a:ext cx="576000" cy="2049480"/>
          </a:xfrm>
          <a:prstGeom prst="wedgeRoundRectCallout">
            <a:avLst>
              <a:gd name="adj1" fmla="val 134574"/>
              <a:gd name="adj2" fmla="val -78115"/>
              <a:gd name="adj3" fmla="val 16667"/>
            </a:avLst>
          </a:prstGeom>
          <a:solidFill>
            <a:srgbClr val="ffffcc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形状细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152280" y="3024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七至十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8" descr="牛郎织女星"/>
          <p:cNvPicPr/>
          <p:nvPr/>
        </p:nvPicPr>
        <p:blipFill>
          <a:blip r:embed="rId1"/>
          <a:stretch/>
        </p:blipFill>
        <p:spPr>
          <a:xfrm>
            <a:off x="5181480" y="0"/>
            <a:ext cx="3962520" cy="41403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9"/>
          <p:cNvSpPr/>
          <p:nvPr/>
        </p:nvSpPr>
        <p:spPr>
          <a:xfrm>
            <a:off x="152280" y="6094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河汉清且浅，相去复几许？盈盈一水间，脉脉不得语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179280" y="242100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那银河清清浅浅，两岸间相距又该有多远呢？清清的一水相隔，却只能含情相望，不能互诉衷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380880" y="4572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533520" y="4800600"/>
            <a:ext cx="266688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一水相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3841920" y="4800600"/>
            <a:ext cx="164376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咫尺天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8"/>
          <p:cNvSpPr/>
          <p:nvPr/>
        </p:nvSpPr>
        <p:spPr>
          <a:xfrm>
            <a:off x="892440" y="58770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表现手法？景情交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21"/>
          <p:cNvSpPr/>
          <p:nvPr/>
        </p:nvSpPr>
        <p:spPr>
          <a:xfrm>
            <a:off x="4710960" y="5805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效果？委婉含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3"/>
          <p:cNvSpPr/>
          <p:nvPr/>
        </p:nvSpPr>
        <p:spPr>
          <a:xfrm>
            <a:off x="5148360" y="364500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盈盈一水间，让我们有什么样联想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5105520" y="5257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590920" y="4724280"/>
            <a:ext cx="464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143000" y="12193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0" y="1628640"/>
            <a:ext cx="9144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990099"/>
                </a:solidFill>
                <a:latin typeface="黑体"/>
                <a:ea typeface="黑体"/>
              </a:rPr>
              <a:t>诗篇借写织女隔着银河遥望牵牛的愁苦心情，实际上是比喻思妇与游子相思，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抒发人间别离之感</a:t>
            </a:r>
            <a:r>
              <a:rPr b="1" lang="zh-CN" sz="4000" spc="-1" strike="noStrike">
                <a:solidFill>
                  <a:srgbClr val="990099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990099"/>
                </a:solidFill>
                <a:latin typeface="黑体"/>
                <a:ea typeface="黑体"/>
              </a:rPr>
              <a:t>在抒发人间别离之感的同时，流露的是对美好人生与理想的憧憬，是对这种人生与理想不能实现的喟叹，是一种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可望而不可及的悲凉。</a:t>
            </a:r>
            <a:r>
              <a:rPr b="1" lang="zh-CN" sz="4000" spc="-1" strike="noStrike">
                <a:solidFill>
                  <a:srgbClr val="990099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0" y="404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99"/>
                </a:solidFill>
                <a:latin typeface="Times New Roman"/>
                <a:ea typeface="黑体"/>
              </a:rPr>
              <a:t>联系时代背景，思考本诗的内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684360" y="170028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539640" y="549360"/>
            <a:ext cx="64803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诗前两句说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迢迢牵牛星，皎皎河汉女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意为织女星和牵牛星相隔遥远，而为何后面又说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河汉清且浅，相去复几许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，如何理解这里远和近的矛盾？谈谈自己的理解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点一：两颗星相距的确很远，但是虽然因此而无法相见，但是两颗诚挚忠贞的爱心却始终相依相伴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情若是久长时，又岂在朝朝暮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所以在他们看来，这河汉也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且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。       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点二：：那浅浅的天河，定然不甚宽广。可是那隔着河的牛郎织女，却不能骑着牛儿来往。咫尺之间，却无法倾诉衷肠，只能无言凝望。只能等待用一年守望一日的团圆。世界上最远的距离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是我就站在你的面前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却不知道我爱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知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彼此相爱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却不能在一起。若是无法相见是因为隔了万水千山，那么这种悲伤总还有个理由来消释，但是明明只有咫尺之间却如远在天边，这种无奈才更加令人刻骨铭心。   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世界上最远的距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泰戈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世界上最远的距离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是  生与死的距离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而是  我站在你面前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你不知道我爱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世界上最远的距离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是  我不能说我想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而是  彼此相爱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却不能够在一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世界上最远的距离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鱼与飞鸟的距离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个在天，一个却深潜海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3520" y="1295280"/>
            <a:ext cx="5767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找出叠音词，想想叠音词的运用对诗歌表达的影响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259092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648036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首诗共运用了六个叠音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迢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写牵牛星之远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皎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写织女星之明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纤纤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写素手之细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札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写机杼之声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盈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写银河之水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脉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写相视之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传神地描摹了事物的形态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给人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音韵和谐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美感，与全诗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缠绵悱恻的感情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十分和谐，显得韵味深长，哀婉动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5"/>
          <p:cNvSpPr/>
          <p:nvPr/>
        </p:nvSpPr>
        <p:spPr>
          <a:xfrm>
            <a:off x="0" y="78732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古诗十九首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组诗名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非一时一人所为，一般认为大都出于</a:t>
            </a: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东汉末年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南朝梁代</a:t>
            </a: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萧统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将其收集，收入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文选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题为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古诗十九首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语言朴素自然，描写生动真切，</a:t>
            </a:r>
            <a:r>
              <a:rPr b="0" lang="zh-CN" sz="3200" spc="-1" strike="noStrike">
                <a:solidFill>
                  <a:srgbClr val="ff0066"/>
                </a:solidFill>
                <a:latin typeface="隶书"/>
                <a:ea typeface="隶书"/>
              </a:rPr>
              <a:t>在五言诗的发展上有重要地位。代表了汉代文人五言诗的最高成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刘勰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文心雕龙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曾说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古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是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ff0066"/>
                </a:solidFill>
                <a:latin typeface="隶书"/>
                <a:ea typeface="隶书"/>
              </a:rPr>
              <a:t>五言之冠冕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钟嵘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诗品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更称其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一字千金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他们都高度肯定了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古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艺术成就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古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在形式、题材、语言风格、表现技巧等诸多方面，都对后代诗歌产生了深刻的影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457200" y="1522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看一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夏季星空"/>
          <p:cNvPicPr/>
          <p:nvPr/>
        </p:nvPicPr>
        <p:blipFill>
          <a:blip r:embed="rId1"/>
          <a:stretch/>
        </p:blipFill>
        <p:spPr>
          <a:xfrm>
            <a:off x="0" y="0"/>
            <a:ext cx="563868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天琴座"/>
          <p:cNvPicPr/>
          <p:nvPr/>
        </p:nvPicPr>
        <p:blipFill>
          <a:blip r:embed="rId2"/>
          <a:stretch/>
        </p:blipFill>
        <p:spPr>
          <a:xfrm>
            <a:off x="5880240" y="189000"/>
            <a:ext cx="3263760" cy="2913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image001"/>
          <p:cNvPicPr/>
          <p:nvPr/>
        </p:nvPicPr>
        <p:blipFill>
          <a:blip r:embed="rId3"/>
          <a:stretch/>
        </p:blipFill>
        <p:spPr>
          <a:xfrm>
            <a:off x="5943600" y="3789360"/>
            <a:ext cx="32004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609480" y="304920"/>
            <a:ext cx="22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说一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066680" y="129528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你知道哪些牛郎织女的传说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8" descr="牛织"/>
          <p:cNvPicPr/>
          <p:nvPr/>
        </p:nvPicPr>
        <p:blipFill>
          <a:blip r:embed="rId1"/>
          <a:stretch/>
        </p:blipFill>
        <p:spPr>
          <a:xfrm>
            <a:off x="685800" y="3809880"/>
            <a:ext cx="3657600" cy="2756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牛织3"/>
          <p:cNvPicPr/>
          <p:nvPr/>
        </p:nvPicPr>
        <p:blipFill>
          <a:blip r:embed="rId2"/>
          <a:stretch/>
        </p:blipFill>
        <p:spPr>
          <a:xfrm>
            <a:off x="4876920" y="2438280"/>
            <a:ext cx="396216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45720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七夕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与牛郎织女的传说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农历七月七日之夜，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七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我国民间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乞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习俗，故七夕又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乞巧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民间传说，七夕是牛郎织女鹊桥相会的日子。据说，牛郎是南阳城牛家庄的一个孤儿，依哥嫂过活。嫂子马氏为人刻薄，经常虐待他，他被迫分家出来，靠一头老牛自耕自食。这条老牛很通灵性，有一天，织女和诸仙女下凡游戏，在河里洗澡，老牛劝牛郎去取织女的衣服，织女便做了牛郎的妻子。婚后，他们男耕女织，生了一儿一女，生活十分美满幸福。不料天帝查知此事，派王母娘娘押解织女回天庭受审。老牛不忍他们妻离子散，于是触断头上的角，变成一只小船，让牛郎挑着儿女乘船追赶。眼看就要追上织女了，王母娘娘忽然拔下头上的金钗，在天空划出了一条波涛滚滚的银河。牛郎无法过河，只能在河边与织女遥望对泣。他们坚贞的爱情感动了喜鹊，无数喜鹊飞来，用身体搭成一道跨越天河的彩桥，让牛郎织女在天河上相会。王母娘娘无奈，只好允许牛郎织女每年七月七日在鹊桥上会面一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牛织8"/>
          <p:cNvPicPr/>
          <p:nvPr/>
        </p:nvPicPr>
        <p:blipFill>
          <a:blip r:embed="rId1"/>
          <a:stretch/>
        </p:blipFill>
        <p:spPr>
          <a:xfrm>
            <a:off x="3429000" y="251460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"/>
          <p:cNvSpPr/>
          <p:nvPr/>
        </p:nvSpPr>
        <p:spPr>
          <a:xfrm>
            <a:off x="457200" y="411480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担子追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5181480" y="152388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天河隔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0" descr="牛织15"/>
          <p:cNvPicPr/>
          <p:nvPr/>
        </p:nvPicPr>
        <p:blipFill>
          <a:blip r:embed="rId2"/>
          <a:stretch/>
        </p:blipFill>
        <p:spPr>
          <a:xfrm>
            <a:off x="228600" y="228600"/>
            <a:ext cx="38862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0" descr="牛郎织女"/>
          <p:cNvPicPr/>
          <p:nvPr/>
        </p:nvPicPr>
        <p:blipFill>
          <a:blip r:embed="rId1"/>
          <a:stretch/>
        </p:blipFill>
        <p:spPr>
          <a:xfrm>
            <a:off x="380880" y="2362320"/>
            <a:ext cx="6019920" cy="4059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喜鹊"/>
          <p:cNvPicPr/>
          <p:nvPr/>
        </p:nvPicPr>
        <p:blipFill>
          <a:blip r:embed="rId2"/>
          <a:stretch/>
        </p:blipFill>
        <p:spPr>
          <a:xfrm>
            <a:off x="395280" y="620640"/>
            <a:ext cx="3095640" cy="12351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2"/>
          <p:cNvSpPr/>
          <p:nvPr/>
        </p:nvSpPr>
        <p:spPr>
          <a:xfrm>
            <a:off x="4038480" y="144792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鹊桥相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3" descr="15"/>
          <p:cNvPicPr/>
          <p:nvPr/>
        </p:nvPicPr>
        <p:blipFill>
          <a:blip r:embed="rId3"/>
          <a:stretch/>
        </p:blipFill>
        <p:spPr>
          <a:xfrm>
            <a:off x="6705720" y="228600"/>
            <a:ext cx="2230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七夕"/>
          <p:cNvPicPr/>
          <p:nvPr/>
        </p:nvPicPr>
        <p:blipFill>
          <a:blip r:embed="rId1"/>
          <a:stretch/>
        </p:blipFill>
        <p:spPr>
          <a:xfrm>
            <a:off x="457200" y="380880"/>
            <a:ext cx="4522680" cy="58676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5292720" y="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乞 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5076720" y="914400"/>
            <a:ext cx="3915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传说织女的手艺极巧，能织出云彩一般美丽天衣。为了使自己也能拥有织女一般的巧手，在少女之间，遂发展出了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  <a:ea typeface="黑体"/>
              </a:rPr>
              <a:t>“</a:t>
            </a:r>
            <a:r>
              <a:rPr b="0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乞巧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  <a:ea typeface="黑体"/>
              </a:rPr>
              <a:t>”</a:t>
            </a:r>
            <a:r>
              <a:rPr b="0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的习俗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乞巧的习俗大约早在汉代就形成了。乞巧用的针就分双眼、五孔、七孔、九孔之多。七夕晚上，手拿丝线，对着月光穿針，看谁先穿过就是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  <a:ea typeface="黑体"/>
              </a:rPr>
              <a:t>“</a:t>
            </a:r>
            <a:r>
              <a:rPr b="0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得巧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  <a:ea typeface="黑体"/>
              </a:rPr>
              <a:t>”</a:t>
            </a:r>
            <a:r>
              <a:rPr b="0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。　</a:t>
            </a:r>
            <a:r>
              <a:rPr b="0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8"/>
          <p:cNvSpPr/>
          <p:nvPr/>
        </p:nvSpPr>
        <p:spPr>
          <a:xfrm>
            <a:off x="0" y="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品一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228600" y="762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首二句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2057400" y="6858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迢迢牵牛星，皎皎河汉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1219320" y="335268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1981080" y="144792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仰望星空，远远地看到了明亮的牵牛星和织女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457200" y="364500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“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迢迢”、“皎皎”既是写牵牛星，又是写河汉女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WordArt 16"/>
          <p:cNvSpPr txBox="1"/>
          <p:nvPr/>
        </p:nvSpPr>
        <p:spPr>
          <a:xfrm>
            <a:off x="4114800" y="5486400"/>
            <a:ext cx="1447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互文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pic>
        <p:nvPicPr>
          <p:cNvPr id="71" name="Picture 19" descr="牛织13"/>
          <p:cNvPicPr/>
          <p:nvPr/>
        </p:nvPicPr>
        <p:blipFill>
          <a:blip r:embed="rId1"/>
          <a:stretch/>
        </p:blipFill>
        <p:spPr>
          <a:xfrm>
            <a:off x="6019920" y="2286000"/>
            <a:ext cx="3047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6T05:09:15Z</dcterms:created>
  <dc:creator/>
  <dc:description/>
  <cp:keywords/>
  <dc:language>en-US</dc:language>
  <cp:lastModifiedBy>ABC</cp:lastModifiedBy>
  <dcterms:modified xsi:type="dcterms:W3CDTF">2015-12-23T06:46:54Z</dcterms:modified>
  <cp:revision>32</cp:revision>
  <dc:subject/>
  <dc:title>PowerPoint 演示文稿</dc:title>
</cp:coreProperties>
</file>