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whoosh.wav" ContentType="audio/x-wav"/>
  <Override PartName="/ppt/media/image14.png" ContentType="image/png"/>
  <Override PartName="/ppt/media/image13.jpeg" ContentType="image/jpeg"/>
  <Override PartName="/ppt/media/typ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suction.wav" ContentType="audio/x-wav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9FB-4780-4FC8-A796-CE90E31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BED-8B65-4640-BB3D-0E643ED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752-AB62-416F-B4CC-F6025A42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652-4CD9-4649-8199-2B4D369B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4D48-569C-4928-BEE9-8BCF487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606-8BAA-499D-A3AF-26194D2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55A-8DD3-4EC1-8306-626CA08A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357-2A75-4782-9923-198E073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12F-7569-4565-A4E2-F01FCFD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498-1159-4C3F-91CD-FBACFDB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CBB-3C9D-4427-81E9-647A629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9EF-B58E-4F0C-A9C9-BD25814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6BC1-D5DD-4EC1-B9A8-9027B0609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3440" y="765000"/>
            <a:ext cx="549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8720" y="836640"/>
            <a:ext cx="23749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00"/>
                </a:solidFill>
                <a:latin typeface="Times New Roman"/>
              </a:rPr>
              <a:t>辛弃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7520" y="0"/>
            <a:ext cx="4506480" cy="73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宋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人，他是一员武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戎马一生，满心想的都是收复失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个人，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位词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笔耕不辍，魂牵梦萦的还是收复失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魂牵梦萦的那片土地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他一生的牵挂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人就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4000" y="251460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永遇乐，词牌名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33320" y="34513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京口北固亭，登临地点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70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　　怀古，所写内容的怀古，大多是通过今昔对比，以古讽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47640" y="692280"/>
            <a:ext cx="6120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永遇乐  京口北固亭怀古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5257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固亭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祭江亭，位于江苏镇江北固山上。古称北固亭，还有凌云亭、摩云亭、临江亭、江山第一亭、天下第一亭等名称。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此亭建造在北固山的面江石壁之巅，故又名“临江亭”。相传三国时孙刘联姻后，夫人孙氏随刘备去荆州，又被孙权骗归强行留住江东。孙刘联盟破裂，彝陵大战，刘备兵败，夫人孙氏听到讹传刘备病死在白帝城，悲痛欲绝，便登上此亭，设奠望西遥祭后投江自尽，故此亭又名“祭江亭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“江山第一亭”相传是康有为在星夜登亭看到北固山的胜境后题写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049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口是三国时吴大帝孙权设置的重镇，并一度为都城，也是南朝宋武帝刘裕生长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锦绣江山，缅怀历史上的英雄人物，正是像辛弃疾这样的英雄志士登临应有之情，题中应有之意，词正是从这里着笔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80880"/>
            <a:ext cx="861048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学指导（一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自读词作，结合注释，疏通诗意，思考与前面几首词作相比这首词最大的区别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研读上阕，思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登上北固亭，极目远眺，为什么会想到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孙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刘裕？词人写他们寄托了什么情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自学、教师巡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测自学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引导更正、指导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千古江山，英雄无觅</a:t>
            </a: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孙仲谋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处。舞榭歌台，风流总被雨打风吹去。斜阳草树，寻常巷陌，人道</a:t>
            </a:r>
            <a:r>
              <a:rPr b="1" lang="zh-CN" sz="3600" spc="-1" strike="noStrike">
                <a:solidFill>
                  <a:srgbClr val="990099"/>
                </a:solidFill>
                <a:latin typeface="隶书"/>
                <a:ea typeface="隶书"/>
              </a:rPr>
              <a:t>寄奴</a:t>
            </a:r>
            <a:r>
              <a:rPr b="0" lang="zh-CN" sz="3600" spc="-1" strike="noStrike">
                <a:solidFill>
                  <a:srgbClr val="660066"/>
                </a:solidFill>
                <a:latin typeface="隶书"/>
                <a:ea typeface="隶书"/>
              </a:rPr>
              <a:t>曾住。想当年，金戈铁马，气吞万里如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76720" y="762120"/>
            <a:ext cx="55418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山依旧，却无处觅求像孙仲谋一样的英雄豪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昔日繁华的歌舞台榭，英雄的业绩风流，总被历史的风雨吹得化为乌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抹斜阳映着丛密的草树，平常的街巷，人们说刘裕曾在这里寄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当年，他指挥的金戈铁骑，气吞万里，威猛如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48996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76360" y="333360"/>
            <a:ext cx="76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舞榭歌台，风流总被雨打风吹去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赏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83808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权的英雄业绩已经不复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歌台舞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承平气象的象征。孙权以区区江东之地，抗衡曹操，使自己国土不受外侵，并拓宇开疆，造成了三国鼎峙的局面，吴国出现承平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风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权的才略及建树，这里引申为孙权的英雄业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雨打风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历史风云。自孙权以后，京口一带屡遭兵火，辛弃疾时已将近千年，当年孙权的英雄业绩已经荡然无存。言外有江山寂寞，时事消沉之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几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出萧索、凄凉之象，笔调转为哀怨、舒缓，词人感慨眼前之景象，表达了对孙权的崇拜和对当前局势的担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辛弃疾登上北固亭，极目远眺，为什么会想到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华文细黑"/>
                <a:hlinkClick r:id="rId1" action="ppaction://hlinksldjump"/>
              </a:rPr>
              <a:t>孙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  <a:ea typeface="华文细黑"/>
              </a:rPr>
              <a:t>刘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229600" cy="581400"/>
          </a:xfrm>
          <a:prstGeom prst="rect">
            <a:avLst/>
          </a:prstGeom>
          <a:noFill/>
          <a:ln cap="sq"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幼圆"/>
              </a:rPr>
              <a:t>孙权：　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他曾经在京口建立吴都，并曾打败来自北方的曹操的军队，保卫了家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权以区区江东之地，抗衡曹魏，开疆拓土，造成了三国鼎峙的局面。尽管斗转星移，沧桑屡变，歌台舞榭，遗迹沦湮，然而他的英雄业绩则是和千古江山相辉映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15000" y="12996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建功立业，令人仰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5053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作者用事态度及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辛弃疾以  “ 英雄 ” 一词赞颂他，表示自己对他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敬仰和向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“无觅孙仲谋处”是说像孙仲谋那样的英雄人物，再无处可寻了。 “ 舞榭歌台，风流总被雨打风吹去 ” ，是说英雄的业绩也已经没有了。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两句表达了对前人事业后继无人的惋惜，也暗指南宋统治者昏庸无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cap="sq" w="57240">
            <a:solidFill>
              <a:srgbClr val="ff00ff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裕的祖先由北方移居京口，刘裕曾经在这里起事，最后建立政权。为了恢复中原，他几次大举北伐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裕是在贫寒、势单力薄的情况下逐渐壮大的。以京口为基地，削平了内乱，取代了东晋政权。他曾两度挥戈北伐，收复了黄河以南大片故土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身贫寒，曾经生活在荒僻小街巷，却讨伐桓直，平定叛乱。 刘裕先灭山东的后燕，后灭陕西的后秦，光复洛阳、长安、煊赫一时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振奋人心的历史事实，被形象地概括在“想当年，金戈铁马，气吞万里如虎”三句话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雄人物留给后人的印象是深刻的，因而“斜阳草树，寻常巷陌”，传说中他的故居遗迹，还能引起人们的瞻慕追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8229600" cy="5715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态度及目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当年 ” 三句颂扬刘裕率领兵强马壮的北伐军驰骋中原，气吞胡虏。辛弃疾远在乾道元年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6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）呈给宋孝宗的《美芹十论》里，指出北伐应取道山东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山东之民劲勇，敌守备简略。 “ 不得山东，则河北不可取，不得河北，则中原不可复。 ”   韩侂胄急于北伐，</a:t>
            </a: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辛弃疾对刘裕的歌颂不仅是向往他的英雄业绩，还有如果碰到刘裕这样的国君，他的正确战略意图就能被采用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思考：词人写这两位英雄人物寄托了什么情怀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表达自己力主抗金和恢复中原的伟大抱负，同时借古代帝王来讽刺南宋统治者屈辱求和的无耻行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怀念孙权、刘裕。孙权坐镇东南，击退强敌；刘裕金戈铁马，战功赫赫，收复失地，气吞万里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对历史人物的赞扬，也就是对主战派的期望和对南宋朝廷苟安求和者的讽刺和谴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在这里，作者发的是思古之幽情，写的是现实的感慨。无论是孙权或刘裕，都是从百战中开创基业，建国东南的。这和南宋统治者苟且偷安于江左、忍气吞声的懦怯表现，是多么鲜明的对比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0"/>
            <a:ext cx="889308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作者简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140-120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字</a:t>
            </a: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幼安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号</a:t>
            </a:r>
            <a:r>
              <a:rPr b="1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稼轩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宋代历城人。南宋著名爱国词人，在词人中，算是个英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116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年，金国大举南犯，辛弃疾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岁）率群众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200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多人在家乡起义，加入耿京的农民抗金义军，担任掌书记职务。他表现出非凡的勇敢和坚定，干了两件轰动一时的事。一是义端叛变投敌，辛弃疾亲往追捕并斩了这个叛徒；二是亲率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50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骑兵，直逼驻有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万大军的金营，活捉了杀害耿京、瓦解起义军的叛徒、内奸张安国。渡过淮水，到达建康（南京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说，词的上片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借古意以抒今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还比较轩豁呈露，那么，在下片里，作者通过典故所揭示的历史意义和现实感慨，就更加意深而味隐了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词的下片共十二句，有三层意思。峰回路转，愈转愈深。被组织在词中的历史人物和事件，血脉动荡，和词人的思想感情融成一片，给作品造成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沉郁顿挫的风格，深宏博大的意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228600"/>
            <a:ext cx="838224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自学指导（二）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研读词作的下阕，思考：在词作的下阕中，词人引用了哪几个典故，又表达了词人怎样的感情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学完这些典故之后，你觉得词人在词作中表达了哪些感情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学生自学、教师巡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检测自学效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引导更正、指导运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2667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元嘉</a:t>
            </a:r>
            <a:r>
              <a:rPr b="1" lang="zh-CN" sz="3200" spc="-1" strike="noStrike">
                <a:solidFill>
                  <a:srgbClr val="009999"/>
                </a:solidFill>
                <a:latin typeface="隶书"/>
                <a:ea typeface="隶书"/>
              </a:rPr>
              <a:t>草草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，封狼居胥，赢得仓皇北顾。四十三年，望中犹记，烽火扬州路。可堪回首，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佛狸祠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下，一片神鸦社鼓！凭谁问：</a:t>
            </a:r>
            <a:r>
              <a:rPr b="1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廉颇</a:t>
            </a:r>
            <a:r>
              <a:rPr b="0" lang="zh-CN" sz="3200" spc="-1" strike="noStrike">
                <a:solidFill>
                  <a:srgbClr val="cc0000"/>
                </a:solidFill>
                <a:latin typeface="隶书"/>
                <a:ea typeface="隶书"/>
              </a:rPr>
              <a:t>老矣，尚能饭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819520" y="0"/>
            <a:ext cx="6324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嘉年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义隆草草出兵北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梦想如霍去病在狼居胥山封坛祭天，作为全胜的纪念，却不料只落得惊慌败北狼狈逃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隆兴北伐失败至今已四十三年，我遥望中原，扬州路上烽火杀敌的情景历历如在眼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堪回首，而今侵掠中原的拓跋焘祠庙香火盛烧，一片神鸦鸣嗓，社鼓喧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靠谁来问我：将军年老，饭量可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22000" y="129528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元嘉草草，封狼居胥，赢得仓皇北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0240" y="1981080"/>
            <a:ext cx="43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可堪回首，佛狸祠下，一片神鸦社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743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凭谁问：廉颇老矣，尚能饭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词作的下阕中，词人引用了哪几个典故，又表达了词人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03200" y="333360"/>
            <a:ext cx="669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元嘉草草，封狼居胥，赢得仓皇北顾。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4842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华文中宋"/>
                <a:ea typeface="华文中宋"/>
              </a:rPr>
              <a:t>　　刘义隆在元嘉二十七年，草率出师北伐，想要建立像古人封狼居胥山那样的功绩，结果落得北望敌军而仓皇失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213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思考：辛弃疾引用宋文帝北伐惨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故事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572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此事咏叹近事。 借鉴历史，伐金必须作好准备，委婉劝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韩侂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能草率行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嘉草草，封狼居胥，赢得仓皇北顾。”三句，用古事影射现实，尖锐地提出一个历史教训。这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嘉草草，封狼居胥，赢得仓皇北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称南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文帝刘义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自践位以来，有恢复河南之志”（见《资治通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纪》）。他曾三次北伐，都没有成功，特别是元嘉二十七年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最后一次，失败得更惨。用兵之前，他听取彭城太守王玄谟陈北伐之策，非常激动，说：“闻玄谟陈说，使人有封狼居胥意。”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“有封狼居胥意”谓有北伐必胜的信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时分据在北中国的元魏，并非无隙可乘；南北军事实力的对比，北方也并不占优势。倘能妥为筹画，虑而后动，虽未必能成就一番开天辟地的伟业，然而收复一部分河南旧地，则是完全可能的。无如宋文帝急于事功，头脑发热，听不进老臣宿将的意见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启兵端。结果不仅没有得到预期的胜利，反而招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魏拓跋焘大举南侵，弄得两淮残破，胡马饮江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国势一蹶而不振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6216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嘉草草，封狼居胥，赢得仓皇北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历史事实，对当时现实所提供的历史鉴戒，是发人深省的。辛弃疾是在语重心长地告诫南宋朝廷：要慎重啊！你看，元嘉北伐，由于草草从事，“封狼居胥”的壮举，只落得“仓皇北顾”的哀愁。想到这里，稼轩不禁抚今追昔，感慨万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作者思绪的剧烈波动，词意不断深化，而转入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嘉草草，封狼居胥，赢得仓皇北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66680"/>
            <a:ext cx="8763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诗人写佛狸祠下的迎神赛会的一幕景象，是什么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40760" y="2590920"/>
            <a:ext cx="5497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作者的心情是沉重的，表达了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己的隐忧：如今江北各地沦陷已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不迅速谋求恢复，百姓就安于异族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治，忘记了自己是宋室臣民。表达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南宋政权不图恢复中原的不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隶书"/>
              </a:rPr>
              <a:t>　　四十三年，望中犹记，烽火扬州路。可堪回首，佛狸祠下，一片神鸦社鼓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48720" y="54864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2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2"/>
                </a:lnTo>
                <a:lnTo>
                  <a:pt x="20200" y="26372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2"/>
                </a:lnTo>
                <a:close/>
              </a:path>
              <a:path fill="darken" w="21600" h="27772">
                <a:moveTo>
                  <a:pt x="3794" y="6880"/>
                </a:moveTo>
                <a:lnTo>
                  <a:pt x="17806" y="13886"/>
                </a:lnTo>
                <a:lnTo>
                  <a:pt x="3794" y="208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佛狸祠下，一片神鸦社鼓”两句用意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佛狸祠在长江北岸今江苏六合县东南的瓜步山上。永嘉二十七年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太武帝拓跋焘南侵时，曾在瓜步山上建行宫，后来成为一座庙宇。拓跋焘小字佛狸，当时流传有“虏马饮江水，佛狸明年死”的童谣，所以民间把它叫做佛狸祠。这所庙宇，南宋时犹存。词中提到佛狸祠，似乎和元魏南侵有关，所以引起了理解上的种种歧异。然而辛弃疾在词里摄取佛狸祠这一特写镜头，则是有其深刻寓意；它和上文的“烽火扬州”有着内在的联系，都是从“可堪回首”这句话里生发出来的。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四十三年前，完颜亮发动南侵，曾以扬州作为渡江基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且也曾驻扎在佛狸祠所在的瓜步山上，严督金兵抢渡长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古喻今，佛狸很自然地就成了完颜亮的影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-4999320"/>
            <a:ext cx="149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辛弃疾到了南方，耿京的起义军已经失败，他便留在南京。但他继续坚持主战，用他饱含爱国主义激情的词和文章，宣传北伐抗金，收复中原，统一全国的主张。但是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赵构为首的赵家王朝偏安江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临安过着游宴玩乐歌舞升平的生活，对金屈辱求和。他们对起义军也一直害怕。 辛弃疾渡江之后，首先被解除了武装，后被派往江阴作签判，帮助地方官处理政务。曾多次上书，陈抗金恢复大略，均未被采纳。孝宗淳熙八年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8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罢官。辛弃疾被迫退隐江西上饶、铅山等地二十余年，其间两度被启用，但都不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一生主张抗金，渴望恢复中原。在词人中，他是个英雄。其词抒写力图恢复国家统一的爱国热情，倾诉壮志难酬的悲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这里的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神鸦社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，也就是东坡《浣溪沙》词里所描绘的“老幼扶携收麦社，乌鸢翔舞赛神村”的情景，是一幅迎神赛会的生活场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古代，迎神赛会，是普遍流行的民间风俗，和农村生产劳动是紧密联系着的。在终年日出而作，日落而息中，农民祈晴祈雨，以及种种生活愿望的祈祷，都离不开神。利用社日的迎神赛会，歌舞作乐，一方面酬神娱神，一方面大家欢聚一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农民看来，只要是神，就会管生产和生活中的事，就会给他们以福佑。有庙宇的地方，就会有“神鸦社鼓”的祭祀活动。至于这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庙宇供奉的是什么神，对农民说来，是无关宏旨的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佛狸祠下迎神赛会的人们也是一样，他们只把佛狸当作一位神祗来奉祀，而决不会审查这神的来历，更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会把一千多年前的元魏入侵者和当前金人的入侵联系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辛弃疾是四十三年前，即绍兴三十二年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6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率众南归的。正如他在《鹧鸪天》一词中所说的那样：“壮岁旌旗拥万夫，锦襜突骑渡江初，燕兵夜娖银胡革录，汉箭朝飞金朴姑。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沸腾的战斗岁月，是他英雄事业的发轫之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时，宋军在采石矶击破南犯的金兵，完颜亮为部下所杀，人心振奋，北方义军纷起，动摇了女真贵族在中原的统治，形势是大有可为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刚即位的宋孝宗也颇有恢复之志，起用主战派首领张浚，积极进行北伐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符离败退后，他就坚持不下去，于是主和派重新得势，再一次与金国通使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议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，南北分裂就进入了一个相对稳定的状态，而辛弃疾的鸿鹄之志也就无从施展，“只将万字平戎策，换得东家种树书”（同上词）了。时机是难得而易失的。四十三年后，重新经营恢复中原的事业，民心士气，都和四十三年前有所不同，当然要困难得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烽火扬州”和“佛狸祠下”的今昔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对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所展示的历史图景，正唱出了稼轩四顾苍茫，百感交集，不堪回首忆当年的感慨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5695920"/>
            <a:ext cx="3429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四十三年，望中犹记，烽火扬州路。可堪回首，佛狸祠下，一片神鸦社鼓。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辛弃疾是不是就认为良机已经错过，事情已无法挽救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不是这样。对于这次北伐，他是赞成的，但认为必须做好准备工作；而准备是否充分，关键在于举措是否得宜，在于任用什么样的人主持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曾向朝廷建议，应当把用兵大计委托给元老重臣，暗示以此自任，准备以垂暮之年，挑起这副重担；然而事情并不是所想象的那样，于是他就发出“凭谁问：廉颇老矣，尚能饭否”的慨叹，词意转入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53341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凭谁问：廉颇老矣，尚能饭否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15840" y="380880"/>
            <a:ext cx="9159840" cy="825120"/>
          </a:xfrm>
          <a:prstGeom prst="rect">
            <a:avLst/>
          </a:prstGeom>
          <a:noFill/>
          <a:ln cap="sq"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Times New Roman"/>
                <a:ea typeface="华文中宋"/>
              </a:rPr>
              <a:t>凭谁问：廉颇老矣，尚能饭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华文中宋"/>
              </a:rPr>
              <a:t>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　　《史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廉颇蔺相如列传》记载，廉颇免职后，跑到魏国。赵王想再用他，派人去看他的身体情况，“廉颇之仇郭开多与使者金，令毁之。赵使者既见廉颇，廉颇为之一饭斗米、肉十斤，被（披）甲上马，以示尚可用。赵使者还报王曰：‘廉将军虽老，尚善饭；然与臣坐，顷之三遗矢（屎）矣。’赵王以为老，遂不召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廉颇在赵国，不仅是一位“以勇气闻于诸侯”的猛将，而且在秦赵长期相持的斗争中，他是一位能攻能守，猛勇而不孟浪，持重而非畏缩，为秦国所惧服的老臣宿将。赵王之所以“思复得廉颇”，也是因为“数困于秦兵”，谋求抗击强秦的情况下，才这样做的。因而廉颇的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用舍行藏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形容一个人的处世态度：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当为世所用时，则积极努力地去做；当不为世所用时，则退而隐居起来。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到赵秦抗争的局势、赵国国运的兴衰，而不仅仅是廉颇个人的升沉得失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次，廉颇此次之所以终于没有被赵王起用，则是由于他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仇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郭开搞阴谋诡计，蒙蔽了赵王。廉颇个人的遭遇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正反映了当时赵国统治集团内部的矛盾和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60720" y="304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思考：用廉颇的典故，用意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4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读过《史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廉颇列传》的人，都会很自然地把“一饭斗米，肉十斤，披甲上马”的老将廉颇，和“精神此老健如虎，红颊白须双眼青”（刘过《呈稼轩》诗中语）的辛弃疾联系起来，感到他借古人为自己写照，形象是多么饱满、鲜明，比拟是多么贴切、逼真！从这一故事所揭示的历史意义，结合作者四十三年来的身世遭遇，特别是从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久后他又被韩侂胄一脚踢开，落职南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回过头来体会他作此词时的处境和心情，就会更深刻地理解他的忧愤之深广，也会惊叹于他用典的出神入化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如此，稼轩选用这一典故还有更深刻的用意，这就是他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个人的政治遭遇放在当时宋金民族矛盾、以及南宋统治集团的内部矛盾的焦点上来抒写自己的感慨，赋予词中的形象以更丰富的内涵，从而深化了词的主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60720" y="304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思考：用廉颇的典故，用意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57200"/>
            <a:ext cx="8762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以廉颇自比，虽</a:t>
            </a: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65</a:t>
            </a: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岁仍想为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效力：可当政着不接受他的建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又有小人挑拨，他感到悲愤，担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像廉颇一样被弃置不用。婉转流露出词人不受重用的愤懑，更体现出作者不顾年迈力衰，鞠躬尽瘁报效祖国的满腔热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片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南朝刘义隆冒险北伐，招致大败的历史事实，忠告韩侂胄要吸取历史教训，不要草率从事，接着用四十三年来抗金形势的变化，表示词人收复中原的决心不变，结尾三句，借廉颇自比，表示出词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报效国家的强烈愿望和对宋室不能进用人才的慨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33412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凭谁问：廉颇老矣，尚能饭否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60" y="457200"/>
            <a:ext cx="1399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词中用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57200"/>
            <a:ext cx="914400" cy="5638680"/>
          </a:xfrm>
          <a:custGeom>
            <a:avLst/>
            <a:gdLst>
              <a:gd name="textAreaLeft" fmla="*/ 584280 w 914400"/>
              <a:gd name="textAreaRight" fmla="*/ 914760 w 91440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孙权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怀念英雄表示收复失地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5410080"/>
            <a:ext cx="70866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廉颇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自发感慨，不忘为国效力    （壮志未酬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038480"/>
            <a:ext cx="723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拓跋焘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今昔对照，以事警示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愤斥偏安（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错失良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6668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刘义隆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借古讽今，批评草率出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4479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刘裕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怀念古人，表示北伐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25560" y="-15840"/>
            <a:ext cx="6397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岁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中原金国统治区生活和起义。他自幼丧父由祖父辛赞养大，受影响颇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4——4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岁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归以后仕宦生涯。屡遭排挤打击，此期词作以抗金救国为多，词情悲壮慷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3——6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岁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罢职后的闲居生活。仍然希望报效国家，临终大呼“杀贼”数声，含恨去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纵观辛弃疾的一生，首先是一个中原起义的豪杰，一个力主抗金的 名臣，一个有才略有建树的地方官，一个凛然有节气的爱国志士。总之他首先是一个有抱负有才智的政治家、军事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88920"/>
            <a:ext cx="3132360" cy="67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06480" y="62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用典赏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5520" y="2276640"/>
            <a:ext cx="490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中用典虽多，却贴切恰当，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没有妨害思想感情的表达，而且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胜多，表现了非常丰富的内容和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。正如《词综》所说，“发端便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涕落，后段一气奔注，笔不遏：廉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拟，慷慨壮怀，如闻其声；谓此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人名多者，尚是不解词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学完这些典故之后，你觉得词人在词作中表达了哪些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达自己抗金救国，恢复中原的强烈愿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抒发对南宋王朝偏安江南，不思进取的愤懑之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现作者空有爱国热情却壮志难酬的悲愤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44720" y="476280"/>
            <a:ext cx="178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幼圆"/>
              </a:rPr>
              <a:t>表现手法</a:t>
            </a:r>
            <a:r>
              <a:rPr b="0" lang="zh-CN" sz="1800" spc="-1" strike="noStrike">
                <a:solidFill>
                  <a:srgbClr val="990033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289548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676520"/>
            <a:ext cx="142920" cy="3528720"/>
          </a:xfrm>
          <a:custGeom>
            <a:avLst/>
            <a:gdLst>
              <a:gd name="textAreaLeft" fmla="*/ 91440 w 142920"/>
              <a:gd name="textAreaRight" fmla="*/ 143280 w 142920"/>
              <a:gd name="textAreaTop" fmla="*/ 91800 h 3528720"/>
              <a:gd name="textAreaBottom" fmla="*/ 3436920 h 35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1676520"/>
            <a:ext cx="47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雄业绩——可悲现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56080" y="2819520"/>
            <a:ext cx="33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裕——刘义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38098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扬州路——佛狸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457200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廉颇——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6560" y="1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65160" y="1158840"/>
            <a:ext cx="69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通过朗读、疏通文意，你了解到词人目睹了哪些不堪现实？怀想到了哪些古代人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81040" y="3292560"/>
            <a:ext cx="1155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孙权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刘裕建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义隆败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佛狸立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廉颇饭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50080" y="235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代人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41080" y="235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堪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5040" y="3254400"/>
            <a:ext cx="115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英雄无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残照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烽火不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鸦鼓齐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豪杰被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55840" y="234936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代人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46480" y="2349360"/>
            <a:ext cx="1155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堪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2508120"/>
            <a:ext cx="8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220840"/>
            <a:ext cx="142920" cy="208440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4400"/>
              <a:gd name="textAreaBottom" fmla="*/ 2030040 h 208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21477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雄辈出——英雄难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097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裕建功——义隆败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31632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扬州路烽火——佛狸祠鸦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3860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廉颇有人过问——自己无人问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56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220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2060640"/>
            <a:ext cx="31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朝廷腐败壮志未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27241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车之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12000" y="32558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姓麻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96400" y="38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壮志难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924280"/>
            <a:ext cx="8640720" cy="2719440"/>
          </a:xfrm>
          <a:prstGeom prst="borderCallout1">
            <a:avLst>
              <a:gd name="adj1" fmla="val 18750"/>
              <a:gd name="adj2" fmla="val -8333"/>
              <a:gd name="adj3" fmla="val 38236"/>
              <a:gd name="adj4" fmla="val -2111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感慨身世，观照自我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：表达像古人那样建立功业志向，抒发对古人的缅怀之情；悲叹年华消逝，时不我待、壮志难酬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抒发感慨，感伤兴衰（变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）：感慨盛衰无常、昔盛今衰，暗含对现实的不满甚至批判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借古讽今，劝诫世人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：感慨国运衰微，忧国伤时，揭露统治者的昏庸腐朽，同情下层人民的疾苦，担忧国家民族的前途命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3687480" y="4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怀古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00" y="876240"/>
            <a:ext cx="78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怀古词的表现手法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怀古伤今、借古讽今；对比、用典；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7360" y="2133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怀古词的思想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1413000"/>
            <a:ext cx="56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乡子   登京口北固亭有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辛弃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处望神州，满眼风光北固楼。千古兴亡多少事，悠悠、不尽长江滚滚流。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少万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dō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móu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坐断东南战未休。天下英雄谁敌手？曹刘。生子当如孙仲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6360" y="836640"/>
            <a:ext cx="316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4292280"/>
            <a:ext cx="8210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1413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析：这是一首怀古诗。作者通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代英雄人物的歌颂，讽刺南宋统治者在金兵的侵略面前不敢抵抗、昏庸无能。全词饱含着爱国、卫国的强烈感情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2920" y="9810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简析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一首怀古诗。作者通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代英雄人物的歌颂，讽刺南宋统治者在金兵的侵略面前不敢抵抗、昏庸无能。全词饱含着爱国、卫国的强烈感情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280" y="2637000"/>
            <a:ext cx="90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、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南乡子》与《永遇乐》一词有何异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645000"/>
            <a:ext cx="88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首词通篇三问三答，互相呼应，感叹雄壮，意境高远。它与本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永遇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比，一风格明快，一沉郁顿挫，同是怀古伤今，都不失为千古绝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8360" y="5516280"/>
            <a:ext cx="777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50846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有没有运用典故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661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边落木萧萧下，不尽长江滚滚来”杜甫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登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子当如孙仲谋”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国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曹操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19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0">
                                  <p:stCondLst>
                                    <p:cond delay="19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93640" y="609480"/>
            <a:ext cx="748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80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何处望神州？满眼风光北固楼。千古兴亡多少事？悠悠！不尽长江滚滚流。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幼圆"/>
              </a:rPr>
              <a:t>年少万兜鍪，坐断东南战未休。天下英雄谁敌手？曹刘，生子当如孙仲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5880" y="285264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—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《登京口北固亭有怀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3645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当年孙权在青年时代，就做了三军的统帅，他能独霸东南，坚持抗战，没有向敌人低头和屈服过。天下英雄谁是孙权的敌手呢？只有曹操和刘备而已。这样也就难怪曹操说：“生子当如孙仲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8317080" y="6281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举目远望，我们的中原故土在哪里？所能收入眼底的只有北固楼周围一片美好的风光。弦外之音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原已非我所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于是站在北固楼上，词人不禁起了千古兴亡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孙权“坐断东南”的形式与南宋相似，但是孙权却能不畏强敌，坚决抵抗，并战而胜之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今满朝文武庸碌无能之辈的怯懦苟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其一：曹操煮酒论英雄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借凭吊千古英雄之名，慨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宋无大智大勇之人执掌乾坤；其二：曹操一褒一贬的典故。借曹操的口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讽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朝主和的大臣都是刘景升儿子一类的猪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细黑"/>
                <a:ea typeface="华文新魏"/>
              </a:rPr>
              <a:t>　　辛弃疾</a:t>
            </a:r>
            <a:r>
              <a:rPr b="1" lang="zh-CN" sz="4400" spc="-1" strike="noStrike">
                <a:solidFill>
                  <a:srgbClr val="990000"/>
                </a:solidFill>
                <a:latin typeface="华文细黑"/>
                <a:ea typeface="华文新魏"/>
              </a:rPr>
              <a:t>，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华文新魏"/>
              </a:rPr>
              <a:t>字幼安，号稼轩，历城人（山东济南人），南宋爱国词人。一生主张抗金，渴望恢复中原。</a:t>
            </a:r>
            <a:r>
              <a:rPr b="1" lang="zh-CN" sz="4400" spc="-1" strike="noStrike" u="sng">
                <a:solidFill>
                  <a:srgbClr val="990099"/>
                </a:solidFill>
                <a:uFillTx/>
                <a:latin typeface="楷体_GB2312"/>
                <a:ea typeface="华文新魏"/>
              </a:rPr>
              <a:t>在词人中，他是个英雄。其词抒写力图恢复国家统一的爱国热情，倾诉壮志难酬的悲愤。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华文新魏"/>
              </a:rPr>
              <a:t>著有词集《稼轩长短句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21040" cy="352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581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14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年—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1207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28600"/>
            <a:ext cx="43308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清平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茅檐低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溪上青青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醉里吴音相媚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白发谁家翁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大儿锄豆溪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中儿正织鸡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最喜小儿无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溪头卧剥莲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04080" y="609480"/>
            <a:ext cx="16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838080"/>
            <a:ext cx="3429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辛弃疾被劾落职后在农村过隐居生活有二十年之久，他有一些词反映了当时农村的景象。该词描绘了农家的怡然自得的生活景象。整首诗用了白描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228600"/>
            <a:ext cx="373392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230ebe"/>
                </a:solidFill>
                <a:latin typeface="Times New Roman"/>
                <a:ea typeface="华文新魏"/>
              </a:rPr>
              <a:t>青玉案 </a:t>
            </a:r>
            <a:r>
              <a:rPr b="1" lang="zh-CN" sz="2800" spc="-1" strike="noStrike">
                <a:solidFill>
                  <a:srgbClr val="230ebe"/>
                </a:solidFill>
                <a:latin typeface="Times New Roman"/>
                <a:ea typeface="华文新魏"/>
              </a:rPr>
              <a:t>元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东风夜放花千树，        更吹落、星如雨。         宝马雕车香满路。          凤箫声动，玉壶光转， 一夜鱼龙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蛾儿雪柳黄金缕，             笑语盈盈暗香去。            众里寻他千百度。           蓦然回首，                     那人却在灯火阑珊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343400" y="609480"/>
          <a:ext cx="419112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09480"/>
                    <a:ext cx="4191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343400" y="609480"/>
            <a:ext cx="4191120" cy="56390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上阕写元宵节灯火辉煌的热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景象；下阕写经过反复寻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终于在“灯火阑珊处”发现了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中人的惊喜感情。而这位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人是厌恶繁华、自甘寂寞的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人。这正是词人虽政治失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却不与那些庸人同流合污的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格的反映。故梁启超评之为“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有怀抱”。此词乃辛弃疾婉约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隶书"/>
              </a:rPr>
              <a:t>之代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摸鱼儿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辛弃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4140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能消几番风雨，匆匆春又归去。惜春长怕花开早，何况落红无数。春且住。见说道、天涯芳草无归路。怨春不语，算只有殷勤，画檐蛛网，尽日惹飞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长门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准拟佳期又误，蛾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曾有人妒。千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纵买相如赋，脉脉此情谁诉？君莫舞，君不见、玉环飞燕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皆尘土！闲愁最苦。休去倚危栏，斜阳正在烟柳断肠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237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774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门事，汉武帝时，陈皇后遭嫉妒失宠，幽居长门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蛾眉，指美女。语出屈原《离骚》：“众女嫉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蛾眉兮，谣诼谓余善淫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金，陈皇后曾用百金请司马相如作《长门赋》，献给汉武帝以求重新得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玉环，指杨玉环。安史之乱时，为平军心，被迫在马嵬坡自缢。飞燕，汉成帝宠妃赵飞燕，曾得宠一时，后被废为庶民，自杀而死。二人皆善舞善妒，且不得善终。这里暗指得势的投降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0" y="-71280"/>
            <a:ext cx="3505320" cy="82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小   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739800"/>
            <a:ext cx="7696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辛词无论从内容和艺术表现来说，都丰富而多采。在不同的题材下，表现了不同的风格与情调。有时豪迈奔放，慷慨激昂；有时委婉清新，情味深永；有时诙谐嘲戏，趣味横生。特别是他的爱国词章，忧思悲壮，都是发之于内心深处的情感，不止是真挚动人，而且热情澎湃，给人们精神上以强烈的感染力，引起人们奋发有为的心情，是我国抒情诗中最可珍贵的遗产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049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华文新魏"/>
              </a:rPr>
              <a:t>当堂训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752480"/>
            <a:ext cx="85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　１、背诵全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666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　２、完成《》中的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宋著名文学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幼安，号稼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历城（今山东济南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生时，山东已被金兵所占。二十一岁参加抗金义军，不久归南宋，历任湖北、江西、湖南、福建、浙东安辅使等职。任职期间，采取积极措施，招集流亡，训练军队，奖励耕战，打击贪污豪强，注意安定民生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生坚决主张抗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《美芹十论》、《九议》等奏疏中，具体分析当时的政治军事形势，对夸大金兵力量、鼓吹妥协投降的人，作了有力的驳斥；要求加强作战准备，鼓励士气，以恢复中原。他所提出的抗金建议，均未被采纳，并遭到主和派的打击，曾长期落职闲居江西上峣、铅山一带。晚年韩侂胄当政，一度起用，不久病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词抒写力图恢复国家统一的爱国情怀，倾诉壮志难酬的悲愤，对南宋上层统治集团的屈辱投降进行揭露和批判；也有不少吟咏祖国河山的作品。艺术风格多样，而以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豪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。热情洋溢，慷慨悲壮，笔力雄厚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苏轼并称“苏辛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681840" y="152280"/>
            <a:ext cx="2009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6429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写这首词的时候辛弃疾已经六十五岁了，辛弃疾从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2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岁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岁一直过着“隐居”的生活，得不到朝廷的重用。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03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再次被当时执掌大权的韩侂胄起用，任浙江东路安抚史，翌年改任镇江知府。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0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韩侂胄为了巩固自己的地位，草草北伐。而镇江濒临抗战前线，是北伐的重要基地。辛弃疾到任后，做了大量的准备工作，但是韩侂胄把持朝政，只想侥幸求逞，不愿认真准备。韩侂胄听不进辛弃疾的劝告，后来就把他调离了镇江。这首词是辛弃疾被起用又被降职时，登上北固亭，满怀悲愤而写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永遇乐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·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新魏"/>
              </a:rPr>
              <a:t>京口北固亭怀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724280" y="3123720"/>
            <a:ext cx="4191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辛弃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066680"/>
            <a:ext cx="784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理解运用典故，借古讽今的写作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了解辛弃疾抗敌救国的雄图壮志和为国效劳的爱国热情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14T13:37:1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