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projctor.wav" ContentType="audio/x-wav"/>
  <Override PartName="/ppt/media/image9.png" ContentType="image/png"/>
  <Override PartName="/ppt/media/image15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A1D-2D24-4D5B-9A0B-547BC451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D94-8284-4514-A9BC-D2DA3FCF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74D-563E-436C-88FD-39DA2DB9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3D6-F837-4D02-8DCA-A571B71A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88E-0CDD-4352-B206-6BD97AF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DDC-827E-4717-90F8-AE507759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75F-6963-402E-902E-FF576556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7D3-90BC-4CE2-80F8-3BF8C403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E47-867A-40E1-91BC-CD776FEC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D5D-0974-4844-994F-5A5E33E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57C-EC0E-4600-9DC9-AF74D85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D23-84ED-444B-ABAC-AE9F2612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F135-4EE4-4C2B-8C9D-276403A7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324000" y="1773360"/>
            <a:ext cx="8458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夜的工作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一夜的工作4.MPG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66" name="一夜的工作6.MPG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3087000" y="4869000"/>
            <a:ext cx="36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周总理到河北邢台地震灾区慰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一夜的工作7.MPG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994200" cy="2995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492360" y="508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病坚持工作的总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一夜的工作8.MPG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68720" cy="305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708360" y="5229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命垂危的总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2992226"/>
          <p:cNvPicPr/>
          <p:nvPr/>
        </p:nvPicPr>
        <p:blipFill>
          <a:blip r:embed="rId1"/>
          <a:stretch/>
        </p:blipFill>
        <p:spPr>
          <a:xfrm>
            <a:off x="3059280" y="47628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992217"/>
          <p:cNvPicPr/>
          <p:nvPr/>
        </p:nvPicPr>
        <p:blipFill>
          <a:blip r:embed="rId2"/>
          <a:stretch/>
        </p:blipFill>
        <p:spPr>
          <a:xfrm>
            <a:off x="5580000" y="2924280"/>
            <a:ext cx="3097440" cy="2043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349236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人震撼的送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080307215775495"/>
          <p:cNvPicPr/>
          <p:nvPr/>
        </p:nvPicPr>
        <p:blipFill>
          <a:blip r:embed="rId3"/>
          <a:srcRect l="0" t="0" r="803" b="10491"/>
          <a:stretch/>
        </p:blipFill>
        <p:spPr>
          <a:xfrm>
            <a:off x="826920" y="2924280"/>
            <a:ext cx="3167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200705121045473186267"/>
          <p:cNvPicPr/>
          <p:nvPr/>
        </p:nvPicPr>
        <p:blipFill>
          <a:blip r:embed="rId1"/>
          <a:stretch/>
        </p:blipFill>
        <p:spPr>
          <a:xfrm>
            <a:off x="611280" y="1987560"/>
            <a:ext cx="2333520" cy="168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006636628317"/>
          <p:cNvPicPr/>
          <p:nvPr/>
        </p:nvPicPr>
        <p:blipFill>
          <a:blip r:embed="rId2"/>
          <a:stretch/>
        </p:blipFill>
        <p:spPr>
          <a:xfrm>
            <a:off x="6227640" y="1916280"/>
            <a:ext cx="2303640" cy="176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90920" y="1987560"/>
            <a:ext cx="2239920" cy="1681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2987640" y="4724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人震撼的送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33520" y="10666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回来的路上，我不断地想，不断地对自己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就是我们新中国的总理。我看见了他一夜的工作。他是多么劳苦，多么简朴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想高声对全世界说，好像全世界都能听见我的声音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看啊，这就是我们中华人民共和国的总理。我看见他一夜的工作。他每个夜晚都是这 样工作的。你们看见过这样的总理吗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2556000" y="2060640"/>
            <a:ext cx="59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>
            <a:off x="5003640" y="4005360"/>
            <a:ext cx="324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>
            <a:off x="684360" y="458136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2987640" y="2276640"/>
            <a:ext cx="7176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完了这篇文章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有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话要对总理说请写在插图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3276720" y="2781360"/>
            <a:ext cx="350820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104292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935520" y="351000"/>
            <a:ext cx="48225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 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周恩来 （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4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～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76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马 克 思 主 义 者， 无 产 阶 级 革 命 家、 政 治 家、 军 事 家 和 外 交 家， 中 国 共 产 党、中 华 人 民 共 和 国 主 要 领 导 人 之 一， 中 国 人 民 解 放 军 创 建 人 之 一， 中 华 人 民 共 和 国 总理 。 原 籍 浙 江 绍 兴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17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在 天 津 南 开 学 校 毕 业后 赴 日 本 求 学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1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回 国，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月 入 南 开 大 学， 在 五 四 运 动 中 成 为 天 津 学 生 界 的 领导 人， 并 与 运 动 中 的 其 他 活 动 分 子 共 同 组 织 进 步 团 体 觉 悟 社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20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去 法 国 勤 工 俭学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21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参 加 中 国 共 产 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zhou en lai"/>
          <p:cNvPicPr/>
          <p:nvPr/>
        </p:nvPicPr>
        <p:blipFill>
          <a:blip r:embed="rId1"/>
          <a:stretch/>
        </p:blipFill>
        <p:spPr>
          <a:xfrm>
            <a:off x="324000" y="1052640"/>
            <a:ext cx="3313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468520" y="1844640"/>
            <a:ext cx="413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劳苦”，请用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并在感受最深的句子旁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60948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他一句一句地审阅，看完一句就用笔在那一句后面画一个小圆圈。他不是浏览一遍就算了，而是一边看一边思索，有时停笔想一想，有时问我一两句。夜很静，经过相当长的时间总理才审阅完，把稿子交给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780000" y="22050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“简朴”，请用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~~~~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，并在感受最深的句子旁边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 rot="21345600">
            <a:off x="4876920" y="1371240"/>
            <a:ext cx="251604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latin typeface="宋体"/>
              </a:rPr>
              <a:t>辩一辩</a:t>
            </a:r>
            <a:endParaRPr b="0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78136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生米并不多，可以数得清颗数，好像并没有因为多了一个人而增加了分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43000" y="4448160"/>
            <a:ext cx="54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请辩一辩：花生米有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有增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63680" y="1371600"/>
            <a:ext cx="868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比较下面两个句子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生米并不多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可以数得清颗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隶书"/>
                <a:ea typeface="隶书"/>
              </a:rPr>
              <a:t>好像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没有因为多了一个人而增加了分量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生米并不多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可以数得清颗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因为多了一个人而增加了分量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09896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496600" y="1484280"/>
            <a:ext cx="547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7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起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与尼雷尔会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 陪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政治局会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半      约民航局同志开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 办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去东郊迎接西哈努克亲王和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33360"/>
            <a:ext cx="49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周总理的一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087000" y="4869000"/>
            <a:ext cx="36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周总理到河北邢台地震灾区慰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1966年周总理到河北邢台地震灾区慰问"/>
          <p:cNvPicPr/>
          <p:nvPr/>
        </p:nvPicPr>
        <p:blipFill>
          <a:blip r:embed="rId1"/>
          <a:stretch/>
        </p:blipFill>
        <p:spPr>
          <a:xfrm>
            <a:off x="5076720" y="1628640"/>
            <a:ext cx="3780000" cy="2603520"/>
          </a:xfrm>
          <a:prstGeom prst="rect">
            <a:avLst/>
          </a:prstGeom>
          <a:ln w="0">
            <a:noFill/>
          </a:ln>
        </p:spPr>
      </p:pic>
      <p:pic>
        <p:nvPicPr>
          <p:cNvPr id="63" name="一夜的工作3.MPG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0:16:22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7-03-04T03:13:10Z</dcterms:modified>
  <cp:revision>25</cp:revision>
  <dc:subject>第一PPT模板网-WWW.1PPT.COM</dc:subject>
  <dc:title>第一PPT模板网-WWW.1PPT.COM</dc:title>
</cp:coreProperties>
</file>