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11.jpeg" ContentType="image/jpeg"/>
  <Override PartName="/ppt/media/image13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jpeg" ContentType="image/jpeg"/>
  <Override PartName="/ppt/media/image10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7CF-9DE6-4776-80AD-DD5020F4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9DA-30EC-4F08-856F-E32E8784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7AC-1FF2-4148-8B62-CF54917B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FE0-732C-40BD-B1AA-C2D43C9C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6A0-D88F-44A8-B7AA-0A100D23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472-C90C-4745-8492-248A5836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342-03BB-4E26-A3B9-9F897F77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C54-02D4-45B6-ABE5-451708AD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BA4-8FA7-4A32-895B-A2139A54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348-EAA9-4BA4-8589-158DCF11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61C-D908-401C-B018-8794BBBA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724-9DFF-4AE3-95AE-EBC29D6E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C2A9-C9DD-4A34-94D0-2AD17E1613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log.sina.com.cn/main/html/showpic.html" TargetMode="External"/><Relationship Id="rId3" Type="http://schemas.openxmlformats.org/officeDocument/2006/relationships/image" Target="../media/image11.jpeg"/><Relationship Id="rId4" Type="http://schemas.openxmlformats.org/officeDocument/2006/relationships/slide" Target="slide11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" Target="slide14.xm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91240" y="1413000"/>
            <a:ext cx="109476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一夜的工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484360" y="1413000"/>
            <a:ext cx="5327640" cy="3600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47640" y="54936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北师大版 六年级 语文 上册 第一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067280" y="1413000"/>
            <a:ext cx="4419360" cy="1343520"/>
          </a:xfrm>
          <a:prstGeom prst="rect">
            <a:avLst/>
          </a:prstGeom>
          <a:noFill/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他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一句一句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地审阅，看完一句就用铅笔在那一句后面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画一个小圆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他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不是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浏览一遍就算了，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而是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边看一边思索，</a:t>
            </a:r>
            <a:r>
              <a:rPr b="1" lang="zh-CN" sz="2800" spc="-1" strike="noStrike">
                <a:solidFill>
                  <a:srgbClr val="66ff66"/>
                </a:solidFill>
                <a:latin typeface="Times New Roman"/>
                <a:ea typeface="楷体_GB2312"/>
              </a:rPr>
              <a:t>有时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停笔想一想，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有时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问我一两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844640"/>
            <a:ext cx="3240000" cy="2411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4000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合作交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04000" y="5300640"/>
            <a:ext cx="998640" cy="99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162864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每当夜幕降临，人们一家人欢聚一堂，享受天伦之乐时，我们的总理却坐在那一张不大的写字台前，开始审阅文件，他（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每当夜深人静，人们都躺在温暖的被窝里，进入了甜美的梦乡，我们的总理只能揉揉疲倦的眼睛，又拿起了一份文件，只见他（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每当天色发白，公鸡又开始打鸣，人们还赖在温暖的被窝里不想起床时，我们的总理拿起了今天晚上要审阅的最后一份文件，只见他（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1052640"/>
            <a:ext cx="76964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教师寄语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勇于尝试，感悟真情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89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朗读——情景感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8000" y="476280"/>
            <a:ext cx="88930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黑体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个夜晚对于我们来说，平凡而又简单，可是对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们的总理来说有多么重要啊！何其芳真是一位幸福的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家，因为他有幸和总理度过了一个不眠之夜，看见了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理一夜的工作。回来的路上，他不断地想，不断地对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己说：“（          ）他更想高声对全世界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           ）”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43200" y="189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周总理的一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1052640"/>
            <a:ext cx="6840360" cy="44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时间：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74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至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7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下午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时      起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下午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时      与尼雷尔会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晚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时          陪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晚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时        政治局会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晨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时半      约民航局同志开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晨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时          办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中午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时    去东郊迎接西哈努克亲王和王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下午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时      休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020000" y="907920"/>
            <a:ext cx="14396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11280" y="907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总理最后的生命历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6000" y="2205000"/>
            <a:ext cx="892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7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，周总理被确诊患了癌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75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，周总理的病情开始恶化。但他仍然拖着只剩下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公斤重的重病之躯，继续顽强的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，他会见了菲律宾总统马克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119700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6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，他在医院里会见柬埔寨首相西哈努克亲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，他不顾病情的恶化，与医务人员的一再劝阻，坚持会见了罗马尼亚党政代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，他做第四次手术，在进入手术室前一刻，他握住邓小平同志的手鼓励他把工作做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，他做了第五次手术，这次手术后，他一再叮嘱邓颖超，死后不要保留骨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36000" y="5516640"/>
            <a:ext cx="782640" cy="782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765000"/>
            <a:ext cx="864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，生命已经处于垂危状态的总理，向前来的罗长青询问台湾的近况，说话不到十五分钟，他就昏迷了过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，深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时，总理从昏迷中苏醒，用微弱的声音对身边的医生说：“我这里没什么，你们还是去照顾别的生病的同志，那里更需要你们。”这是周总理活着的时候说的最后一句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76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上午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时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7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分，我们的总理永远地离开了我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32720" y="5516640"/>
            <a:ext cx="998280" cy="99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11280" y="260280"/>
            <a:ext cx="59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把所有的心装进你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在你的胸前写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你是这样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把所有的爱握在你手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用你的眼睛诉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你是这样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不用多想  不用多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你就是这样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不能不想   不能不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真心有多重  爱有多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把所有的伤痛藏在你身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用你的微笑回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你是这样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把所有的生命归还世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人们在心里呼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你是这样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439272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51480" y="1197000"/>
            <a:ext cx="17168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黑体"/>
              </a:rPr>
              <a:t>你是这样的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1685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7440" y="93600"/>
            <a:ext cx="1835280" cy="1031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16000" y="1125360"/>
            <a:ext cx="4537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916280"/>
            <a:ext cx="76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2276640"/>
            <a:ext cx="734544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面对这样的总理，作者心中感慨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千，你呢，你想说什么呢？请写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4046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说一说  写一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38280" y="62064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黑体"/>
                <a:ea typeface="黑体"/>
              </a:rPr>
              <a:t>一夜的工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828800"/>
            <a:ext cx="624816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工作       劳苦       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生活       简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6668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多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2362320"/>
            <a:ext cx="609480" cy="38088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200400" y="3200400"/>
            <a:ext cx="609480" cy="38088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952880" y="2286000"/>
            <a:ext cx="609840" cy="60948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3124080"/>
            <a:ext cx="609840" cy="38124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494172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激动  自豪   敬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9337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63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4005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Times New Roman"/>
              </a:rPr>
              <a:t>对自己说  对全世界说  新中国的总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268280"/>
            <a:ext cx="882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老师送你一句话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492280"/>
            <a:ext cx="98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勤劳一日，可得一夜安眠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勤劳一生，可得幸福长眠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          ——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达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芬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987640" y="2349360"/>
            <a:ext cx="2860560" cy="12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03280" y="2205000"/>
            <a:ext cx="119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7440" y="93600"/>
            <a:ext cx="1835280" cy="103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1125360"/>
            <a:ext cx="4537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333360"/>
            <a:ext cx="4764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74680" y="1684440"/>
            <a:ext cx="79693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557360"/>
            <a:ext cx="85345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．知识目标：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理解课文从哪两个方面来 叙述周总理一夜的工作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．能力目标：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培养思维能力、探究能力、自学能力、口头表达能力、组织能力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．品德目标：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培养吃苦、耐劳的精神，感受周总理人格的伟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436320" y="260280"/>
            <a:ext cx="2730240" cy="3017880"/>
            <a:chOff x="436320" y="260280"/>
            <a:chExt cx="2730240" cy="30178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441360" y="260280"/>
              <a:ext cx="14972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36320" y="2361240"/>
              <a:ext cx="71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03240" y="691920"/>
              <a:ext cx="1363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600" spc="-1" strike="noStrike">
                  <a:solidFill>
                    <a:srgbClr val="000000"/>
                  </a:solidFill>
                  <a:latin typeface="Comic Sans MS"/>
                </a:rPr>
                <a:t>？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987640" y="10526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自主探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2276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用自己喜欢的方式阅读课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99736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用一个词语来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概括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总理在一夜的工作中给你留下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印象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5640" y="2060640"/>
            <a:ext cx="874224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我所理解的总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是一位（   </a:t>
            </a: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)</a:t>
            </a: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总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863640" cy="266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3520" y="123336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643280" y="1062000"/>
            <a:ext cx="538200" cy="538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68360" y="5661000"/>
            <a:ext cx="826920" cy="827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468360" y="443700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391520" y="4921200"/>
            <a:ext cx="565200" cy="565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01760" y="404640"/>
            <a:ext cx="874224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黑体"/>
              </a:rPr>
              <a:t>说一说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周总理的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工作多么劳苦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我从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体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到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周总理的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生活多么简朴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我从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体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到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42000"/>
            <a:ext cx="114300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95680" y="2286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97000"/>
            <a:ext cx="81374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预设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①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知道这间房子以前的主人是谁吗？他是一位摄政王，清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的最后一位皇帝就是由他辅佐的。皇帝都得听他的。想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想，他住的时候，这间宫殿可能是什么样子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②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现在这座曾经无比辉煌的宫殿成了一间普通的办公室，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人是谁呢？他是我们中华人民共和国的第一任总理，他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官够不够大？如果让你来安排他的房间，你准备摆点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③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可是你这样做的话，我们的总理会答应吗？在他的办公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里，我们又能看到什么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404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合作交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67280" y="1844640"/>
            <a:ext cx="4419360" cy="1770120"/>
          </a:xfrm>
          <a:prstGeom prst="rect">
            <a:avLst/>
          </a:prstGeom>
          <a:noFill/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那是一间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高大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的宫殿式的房子，室内陈设极其简单，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一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大的写字台，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两把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转椅，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一盏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台灯，如此而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3168720" cy="2473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404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合作交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20000" y="5300640"/>
            <a:ext cx="855720" cy="8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1268280"/>
            <a:ext cx="871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预设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审阅是什么意思？你从什么地方能看出总理是在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阅，而不是普通的浏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总理看一份文件容易吗？总理只是审阅这样一份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件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总理在思索什么呢？新中国刚刚成立，从国家大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到普通百姓，我们的总理每天要思考多少问题啊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你能说一说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000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合作交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02:57:47Z</dcterms:created>
  <dc:creator>yuzhen</dc:creator>
  <dc:description/>
  <dc:language>en-US</dc:language>
  <cp:lastModifiedBy>liuqi</cp:lastModifiedBy>
  <dcterms:modified xsi:type="dcterms:W3CDTF">2009-05-27T10:06:42Z</dcterms:modified>
  <cp:revision>77</cp:revision>
  <dc:subject/>
  <dc:title>PowerPoint 演示文稿</dc:title>
</cp:coreProperties>
</file>