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laser.wav" ContentType="audio/x-wav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2.png" ContentType="image/png"/>
  <Override PartName="/ppt/media/image11.png" ContentType="image/png"/>
  <Override PartName="/ppt/media/image2.jpeg" ContentType="image/jpeg"/>
  <Override PartName="/ppt/media/projctor.wav" ContentType="audio/x-wav"/>
  <Override PartName="/ppt/media/image1.wmf" ContentType="image/x-wmf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329-53D5-4248-8D90-2A3813C3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3C6-ABB5-4AB8-B0F7-74082B11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285-09B0-452F-8FD9-4AABF39C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E17-9149-41BF-9229-415B4610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31F-9100-4407-BC2B-D8BC61BE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62B-976C-45F3-B293-31D67ABF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D7E-7A0B-4D33-8177-B1230BE7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0C1-36E7-4005-B872-B4D743AE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5B5-69CB-404F-A0DC-AAA3E14D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448-2E42-4578-8978-3428D107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143-1850-414B-942F-CCC73DD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674-030D-4A14-91D1-517261C3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DE0-DCEE-4E85-9847-D558DABA28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、一夜的工作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696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295280" y="0"/>
            <a:ext cx="11353680" cy="7391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541440"/>
            <a:ext cx="914400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10666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回来的路上，我不断地想，不断地对自己说：“这就是我们新中国的总理。我看见了他一夜的工作。他是多么劳苦，多么简朴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想高声对全世界说，好像全世界都能听见我的声音：“看啊，这就是我们中华人民共和国的总理。我看见他一夜的工作。他每个夜晚都是这 样工作的。你们看见过这样的总理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2209680"/>
            <a:ext cx="642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完了这篇文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有什话要对总理说请写在插图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609480" y="-1066680"/>
            <a:ext cx="10210680" cy="9448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71920" y="1616040"/>
            <a:ext cx="413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哪些句子写出总理工作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劳苦”，请用“——”画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并在感受最深的句子旁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写上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他一句一句地审阅，看完一句就用笔在那一句后面画一个小圆圈。他不是浏览一遍就算了，而是一边看一边思索，有时停笔想一想，有时问我一两句。夜很静，经过相当长的时间总理才审阅完，把稿子交给了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80880" y="-457200"/>
            <a:ext cx="9524880" cy="7924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2514600"/>
            <a:ext cx="426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哪些句子写出总理工作的“简朴”，请用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~~~~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画出，并在感受最深的句子旁边写上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719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21345600">
            <a:off x="4876920" y="1371240"/>
            <a:ext cx="251604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latin typeface="宋体"/>
              </a:rPr>
              <a:t>辩一辩</a:t>
            </a:r>
            <a:endParaRPr b="0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8195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生米并不多，可以数得清颗数，好像并没有因为多了一个人而增加了分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448160"/>
            <a:ext cx="544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请辩一辩：花生米有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有增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3680" y="1371600"/>
            <a:ext cx="8680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比较下面两个句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花生米并不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以数得清颗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Times New Roman"/>
              </a:rPr>
              <a:t>好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没有因为多了一个人而增加了分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花生米并不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以数得清颗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并没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多了一个人而增加了分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098960" y="428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85720" y="76320"/>
            <a:ext cx="413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周总理的一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      起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      与尼雷尔会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           陪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         政治局会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半       约民航局同志开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           办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     去东郊迎接西哈努克亲王和王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       休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d7fe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0:16:22Z</dcterms:created>
  <dc:creator>user</dc:creator>
  <dc:description/>
  <dc:language>en-US</dc:language>
  <cp:lastModifiedBy>MC SYSTEM</cp:lastModifiedBy>
  <dcterms:modified xsi:type="dcterms:W3CDTF">2007-07-26T09:04:48Z</dcterms:modified>
  <cp:revision>18</cp:revision>
  <dc:subject/>
  <dc:title>PowerPoint 演示文稿</dc:title>
</cp:coreProperties>
</file>