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FD8-FD3C-48C8-A672-A74C0567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13B-5E54-47AA-A198-621A68EE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331-2DE6-440C-932E-29B990EC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2C0-BB99-4D25-9E9E-11AD7C44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351E-BD0D-4BC3-B775-6781D73B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42DC-86D2-445F-87B4-1989609D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3A76-E728-4EAA-A4CA-7B6E817D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D4C0-CD86-4CDF-90E2-DC1C1D3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3C9E-A625-4800-8CFC-0A090ABF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A540-E28A-4740-A254-75CE9E7F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32F0-D463-40B2-9392-41480A3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395-7872-496F-9C92-F584216A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27EE-4932-411D-A267-F1A0650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D1AD-8C78-480B-A2A5-64CE1FF5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066-BC5B-44CC-9CDB-4395A007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2E2F-FA80-414E-8D35-DC669AB4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5574-1A09-4A40-BD81-0B4F204C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2C8-EE13-47D2-B47F-A31B688E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062-9ABA-45D6-A505-6BF1432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6E7-D154-4877-BC02-9AC5BCC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4DB-1376-460B-BE8B-74D392B5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0D3-65E1-456F-8D98-2DB170D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3D2-5340-491A-8A63-27A88E6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F3B-3A0C-4907-A291-9EF19733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30CE-027D-4C72-9C0E-BEEC0BE04D3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52B6-14CB-4CF2-861C-61E5204D47F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啊，这就是我们中华人民共和国的总理。我看见了他一夜的工作。他每个夜晚都是这样工作的。你们看见过这样的总理吗？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5189760"/>
            <a:ext cx="301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就是我们的总理。我看见了他一夜的工作。他是多么劳苦，多么简朴！”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看啊，这就是我们中华人民共和国的总理。我看见了他一夜的工作。他每个夜晚都是这样工作的。你们看见过这样的总理吗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09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1975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日周总理住进了医院。他入院以来一直坚持办公。开始时，周总理亲自批阅文件，后来因病情发展，便逐渐由邓大姐来念文件。甚至在上手术台之前还要批阅文件。住院的日子里，总理不仅没有改变，相反还加快了自己的工作节奏，一再要求医务人员要把治疗和他的工作统一起来，治疗要适应配合工作，要使工作不受影响和干扰。他拖着重病之躯依然每天连续工作十几个小时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672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1783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7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1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Arial"/>
              </a:rPr>
              <a:t>文章中心句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cc6600"/>
                </a:solidFill>
                <a:latin typeface="Arial"/>
              </a:rPr>
              <a:t>他是多么劳苦，多么简朴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716360" y="5877000"/>
            <a:ext cx="216000" cy="50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5292720" y="5877000"/>
            <a:ext cx="216000" cy="50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6659640" y="5950080"/>
            <a:ext cx="2174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7164360" y="595008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475272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33280" y="476280"/>
            <a:ext cx="66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们应该把整个身心放在共产主义事业上，以人民的疾苦为忧，以世界的前途为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1898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推荐书目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《周恩来传》   《回忆周恩来同志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6200" y="1557000"/>
            <a:ext cx="820908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一天，总理办公室通知我去中南海政务院。我走进总理的办公室。那是一间高大的宫殿式的房子，室内陈设极其简单，一张不大的写字台，两把小转椅，一盏台灯，如此而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35200" y="3213000"/>
            <a:ext cx="22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极其简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21300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5189760"/>
            <a:ext cx="301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65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时候，值班室的同志送来两杯热腾的绿茶，一小碟花生米，放在写字台上。总理让我跟他一起喝茶，吃花生米。花生米并不多，可以数得清颗数，好像并没有因为多了一个人而增加了分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2720" y="246384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小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25653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1960" y="3560760"/>
            <a:ext cx="345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数得清颗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645000"/>
            <a:ext cx="24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-4806720"/>
            <a:ext cx="309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5881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总理见了我，指着写字台上一尺来高的一叠文件，说：“我今晚上要批这些文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440" y="1773360"/>
            <a:ext cx="85885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总理见了我，指着写字台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尺来高的一叠文件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说：“我今晚上要批这些文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-5189760"/>
            <a:ext cx="166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125360"/>
            <a:ext cx="8137440" cy="75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立刻起来，揉揉蒙眬的睡眼，走进总理的办公室。总理招呼我坐在他的写字台对面，要我陪他审阅我整理的记录稿，其实是备咨询的意思。他一句一句地审阅，看完一句就用笔在那一句后面画上一个小圆圈。他不是浏览一遍就算了，而且一边看一边思索，有时停笔想一想，有时问我一两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2400" y="30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1280" y="40482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一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7720" y="4537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26320" y="405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28520" y="30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3141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141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076640"/>
            <a:ext cx="129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11560" y="4154400"/>
            <a:ext cx="93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58136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7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7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工作日历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97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日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日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3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这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3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中，从起床到睡眠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周总理工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至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的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至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的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7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作超过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的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的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作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时的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344000" cy="5111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67640" y="6093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7833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587520"/>
            <a:ext cx="7569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81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这就是我们的总理。我看见了他一夜的工作。他是多么劳苦，多么简朴！”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9:04:59Z</dcterms:created>
  <dc:creator>微软用户</dc:creator>
  <dc:description/>
  <dc:language>en-US</dc:language>
  <cp:lastModifiedBy>yc</cp:lastModifiedBy>
  <dcterms:modified xsi:type="dcterms:W3CDTF">2010-05-06T05:24:26Z</dcterms:modified>
  <cp:revision>24</cp:revision>
  <dc:subject/>
  <dc:title>幻灯片 1</dc:title>
</cp:coreProperties>
</file>