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msg.wav" ContentType="audio/x-wav"/>
  <Override PartName="/ppt/media/image5.jpeg" ContentType="image/jpeg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E42-E9ED-4F8A-AC2D-786A6784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B7C-3C92-4908-B380-8E0D06BF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971-ACE5-4C2B-8A40-A348D5A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3A6-4BD6-452C-A05D-715EA2CB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660-CC8F-4E89-AF47-2A6EEEC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1DD-6D86-4177-91C7-9EA16D51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0FD-1799-4513-B766-ADB652D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F8F-B9F3-46F1-B35F-6916706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9B4-711C-4E4E-A50A-8A00C37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590-1668-4714-8867-31E9928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40B-18CE-444E-8AEF-1265272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FCC-4C7A-414A-8AB9-95FC01ED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579-BA68-41F5-A272-72CED262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s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杨修4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 rot="5400000">
            <a:off x="4952520" y="2742840"/>
            <a:ext cx="64008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杨修之死</a:t>
            </a:r>
            <a:endParaRPr b="1" lang="en-US" sz="54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8520" y="3774960"/>
            <a:ext cx="1295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罗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贯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219320"/>
          <a:ext cx="8839080" cy="5127480"/>
        </p:xfrm>
        <a:graphic>
          <a:graphicData uri="http://schemas.openxmlformats.org/drawingml/2006/table">
            <a:tbl>
              <a:tblPr/>
              <a:tblGrid>
                <a:gridCol w="2057400"/>
                <a:gridCol w="3962520"/>
                <a:gridCol w="28191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杨修的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曹操的态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39"/>
          <p:cNvSpPr/>
          <p:nvPr/>
        </p:nvSpPr>
        <p:spPr>
          <a:xfrm>
            <a:off x="0" y="2057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改造花园大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372240" y="2819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分食塞北酥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341640" y="365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揭发</a:t>
            </a:r>
            <a:r>
              <a:rPr b="1" lang="zh-CN" sz="2400" spc="-1" strike="noStrike">
                <a:solidFill>
                  <a:srgbClr val="0000be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梦中杀人</a:t>
            </a:r>
            <a:r>
              <a:rPr b="1" lang="zh-CN" sz="2400" spc="-1" strike="noStrike">
                <a:solidFill>
                  <a:srgbClr val="0000be"/>
                </a:solidFill>
                <a:latin typeface="Times New Roman"/>
                <a:ea typeface="仿宋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372240" y="4343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告发曹丕密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372240" y="510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教曹植斩门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37224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为曹植作答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2057400" y="2895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竟取匙与众分食讫     　　</a:t>
            </a:r>
            <a:r>
              <a:rPr b="1" lang="zh-CN" sz="2400" spc="-1" strike="noStrike">
                <a:solidFill>
                  <a:srgbClr val="208220"/>
                </a:solidFill>
                <a:latin typeface="Arial"/>
                <a:ea typeface="隶书"/>
              </a:rPr>
              <a:t>虽喜笑，而心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2174760" y="3657600"/>
            <a:ext cx="71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丞相非在梦中，君乃在梦中耳    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愈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2627280" y="434340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知其事，迳来告操    　　　 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愈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2438280" y="518148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君奉王命而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大怒，因此亦不喜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2133720" y="5867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尝为曹植作答教十余条 　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大怒，已有杀修之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205740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丞相嫌园门阔耳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　　</a:t>
            </a:r>
            <a:r>
              <a:rPr b="1" lang="zh-CN" sz="2400" spc="-1" strike="noStrike">
                <a:solidFill>
                  <a:srgbClr val="208220"/>
                </a:solidFill>
                <a:latin typeface="隶书"/>
                <a:ea typeface="隶书"/>
              </a:rPr>
              <a:t>虽称美，心甚忌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理解揣摩（一）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文中的六件事分析杨修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45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019920" y="121932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才思敏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恃才放旷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卖弄聪明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轻率大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104600" y="4656240"/>
            <a:ext cx="667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揣摩（二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ff00"/>
                </a:solidFill>
                <a:latin typeface="隶书"/>
                <a:ea typeface="隶书"/>
              </a:rPr>
              <a:t>分析曹操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129528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１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曹操“借惑乱军心之罪”杀杨修，表现了曹操性格的哪一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２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为什么杨修“为曹植作答教”这件事使曹操动了杀他之念？这又可看出曹操的什么性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曹操既杀杨修，为什么又‘佯怒夏侯惇 ，亦欲斩之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４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曹操兵败，却又厚葬杨修，这是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562880" y="331920"/>
            <a:ext cx="853920" cy="65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16"/>
          <p:cNvPicPr/>
          <p:nvPr/>
        </p:nvPicPr>
        <p:blipFill>
          <a:blip r:embed="rId2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791320" y="838080"/>
            <a:ext cx="298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虚伪奸诈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残忍多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嫉贤妒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老谋深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028280" y="4219560"/>
            <a:ext cx="667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936080" y="2104920"/>
            <a:ext cx="456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聪明反被聪明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聪慧机智知识渊博，可谓英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恃才放旷目中无人，终尝苦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为人不可恃才放旷，做事定要三思而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没有宽容就没有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714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2591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通过学习这篇文章，你在为人处世方面有什么感想和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拓展迁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布置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8380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请阅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国演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关曹操的故事，写一篇不少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6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字的文章，参考题目如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①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我眼中的曹操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②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曹操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奸人也？英雄也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一代枭雄曹操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④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读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三国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看曹操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⑤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由杨修之死评曹操的用人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7924680" y="5791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播放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3725230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2562120" y="476280"/>
            <a:ext cx="3594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暗淡了刀光剑影，远去了鼓角争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眼前飞扬着一个个鲜活的面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湮没了荒城古道，荒芜了烽火边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岁月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你带不走那一串串熟悉的姓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兴亡谁人定啊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盛衰岂无凭啊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一夜风云散哪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变幻了时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聚散皆是缘啊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离合总关情啊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担当生前事啊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何计身后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长江有意化作泪，长江有情起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历史的天空闪烁几颗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人间一股英雄气在驰骋纵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、能复述七个小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、探讨杨修之死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、分析杨修、曹操的性格特  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、学习通过故事展现人物性格的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9"/>
          <p:cNvPicPr/>
          <p:nvPr/>
        </p:nvPicPr>
        <p:blipFill>
          <a:blip r:embed="rId1"/>
          <a:stretch/>
        </p:blipFill>
        <p:spPr>
          <a:xfrm>
            <a:off x="0" y="76320"/>
            <a:ext cx="3886200" cy="6781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429000" y="-76320"/>
            <a:ext cx="6095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　罗贯中，名本，字贯中，号湖海散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元末明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小说家。他广泛搜集相关平话、戏剧和传说，参考了陈寿的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三国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和裴松之的注，对三国故事进行了再创造，创作了我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第一部长篇章回体小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三国演义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罗贯中在这部巨著里，借叙述魏蜀吴三国征战的历史故事，对暴政作了抨击，提出了自己鲜明的政治理想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仁政。这个观点形成了全书鲜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拥刘反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倾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0"/>
            <a:ext cx="68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楷体_GB2312"/>
              </a:rPr>
              <a:t>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背景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　　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杨修之死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选自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三国演义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第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7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回，故事发生在曹操、刘备两个军事集团争夺汉中之地最为激烈的时候。当时诸葛亮已智取汉中，曹操屡屡受挫，又不甘心失败，只好退兵斜谷口，以待时机。但终因蜀兵积极防守，难以进取。“杨修之死“的故事就是在这样的背景下发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ms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检查字、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夜间口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行军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主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簿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杨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原来杨修为人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恃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才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  <a:ea typeface="楷体_GB2312"/>
              </a:rPr>
              <a:t>放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犯曹操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竟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与众分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惊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乃用大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藏吴质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操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疑修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谮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害曹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弓搭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延弃弓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599440" y="457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564880" y="1066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4100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ì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倚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775840" y="220968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uò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多次 屡次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944120" y="22096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ì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忌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563800" y="2819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7036920" y="28195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ì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5675400" y="3429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áng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假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727240" y="40384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ù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568764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146000" y="46483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è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诬陷中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6026040" y="51814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iā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用两三个手指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5602320" y="579132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āo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抓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"/>
              </a:rPr>
              <a:t>层次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3504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第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——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自然段 ）曹操焦虑战事，以惑乱军心为名，处死杨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0880" y="1219320"/>
            <a:ext cx="8458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顺叙是以“现在时态”正面讲述故事的发生发展，一般是叙事的主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插叙是把时间闪回到过去，补充一些情节，给“顺叙”提供背景或强化其合理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2666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熟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5334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第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0——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自然段 ）曹操强行进兵失败，厚葬杨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45720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第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4——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自然段 ）插叙杨修之死原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4120" y="2101680"/>
            <a:ext cx="266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新宋体"/>
              </a:rPr>
              <a:t>惑乱军心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038480" y="2819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没有这一事件，曹操是不是就不会杀杨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1148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杨修为人恃才放旷，  数犯曹操之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杨修之死1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3995640" y="533520"/>
            <a:ext cx="5148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深入阅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１、杨修为什么会命赴黄泉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杨修犯曹操之忌的哪几件事？在这些事中，杨修表现如何，曹操态度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1600200"/>
          <a:ext cx="8839080" cy="5127480"/>
        </p:xfrm>
        <a:graphic>
          <a:graphicData uri="http://schemas.openxmlformats.org/drawingml/2006/table">
            <a:tbl>
              <a:tblPr/>
              <a:tblGrid>
                <a:gridCol w="2057400"/>
                <a:gridCol w="3962520"/>
                <a:gridCol w="28191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杨修的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曹操的态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39"/>
          <p:cNvSpPr/>
          <p:nvPr/>
        </p:nvSpPr>
        <p:spPr>
          <a:xfrm>
            <a:off x="125280" y="23623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改造花园大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483480" y="312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分食塞北酥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45288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揭发</a:t>
            </a:r>
            <a:r>
              <a:rPr b="1" lang="zh-CN" sz="2400" spc="-1" strike="noStrike">
                <a:solidFill>
                  <a:srgbClr val="0000be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梦中杀人</a:t>
            </a:r>
            <a:r>
              <a:rPr b="1" lang="zh-CN" sz="2400" spc="-1" strike="noStrike">
                <a:solidFill>
                  <a:srgbClr val="0000be"/>
                </a:solidFill>
                <a:latin typeface="Times New Roman"/>
                <a:ea typeface="仿宋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483480" y="4648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告发曹丕密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48348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教曹植斩门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483480" y="6172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e"/>
                </a:solidFill>
                <a:latin typeface="仿宋_GB2312"/>
                <a:ea typeface="仿宋_GB2312"/>
              </a:rPr>
              <a:t>为曹植作答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2057400" y="3124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竟取匙与众分食讫     　　</a:t>
            </a:r>
            <a:r>
              <a:rPr b="1" lang="zh-CN" sz="2400" spc="-1" strike="noStrike">
                <a:solidFill>
                  <a:srgbClr val="208220"/>
                </a:solidFill>
                <a:latin typeface="Arial"/>
                <a:ea typeface="隶书"/>
              </a:rPr>
              <a:t>虽喜笑，而心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2174760" y="3902040"/>
            <a:ext cx="71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丞相非在梦中，君乃在梦中耳    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愈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2627280" y="46483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知其事，迳来告操    　　　 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愈恶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2590920" y="54864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君奉王命而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大怒，因此亦不喜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2362320" y="6172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尝为曹植作答教十余条 　　</a:t>
            </a:r>
            <a:r>
              <a:rPr b="1" lang="zh-CN" sz="2400" spc="-1" strike="noStrike">
                <a:solidFill>
                  <a:srgbClr val="208220"/>
                </a:solidFill>
                <a:latin typeface="宋体"/>
              </a:rPr>
              <a:t>大怒，已有杀修之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2057400" y="2362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丞相嫌园门阔耳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　　</a:t>
            </a:r>
            <a:r>
              <a:rPr b="1" lang="zh-CN" sz="2400" spc="-1" strike="noStrike">
                <a:solidFill>
                  <a:srgbClr val="208220"/>
                </a:solidFill>
                <a:latin typeface="隶书"/>
                <a:ea typeface="隶书"/>
              </a:rPr>
              <a:t>虽称美，心甚忌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0"/>
            <a:ext cx="7162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研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概括曹操、杨修的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C"/>
          <p:cNvPicPr/>
          <p:nvPr/>
        </p:nvPicPr>
        <p:blipFill>
          <a:blip r:embed="rId1"/>
          <a:stretch/>
        </p:blipFill>
        <p:spPr>
          <a:xfrm>
            <a:off x="0" y="1295280"/>
            <a:ext cx="4606920" cy="556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YANGX"/>
          <p:cNvPicPr/>
          <p:nvPr/>
        </p:nvPicPr>
        <p:blipFill>
          <a:blip r:embed="rId2"/>
          <a:stretch/>
        </p:blipFill>
        <p:spPr>
          <a:xfrm>
            <a:off x="4643280" y="1295280"/>
            <a:ext cx="450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2:23:42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2:23:57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  <property fmtid="{D5CDD505-2E9C-101B-9397-08002B2CF9AE}" pid="3" name="Version">
    <vt:r8>1</vt:r8>
  </property>
</Properties>
</file>