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7F1-6BF5-49CD-98DD-289396D2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31E-F03B-4B87-ACB8-5E83561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A11-3DA9-4C21-A106-76DCBC67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2E2-77CC-4AFE-9B56-31E127AF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C2D-05C2-4375-B3E0-3CF9534F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DF8-4E7B-41EC-9A38-EB622601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676-CDEE-4133-B839-E4682FB8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6AA-734E-4BEB-A010-C6139D1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5A4-F224-4F5E-87F0-5453B59E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769-6075-4273-95F6-AE2E969C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8A7-E45F-41F7-BBF7-4FF26B3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6A6-2E70-4AD3-B534-F174486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BD79-381B-426F-9C5B-26387A6EE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忆冼星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60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本文通过对冼星海的回忆，赞扬了冼星海高尚的情操、真挚的爱国情感和音乐的才华，表达了作者对这位人民音乐家的深切怀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忆冼星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68280"/>
            <a:ext cx="91440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1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作者在回忆冼星海的过程中，既写了想象中的冼星海，也写了冼星海留给他的印象。阅读文章，填写表格。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回忆想象                    印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听《黄河大合唱》               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读冼星海的自传                  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                              ③           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气魄伟大，好学深思，热爱祖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69000"/>
            <a:ext cx="9144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①魁梧奇伟，沉默寡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战胜了生活的坎坷，成就了伟大的抱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③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在西安与冼星海相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忆冼星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2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思考文章第四节作者“好奇”的原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28640"/>
            <a:ext cx="914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①听《黄河大合唱》之后，“发生崇高的情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能写出具有“伟大的气魄”作品的冼星海是怎样一个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57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3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作者在写与冼星海见面之前，先写了他想象中的冼星海，这样写有什么作用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4370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运用铺垫手法，使读者对冼星海有个全面深刻的了解，使冼星海的形象更加鲜明 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忆冼星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68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4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作者在见到冼星海后，为什么“觉得很熟识，而也感到生疏”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4936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说熟识，是已从侧面对冼星海有了较全面较深刻的了解；说生疏，是过去还从未跟冼星海见过面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357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5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作者在倒数第三段写：“昨晚我忽然这样想……”倒数第二段又说：“现在我还是这样想……”这些内容表达了作者怎样的感情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5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表现了作者极度的惋惜、哀痛和思念之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忆冼星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810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6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读第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自然段，作者回忆这些往事的目的何在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00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6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作者撷取了几个生活镜头，刻画了冼星海坚强的意志和伟大的气魄，也表达了作者对人民音乐家冼星海的崇敬和怀念之情。在漫漫人生旅途中，冼星海积极的生活态度与人格魅力如一盏明灯，为作者，也为我们照亮了前程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7336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7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作者在结尾处说：“只要我神智还没昏迷，他永远活着。”你认为应该怎样理解这句话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这是对“一个生龙活虎般的具有伟大气魄”，“抱有崇高理想的冼星海”的高度肯定，说明冼星海将永远活在作者的心中，同样也活在诸多读者的心中。一个具有非凡的音乐才能、具有伟大气魄、抱有崇高理想的冼星海将永垂不朽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忆冼星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6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8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对冼星海之死，作者表现出了无限的伤悲之痛，作者是怎样表述这种情感的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9162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8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作者以写两人的唯一一次见面，并听到他的创作计划，然而他却不能回来了，来表现自己的伤悲。接着，作者又通过“我在写这小文的时候还觉得我是在做恶梦”，“我看到报上的消息时，我半晌说不出话”，“这样一个人，怎么就死了”这些带有极强感情色彩的语句，抒发了对冼星海之死的悲伤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365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9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思考文章开头“冼星海是怎样一个人那？”这句话的用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157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构成悬念，吸引读者与作者一起勾勒主人公的形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忆冼星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52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10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品位“老觉得有什么东西在心里抓，痒痒的又舒服又难受”，“就像灵魂洗过澡似的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2050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1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形象地表现出音乐给人的精神洗礼和情绪感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68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Q11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：文章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6—11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段表达了我怎么样的情感，是靠什么表达出来的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292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A1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：以“我”的“不能赞一词”和“记不全”来反面衬托；又以“兴奋鼓舞”正面烘托表达自己的感奋和敬佩之情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3:21:17Z</dcterms:created>
  <dc:creator>walkinnet</dc:creator>
  <dc:description/>
  <dc:language>en-US</dc:language>
  <cp:lastModifiedBy>walkinnet</cp:lastModifiedBy>
  <dcterms:modified xsi:type="dcterms:W3CDTF">2011-03-27T13:50:14Z</dcterms:modified>
  <cp:revision>2</cp:revision>
  <dc:subject/>
  <dc:title>忆冼星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