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6.gif" ContentType="image/gif"/>
  <Override PartName="/ppt/media/image14.gif" ContentType="image/gif"/>
  <Override PartName="/ppt/media/image27.gif" ContentType="image/gif"/>
  <Override PartName="/ppt/media/image28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4.png" ContentType="image/png"/>
  <Override PartName="/ppt/media/image26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5.jpeg" ContentType="image/jpeg"/>
  <Override PartName="/ppt/media/image15.gif" ContentType="image/gif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1.jpeg" ContentType="image/jpeg"/>
  <Override PartName="/ppt/media/image43.jpeg" ContentType="image/jpeg"/>
  <Override PartName="/ppt/media/image46.jpeg" ContentType="image/jpeg"/>
  <Override PartName="/ppt/media/image30.jpeg" ContentType="image/jpeg"/>
  <Override PartName="/ppt/media/image24.jpeg" ContentType="image/jpeg"/>
  <Override PartName="/ppt/media/image47.jpeg" ContentType="image/jpeg"/>
  <Override PartName="/ppt/media/image32.jpeg" ContentType="image/jpeg"/>
  <Override PartName="/ppt/media/image49.jpeg" ContentType="image/jpeg"/>
  <Override PartName="/ppt/media/image50.gif" ContentType="image/gif"/>
  <Override PartName="/ppt/media/image48.jpeg" ContentType="image/jpeg"/>
  <Override PartName="/ppt/media/image13.gif" ContentType="image/gif"/>
  <Override PartName="/ppt/media/image3.jpeg" ContentType="image/jpeg"/>
  <Override PartName="/ppt/media/image37.jpeg" ContentType="image/jpeg"/>
  <Override PartName="/ppt/media/image9.jpeg" ContentType="image/jpeg"/>
  <Override PartName="/ppt/media/image31.gif" ContentType="image/gif"/>
  <Override PartName="/ppt/media/image11.jpeg" ContentType="image/jpeg"/>
  <Override PartName="/ppt/media/image10.jpeg" ContentType="image/jpeg"/>
  <Override PartName="/ppt/media/image39.jpeg" ContentType="image/jpeg"/>
  <Override PartName="/ppt/media/image45.gif" ContentType="image/gif"/>
  <Override PartName="/ppt/media/image8.jpeg" ContentType="image/jpeg"/>
  <Override PartName="/ppt/media/image29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40F2-BD25-494B-A4A3-8608F3F0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E66-02BD-4010-8B01-2F6AD84D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4B5A6-C286-4558-895E-DFA00690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AD72E-12EB-4EAB-B418-AF02C642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AB7511-0982-433A-9FFD-153EFABCF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DCD7D-E971-43CA-A541-A8E5736F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CF644-1197-4CD3-A06D-1DE552EF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5971A-A97B-4D88-8788-774AE38A5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AE529-2704-453D-B08D-63E2E927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ACA79-B23E-418B-B067-93BE2107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12BC8-BE93-42FF-AEF7-E60030D6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552B3-9D6D-4E5B-A8C2-FDDB3D5E4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943-1840-4331-A3B6-31BDC4B35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6B7B42-AAB3-4299-8860-C8F8AEB4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DD3CD-48DC-4E64-9063-2D4A42EB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49ED0-B66C-49BD-99BE-04787D7E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9859B-BF26-42BC-9167-ACBA1766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9A6E6-923B-4DE4-B54A-C52F100D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B39E7-ACB1-4039-8F47-6B6C3535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793E9F-DD13-473C-82CC-5E3399E6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BA026-43FA-4E39-B6FD-1C0B02E0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48008-62B4-413D-8813-B6534EF9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17AF2-81F2-4E6A-9AC1-5B20E51D7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9894-D527-43D2-BE1B-C9DE9974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DEABC-856A-477F-A4FB-02CC6D31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BA4E5-6024-4477-B0E9-F415E9CB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A6067-5392-4481-BF18-89B792D4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A8DD4-C900-4C5B-9BDA-095A647C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3E1F5-A9AC-450D-86EA-AE0E3D73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129CF-B9CF-4BC4-BCC9-B5DAA049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A316CF-7232-42D5-AE56-DA86CB19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58CB6-16AF-43E3-AEC9-6A5EB933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479D4-41F7-483F-A826-DA61F660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E20CD-EC33-4E11-9504-CFC80B6D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AB33-2CE8-4A20-8D63-DDD3B4B7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C9726-64B6-483D-93D5-A8E204F8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5B7D8-1221-47C6-A6B6-340B5C27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43094-822A-4012-8961-CDFC0C7B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5C979-FC49-41FD-BFF5-3FDE34CB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7318B-4A44-45E3-9829-975531168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6C472-FFC7-4B59-B601-CD81DF1B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D11D1-61A2-4FE4-B7A1-9650B48B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D5E242-5A28-45B6-AA5F-559913F2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DB1E8-7D0B-4C49-B29C-631B17EF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A1D4F8-32DB-438C-8636-3207E902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5E68C-ECD9-493F-9267-80B81C9C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E2539-95D4-46D1-A35E-C3F24EF9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94991-A634-48D7-8803-86371254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9794F6-363E-4A2A-B0AD-CA1CE74A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AF2254-30CF-4D41-B71D-A4B37BFE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D2AE4-F005-4E32-831A-EE523215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6A877-9B45-4711-9D7D-38719EC2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1EDE7C-00A7-40A1-927C-D831C7937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F73130-7206-4DBE-BDF7-CAE1012C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09EE9B-764B-4090-BE85-773CDDC7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8ECAF1-C24D-4E26-8D24-216D3471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E902-19C0-4992-A73C-A6453227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D1C4E0-5FB3-46AE-B3A5-7001C584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02E38C-45C9-46FF-ADDE-40173769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CB7B7-598C-49D9-A799-C7EA0D4A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21A36-4362-4CE9-8F82-F7A003FB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244EC-08F1-4987-B1DA-D4D47DF2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E97BC-D04E-4AC9-A4CC-DB0CF407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1AFCB-FF30-4F05-B2CD-160C62A5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56AAE2-E6C9-456D-8143-A63179EB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98CE50-5857-438F-AA13-989F6A18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B786F5-D23E-45EC-B764-04034661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5230-9209-41EB-B5D8-16ABDE23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45F0A9-0442-4026-BD77-AC547765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A5B3C7-129A-427D-9082-E9B61CF2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4D2038-5937-4E92-BA32-53CD3C1BA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5E8E6A-FA43-47DF-A974-671F068E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595426-01FB-4881-A792-13999725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298910-90F0-4136-AADD-902BFE75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7229AA-3442-4E1B-BFDE-103F3BB6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4C00CE-17EC-446B-8EE3-7E781BA4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9B0308-EC0B-4433-A40B-24EAA020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D538-0DAB-421C-8C4F-3C1D3EE3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5071-1B6D-4971-AB07-527D438C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4751-E70C-4F24-92CE-8BE7B0AC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68DD-96B0-49A5-BB54-90F7C162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63CA-A7B6-44E3-A547-6B7E77DC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85AE3-D3EE-400F-A928-CE9AC1D7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5AA2-1F6F-4B64-AEFE-CC9C3CA7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A5B8-D44D-4E7D-AC8F-D9616C5E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85A4-CA0F-4A2B-AAD5-3BAF0CBE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320E2-42D1-4702-B61A-6FF4D976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33212-6502-49E6-A031-15DC17F0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D5E10-6D31-425B-B185-2B9C6A8E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4C0BF-25C6-4062-985E-45E6FC5B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435D1-03CF-4310-9B2D-4C81A648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349-31E2-47D7-859B-A807F2E5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8C33D-C1AE-4722-95CB-D86B4C2F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F6DE4-A433-449E-AF2D-A60B5477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958AC-B626-4C22-BBFD-4A870347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890FF-54CD-4173-A8AA-E5D4A94F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C4175-1601-4839-98FF-8904AB46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7324E-70A5-43E3-85B1-B219132BD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E31A7-483B-492A-8ED1-6D60B326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92EF8-5D11-4C85-AEB5-BCE63DCD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FF5E9-9556-4174-90D4-BC207D5F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73692-2B2D-4EAC-991A-044010D9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200-5C4A-404A-9987-224A7B10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30E4F-BF13-43AE-9AD6-A1386D43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EFA1A-4CF5-41CA-AE9C-61AEB9B2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B8A8C-3719-4440-B4A5-D6E0E751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C5233-00C4-4B04-B105-DA9301C5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4AD74-EC49-45F0-B0FA-BD8F03DA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D7F54-D950-4CF3-9EDB-6CAA3555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0D2C5-82AF-4214-A1D7-FA70F109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4D57E-4720-47B5-B1C7-FF1D3DB3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FBBCE-EEE1-4C9D-9DBC-49699D98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20156-F161-4CDD-B835-89254043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285-B0E0-4EA3-9420-805D3AF0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E72E4-7584-405F-9597-4483AED9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314F6-B7AA-400B-8D45-8FBE4611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A810D-C2C4-4102-AC5C-F52C3F22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B5921-0D4E-4BDD-B285-7C5EFB07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03680-E45C-4A68-A964-483DDD25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EA477-B819-4AAB-9D01-1DF59DC3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F047E-010C-43A5-85DC-6D817C2A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6B13B-09ED-4EFA-B374-C3FBAC02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5EBCE-6A90-40AB-8172-58F7C563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A3672-AF72-4A48-AB25-70A58196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DC2F-BE58-41DA-8854-4CE201A7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46DE7-B5DB-40E7-9E1C-803353C52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9EE99-D4D4-422D-A0A0-B20EE8CC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C055B-8AE6-4938-8201-2E99B97D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22146-182C-4D95-8530-3ABA3E75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B9282-A54E-499A-8CFD-42AAC4A7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AD1C2-D854-4CBA-8409-A2FECE7D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1D913-8191-486E-834A-A449C8C1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04146-8764-4923-9EBE-D88AB218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ED5CC-8712-43A8-BD9B-796E1351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66C2B-D4E2-4EED-89B6-F6579B4F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373-CD05-4262-A80F-EFF1C9EC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D388E-2225-44DD-9AFE-C6405896F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F2685-14CF-48AC-9E7A-770BC4115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824C4-8DC3-426D-8F60-246FAC33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5AEEE-3D3D-47CA-8028-63E49ADCB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388EE-BBD5-4C7B-9574-6E84241BF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CC787-F2AC-4873-8EEE-191042D8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87BB2-39CC-409C-8874-88AAB3E0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44C545-D7C0-4F07-B6B2-26695942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72B3D-65A7-4EA8-A2D4-6E9EC77C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0793C-8739-4ECE-B42B-44D2CCFF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0E36-5F0D-4335-B5C1-293DF5D2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B161B-6548-4B76-9E80-FEE6BA2E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B9BF5C-6B05-4D16-BBDD-6810576A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1E58D-79C6-44A9-B357-73D3F54C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26605-D80C-4614-B96B-BCD632872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E714C-3778-4A0D-B864-D6AB1B62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8C96C1-5B62-431F-B7CB-0BA7729E8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8CA21D-0F82-476A-97D2-E4275592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9366F8-EE1F-4582-A48C-9D21BF6C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CC300A-EF44-4A9B-ACE2-117225C0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D99057-CC82-4A07-927B-42FBBB5A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2EFC-4C6B-4EFA-B887-2EB945D4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2C2199-50F5-4C98-8754-ED2F2A35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CCF691-A40B-4B29-9AB8-EC404061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4B30CE-DD55-4C77-99F2-CC85D993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CAD616-D5C9-4F24-8E87-1BF18D62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B31E9D-F3B6-4762-8FCE-FE4AD011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1FEA59-B1AB-44D2-BA70-1CB52F16C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AC6522-4B00-4BBC-AA0C-AA184E4D3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9BE07-AA2E-40A9-A7D0-FEF5A48FB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368E3-A35C-4756-B3FA-BA99848C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E5548E-40A1-49C6-9588-F64100A8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31D5-4533-4E74-8106-A088E73C90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45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46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47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48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49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50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51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52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53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54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55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56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57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58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59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60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61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62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63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64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65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66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67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69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70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71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72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73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74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75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76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77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578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8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9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8817-4351-43FA-9660-462A84859F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621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22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623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</p:grpSp>
        <p:grpSp>
          <p:nvGrpSpPr>
            <p:cNvPr id="624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625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2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2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8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29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30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31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2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3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34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5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6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37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38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39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4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1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4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4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46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4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48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49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0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1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52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3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4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55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6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57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58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59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0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61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2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3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64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5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67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9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7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1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2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73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4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5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76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7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8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7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0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1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82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3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4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85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88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91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693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4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695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96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7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8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99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0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01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02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3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04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05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6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07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08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09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10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11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2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13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14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5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16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17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18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19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20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21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22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23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24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725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26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727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i="1" lang="en-US" sz="3600" spc="-1" strike="noStrike">
                        <a:solidFill>
                          <a:srgbClr val="0000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728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729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730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2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3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5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6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737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3600" spc="-1" strike="noStrike">
                    <a:solidFill>
                      <a:srgbClr val="0000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38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739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740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741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742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743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744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745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746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747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748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749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750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751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752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</p:grpSp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864A-EC6A-4626-BE2E-84DDB0D2831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3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3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3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9C47-0DF1-4215-9C41-1E4D07DA7A29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F5B7-AA0B-42D5-B57D-810F0DAEFCF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7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ftr" idx="41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F528-EECE-4F7C-83FC-B6B3A1E1F67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9C33-A205-4695-8D0A-96A98EEC048C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8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10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10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10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1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1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1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11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11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11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11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11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  <p:sp>
          <p:nvSpPr>
            <p:cNvPr id="11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0000ff"/>
                </a:solidFill>
                <a:latin typeface="Tahoma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C179-3C3E-46D7-8899-76ED38D09F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5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6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161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</p:grpSp>
        <p:grpSp>
          <p:nvGrpSpPr>
            <p:cNvPr id="16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6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164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</p:grpSp>
        <p:grpSp>
          <p:nvGrpSpPr>
            <p:cNvPr id="16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6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167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</p:grpSp>
        <p:grpSp>
          <p:nvGrpSpPr>
            <p:cNvPr id="168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6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7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ff"/>
                    </a:solidFill>
                    <a:latin typeface="Tahoma"/>
                  </a:endParaRPr>
                </a:p>
              </p:txBody>
            </p:sp>
            <p:sp>
              <p:nvSpPr>
                <p:cNvPr id="171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3600" spc="-1" strike="noStrike">
                    <a:solidFill>
                      <a:srgbClr val="0000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72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73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74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77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9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80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2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83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4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5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86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8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89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1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92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3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4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95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7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98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9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0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01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3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04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6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07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8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9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10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2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13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4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5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16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7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8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19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1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22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3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4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25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7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28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0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31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2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3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34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3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i="1" lang="en-US" sz="3600" spc="-1" strike="noStrike">
                    <a:solidFill>
                      <a:srgbClr val="0000ff"/>
                    </a:solidFill>
                    <a:latin typeface="Tahoma"/>
                  </a:endParaRPr>
                </a:p>
              </p:txBody>
            </p:sp>
            <p:sp>
              <p:nvSpPr>
                <p:cNvPr id="237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i="1" lang="en-US" sz="3600" spc="-1" strike="noStrike">
                    <a:solidFill>
                      <a:srgbClr val="0000ff"/>
                    </a:solidFill>
                    <a:latin typeface="Tahoma"/>
                  </a:endParaRPr>
                </a:p>
              </p:txBody>
            </p:sp>
            <p:grpSp>
              <p:nvGrpSpPr>
                <p:cNvPr id="238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39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1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42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4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45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6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7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48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9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0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51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2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3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54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5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6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57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8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9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60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1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2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63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4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5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66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7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8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69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0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i="1" lang="en-US" sz="3600" spc="-1" strike="noStrike">
                      <a:solidFill>
                        <a:srgbClr val="0000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271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272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27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274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275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27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277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278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279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280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281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28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283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284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285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286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28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28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289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290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291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  <p:sp>
            <p:nvSpPr>
              <p:cNvPr id="292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3600" spc="-1" strike="noStrike">
                  <a:solidFill>
                    <a:srgbClr val="0000ff"/>
                  </a:solidFill>
                  <a:latin typeface="Tahoma"/>
                </a:endParaRPr>
              </a:p>
            </p:txBody>
          </p:sp>
        </p:grp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53BE-DFCC-40F5-975E-8EDC72AEDD6A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131C-2CCE-4852-8733-4061DCE43A67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7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7991-5A08-48A5-8F8C-EE2A196117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DF1A-230D-4686-8432-3A52FD1D8CD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2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5592-2B33-4C4A-88FD-78449F4B63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3812-B8CF-4CCC-B32B-878BF49DA4F2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5.gif"/><Relationship Id="rId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4.gif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Picture 6" descr="未命名"/>
          <p:cNvPicPr/>
          <p:nvPr/>
        </p:nvPicPr>
        <p:blipFill>
          <a:blip r:embed="rId1"/>
          <a:stretch/>
        </p:blipFill>
        <p:spPr>
          <a:xfrm>
            <a:off x="5508720" y="0"/>
            <a:ext cx="3635280" cy="6858000"/>
          </a:xfrm>
          <a:prstGeom prst="rect">
            <a:avLst/>
          </a:prstGeom>
          <a:ln w="0">
            <a:noFill/>
          </a:ln>
        </p:spPr>
      </p:pic>
      <p:sp>
        <p:nvSpPr>
          <p:cNvPr id="921" name="WordArt 7"/>
          <p:cNvSpPr txBox="1"/>
          <p:nvPr/>
        </p:nvSpPr>
        <p:spPr>
          <a:xfrm rot="5400000">
            <a:off x="6713280" y="1971720"/>
            <a:ext cx="2592720" cy="9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66">
                    <a:alpha val="47000"/>
                  </a:srgbClr>
                </a:solidFill>
                <a:latin typeface="华文彩云"/>
              </a:rPr>
              <a:t>雨  巷</a:t>
            </a:r>
            <a:endParaRPr b="0" i="1" lang="en-US" sz="36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66">
                  <a:alpha val="47000"/>
                </a:srgbClr>
              </a:solidFill>
              <a:latin typeface="华文彩云"/>
              <a:ea typeface="华文彩云"/>
            </a:endParaRPr>
          </a:p>
        </p:txBody>
      </p:sp>
      <p:sp>
        <p:nvSpPr>
          <p:cNvPr id="922" name="WordArt 8"/>
          <p:cNvSpPr txBox="1"/>
          <p:nvPr/>
        </p:nvSpPr>
        <p:spPr>
          <a:xfrm rot="5400000">
            <a:off x="6119640" y="4401720"/>
            <a:ext cx="2089080" cy="43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1" strike="noStrike">
                <a:ln w="12600">
                  <a:solidFill>
                    <a:srgbClr val="dbbd71"/>
                  </a:solidFill>
                  <a:miter/>
                </a:ln>
                <a:solidFill>
                  <a:srgbClr val="f8a500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华文新魏"/>
              </a:rPr>
              <a:t>戴望舒</a:t>
            </a:r>
            <a:endParaRPr b="0" i="1" lang="en-US" sz="3600" spc="1" strike="noStrike">
              <a:ln w="12600">
                <a:solidFill>
                  <a:srgbClr val="dbbd71"/>
                </a:solidFill>
                <a:miter/>
              </a:ln>
              <a:solidFill>
                <a:srgbClr val="f8a500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Picture 2" descr="dxh6"/>
          <p:cNvPicPr/>
          <p:nvPr/>
        </p:nvPicPr>
        <p:blipFill>
          <a:blip r:embed="rId1"/>
          <a:stretch/>
        </p:blipFill>
        <p:spPr>
          <a:xfrm>
            <a:off x="0" y="-27000"/>
            <a:ext cx="3132000" cy="68850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3" descr="dxh3"/>
          <p:cNvPicPr/>
          <p:nvPr/>
        </p:nvPicPr>
        <p:blipFill>
          <a:blip r:embed="rId2"/>
          <a:stretch/>
        </p:blipFill>
        <p:spPr>
          <a:xfrm>
            <a:off x="5867280" y="1440"/>
            <a:ext cx="3276720" cy="6856560"/>
          </a:xfrm>
          <a:prstGeom prst="rect">
            <a:avLst/>
          </a:prstGeom>
          <a:ln w="0">
            <a:noFill/>
          </a:ln>
        </p:spPr>
      </p:pic>
      <p:sp>
        <p:nvSpPr>
          <p:cNvPr id="962" name="Text Box 9"/>
          <p:cNvSpPr/>
          <p:nvPr/>
        </p:nvSpPr>
        <p:spPr>
          <a:xfrm>
            <a:off x="4982760" y="0"/>
            <a:ext cx="911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丁香形状象结，开在暮春时节，开花为淡紫色或白色 。</a:t>
            </a:r>
            <a:endParaRPr b="0" i="1" lang="en-US" sz="4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63" name="Text Box 10"/>
          <p:cNvSpPr/>
          <p:nvPr/>
        </p:nvSpPr>
        <p:spPr>
          <a:xfrm>
            <a:off x="2674440" y="1125360"/>
            <a:ext cx="182628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文人墨客反复呤咏</a:t>
            </a:r>
            <a:endParaRPr b="0" i="1" lang="en-US" sz="54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2" descr="dxh"/>
          <p:cNvPicPr/>
          <p:nvPr/>
        </p:nvPicPr>
        <p:blipFill>
          <a:blip r:embed="rId1"/>
          <a:stretch/>
        </p:blipFill>
        <p:spPr>
          <a:xfrm>
            <a:off x="0" y="0"/>
            <a:ext cx="9828360" cy="6858000"/>
          </a:xfrm>
          <a:prstGeom prst="rect">
            <a:avLst/>
          </a:prstGeom>
          <a:ln w="0">
            <a:noFill/>
          </a:ln>
        </p:spPr>
      </p:pic>
      <p:sp>
        <p:nvSpPr>
          <p:cNvPr id="965" name="Text Box 11"/>
          <p:cNvSpPr/>
          <p:nvPr/>
        </p:nvSpPr>
        <p:spPr>
          <a:xfrm>
            <a:off x="-198360" y="1844640"/>
            <a:ext cx="3105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芭蕉不展丁香结，</a:t>
            </a:r>
            <a:endParaRPr b="0" i="1" lang="en-US" sz="4800" spc="-1" strike="noStrike">
              <a:solidFill>
                <a:srgbClr val="0000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同向春风各自愁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66" name="Text Box 12"/>
          <p:cNvSpPr/>
          <p:nvPr/>
        </p:nvSpPr>
        <p:spPr>
          <a:xfrm flipH="1">
            <a:off x="-137880" y="4221000"/>
            <a:ext cx="13993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李商隐 </a:t>
            </a:r>
            <a:endParaRPr b="0" i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4" descr="dxh4"/>
          <p:cNvPicPr/>
          <p:nvPr/>
        </p:nvPicPr>
        <p:blipFill>
          <a:blip r:embed="rId1"/>
          <a:stretch/>
        </p:blipFill>
        <p:spPr>
          <a:xfrm>
            <a:off x="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968" name="Text Box 5"/>
          <p:cNvSpPr/>
          <p:nvPr/>
        </p:nvSpPr>
        <p:spPr>
          <a:xfrm>
            <a:off x="3816360" y="404640"/>
            <a:ext cx="505476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      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《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摊破浣溪沙</a:t>
            </a: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》</a:t>
            </a:r>
            <a:endParaRPr b="0" i="1" lang="en-US" sz="3200" spc="-1" strike="noStrike">
              <a:solidFill>
                <a:srgbClr val="0000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ahoma"/>
              </a:rPr>
              <a:t>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李憬 </a:t>
            </a:r>
            <a:endParaRPr b="0" i="1" lang="en-US" sz="3200" spc="-1" strike="noStrike">
              <a:solidFill>
                <a:srgbClr val="0000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   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手卷真珠上玉钩，依前春恨锁重楼</a:t>
            </a:r>
            <a:endParaRPr b="0" i="1" lang="en-US" sz="3200" spc="-1" strike="noStrike">
              <a:solidFill>
                <a:srgbClr val="0000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   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风里落花谁是主，思悠悠</a:t>
            </a:r>
            <a:endParaRPr b="0" i="1" lang="en-US" sz="3200" spc="-1" strike="noStrike">
              <a:solidFill>
                <a:srgbClr val="0000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  </a:t>
            </a:r>
            <a:r>
              <a:rPr b="0" lang="zh-CN" sz="3200" spc="-1" strike="noStrike">
                <a:solidFill>
                  <a:srgbClr val="ff3399"/>
                </a:solidFill>
                <a:latin typeface="Tahoma"/>
              </a:rPr>
              <a:t> </a:t>
            </a:r>
            <a:r>
              <a:rPr b="0" lang="zh-CN" sz="3200" spc="-1" strike="noStrike">
                <a:solidFill>
                  <a:srgbClr val="ff3399"/>
                </a:solidFill>
                <a:latin typeface="Tahoma"/>
              </a:rPr>
              <a:t>青鸟不传云外信，丁香空结雨中愁</a:t>
            </a:r>
            <a:endParaRPr b="0" i="1" lang="en-US" sz="3200" spc="-1" strike="noStrike">
              <a:solidFill>
                <a:srgbClr val="0000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    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回首碧波三峡望，接天流</a:t>
            </a:r>
            <a:endParaRPr b="0" i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2" descr="dxh5"/>
          <p:cNvPicPr/>
          <p:nvPr/>
        </p:nvPicPr>
        <p:blipFill>
          <a:blip r:embed="rId1"/>
          <a:stretch/>
        </p:blipFill>
        <p:spPr>
          <a:xfrm>
            <a:off x="0" y="-1440"/>
            <a:ext cx="4572000" cy="68594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3" descr="dxh2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4"/>
          <p:cNvSpPr/>
          <p:nvPr/>
        </p:nvSpPr>
        <p:spPr>
          <a:xfrm>
            <a:off x="324000" y="3213000"/>
            <a:ext cx="165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美丽</a:t>
            </a:r>
            <a:endParaRPr b="0" i="1" lang="en-US" sz="5400" spc="-1" strike="noStrike">
              <a:solidFill>
                <a:srgbClr val="0000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高洁</a:t>
            </a:r>
            <a:endParaRPr b="0" i="1" lang="en-US" sz="5400" spc="-1" strike="noStrike">
              <a:solidFill>
                <a:srgbClr val="0000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愁品</a:t>
            </a:r>
            <a:endParaRPr b="0" i="1" lang="en-US" sz="5400" spc="-1" strike="noStrike">
              <a:solidFill>
                <a:srgbClr val="0000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ahoma"/>
              </a:rPr>
              <a:t>怨品 </a:t>
            </a:r>
            <a:endParaRPr b="0" i="1" lang="en-US" sz="5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938480" y="79246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、愁</a:t>
            </a:r>
            <a:endParaRPr b="0" i="1" lang="en-US" sz="1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WordArt 6"/>
          <p:cNvSpPr txBox="1"/>
          <p:nvPr/>
        </p:nvSpPr>
        <p:spPr>
          <a:xfrm rot="5793000">
            <a:off x="5591160" y="2984760"/>
            <a:ext cx="4467240" cy="1033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cc0066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丁香一样的姑娘 </a:t>
            </a:r>
            <a:endParaRPr b="0" i="1" lang="en-US" sz="3600" spc="1" strike="noStrike">
              <a:ln w="9360">
                <a:solidFill>
                  <a:srgbClr val="0033cc"/>
                </a:solidFill>
                <a:miter/>
              </a:ln>
              <a:solidFill>
                <a:srgbClr val="cc0066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74" name="Picture 7" descr="思考"/>
          <p:cNvPicPr/>
          <p:nvPr/>
        </p:nvPicPr>
        <p:blipFill>
          <a:blip r:embed="rId1"/>
          <a:stretch/>
        </p:blipFill>
        <p:spPr>
          <a:xfrm>
            <a:off x="250920" y="404640"/>
            <a:ext cx="1649160" cy="15843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8" descr="丁香般 的姑娘"/>
          <p:cNvPicPr/>
          <p:nvPr/>
        </p:nvPicPr>
        <p:blipFill>
          <a:blip r:embed="rId2"/>
          <a:stretch/>
        </p:blipFill>
        <p:spPr>
          <a:xfrm>
            <a:off x="1763640" y="0"/>
            <a:ext cx="5400720" cy="6858000"/>
          </a:xfrm>
          <a:prstGeom prst="rect">
            <a:avLst/>
          </a:prstGeom>
          <a:ln w="0">
            <a:noFill/>
          </a:ln>
        </p:spPr>
      </p:pic>
      <p:sp>
        <p:nvSpPr>
          <p:cNvPr id="976" name="Text Box 9"/>
          <p:cNvSpPr/>
          <p:nvPr/>
        </p:nvSpPr>
        <p:spPr>
          <a:xfrm>
            <a:off x="0" y="2492280"/>
            <a:ext cx="18352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Tahoma"/>
              </a:rPr>
              <a:t>纤弱</a:t>
            </a: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Tahoma"/>
              </a:rPr>
              <a:t>优雅</a:t>
            </a: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Tahoma"/>
              </a:rPr>
              <a:t>忧郁</a:t>
            </a: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Tahoma"/>
              </a:rPr>
              <a:t>楚楚动人</a:t>
            </a:r>
            <a:endParaRPr b="0" i="1" lang="en-US" sz="3200" spc="-1" strike="noStrike">
              <a:solidFill>
                <a:srgbClr val="0000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0000ff"/>
                </a:solidFill>
                <a:latin typeface="Tahoma"/>
              </a:rPr>
              <a:t>若人爱怜</a:t>
            </a:r>
            <a:endParaRPr b="0" i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9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9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Picture 3" descr="U683P138T3D31013F56DT20050325145403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4" descr="古代油纸雨伞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  <p:sp>
        <p:nvSpPr>
          <p:cNvPr id="979" name="Text Box 8"/>
          <p:cNvSpPr/>
          <p:nvPr/>
        </p:nvSpPr>
        <p:spPr>
          <a:xfrm>
            <a:off x="3139200" y="3860640"/>
            <a:ext cx="2009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6633"/>
                </a:solidFill>
                <a:latin typeface="隶书"/>
                <a:ea typeface="隶书"/>
              </a:rPr>
              <a:t>古典 </a:t>
            </a:r>
            <a:endParaRPr b="0" i="1" lang="en-US" sz="60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6" descr="246"/>
          <p:cNvPicPr/>
          <p:nvPr/>
        </p:nvPicPr>
        <p:blipFill>
          <a:blip r:embed="rId1"/>
          <a:stretch/>
        </p:blipFill>
        <p:spPr>
          <a:xfrm>
            <a:off x="0" y="0"/>
            <a:ext cx="4427640" cy="65246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7" descr="20061148143997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982" name="Text Box 8"/>
          <p:cNvSpPr/>
          <p:nvPr/>
        </p:nvSpPr>
        <p:spPr>
          <a:xfrm>
            <a:off x="3756240" y="4125240"/>
            <a:ext cx="1277640" cy="27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cc"/>
                </a:solidFill>
                <a:latin typeface="Tahoma"/>
                <a:ea typeface="隶书"/>
              </a:rPr>
              <a:t>怀旧</a:t>
            </a:r>
            <a:r>
              <a:rPr b="0" lang="zh-CN" sz="60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0" i="1" lang="en-US" sz="60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8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4" descr="200512291453490"/>
          <p:cNvPicPr/>
          <p:nvPr/>
        </p:nvPicPr>
        <p:blipFill>
          <a:blip r:embed="rId1"/>
          <a:stretch/>
        </p:blipFill>
        <p:spPr>
          <a:xfrm>
            <a:off x="0" y="620640"/>
            <a:ext cx="5364000" cy="563724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7" descr="A058_0419myusan_008_500"/>
          <p:cNvPicPr/>
          <p:nvPr/>
        </p:nvPicPr>
        <p:blipFill>
          <a:blip r:embed="rId2"/>
          <a:stretch/>
        </p:blipFill>
        <p:spPr>
          <a:xfrm>
            <a:off x="5219640" y="0"/>
            <a:ext cx="3924360" cy="6858000"/>
          </a:xfrm>
          <a:prstGeom prst="rect">
            <a:avLst/>
          </a:prstGeom>
          <a:ln w="0">
            <a:noFill/>
          </a:ln>
        </p:spPr>
      </p:pic>
      <p:sp>
        <p:nvSpPr>
          <p:cNvPr id="985" name="Text Box 8"/>
          <p:cNvSpPr/>
          <p:nvPr/>
        </p:nvSpPr>
        <p:spPr>
          <a:xfrm>
            <a:off x="3712320" y="4301640"/>
            <a:ext cx="109476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6600"/>
                </a:solidFill>
                <a:latin typeface="方正姚体"/>
                <a:ea typeface="方正姚体"/>
              </a:rPr>
              <a:t>神秘</a:t>
            </a:r>
            <a:r>
              <a:rPr b="0" lang="zh-CN" sz="4000" spc="-1" strike="noStrike">
                <a:solidFill>
                  <a:srgbClr val="ff6600"/>
                </a:solidFill>
                <a:latin typeface="方正姚体"/>
                <a:ea typeface="方正姚体"/>
              </a:rPr>
              <a:t> </a:t>
            </a:r>
            <a:endParaRPr b="0" i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Picture 2" descr="u=2174570617,2110340725&amp;gp=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7" name="WordArt 5"/>
          <p:cNvSpPr txBox="1"/>
          <p:nvPr/>
        </p:nvSpPr>
        <p:spPr>
          <a:xfrm>
            <a:off x="900000" y="2637000"/>
            <a:ext cx="73152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1" strike="noStrike">
                <a:ln w="19080">
                  <a:solidFill>
                    <a:srgbClr val="c0ff73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自在飞花轻似梦，无边丝雨细如愁。</a:t>
            </a:r>
            <a:endParaRPr b="0" i="1" lang="en-US" sz="3600" spc="1" strike="noStrike">
              <a:ln w="19080">
                <a:solidFill>
                  <a:srgbClr val="c0ff73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88" name="WordArt 6"/>
          <p:cNvSpPr txBox="1"/>
          <p:nvPr/>
        </p:nvSpPr>
        <p:spPr>
          <a:xfrm>
            <a:off x="5651640" y="4149720"/>
            <a:ext cx="1800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1" strike="noStrike">
                <a:ln w="19080">
                  <a:solidFill>
                    <a:srgbClr val="c0ff73"/>
                  </a:solidFill>
                  <a:miter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方正姚体"/>
              </a:rPr>
              <a:t>秦观</a:t>
            </a:r>
            <a:endParaRPr b="0" i="1" lang="en-US" sz="3600" spc="1" strike="noStrike">
              <a:ln w="19080">
                <a:solidFill>
                  <a:srgbClr val="c0ff73"/>
                </a:solidFill>
                <a:miter/>
              </a:ln>
              <a:solidFill>
                <a:srgbClr val="00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方正姚体"/>
              <a:ea typeface="方正姚体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WordArt 3"/>
          <p:cNvSpPr txBox="1"/>
          <p:nvPr/>
        </p:nvSpPr>
        <p:spPr>
          <a:xfrm rot="5793000">
            <a:off x="5782320" y="2985120"/>
            <a:ext cx="4467240" cy="1033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丁香一样的姑娘 </a:t>
            </a:r>
            <a:endParaRPr b="0" i="1" lang="en-US" sz="3600" spc="1" strike="noStrike">
              <a:ln w="9360">
                <a:solidFill>
                  <a:srgbClr val="000000"/>
                </a:solidFill>
                <a:miter/>
              </a:ln>
              <a:solidFill>
                <a:srgbClr val="9966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90" name="Text Box 4"/>
          <p:cNvSpPr/>
          <p:nvPr/>
        </p:nvSpPr>
        <p:spPr>
          <a:xfrm>
            <a:off x="179280" y="242100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cc9900"/>
                </a:solidFill>
                <a:latin typeface="Tahoma"/>
              </a:rPr>
              <a:t>转瞬即逝的美好事物、美好回忆的寄托</a:t>
            </a:r>
            <a:r>
              <a:rPr b="0" lang="zh-CN" sz="4000" spc="-1" strike="noStrike">
                <a:solidFill>
                  <a:srgbClr val="cc9900"/>
                </a:solidFill>
                <a:latin typeface="Tahoma"/>
              </a:rPr>
              <a:t> 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zh-CN" sz="800" spc="-1" strike="noStrike">
                <a:solidFill>
                  <a:srgbClr val="ffffff"/>
                </a:solidFill>
                <a:latin typeface="Tahoma"/>
              </a:rPr>
              <a:t>来源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:Zxxk.Com]</a:t>
            </a:r>
            <a:endParaRPr b="0" i="1" lang="en-US" sz="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91" name="Text Box 5"/>
          <p:cNvSpPr/>
          <p:nvPr/>
        </p:nvSpPr>
        <p:spPr>
          <a:xfrm>
            <a:off x="954720" y="1293840"/>
            <a:ext cx="92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66"/>
                </a:solidFill>
                <a:latin typeface="Tahoma"/>
                <a:ea typeface="幼圆"/>
              </a:rPr>
              <a:t>象征</a:t>
            </a:r>
            <a:r>
              <a:rPr b="0" lang="zh-CN" sz="40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i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992" name="Picture 7" descr="丁香姑娘图片"/>
          <p:cNvPicPr/>
          <p:nvPr/>
        </p:nvPicPr>
        <p:blipFill>
          <a:blip r:embed="rId1"/>
          <a:stretch/>
        </p:blipFill>
        <p:spPr>
          <a:xfrm>
            <a:off x="3132000" y="260280"/>
            <a:ext cx="3143520" cy="59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2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Picture 5" descr="it"/>
          <p:cNvPicPr/>
          <p:nvPr/>
        </p:nvPicPr>
        <p:blipFill>
          <a:blip r:embed="rId1"/>
          <a:stretch/>
        </p:blipFill>
        <p:spPr>
          <a:xfrm>
            <a:off x="0" y="0"/>
            <a:ext cx="2827440" cy="6858000"/>
          </a:xfrm>
          <a:prstGeom prst="rect">
            <a:avLst/>
          </a:prstGeom>
          <a:ln w="0">
            <a:noFill/>
          </a:ln>
        </p:spPr>
      </p:pic>
      <p:sp>
        <p:nvSpPr>
          <p:cNvPr id="924" name="Rectangle 6"/>
          <p:cNvSpPr/>
          <p:nvPr/>
        </p:nvSpPr>
        <p:spPr>
          <a:xfrm>
            <a:off x="2916360" y="1708560"/>
            <a:ext cx="622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戴望舒，原名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戴朝实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又名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戴梦鸥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1905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年出生于杭州。早期诗歌多写个人的孤寂心境，感伤气息较重，因受西方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象征派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的影响，意象朦胧、含蓄。后期诗歌表现了热爱祖国、憎恨侵略者的强烈感情和对美好未来的热烈向往，诗风显的明朗、沉挚。</a:t>
            </a:r>
            <a:endParaRPr b="0" i="1" lang="en-US" sz="2800" spc="-1" strike="noStrike">
              <a:solidFill>
                <a:srgbClr val="0000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1929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月出版第一本诗集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我底记忆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，他的成名作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雨巷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即收入此集中。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1933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月出版了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望舒草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》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1948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年出版了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灾难岁月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一生留下了诗篇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92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首。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[</a:t>
            </a:r>
            <a:r>
              <a:rPr b="0" lang="zh-CN" sz="800" spc="-1" strike="noStrike">
                <a:solidFill>
                  <a:srgbClr val="ffffff"/>
                </a:solidFill>
                <a:latin typeface="Tahoma"/>
              </a:rPr>
              <a:t>来源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zh-CN" sz="800" spc="-1" strike="noStrike">
                <a:solidFill>
                  <a:srgbClr val="ffffff"/>
                </a:solidFill>
                <a:latin typeface="Tahoma"/>
              </a:rPr>
              <a:t>学科网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ZXXK]</a:t>
            </a:r>
            <a:endParaRPr b="0" i="1" lang="en-US" sz="800" spc="-1" strike="noStrike">
              <a:solidFill>
                <a:srgbClr val="0000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雨巷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写于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1928</a:t>
            </a:r>
            <a:r>
              <a:rPr b="0" lang="zh-CN" sz="2800" spc="-1" strike="noStrike">
                <a:solidFill>
                  <a:srgbClr val="3366ff"/>
                </a:solidFill>
                <a:latin typeface="Arial"/>
              </a:rPr>
              <a:t>年，是诗人前期的代表作，这是一首既具有音乐美，又具有朦胧美的象征诗。</a:t>
            </a:r>
            <a:endParaRPr b="0" i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3" name="Picture 5" descr="2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994" name="Picture 6" descr="u=750492002,838708269&amp;gp=0"/>
          <p:cNvPicPr/>
          <p:nvPr/>
        </p:nvPicPr>
        <p:blipFill>
          <a:blip r:embed="rId2"/>
          <a:stretch/>
        </p:blipFill>
        <p:spPr>
          <a:xfrm>
            <a:off x="5076720" y="260280"/>
            <a:ext cx="4067280" cy="6121440"/>
          </a:xfrm>
          <a:prstGeom prst="rect">
            <a:avLst/>
          </a:prstGeom>
          <a:ln w="0">
            <a:noFill/>
          </a:ln>
        </p:spPr>
      </p:pic>
      <p:sp>
        <p:nvSpPr>
          <p:cNvPr id="995" name="Text Box 9"/>
          <p:cNvSpPr/>
          <p:nvPr/>
        </p:nvSpPr>
        <p:spPr>
          <a:xfrm>
            <a:off x="0" y="1268280"/>
            <a:ext cx="14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Tahoma"/>
              </a:rPr>
              <a:t>彷徨</a:t>
            </a: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Tahoma"/>
              </a:rPr>
              <a:t>哀怨</a:t>
            </a: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Tahoma"/>
              </a:rPr>
              <a:t>惆怅</a:t>
            </a: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ff"/>
                </a:solidFill>
                <a:latin typeface="Tahoma"/>
              </a:rPr>
              <a:t>影子</a:t>
            </a: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3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9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3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9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6" descr="黑色背景图片"/>
          <p:cNvPicPr/>
          <p:nvPr/>
        </p:nvPicPr>
        <p:blipFill>
          <a:blip r:embed="rId2"/>
          <a:stretch/>
        </p:blipFill>
        <p:spPr>
          <a:xfrm>
            <a:off x="5651640" y="476280"/>
            <a:ext cx="3492360" cy="5905440"/>
          </a:xfrm>
          <a:prstGeom prst="rect">
            <a:avLst/>
          </a:prstGeom>
          <a:ln w="0">
            <a:noFill/>
          </a:ln>
        </p:spPr>
      </p:pic>
      <p:sp>
        <p:nvSpPr>
          <p:cNvPr id="998" name="Text Box 7"/>
          <p:cNvSpPr/>
          <p:nvPr/>
        </p:nvSpPr>
        <p:spPr>
          <a:xfrm>
            <a:off x="5937840" y="1197000"/>
            <a:ext cx="11552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走出迷茫，找到出路</a:t>
            </a:r>
            <a:endParaRPr b="0" i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2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Picture 5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0" name="Text Box 7"/>
          <p:cNvSpPr/>
          <p:nvPr/>
        </p:nvSpPr>
        <p:spPr>
          <a:xfrm flipH="1">
            <a:off x="814320" y="0"/>
            <a:ext cx="6678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ahoma"/>
                <a:ea typeface="宋体-方正超大字符集"/>
              </a:rPr>
              <a:t>走尽篱墙、消失在雨巷。留下依然惆怅孤独的守望者、寂寥的雨巷</a:t>
            </a:r>
            <a:endParaRPr b="0" i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Picture 5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2" name="Picture 6" descr="pgy0"/>
          <p:cNvPicPr/>
          <p:nvPr/>
        </p:nvPicPr>
        <p:blipFill>
          <a:blip r:embed="rId2"/>
          <a:stretch/>
        </p:blipFill>
        <p:spPr>
          <a:xfrm>
            <a:off x="6012000" y="476280"/>
            <a:ext cx="3132000" cy="5905440"/>
          </a:xfrm>
          <a:prstGeom prst="rect">
            <a:avLst/>
          </a:prstGeom>
          <a:ln w="0">
            <a:noFill/>
          </a:ln>
        </p:spPr>
      </p:pic>
      <p:sp>
        <p:nvSpPr>
          <p:cNvPr id="1003" name="Text Box 8"/>
          <p:cNvSpPr/>
          <p:nvPr/>
        </p:nvSpPr>
        <p:spPr>
          <a:xfrm flipH="1">
            <a:off x="8023680" y="1268280"/>
            <a:ext cx="729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33"/>
                </a:solidFill>
                <a:latin typeface="Tahoma"/>
              </a:rPr>
              <a:t>黑暗而沉闷的社会现实。</a:t>
            </a: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04" name="Text Box 9"/>
          <p:cNvSpPr/>
          <p:nvPr/>
        </p:nvSpPr>
        <p:spPr>
          <a:xfrm>
            <a:off x="-659880" y="1773360"/>
            <a:ext cx="20091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ahoma"/>
                <a:ea typeface="隶书"/>
              </a:rPr>
              <a:t>象征</a:t>
            </a:r>
            <a:endParaRPr b="0" i="1" lang="en-US" sz="6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05" name="Rectangle 11"/>
          <p:cNvSpPr/>
          <p:nvPr/>
        </p:nvSpPr>
        <p:spPr>
          <a:xfrm>
            <a:off x="1332000" y="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ahoma"/>
              </a:rPr>
              <a:t>狭窄而寂寥，没有阳光，也没有生机和活气 。</a:t>
            </a:r>
            <a:endParaRPr b="0" i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06" name="Text Box 14"/>
          <p:cNvSpPr/>
          <p:nvPr/>
        </p:nvSpPr>
        <p:spPr>
          <a:xfrm>
            <a:off x="5370480" y="1197000"/>
            <a:ext cx="2374920" cy="105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33"/>
                </a:solidFill>
                <a:latin typeface="Tahoma"/>
              </a:rPr>
              <a:t>追求的艰难、道路的曲</a:t>
            </a: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33"/>
                </a:solidFill>
                <a:latin typeface="Tahoma"/>
              </a:rPr>
              <a:t>折、难以</a:t>
            </a:r>
            <a:r>
              <a:rPr b="0" lang="zh-CN" sz="3600" spc="-1" strike="noStrike">
                <a:solidFill>
                  <a:srgbClr val="ff0066"/>
                </a:solidFill>
                <a:latin typeface="Tahoma"/>
              </a:rPr>
              <a:t>实现</a:t>
            </a:r>
            <a:r>
              <a:rPr b="0" i="1" lang="zh-CN" sz="36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5" dur="20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3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0,-30,-39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Picture 5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6" descr="52_84229_2fbdfde52fc4850"/>
          <p:cNvPicPr/>
          <p:nvPr/>
        </p:nvPicPr>
        <p:blipFill>
          <a:blip r:embed="rId2"/>
          <a:stretch/>
        </p:blipFill>
        <p:spPr>
          <a:xfrm>
            <a:off x="755640" y="476280"/>
            <a:ext cx="1440000" cy="5905440"/>
          </a:xfrm>
          <a:prstGeom prst="rect">
            <a:avLst/>
          </a:prstGeom>
          <a:ln w="0">
            <a:noFill/>
          </a:ln>
        </p:spPr>
      </p:pic>
      <p:sp>
        <p:nvSpPr>
          <p:cNvPr id="1009" name="Text Box 7"/>
          <p:cNvSpPr/>
          <p:nvPr/>
        </p:nvSpPr>
        <p:spPr>
          <a:xfrm flipH="1">
            <a:off x="111600" y="1844640"/>
            <a:ext cx="729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希望、憧憬、追求</a:t>
            </a: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2" descr="u=3904094896,1434337318&amp;gp=2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1011" name="Rectangle 11"/>
          <p:cNvSpPr/>
          <p:nvPr/>
        </p:nvSpPr>
        <p:spPr>
          <a:xfrm>
            <a:off x="6849720" y="3789360"/>
            <a:ext cx="1070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0000ff"/>
                </a:solidFill>
                <a:latin typeface="Tahoma"/>
              </a:rPr>
              <a:t>迷茫 </a:t>
            </a:r>
            <a:endParaRPr b="0" i="1" lang="en-US" sz="4800" spc="-1" strike="noStrike">
              <a:solidFill>
                <a:srgbClr val="0000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痛惜</a:t>
            </a:r>
            <a:endParaRPr b="0" i="1" lang="en-US" sz="4800" spc="-1" strike="noStrike">
              <a:solidFill>
                <a:srgbClr val="0000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追忆</a:t>
            </a:r>
            <a:endParaRPr b="0" i="1" lang="en-US" sz="4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12" name="Rectangle 12"/>
          <p:cNvSpPr/>
          <p:nvPr/>
        </p:nvSpPr>
        <p:spPr>
          <a:xfrm>
            <a:off x="6372360" y="4405320"/>
            <a:ext cx="180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13" name="Rectangle 13"/>
          <p:cNvSpPr/>
          <p:nvPr/>
        </p:nvSpPr>
        <p:spPr>
          <a:xfrm flipH="1">
            <a:off x="6516000" y="2132640"/>
            <a:ext cx="183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66"/>
                </a:solidFill>
                <a:latin typeface="Tahoma"/>
              </a:rPr>
              <a:t>情感</a:t>
            </a:r>
            <a:endParaRPr b="0" i="1" lang="en-US" sz="54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1014" name="Picture 14" descr="指南针"/>
          <p:cNvPicPr/>
          <p:nvPr/>
        </p:nvPicPr>
        <p:blipFill>
          <a:blip r:embed="rId2"/>
          <a:stretch/>
        </p:blipFill>
        <p:spPr>
          <a:xfrm>
            <a:off x="6516720" y="189000"/>
            <a:ext cx="1657440" cy="1368360"/>
          </a:xfrm>
          <a:prstGeom prst="rect">
            <a:avLst/>
          </a:prstGeom>
          <a:ln w="0">
            <a:noFill/>
          </a:ln>
        </p:spPr>
      </p:pic>
      <p:sp>
        <p:nvSpPr>
          <p:cNvPr id="1015" name="WordArt 17"/>
          <p:cNvSpPr txBox="1"/>
          <p:nvPr/>
        </p:nvSpPr>
        <p:spPr>
          <a:xfrm>
            <a:off x="6372360" y="2852640"/>
            <a:ext cx="1728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追求</a:t>
            </a:r>
            <a:endParaRPr b="0" i="1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8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Picture 3" descr="月亮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7" name="Text Box 4"/>
          <p:cNvSpPr/>
          <p:nvPr/>
        </p:nvSpPr>
        <p:spPr>
          <a:xfrm>
            <a:off x="4109400" y="765000"/>
            <a:ext cx="21913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ahoma"/>
              </a:rPr>
              <a:t>此情可待成追忆，只是当时已惘然</a:t>
            </a: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18" name="Text Box 6"/>
          <p:cNvSpPr/>
          <p:nvPr/>
        </p:nvSpPr>
        <p:spPr>
          <a:xfrm>
            <a:off x="3505320" y="323856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19" name="Rectangle 7"/>
          <p:cNvSpPr/>
          <p:nvPr/>
        </p:nvSpPr>
        <p:spPr>
          <a:xfrm>
            <a:off x="35305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20" name="Text Box 9"/>
          <p:cNvSpPr/>
          <p:nvPr/>
        </p:nvSpPr>
        <p:spPr>
          <a:xfrm>
            <a:off x="3172680" y="2060640"/>
            <a:ext cx="139932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李商隐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《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锦瑟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4" descr="zm0112060913"/>
          <p:cNvPicPr/>
          <p:nvPr/>
        </p:nvPicPr>
        <p:blipFill>
          <a:blip r:embed="rId1"/>
          <a:stretch/>
        </p:blipFill>
        <p:spPr>
          <a:xfrm flipH="1" rot="10818600">
            <a:off x="0" y="-243000"/>
            <a:ext cx="9144000" cy="7100640"/>
          </a:xfrm>
          <a:prstGeom prst="rect">
            <a:avLst/>
          </a:prstGeom>
          <a:ln w="0">
            <a:noFill/>
          </a:ln>
        </p:spPr>
      </p:pic>
      <p:sp>
        <p:nvSpPr>
          <p:cNvPr id="1022" name="Text Box 9"/>
          <p:cNvSpPr/>
          <p:nvPr/>
        </p:nvSpPr>
        <p:spPr>
          <a:xfrm>
            <a:off x="2484360" y="1341360"/>
            <a:ext cx="64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e288"/>
                </a:solidFill>
                <a:latin typeface="Tahoma"/>
              </a:rPr>
              <a:t>给我一刹那，对你宠爱；</a:t>
            </a:r>
            <a:endParaRPr b="0" i="1" lang="en-US" sz="4000" spc="-1" strike="noStrike">
              <a:solidFill>
                <a:srgbClr val="0000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9e288"/>
                </a:solidFill>
                <a:latin typeface="Tahoma"/>
              </a:rPr>
              <a:t>给我一辈子，送你离开。 </a:t>
            </a:r>
            <a:endParaRPr b="0" i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23" name="Text Box 10"/>
          <p:cNvSpPr/>
          <p:nvPr/>
        </p:nvSpPr>
        <p:spPr>
          <a:xfrm>
            <a:off x="2771640" y="314172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王菲歌曲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《</a:t>
            </a:r>
            <a:r>
              <a:rPr b="0" lang="zh-CN" sz="4000" spc="-1" strike="noStrike">
                <a:solidFill>
                  <a:srgbClr val="0000ff"/>
                </a:solidFill>
                <a:latin typeface="Tahoma"/>
              </a:rPr>
              <a:t>沧海蝴蝶</a:t>
            </a:r>
            <a:r>
              <a:rPr b="0" lang="en-US" sz="4000" spc="-1" strike="noStrike">
                <a:solidFill>
                  <a:srgbClr val="0000ff"/>
                </a:solidFill>
                <a:latin typeface="Tahoma"/>
              </a:rPr>
              <a:t>》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4" descr="长春蔓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5" name="Rectangle 10"/>
          <p:cNvSpPr/>
          <p:nvPr/>
        </p:nvSpPr>
        <p:spPr>
          <a:xfrm rot="20419200">
            <a:off x="1476000" y="4740840"/>
            <a:ext cx="738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叶圣陶先生称赞这首诗为中国新诗的音节开了一个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Tahoma"/>
              </a:rPr>
              <a:t>新纪元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i="1" lang="en-US" sz="40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1026" name="WordArt 12"/>
          <p:cNvSpPr txBox="1"/>
          <p:nvPr/>
        </p:nvSpPr>
        <p:spPr>
          <a:xfrm rot="20881200">
            <a:off x="1907640" y="691920"/>
            <a:ext cx="2519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78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艺术特色</a:t>
            </a:r>
            <a:endParaRPr b="0" i="1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78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7" name="WordArt 13"/>
          <p:cNvSpPr txBox="1"/>
          <p:nvPr/>
        </p:nvSpPr>
        <p:spPr>
          <a:xfrm rot="20479800">
            <a:off x="1730160" y="3065040"/>
            <a:ext cx="244944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20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象征、暗示、音乐美</a:t>
            </a:r>
            <a:endParaRPr b="0" i="1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20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2" descr="草地野花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1029" name="WordArt 4"/>
          <p:cNvSpPr txBox="1"/>
          <p:nvPr/>
        </p:nvSpPr>
        <p:spPr>
          <a:xfrm rot="20239200">
            <a:off x="777960" y="4486320"/>
            <a:ext cx="2149560" cy="101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5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808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谢谢大家</a:t>
            </a:r>
            <a:endParaRPr b="0" i="1" lang="en-US" sz="3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808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30" name="Picture 7" descr="书本3"/>
          <p:cNvPicPr/>
          <p:nvPr/>
        </p:nvPicPr>
        <p:blipFill>
          <a:blip r:embed="rId2"/>
          <a:stretch/>
        </p:blipFill>
        <p:spPr>
          <a:xfrm>
            <a:off x="755640" y="836640"/>
            <a:ext cx="1933560" cy="17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Picture 3" descr="u=1506988767,1356930367&amp;gp=3"/>
          <p:cNvPicPr/>
          <p:nvPr/>
        </p:nvPicPr>
        <p:blipFill>
          <a:blip r:embed="rId1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6" descr="52_84229_a9f830074e057e3"/>
          <p:cNvPicPr/>
          <p:nvPr/>
        </p:nvPicPr>
        <p:blipFill>
          <a:blip r:embed="rId2"/>
          <a:stretch/>
        </p:blipFill>
        <p:spPr>
          <a:xfrm>
            <a:off x="4427640" y="-171360"/>
            <a:ext cx="4716360" cy="7029360"/>
          </a:xfrm>
          <a:prstGeom prst="rect">
            <a:avLst/>
          </a:prstGeom>
          <a:ln w="0">
            <a:noFill/>
          </a:ln>
        </p:spPr>
      </p:pic>
      <p:sp>
        <p:nvSpPr>
          <p:cNvPr id="927" name="Text Box 8"/>
          <p:cNvSpPr/>
          <p:nvPr/>
        </p:nvSpPr>
        <p:spPr>
          <a:xfrm>
            <a:off x="4597920" y="620640"/>
            <a:ext cx="2009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9900"/>
                </a:solidFill>
                <a:latin typeface="Tahoma"/>
              </a:rPr>
              <a:t>美誉</a:t>
            </a:r>
            <a:endParaRPr b="0" i="1" lang="en-US" sz="60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Picture 10" descr="图片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29" name="Text Box 4"/>
          <p:cNvSpPr/>
          <p:nvPr/>
        </p:nvSpPr>
        <p:spPr>
          <a:xfrm>
            <a:off x="7671240" y="-243000"/>
            <a:ext cx="667800" cy="79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前望舒使先驱兮，后飞廉使奔属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。</a:t>
            </a:r>
            <a:r>
              <a:rPr b="0" lang="zh-CN" sz="2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i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30" name="Text Box 7"/>
          <p:cNvSpPr/>
          <p:nvPr/>
        </p:nvSpPr>
        <p:spPr>
          <a:xfrm>
            <a:off x="6808320" y="3528360"/>
            <a:ext cx="606960" cy="29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Tahoma"/>
              </a:rPr>
              <a:t>屈原的</a:t>
            </a:r>
            <a:r>
              <a:rPr b="0" lang="en-US" sz="2800" spc="-1" strike="noStrike">
                <a:solidFill>
                  <a:srgbClr val="ff3399"/>
                </a:solidFill>
                <a:latin typeface="Tahoma"/>
              </a:rPr>
              <a:t>《</a:t>
            </a:r>
            <a:r>
              <a:rPr b="0" lang="zh-CN" sz="2800" spc="-1" strike="noStrike">
                <a:solidFill>
                  <a:srgbClr val="ff3399"/>
                </a:solidFill>
                <a:latin typeface="Tahoma"/>
              </a:rPr>
              <a:t>离骚</a:t>
            </a:r>
            <a:r>
              <a:rPr b="0" lang="en-US" sz="2800" spc="-1" strike="noStrike">
                <a:solidFill>
                  <a:srgbClr val="ff3399"/>
                </a:solidFill>
                <a:latin typeface="Tahoma"/>
              </a:rPr>
              <a:t>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31" name="Rectangle 8"/>
          <p:cNvSpPr/>
          <p:nvPr/>
        </p:nvSpPr>
        <p:spPr>
          <a:xfrm>
            <a:off x="468360" y="2592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zh-CN" sz="3200" spc="-1" strike="noStrike">
                <a:solidFill>
                  <a:srgbClr val="ff6600"/>
                </a:solidFill>
                <a:latin typeface="Tahoma"/>
              </a:rPr>
              <a:t>望舒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</a:rPr>
              <a:t>是神话传说中替月亮驾车的天神， 纯洁而温柔，多情又潇洒。</a:t>
            </a:r>
            <a:endParaRPr b="0" i="1" lang="en-US" sz="32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932" name="Picture 9" descr="宇宙"/>
          <p:cNvPicPr/>
          <p:nvPr/>
        </p:nvPicPr>
        <p:blipFill>
          <a:blip r:embed="rId2"/>
          <a:stretch/>
        </p:blipFill>
        <p:spPr>
          <a:xfrm>
            <a:off x="468360" y="260280"/>
            <a:ext cx="2158920" cy="16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Text Box 9"/>
          <p:cNvSpPr/>
          <p:nvPr/>
        </p:nvSpPr>
        <p:spPr>
          <a:xfrm>
            <a:off x="250920" y="148428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f8406"/>
                </a:solidFill>
                <a:latin typeface="Tahoma"/>
              </a:rPr>
              <a:t>     </a:t>
            </a:r>
            <a:r>
              <a:rPr b="1" i="1" lang="zh-CN" sz="4400" spc="-1" strike="noStrike">
                <a:solidFill>
                  <a:srgbClr val="6f8406"/>
                </a:solidFill>
                <a:latin typeface="Tahoma"/>
              </a:rPr>
              <a:t>戴望舒出生于</a:t>
            </a:r>
            <a:r>
              <a:rPr b="1" i="1" lang="en-US" sz="4400" spc="-1" strike="noStrike">
                <a:solidFill>
                  <a:srgbClr val="6f8406"/>
                </a:solidFill>
                <a:latin typeface="Tahoma"/>
              </a:rPr>
              <a:t>3</a:t>
            </a:r>
            <a:r>
              <a:rPr b="1" i="1" lang="zh-CN" sz="4400" spc="-1" strike="noStrike">
                <a:solidFill>
                  <a:srgbClr val="6f8406"/>
                </a:solidFill>
                <a:latin typeface="Tahoma"/>
              </a:rPr>
              <a:t>月</a:t>
            </a:r>
            <a:r>
              <a:rPr b="1" i="1" lang="en-US" sz="4400" spc="-1" strike="noStrike">
                <a:solidFill>
                  <a:srgbClr val="6f8406"/>
                </a:solidFill>
                <a:latin typeface="Tahoma"/>
              </a:rPr>
              <a:t>5</a:t>
            </a:r>
            <a:r>
              <a:rPr b="1" i="1" lang="zh-CN" sz="4400" spc="-1" strike="noStrike">
                <a:solidFill>
                  <a:srgbClr val="6f8406"/>
                </a:solidFill>
                <a:latin typeface="Tahoma"/>
              </a:rPr>
              <a:t>日，照西方星象学的说法，属于双鱼座。双鱼座的人浪漫柔情，以爱情为生命的养分，意志薄弱，喜好幻想，逃避现实，优柔寡断。戴望舒就是典型的双鱼座性格。</a:t>
            </a:r>
            <a:endParaRPr b="0" i="1" lang="en-US" sz="4400" spc="-1" strike="noStrike">
              <a:solidFill>
                <a:srgbClr val="0000ff"/>
              </a:solidFill>
              <a:latin typeface="Tahoma"/>
            </a:endParaRPr>
          </a:p>
        </p:txBody>
      </p:sp>
      <p:pic>
        <p:nvPicPr>
          <p:cNvPr id="934" name="Picture 10" descr="五星2"/>
          <p:cNvPicPr/>
          <p:nvPr/>
        </p:nvPicPr>
        <p:blipFill>
          <a:blip r:embed="rId1"/>
          <a:stretch/>
        </p:blipFill>
        <p:spPr>
          <a:xfrm>
            <a:off x="6156360" y="620640"/>
            <a:ext cx="1152360" cy="18273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1" descr="五星2"/>
          <p:cNvPicPr/>
          <p:nvPr/>
        </p:nvPicPr>
        <p:blipFill>
          <a:blip r:embed="rId2"/>
          <a:stretch/>
        </p:blipFill>
        <p:spPr>
          <a:xfrm flipH="1">
            <a:off x="3779640" y="4724280"/>
            <a:ext cx="1152360" cy="12258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2" descr="五星3"/>
          <p:cNvPicPr/>
          <p:nvPr/>
        </p:nvPicPr>
        <p:blipFill>
          <a:blip r:embed="rId3"/>
          <a:stretch/>
        </p:blipFill>
        <p:spPr>
          <a:xfrm>
            <a:off x="250920" y="549360"/>
            <a:ext cx="1042920" cy="8492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3" descr="五星1"/>
          <p:cNvPicPr/>
          <p:nvPr/>
        </p:nvPicPr>
        <p:blipFill>
          <a:blip r:embed="rId4"/>
          <a:stretch/>
        </p:blipFill>
        <p:spPr>
          <a:xfrm>
            <a:off x="4356000" y="2781360"/>
            <a:ext cx="687600" cy="1122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4" descr="五星3"/>
          <p:cNvPicPr/>
          <p:nvPr/>
        </p:nvPicPr>
        <p:blipFill>
          <a:blip r:embed="rId5"/>
          <a:stretch/>
        </p:blipFill>
        <p:spPr>
          <a:xfrm>
            <a:off x="1403280" y="3573360"/>
            <a:ext cx="865080" cy="12970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5" descr="五星0"/>
          <p:cNvPicPr/>
          <p:nvPr/>
        </p:nvPicPr>
        <p:blipFill>
          <a:blip r:embed="rId6"/>
          <a:stretch/>
        </p:blipFill>
        <p:spPr>
          <a:xfrm>
            <a:off x="8136000" y="4508640"/>
            <a:ext cx="1008000" cy="16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4" descr="u=4094019777,1260124700&amp;gp=2"/>
          <p:cNvPicPr/>
          <p:nvPr/>
        </p:nvPicPr>
        <p:blipFill>
          <a:blip r:embed="rId1"/>
          <a:stretch/>
        </p:blipFill>
        <p:spPr>
          <a:xfrm>
            <a:off x="0" y="0"/>
            <a:ext cx="5824440" cy="6858000"/>
          </a:xfrm>
          <a:prstGeom prst="rect">
            <a:avLst/>
          </a:prstGeom>
          <a:ln w="0">
            <a:noFill/>
          </a:ln>
        </p:spPr>
      </p:pic>
      <p:sp>
        <p:nvSpPr>
          <p:cNvPr id="941" name="WordArt 6"/>
          <p:cNvSpPr txBox="1"/>
          <p:nvPr/>
        </p:nvSpPr>
        <p:spPr>
          <a:xfrm>
            <a:off x="6877080" y="285264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朦胧</a:t>
            </a:r>
            <a:endParaRPr b="0" i="1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42" name="WordArt 7"/>
          <p:cNvSpPr txBox="1"/>
          <p:nvPr/>
        </p:nvSpPr>
        <p:spPr>
          <a:xfrm>
            <a:off x="6877080" y="3860640"/>
            <a:ext cx="934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愁怨</a:t>
            </a:r>
            <a:endParaRPr b="0" i="1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43" name="WordArt 8"/>
          <p:cNvSpPr txBox="1"/>
          <p:nvPr/>
        </p:nvSpPr>
        <p:spPr>
          <a:xfrm>
            <a:off x="6897600" y="4869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凄清</a:t>
            </a:r>
            <a:endParaRPr b="0" i="1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9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9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4" descr="u=665683768,1290148191&amp;gp=1"/>
          <p:cNvPicPr/>
          <p:nvPr/>
        </p:nvPicPr>
        <p:blipFill>
          <a:blip r:embed="rId1"/>
          <a:stretch/>
        </p:blipFill>
        <p:spPr>
          <a:xfrm flipH="1" rot="21582000">
            <a:off x="-1440" y="-360"/>
            <a:ext cx="5556240" cy="6858000"/>
          </a:xfrm>
          <a:prstGeom prst="rect">
            <a:avLst/>
          </a:prstGeom>
          <a:ln w="0">
            <a:noFill/>
          </a:ln>
        </p:spPr>
      </p:pic>
      <p:sp>
        <p:nvSpPr>
          <p:cNvPr id="945" name="Rectangle 5"/>
          <p:cNvSpPr/>
          <p:nvPr/>
        </p:nvSpPr>
        <p:spPr>
          <a:xfrm>
            <a:off x="5724360" y="274608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Tahoma"/>
              </a:rPr>
              <a:t>   </a:t>
            </a:r>
            <a:r>
              <a:rPr b="0" lang="zh-CN" sz="3600" spc="-1" strike="noStrike">
                <a:solidFill>
                  <a:srgbClr val="007a77"/>
                </a:solidFill>
                <a:latin typeface="Tahoma"/>
                <a:ea typeface="华文新魏"/>
              </a:rPr>
              <a:t>一个江南少女和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7a77"/>
                </a:solidFill>
                <a:latin typeface="Tahoma"/>
                <a:ea typeface="华文新魏"/>
              </a:rPr>
              <a:t>我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07a77"/>
                </a:solidFill>
                <a:latin typeface="Tahoma"/>
                <a:ea typeface="华文新魏"/>
              </a:rPr>
              <a:t>邂逅，在雨巷中飘然而过。在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7a77"/>
                </a:solidFill>
                <a:latin typeface="Tahoma"/>
                <a:ea typeface="华文新魏"/>
              </a:rPr>
              <a:t>我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07a77"/>
                </a:solidFill>
                <a:latin typeface="Tahoma"/>
                <a:ea typeface="华文新魏"/>
              </a:rPr>
              <a:t>的等待中，她像丁香一样出现、飘过，然后消散在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  <a:ea typeface="华文新魏"/>
              </a:rPr>
              <a:t>“</a:t>
            </a:r>
            <a:r>
              <a:rPr b="0" lang="zh-CN" sz="3600" spc="-1" strike="noStrike">
                <a:solidFill>
                  <a:srgbClr val="007a77"/>
                </a:solidFill>
                <a:latin typeface="Tahoma"/>
                <a:ea typeface="华文新魏"/>
              </a:rPr>
              <a:t>雨的哀曲</a:t>
            </a:r>
            <a:r>
              <a:rPr b="0" lang="zh-CN" sz="3600" spc="-1" strike="noStrike">
                <a:solidFill>
                  <a:srgbClr val="007a77"/>
                </a:solidFill>
                <a:latin typeface="宋体"/>
                <a:ea typeface="华文新魏"/>
              </a:rPr>
              <a:t>”</a:t>
            </a:r>
            <a:r>
              <a:rPr b="0" lang="zh-CN" sz="3600" spc="-1" strike="noStrike">
                <a:solidFill>
                  <a:srgbClr val="007a77"/>
                </a:solidFill>
                <a:latin typeface="Tahoma"/>
                <a:ea typeface="华文新魏"/>
              </a:rPr>
              <a:t>中。</a:t>
            </a: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6" dur="20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2" descr="u=3904094896,1434337318&amp;gp=2"/>
          <p:cNvPicPr/>
          <p:nvPr/>
        </p:nvPicPr>
        <p:blipFill>
          <a:blip r:embed="rId1"/>
          <a:stretch/>
        </p:blipFill>
        <p:spPr>
          <a:xfrm>
            <a:off x="0" y="0"/>
            <a:ext cx="6084720" cy="6858000"/>
          </a:xfrm>
          <a:prstGeom prst="rect">
            <a:avLst/>
          </a:prstGeom>
          <a:ln w="0">
            <a:noFill/>
          </a:ln>
        </p:spPr>
      </p:pic>
      <p:sp>
        <p:nvSpPr>
          <p:cNvPr id="947" name="WordArt 4"/>
          <p:cNvSpPr txBox="1"/>
          <p:nvPr/>
        </p:nvSpPr>
        <p:spPr>
          <a:xfrm>
            <a:off x="7402680" y="1413000"/>
            <a:ext cx="91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雨巷</a:t>
            </a:r>
            <a:endParaRPr b="0" i="1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48" name="WordArt 5"/>
          <p:cNvSpPr txBox="1"/>
          <p:nvPr/>
        </p:nvSpPr>
        <p:spPr>
          <a:xfrm>
            <a:off x="6300720" y="2421000"/>
            <a:ext cx="26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丁香一样的姑娘</a:t>
            </a:r>
            <a:endParaRPr b="0" i="1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49" name="WordArt 6"/>
          <p:cNvSpPr txBox="1"/>
          <p:nvPr/>
        </p:nvSpPr>
        <p:spPr>
          <a:xfrm>
            <a:off x="7161120" y="3357720"/>
            <a:ext cx="13716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油纸伞</a:t>
            </a:r>
            <a:endParaRPr b="0" i="1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50" name="WordArt 8"/>
          <p:cNvSpPr txBox="1"/>
          <p:nvPr/>
        </p:nvSpPr>
        <p:spPr>
          <a:xfrm>
            <a:off x="7308720" y="4292640"/>
            <a:ext cx="1008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颓墙</a:t>
            </a:r>
            <a:endParaRPr b="0" i="1" lang="en-US" sz="3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51" name="WordArt 10"/>
          <p:cNvSpPr txBox="1"/>
          <p:nvPr/>
        </p:nvSpPr>
        <p:spPr>
          <a:xfrm>
            <a:off x="7308720" y="5516640"/>
            <a:ext cx="8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</a:t>
            </a:r>
            <a:endParaRPr b="0" i="1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8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Picture 8" descr="1"/>
          <p:cNvPicPr/>
          <p:nvPr/>
        </p:nvPicPr>
        <p:blipFill>
          <a:blip r:embed="rId1"/>
          <a:stretch/>
        </p:blipFill>
        <p:spPr>
          <a:xfrm>
            <a:off x="2916360" y="0"/>
            <a:ext cx="6227640" cy="685800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9"/>
          <p:cNvSpPr/>
          <p:nvPr/>
        </p:nvSpPr>
        <p:spPr>
          <a:xfrm>
            <a:off x="592200" y="1274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54" name="WordArt 10"/>
          <p:cNvSpPr txBox="1"/>
          <p:nvPr/>
        </p:nvSpPr>
        <p:spPr>
          <a:xfrm>
            <a:off x="971640" y="1052640"/>
            <a:ext cx="115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雨巷</a:t>
            </a:r>
            <a:endParaRPr b="0" i="1" lang="en-US" sz="3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55" name="Text Box 11"/>
          <p:cNvSpPr/>
          <p:nvPr/>
        </p:nvSpPr>
        <p:spPr>
          <a:xfrm>
            <a:off x="1116000" y="2565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56" name="Rectangle 12"/>
          <p:cNvSpPr/>
          <p:nvPr/>
        </p:nvSpPr>
        <p:spPr>
          <a:xfrm flipV="1" rot="10796400">
            <a:off x="899640" y="4722840"/>
            <a:ext cx="17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幽深寂静 </a:t>
            </a:r>
            <a:endParaRPr b="0" i="1" lang="en-US" sz="2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57" name="Rectangle 13"/>
          <p:cNvSpPr/>
          <p:nvPr/>
        </p:nvSpPr>
        <p:spPr>
          <a:xfrm>
            <a:off x="1332000" y="58129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336699"/>
                </a:solidFill>
                <a:latin typeface="Tahoma"/>
              </a:rPr>
              <a:t>朦胧美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58" name="Rectangle 14"/>
          <p:cNvSpPr/>
          <p:nvPr/>
        </p:nvSpPr>
        <p:spPr>
          <a:xfrm>
            <a:off x="900000" y="25725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6699"/>
                </a:solidFill>
                <a:latin typeface="Tahoma"/>
              </a:rPr>
              <a:t>梅雨季节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0000ff"/>
              </a:solidFill>
              <a:latin typeface="Tahoma"/>
            </a:endParaRPr>
          </a:p>
        </p:txBody>
      </p:sp>
      <p:sp>
        <p:nvSpPr>
          <p:cNvPr id="959" name="Rectangle 15"/>
          <p:cNvSpPr/>
          <p:nvPr/>
        </p:nvSpPr>
        <p:spPr>
          <a:xfrm>
            <a:off x="324000" y="37155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000000"/>
                </a:solidFill>
                <a:latin typeface="Tahoma"/>
              </a:rPr>
              <a:t>阴沉图景</a:t>
            </a: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i="1" lang="en-US" sz="1800" spc="-1" strike="noStrike">
              <a:solidFill>
                <a:srgbClr val="0000ff"/>
              </a:solidFill>
              <a:latin typeface="Tahoma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8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2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11:26:35Z</dcterms:created>
  <dc:creator/>
  <dc:description/>
  <cp:keywords/>
  <dc:language>en-US</dc:language>
  <cp:lastModifiedBy>ABC</cp:lastModifiedBy>
  <dcterms:modified xsi:type="dcterms:W3CDTF">2015-12-23T06:51:29Z</dcterms:modified>
  <cp:revision>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170000000000010250500207f7000400038000</vt:lpwstr>
  </property>
</Properties>
</file>