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9F19-27BD-460D-A014-282DE9B68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32D9-E32F-498F-B512-89884DF3D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BA5F-A959-42C7-9403-5FEB0C89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997-0074-4B4D-B060-842FACE02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205E-775D-46FA-AAE2-39270A81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DDEA-D3A6-49C1-8AD3-52E5139D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FAB6-451E-4593-AB9F-05868409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CA6-609D-4E34-87D6-44828EBE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6D42-9FF2-4635-842F-4FB1A669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0E90-37BA-4929-8580-987B81E6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6FCA-3CB2-4F01-A121-4C4652E5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ADD-AFC4-4009-8383-F7F3E04E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326A-F950-405F-A8F1-9B7860BDD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o_a60aaee9f31f66549691ee1fe56b427b"/>
          <p:cNvPicPr/>
          <p:nvPr/>
        </p:nvPicPr>
        <p:blipFill>
          <a:blip r:embed="rId2"/>
          <a:stretch/>
        </p:blipFill>
        <p:spPr>
          <a:xfrm>
            <a:off x="468360" y="549360"/>
            <a:ext cx="5111640" cy="53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丁香一样的姑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丁香一样的颜色、芬芳、忧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像我一样的冷漠、凄清、惆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特点：“丁香”“我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象征意义：我、姑娘、美好理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4360" y="105264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油纸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特点：透明、朦胧、淡淡忧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眼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特点：太息般  遥远  飘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特点：凄婉迷茫  虚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440208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艺术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554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意境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意象）  淡雅凄美、缠绵哀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内涵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象征  朦胧多义）凄美爱情、彷徨理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音乐美 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重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反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排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回环往复的旋律、凄婉哀愁的感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560" y="836280"/>
            <a:ext cx="49071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雨巷</a:t>
            </a:r>
            <a:br>
              <a:rPr sz="4000"/>
            </a:br>
            <a:br>
              <a:rPr sz="40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不一样的故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：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9640" y="2491920"/>
            <a:ext cx="51120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撑着油纸伞，独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彷徨在悠长、悠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又寂寥的雨巷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我希望逢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一个丁香一样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结着愁怨的姑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900000" y="29242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行楷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我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行楷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和姑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>
            <a:hlinkClick r:id="rId1" action="ppaction://hlinksldjump"/>
          </p:cNvPr>
          <p:cNvSpPr/>
          <p:nvPr/>
        </p:nvSpPr>
        <p:spPr>
          <a:xfrm>
            <a:off x="755640" y="4724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行楷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我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行楷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和理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雨巷朗诵.MP3" descr=""/>
          <p:cNvPicPr/>
          <p:nvPr/>
        </p:nvPicPr>
        <p:blipFill>
          <a:blip r:embed="rId2"/>
          <a:stretch/>
        </p:blipFill>
        <p:spPr>
          <a:xfrm>
            <a:off x="730872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58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21744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259236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独自徘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                                    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独自徘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258920" y="148428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835280" y="1052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希望逢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"/>
          <p:cNvSpPr/>
          <p:nvPr/>
        </p:nvSpPr>
        <p:spPr>
          <a:xfrm>
            <a:off x="971640" y="2421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2050920" y="4005360"/>
            <a:ext cx="1532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2268360" y="4076640"/>
            <a:ext cx="129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2484360" y="4724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希望飘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3"/>
          <p:cNvSpPr/>
          <p:nvPr/>
        </p:nvSpPr>
        <p:spPr>
          <a:xfrm>
            <a:off x="1258920" y="5661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3203640" y="5661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3851280" y="1125360"/>
            <a:ext cx="2736720" cy="37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姑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哀怨彷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走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飘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远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消 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539640" y="544500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56000" y="544500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500720" y="53737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 flipH="1">
            <a:off x="2268360" y="4581360"/>
            <a:ext cx="18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5003640" y="2492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2376720" y="2166480"/>
            <a:ext cx="850680" cy="17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ff"/>
                </a:solidFill>
                <a:latin typeface="华文楷体"/>
                <a:ea typeface="华文楷体"/>
              </a:rPr>
              <a:t>雨 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8">
            <a:hlinkClick r:id="rId1" action="ppaction://hlinksldjump"/>
          </p:cNvPr>
          <p:cNvSpPr/>
          <p:nvPr/>
        </p:nvSpPr>
        <p:spPr>
          <a:xfrm>
            <a:off x="6300720" y="6165720"/>
            <a:ext cx="719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4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39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40435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爱情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2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诗人因避难而藏在好友施蜇存的家里。这期间他深深爱上了施蜇存妹妹施绛年。而对方对他始终无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时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2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夏天。国民党反动派对革命者进行血腥屠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全国笼罩在白色恐怖之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部分革命青年在痛苦中坠入迷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绝望中渴求新的希望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情感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哀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苦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迷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彷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理想幻灭希望迷茫的愁苦、彷徨与无奈，是当时部分革命青年迷茫痛苦的心境的真实写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620640"/>
            <a:ext cx="2530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爱情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渴望爱情，在徘徊和忧愁中与“姑娘”擦肩而过，只剩无奈、伤感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学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科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网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xx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革命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追求理想，在黑暗的现实中孤独探索，希望幻灭。迷茫愁苦却寻不到出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33228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雨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悠长、悠长、又寂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点：幽深、冷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象征意义：黑暗社会现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35384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</a:rPr>
              <a:t>我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撑着油纸伞、独自、 彷徨、希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特点：失落、愁苦、忧郁、无所适从、无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象征意义：大革命失败后的进步青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4330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</a:rPr>
              <a:t>丁香一样的姑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丁香：清雅、美丽、哀愁、凄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芭蕉不展丁香结，同向春风各自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李商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代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青鸟不传云外信，丁香空结雨中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李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浣溪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14:15:13Z</dcterms:created>
  <dc:creator/>
  <dc:description/>
  <cp:keywords/>
  <dc:language>en-US</dc:language>
  <cp:lastModifiedBy>ABC</cp:lastModifiedBy>
  <dcterms:modified xsi:type="dcterms:W3CDTF">2015-12-23T06:51:20Z</dcterms:modified>
  <cp:revision>13</cp:revision>
  <dc:subject/>
  <dc:title>PowerPoint 演示文稿</dc:title>
</cp:coreProperties>
</file>