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7DE-D16C-4857-968D-6801C719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8C0-143B-4068-9EEA-167D2BEC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F41-3837-45DE-A1E4-A8C5FDCD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30E-9F75-4CB8-9AD7-EF41B7BE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0C60-3A47-476A-8A79-74F12456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A528-C551-4876-971F-22CFB70D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A73F-2816-40AB-9F99-75E63121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3C43-B1D5-49E3-B4CD-5CAD1B8A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5B9F-8773-4126-832C-0108AB5E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D119-59B7-4B9D-9D1F-090975D7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E1CB-2D51-49EB-A158-4AC2F19D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769-FA50-4739-B7CC-FA9A3A98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EDF3-2376-40C0-9E0A-6FA718A7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E2B1-9E7A-491A-B470-D06C8AB0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1155-9A7D-4BD8-AB29-ECFACF76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7745-96FD-4D58-9868-3A02F284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537F-2498-4A84-B1C6-AC630A66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E1C-B283-4B3D-AC61-507254F9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3D4-CA94-4BB6-B9DC-E5936B7B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183-C801-445F-BEF3-5621CB73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0CF-CCE3-4B15-992D-CBA76F2F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E8F-D11F-4D06-8634-C15C270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009-7A5C-4669-9E5D-1B51DFD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4E8-5357-4C0A-B205-296F432D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CF70-CFB8-48E9-8DF6-6748F4D2CBC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3994-6E75-4B2E-A412-ED91BA53D55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材料一：富贵不能淫，贫贱不能移，威武不能屈，此之谓大丈夫。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孟子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材料二：生命诚可贵，爱情价更高。若为自由故，二者皆可抛。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匈牙利 裴多菲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材料三：人生自古谁无死，留取丹心照汗青。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文天祥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材料四：砍头不要紧，只要主义真。杀了夏明翰，还有后来人。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夏明翰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472428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生为尊严   生为自由          生为名声   生为正 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14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4360" y="47628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箪食，一豆羹，得之则生，弗得则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尔而与之，行道之人弗受；蹴尔而与之，乞人不屑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钟则不辨礼义而受之，万钟于我何加焉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907920"/>
            <a:ext cx="777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一筐饭食，一碗汤，得到它就能活下去，得不到它就要死亡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278136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（然而如果）喝叱着给人（吃），（饥饿的）过路人也不会接受；（如果）用脚践踏过再给人（吃），（即使）乞丐（也）认为不值得（接受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4508640"/>
            <a:ext cx="7775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万钟的俸禄如果不分辨（是否符合）礼义就接受它，（这）万钟的俸禄对于我（有）什么益处呢？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152280"/>
            <a:ext cx="8686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宫室之美，妻妾之奉，所识穷乏者得我与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向为身死而不受，今为宫室之美为之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向为身死而不受，今为妻妾之奉为之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向为身死而不受，今为所识穷乏者得我而为之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亦不可以已乎？此之谓失其本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2064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为了宫室的华美，妻妾的侍奉，所认识的贫困的人感激我（的恩德）（而接受它）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91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从前（我）为了“礼义”宁愿死也不肯接受（施舍），现在却为了宫室的华美而接受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2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从前（我）为了“礼义”宁愿死也不肯接受（施舍），现在为了（能有）妻妾的待奉（而）接受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508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从前（我）为了“礼义”宁愿死也不肯接受（施舍），现在（却）为了所认识的贫困的人感激我（的恩德）而接受了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7840" y="6164280"/>
            <a:ext cx="77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6093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57340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这种（做法）不也是可以停止了吗？（如果这样做了）这就叫做丧失了人的本性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2700360" cy="1197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856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合作探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200" y="1582560"/>
            <a:ext cx="51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ccccff"/>
                </a:solidFill>
                <a:latin typeface="华文楷体"/>
                <a:ea typeface="华文楷体"/>
              </a:rPr>
              <a:t>、第一段中作者提出了什么观点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68320" y="2301840"/>
            <a:ext cx="528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ccccff"/>
                </a:solidFill>
                <a:latin typeface="华文楷体"/>
                <a:ea typeface="华文楷体"/>
              </a:rPr>
              <a:t>、开头写“鱼我所欲也，熊掌 亦我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华文楷体"/>
                <a:ea typeface="华文楷体"/>
              </a:rPr>
              <a:t>欲也”作用是什么？这属于什么论证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1560" y="378936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引出下面的论述，使说理更生动。比喻论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7000" y="4390920"/>
            <a:ext cx="432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ccccff"/>
                </a:solidFill>
                <a:latin typeface="华文楷体"/>
                <a:ea typeface="华文楷体"/>
              </a:rPr>
              <a:t>、为什么要”舍生取义“？作者有哪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华文楷体"/>
                <a:ea typeface="华文楷体"/>
              </a:rPr>
              <a:t>理由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198720" y="1773360"/>
            <a:ext cx="1521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舍 生 取 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78680" y="90792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所欲有甚于生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71880" y="907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故不为苟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40160" y="184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所恶有甚于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29880" y="184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故患有所不避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12600" y="2924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由是则生而有不用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38040" y="38606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由是则可以避患者而有不为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50880" y="508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ff"/>
                </a:solidFill>
                <a:latin typeface="黑体"/>
                <a:ea typeface="黑体"/>
              </a:rPr>
              <a:t>人皆有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1268280"/>
            <a:ext cx="576000" cy="4248360"/>
          </a:xfrm>
          <a:custGeom>
            <a:avLst/>
            <a:gdLst>
              <a:gd name="textAreaLeft" fmla="*/ 367920 w 576000"/>
              <a:gd name="textAreaRight" fmla="*/ 576000 w 57600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85080" y="1197000"/>
            <a:ext cx="287280" cy="107964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2997360"/>
            <a:ext cx="142920" cy="1223640"/>
          </a:xfrm>
          <a:custGeom>
            <a:avLst/>
            <a:gdLst>
              <a:gd name="textAreaLeft" fmla="*/ 0 w 142920"/>
              <a:gd name="textAreaRight" fmla="*/ 51480 w 14292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75480" y="1484280"/>
            <a:ext cx="546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正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72240" y="3500280"/>
            <a:ext cx="546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反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48600" y="1916280"/>
            <a:ext cx="29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13800" y="4100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8320" y="98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论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9640" y="2060640"/>
            <a:ext cx="486000" cy="1214280"/>
          </a:xfrm>
          <a:prstGeom prst="upDownArrow">
            <a:avLst>
              <a:gd name="adj1" fmla="val 50000"/>
              <a:gd name="adj2" fmla="val 49739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2916360" cy="1052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856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合作探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84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2680" y="2565360"/>
            <a:ext cx="36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本段论述了＿ ＿ ＿ ＿的重要，再次证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了中心论点＿ ＿ ＿ ＿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40200" y="3716280"/>
            <a:ext cx="82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作者列举了哪些论据？试用简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的语言加以概括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32240" y="566100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本段运用了哪些论证方法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97440" y="1197000"/>
            <a:ext cx="56484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段属于什么论据？简要概括并说明其作用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191628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根据第三节思考以下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90720" y="10666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4418280"/>
            <a:ext cx="23623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舍 生 取 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1446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鱼             熊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312264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生               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22860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2860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189612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设喻论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（类比论证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1523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5238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13716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127296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舍           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舍           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16765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gradFill rotWithShape="0">
            <a:gsLst>
              <a:gs pos="0">
                <a:srgbClr val="ffd7cd"/>
              </a:gs>
              <a:gs pos="100000">
                <a:srgbClr val="b9b9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3352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167652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3276720" cy="1197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论证赏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295280" y="2133720"/>
            <a:ext cx="60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道 理 论 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2971800"/>
            <a:ext cx="1447920" cy="76320"/>
          </a:xfrm>
          <a:prstGeom prst="rightArrow">
            <a:avLst>
              <a:gd name="adj1" fmla="val 50000"/>
              <a:gd name="adj2" fmla="val 474292"/>
            </a:avLst>
          </a:prstGeom>
          <a:solidFill>
            <a:srgbClr val="00cc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25887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推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182880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1749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332748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如使……则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使……则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17499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因果论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35787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假设论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2209680"/>
            <a:ext cx="76320" cy="1447920"/>
          </a:xfrm>
          <a:prstGeom prst="downArrow">
            <a:avLst>
              <a:gd name="adj1" fmla="val 50000"/>
              <a:gd name="adj2" fmla="val 47429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2362320"/>
            <a:ext cx="790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对比论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5179680"/>
            <a:ext cx="2133360" cy="581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9f9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义 重 于 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52480" y="1141200"/>
            <a:ext cx="1981440" cy="581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义存于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828800"/>
            <a:ext cx="1277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举 例 论 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4570200"/>
            <a:ext cx="1828800" cy="581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见利忘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1216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正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464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676520"/>
            <a:ext cx="152280" cy="2666880"/>
          </a:xfrm>
          <a:prstGeom prst="downArrow">
            <a:avLst>
              <a:gd name="adj1" fmla="val 50000"/>
              <a:gd name="adj2" fmla="val 437825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2133720"/>
            <a:ext cx="91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对 比 论 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1141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嗟来之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12952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4724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8272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行道之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乞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106668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5705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万钟之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419112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38408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宫室之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妻妾之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所识穷乏        者得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191120"/>
            <a:ext cx="546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排 比 论 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3280" y="419112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1523880"/>
            <a:ext cx="152280" cy="3200400"/>
          </a:xfrm>
          <a:custGeom>
            <a:avLst/>
            <a:gdLst>
              <a:gd name="textAreaLeft" fmla="*/ 97200 w 152280"/>
              <a:gd name="textAreaRight" fmla="*/ 152640 w 1522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95480" y="760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鱼我所欲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656800"/>
            <a:ext cx="1066680" cy="1323000"/>
          </a:xfrm>
          <a:prstGeom prst="rect">
            <a:avLst/>
          </a:prstGeom>
          <a:gradFill rotWithShape="0">
            <a:gsLst>
              <a:gs pos="0">
                <a:srgbClr val="f5f5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舍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取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2808360"/>
            <a:ext cx="838080" cy="101592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义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于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8120" y="2655360"/>
            <a:ext cx="1066680" cy="1323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人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有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5131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义存于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6400" y="334080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见利忘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失其本心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3880" y="3276720"/>
            <a:ext cx="1524240" cy="75960"/>
          </a:xfrm>
          <a:prstGeom prst="rightArrow">
            <a:avLst>
              <a:gd name="adj1" fmla="val 50000"/>
              <a:gd name="adj2" fmla="val 501659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276720"/>
            <a:ext cx="1218960" cy="75960"/>
          </a:xfrm>
          <a:prstGeom prst="rightArrow">
            <a:avLst>
              <a:gd name="adj1" fmla="val 50000"/>
              <a:gd name="adj2" fmla="val 401185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274320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410364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论点          道理          结论         举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补充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426708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43434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43434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914400" y="3808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75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75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15640" y="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鱼我所欲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68720" y="66204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第一部分（第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段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36440" y="1181160"/>
            <a:ext cx="289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层（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者不可得兼，舍生而取义者也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含有论点：舍生而取义者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65400" y="1905120"/>
            <a:ext cx="32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层（所恶有甚于死者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是分析论证，亦即逻辑推理论证“舍生取义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这一中心论点的过程（正——反（假设推理）——正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46040" y="2895480"/>
            <a:ext cx="20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三层（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贤者能勿丧耳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是论人人皆有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35480" y="3657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第一部分：正反结合，层层深入，反复论证义是人之本心，义重于心，应舍生取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68040" y="47242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运用例证（正面）说明义重于生，舍生取义，不失本心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68040" y="57913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再举例（反面）说明功名利禄使人见利忘义，失去本心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14920" y="419112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第二部分（第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段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90880" y="52578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第三部分（第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段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700360" cy="6206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结构分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11430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孟子的哲学思想属于主观唯心主义，最具代表性的是他的“性善论”，认为人生来就有善良的本性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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他说：“人性之善也，犹水之就下也。人无有不善，水无有不下。”还说：“恻隐之心，仁也；羞恶之心，义也；恭敬之心，礼也；是非之心，智也。仁义礼智，非由外铄（给与）我也，我固有之也。”孟子的人性说中有合理的成分，他特别强调后天环境和教育对人的影响，以及自我修养的作用。认为“逸居而无教，则近于禽兽”，“生于忧患，死于安乐”；要求人们反躬自求，“养浩然之气”，做到“舍生取义”，“富贵不能淫，贫贱不能移，威武不能屈”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665440" cy="1052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240" y="189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性善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3203640" cy="1628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95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拓展延伸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、讨论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几千年前，孟子就提出了“鱼和熊掌不可得兼”的问题和应当“舍生取义”的观点，那么在我们现代社会，面对愈来愈多的诱惑，面对人生的各种考验，我们应当做出怎样的选择呢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03640" y="620280"/>
            <a:ext cx="378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通假字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辟通避：躲避      例：故患有所不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辩通辨：辨别      例：万钟则不辩礼义而受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得通德：感激      例：所识穷乏者得我与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通欤：语气词  例：所识穷乏者得我与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乡通向：从前       例：乡为身死而不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771640" cy="1197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文言积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3059280" cy="126828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8083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巩固练习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鱼，我所欲也，熊掌，亦我所欲也，二者不可得兼，舍鱼而取熊掌者也。①生，亦我所欲也，义，亦我所欲也，二者不可得兼，舍生而取义者也。②生亦我所欲，所欲有甚于生者，故不为苟得也。③死亦我所恶，所恶有甚于死者，故患有所不避也。④如使人之所欲莫甚于生，则凡可以得生者何不用也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使人之所恶莫甚于死者，则凡可以避患者何不为也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⑥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由是则生而有不用也；由是则可以避患而有不为也。⑦是故所欲有甚于生者，所恶有甚于死者。⑧非独贤者有是心也，人皆有之，贤者能勿丧耳。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50920" y="475200"/>
            <a:ext cx="83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这段文字用鱼比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，用熊掌比喻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，用舍鱼而取熊掌比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。文中还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进行对比，指出人世间有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更宝贵的东西，就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；也有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_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更可怕的东西，即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____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这段文字的中心论点是（　）。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①句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②句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⑧句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⑨句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这段文字用到的论证方法有（　）。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 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比喻论证法、举例论证法、说理论证法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 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比喻论证法、举例论证法、对比论证法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 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说理论证法、对比论证法、比喻论证法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 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．说理论证法、对比论证法、举例论证法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76400" y="5515560"/>
            <a:ext cx="30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参考答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　　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1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．生，义，舍生取义。生，死，生，义；死，不义。　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2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．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B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　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3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．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  <a:ea typeface="黑体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059280" cy="126828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8900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听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6320" y="206064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听读课文，要求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听</a:t>
            </a:r>
            <a:r>
              <a:rPr b="0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准</a:t>
            </a: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音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分</a:t>
            </a:r>
            <a:r>
              <a:rPr b="0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清</a:t>
            </a: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句读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200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3218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 使 人 之 所 欲 莫 甚 于 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呼 尔 而 与 之，行 道 之 人 弗 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万 钟 则 不 辨 礼 义 而 受 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今 为 所 识 穷 乏 者 得 我 而 为 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你能读准下列句子的节奏吗？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5440" y="1628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5440" y="2133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25440" y="27813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162864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49800" y="27082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89440" y="2133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7800" y="3357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3800" y="3357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765000"/>
            <a:ext cx="914400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使人之所欲莫甚于生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，则凡可以得生者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何不用也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使人之所恶莫甚于死者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则凡可以避患者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，何不为也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是则生而有不用也；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由是则可以避患而有不为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故所欲有甚于生者，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所恶有甚于死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非独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贤者有是心也，人皆有之，贤者能勿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丧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耳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295280"/>
            <a:ext cx="77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假使没有比生命更重要的             什么不可使用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98320" y="23493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所厌恶的那么凡是可用来逼祸的手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79440" y="335772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因此（有的人）明知某种手段能够生存却不使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63440" y="458136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这是因为（他们）所要的东西有比生命更重要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02136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不仅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5853240"/>
            <a:ext cx="13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丢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30492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 Unicode MS"/>
              </a:rPr>
              <a:t>万钟则不辨礼义</a:t>
            </a: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而受之，万钟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 Unicode MS"/>
              </a:rPr>
              <a:t>于</a:t>
            </a: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我何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 Unicode MS"/>
              </a:rPr>
              <a:t>加</a:t>
            </a: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焉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为宫室之美，妻妾之奉，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 Unicode MS"/>
              </a:rPr>
              <a:t>所识穷乏者得</a:t>
            </a: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我欤？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 Unicode MS"/>
              </a:rPr>
              <a:t>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 Unicode MS"/>
              </a:rPr>
              <a:t>为身死而不受，今为宫室之美为之；</a:t>
            </a: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向为身死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不受，今为妻妾之奉为之；向为身死而不受，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为所识穷乏者得我而为之：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 Unicode MS"/>
              </a:rPr>
              <a:t>是</a:t>
            </a: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亦不可以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 Unicode MS"/>
              </a:rPr>
              <a:t>已</a:t>
            </a: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乎？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之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 Unicode MS"/>
              </a:rPr>
              <a:t>谓失其本心</a:t>
            </a:r>
            <a:r>
              <a:rPr b="1" lang="zh-CN" sz="3200" spc="-1" strike="noStrike">
                <a:solidFill>
                  <a:srgbClr val="ffff00"/>
                </a:solidFill>
                <a:latin typeface="Arial Unicode MS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0840" y="7300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很多的俸禄不分辨是否合乎礼仪        对于        好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4200" y="19162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为了所认识的贫穷的人感谢我 从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9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宁可失去生命也不接受，现在为了宫室的华丽而做了这样的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1880" y="4869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这                停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2800" y="5805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叫做失掉了他们的本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2987640" cy="1413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700280"/>
            <a:ext cx="807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鱼，我所欲也，熊掌，亦我所欲也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者不可得兼，舍鱼而取熊掌者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，亦我所欲也，义，亦我所欲也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者不可得兼，舍生而取义者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4221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生命也是我喜爱的东西，正义也是我喜爱的东西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900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全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22050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鱼，是我喜爱的东西，熊掌，也是我喜爱的东西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99736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（如果）两种东西不能同时得到，（那么），（我要）舍弃鱼而选取熊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4292640"/>
            <a:ext cx="712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22936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（如果）两种东西不能同时得到，（那么），（我要）舍弃生命而选取正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286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亦我所欲，所欲有甚于生者，故不为苟得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死亦我所恶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所恶有甚于死者，故患有所不避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34290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使人之所欲莫甚于生，则凡可以得生者何不用也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人之所恶莫甚于死者，则凡可以避患者何不为也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765000"/>
            <a:ext cx="88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生命也是我喜爱的东西，（然而）我喜爱的东西还有比生命更为重要的，所以我不去干苟且偷生的事情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220500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死亡也（是）我厌恶的事情，（但我）所厌恶的，还有比死亡更为厉害的，所以祸患（我）也有不躲避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4005360"/>
            <a:ext cx="85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如果人们喜爱的没有比生命更重要的，那么一切可以用来保全生命的方法（有）什么不可以采用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5373720"/>
            <a:ext cx="88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如果人们厌恶的事情没有比死亡更厉害的，那么一切可以用来躲避祸患（而保全性命）的手段（有）什么不能做（的）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68580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是则生而有不用也；由是则可以避患而有不为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故所欲有甚于生者，所恶有甚于死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非独贤者有是心也，人皆有之，贤者能勿丧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1268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按照这些方法去做就（可以）生存，然而却有人不采用它；按照这些方法去做就（可以）躲避祸患，然而却有人不采用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2997360"/>
            <a:ext cx="81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所以（人们）所喜爱的东西有比生命更（重要的）， （人们）厌恶的事情有比死亡更厉害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43700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不仅仅贤德的人有这种思想，人人都有这种思想，（只不过）贤德的人能够（坚守这种品德）使它不致丧失罢了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2:27:11Z</dcterms:created>
  <dc:creator>黄映云</dc:creator>
  <dc:description/>
  <dc:language>en-US</dc:language>
  <cp:lastModifiedBy>user</cp:lastModifiedBy>
  <dcterms:modified xsi:type="dcterms:W3CDTF">2006-02-16T05:51:12Z</dcterms:modified>
  <cp:revision>25</cp:revision>
  <dc:subject/>
  <dc:title>PowerPoint 演示文稿</dc:title>
</cp:coreProperties>
</file>