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662-D01E-4BCB-A235-D37E438D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8C6-E78E-4137-A15B-189491BC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8BF-5DE3-4391-9D73-92419A5F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40A-5A14-4AA8-B925-787CFC74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254-615E-46ED-B4B7-EAD1DB4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DDC-9CCC-43AD-A439-1BAC553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00E-38B7-477B-A5BC-1B2AB87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37A-3184-4026-86E9-4A734C2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B80-E4B1-4088-9633-0B646E3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086-7529-485C-8253-A5FDB49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5CC-60BF-46FA-B7A0-91214C4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E0C-2785-4F87-B4B7-7F10B4A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EA9-9EC1-4C8F-80D0-C67EEECA1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03280" y="1125360"/>
            <a:ext cx="6264360" cy="273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78936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表达情感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抒发了                                     的一种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429264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对不畏艰辛、艰苦创业、默默无闻、乐于奉献的社会主义建设者的热爱、敬仰和赞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16440" y="1916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际劳动节表彰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张迎善答记者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物采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040" y="384984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请所有男同学扮张迎善，所有女同学一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做主持人，其余人做记者，结合对课文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容的理解，记者提问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现场采访张迎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81040" y="2395440"/>
            <a:ext cx="481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以《我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人》为题，仿照本文写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写一篇文章，要求抓住人物最有特征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运用多种表达方式，描写人物外貌，来塑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人物的形象。字数不少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1557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484360" y="2349360"/>
            <a:ext cx="446580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 谢 指 导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5533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1268280"/>
            <a:ext cx="64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一   双   手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615636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姜</a:t>
            </a:r>
            <a:r>
              <a:rPr b="1" lang="zh-CN" sz="16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梦</a:t>
            </a: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73040" y="234936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通畅朗读课文，概括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主要内容，圈点批注感受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章表达的思想感情，学习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住特征刻画人物形象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484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就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23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用你喜欢的方式自读课文，读完后谈谈你初读课文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2160" y="2035080"/>
            <a:ext cx="445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描写手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描绘了                                 的一双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005360"/>
            <a:ext cx="3384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268280"/>
            <a:ext cx="360360" cy="424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9200" y="228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明写各种各样的手，烘托一双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2320" y="30481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天下第一奇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70320" y="10447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简直是半截老松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5440" y="190980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皮肤呈木色，纹络又粗又细，一道道黑土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1960" y="27018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掌面鼓皮样硬，一只手就向一根老甘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08480" y="356544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左手大拇指没有指甲，手指各个关节都缠着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90480" y="44355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手大无比，真是我今生今世见到的天下第一号大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6080" y="52275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手坚硬耐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9640" y="575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过手想像，抒发感受，赞颂其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37040" y="3060360"/>
            <a:ext cx="60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一双创造绿色宝库的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1484280"/>
            <a:ext cx="287280" cy="4032360"/>
          </a:xfrm>
          <a:custGeom>
            <a:avLst/>
            <a:gdLst>
              <a:gd name="textAreaLeft" fmla="*/ 0 w 287280"/>
              <a:gd name="textAreaRight" fmla="*/ 103680 w 28728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5920"/>
            <a:ext cx="180036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一 双 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2271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年开学初，他父亲来交学费，我看到他父亲的一双粗壮宽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筋突现的手，满是老茧，抖抖索索的把钱交给了我，那印象实在太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7280" y="36306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———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农民的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420840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都能见到那双手不停地写，手指原本纤长白皙，但一到冬天就逐渐变得红肿。手心处横着道道粗纹，粗糙且无光泽。面对这样一双手，谁能猜到她还不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58800" y="6097680"/>
            <a:ext cx="2034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———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老师的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来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1080" y="11970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读下列两段文字，根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描写说说写的是谁的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371628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人物言行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塑造了                                     的一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46440" y="4292640"/>
            <a:ext cx="7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不畏艰辛、艰苦创业、默默无闻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勤劳无私、乐于奉献、淳朴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看视频写保护森林的公益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6308640"/>
            <a:ext cx="727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要求：语句精练，富有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0800" y="37162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8280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6680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1:45:21Z</dcterms:created>
  <dc:creator>user</dc:creator>
  <dc:description/>
  <dc:language>en-US</dc:language>
  <cp:lastModifiedBy>何秋和</cp:lastModifiedBy>
  <dcterms:modified xsi:type="dcterms:W3CDTF">2005-12-30T00:58:31Z</dcterms:modified>
  <cp:revision>73</cp:revision>
  <dc:subject/>
  <dc:title>幻灯片 1</dc:title>
</cp:coreProperties>
</file>