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gif" ContentType="image/gif"/>
  <Override PartName="/ppt/media/image4.jpeg" ContentType="image/jpeg"/>
  <Override PartName="/ppt/media/laser.wav" ContentType="audio/x-wav"/>
  <Override PartName="/ppt/media/image2.jpeg" ContentType="image/jpeg"/>
  <Override PartName="/ppt/media/image3.png" ContentType="image/png"/>
  <Override PartName="/ppt/media/image23.gif" ContentType="image/gif"/>
  <Override PartName="/ppt/media/image5.jpeg" ContentType="image/jpeg"/>
  <Override PartName="/ppt/media/image15.gif" ContentType="image/gif"/>
  <Override PartName="/ppt/media/image7.jpeg" ContentType="image/jpeg"/>
  <Override PartName="/ppt/media/image8.jpeg" ContentType="image/jpeg"/>
  <Override PartName="/ppt/media/whoosh.wav" ContentType="audio/x-wav"/>
  <Override PartName="/ppt/media/image9.jpeg" ContentType="image/jpeg"/>
  <Override PartName="/ppt/media/image27.wmf" ContentType="image/x-wmf"/>
  <Override PartName="/ppt/media/image25.gif" ContentType="image/gif"/>
  <Override PartName="/ppt/media/image6.jpeg" ContentType="image/jpeg"/>
  <Override PartName="/ppt/media/chimes.wav" ContentType="audio/x-wav"/>
  <Override PartName="/ppt/media/image1.jpeg" ContentType="image/jpeg"/>
  <Override PartName="/ppt/media/image12.jpeg" ContentType="image/jpeg"/>
  <Override PartName="/ppt/media/image13.png" ContentType="image/png"/>
  <Override PartName="/ppt/media/image14.gif" ContentType="image/gif"/>
  <Override PartName="/ppt/media/image17.png" ContentType="image/png"/>
  <Override PartName="/ppt/media/image16.gif" ContentType="image/gif"/>
  <Override PartName="/ppt/media/image18.gif" ContentType="image/gif"/>
  <Override PartName="/ppt/media/image19.gif" ContentType="image/gif"/>
  <Override PartName="/ppt/media/image10.jpeg" ContentType="image/jpeg"/>
  <Override PartName="/ppt/media/image21.gif" ContentType="image/gif"/>
  <Override PartName="/ppt/media/image11.jpeg" ContentType="image/jpeg"/>
  <Override PartName="/ppt/media/image24.png" ContentType="image/png"/>
  <Override PartName="/ppt/media/image26.gif" ContentType="image/gif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F4F2-CEF4-47A1-B78C-8743357E5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19651-B3BB-4BB6-B546-66FC23A8A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176B-6FB2-4926-A333-F23AFB8A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BF67B-CEFB-455B-8CA3-9E8FF9270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4C3F-02D4-43E9-89EF-2AEBD6D0C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3008-3819-4733-B7A1-4CE8FD354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4646-FCC6-41A8-A7FC-0B17B5CC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E951-BD1D-4EC9-954D-A14BF6B9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5E85-0B2B-43BF-B0B3-41263874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D96D-32C5-4F3D-B5DC-DBB02FC7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9F29-7798-4A0D-9F9E-E2A300BA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27DA-F521-4AF8-B174-C92EACA64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AD33-7BE1-4ED4-86F1-52DE7AA7E4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laser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audio" Target="../media/chimes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8.gif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3"/>
          <p:cNvSpPr txBox="1"/>
          <p:nvPr/>
        </p:nvSpPr>
        <p:spPr>
          <a:xfrm>
            <a:off x="2219400" y="1628640"/>
            <a:ext cx="4608360" cy="216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雨 说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3241800" y="443700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台湾    郑愁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2060640" y="338760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为生活在中国大地的儿童而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7"/>
          <p:cNvSpPr/>
          <p:nvPr/>
        </p:nvSpPr>
        <p:spPr>
          <a:xfrm>
            <a:off x="611280" y="701640"/>
            <a:ext cx="670536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雨说：我是到大地上来亲近你们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我是四月的客人带来春的洗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什么不扬起你的脸让我亲一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为什么不跟着我走，踩着我脚步的拍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8" descr="C:\My Documents\My Pictures\春雨43.jpg"/>
          <p:cNvPicPr/>
          <p:nvPr/>
        </p:nvPicPr>
        <p:blipFill>
          <a:blip r:embed="rId1"/>
          <a:stretch/>
        </p:blipFill>
        <p:spPr>
          <a:xfrm>
            <a:off x="4114800" y="4952880"/>
            <a:ext cx="3657600" cy="167652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380880" y="388620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热爱大地万物，她希望人们能与它亲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1026"/>
          <p:cNvSpPr/>
          <p:nvPr/>
        </p:nvSpPr>
        <p:spPr>
          <a:xfrm>
            <a:off x="1600200" y="1371600"/>
            <a:ext cx="5943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027"/>
          <p:cNvSpPr/>
          <p:nvPr/>
        </p:nvSpPr>
        <p:spPr>
          <a:xfrm>
            <a:off x="7696080" y="152388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028"/>
          <p:cNvSpPr/>
          <p:nvPr/>
        </p:nvSpPr>
        <p:spPr>
          <a:xfrm>
            <a:off x="1752480" y="3429000"/>
            <a:ext cx="5410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030" descr="C:\My Documents\My Pictures\春雨84.jpg"/>
          <p:cNvPicPr/>
          <p:nvPr/>
        </p:nvPicPr>
        <p:blipFill>
          <a:blip r:embed="rId1"/>
          <a:stretch/>
        </p:blipFill>
        <p:spPr>
          <a:xfrm>
            <a:off x="304920" y="0"/>
            <a:ext cx="4114800" cy="22194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1" descr="C:\My Documents\My Pictures\2春雨.jpg"/>
          <p:cNvPicPr/>
          <p:nvPr/>
        </p:nvPicPr>
        <p:blipFill>
          <a:blip r:embed="rId2"/>
          <a:stretch/>
        </p:blipFill>
        <p:spPr>
          <a:xfrm>
            <a:off x="304920" y="2286000"/>
            <a:ext cx="4267080" cy="20574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32" descr="C:\My Documents\My Pictures\春雨322.jpg"/>
          <p:cNvPicPr/>
          <p:nvPr/>
        </p:nvPicPr>
        <p:blipFill>
          <a:blip r:embed="rId3"/>
          <a:stretch/>
        </p:blipFill>
        <p:spPr>
          <a:xfrm>
            <a:off x="228600" y="4343400"/>
            <a:ext cx="4419720" cy="25146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033"/>
          <p:cNvSpPr/>
          <p:nvPr/>
        </p:nvSpPr>
        <p:spPr>
          <a:xfrm>
            <a:off x="2995200" y="838080"/>
            <a:ext cx="553932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跟着我去踩田圃的泥土将润如油膏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去看牧场就要抽发忍冬的新苗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绕着池塘跟跳跃的鱼儿说声好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去听听溪水练习新编的洗衣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034"/>
          <p:cNvSpPr/>
          <p:nvPr/>
        </p:nvSpPr>
        <p:spPr>
          <a:xfrm>
            <a:off x="4833720" y="685800"/>
            <a:ext cx="10335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带着人们去体验大自然的各种气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F:\素材库\我的图片\雾中山.gif"/>
          <p:cNvPicPr/>
          <p:nvPr/>
        </p:nvPicPr>
        <p:blipFill>
          <a:blip r:embed="rId1">
            <a:lum bright="3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F:\素材库\动画图片\瀑布.gif"/>
          <p:cNvPicPr/>
          <p:nvPr/>
        </p:nvPicPr>
        <p:blipFill>
          <a:blip r:embed="rId2">
            <a:lum bright="36000"/>
          </a:blip>
          <a:stretch/>
        </p:blipFill>
        <p:spPr>
          <a:xfrm>
            <a:off x="0" y="4297320"/>
            <a:ext cx="6172200" cy="2560680"/>
          </a:xfrm>
          <a:prstGeom prst="rect">
            <a:avLst/>
          </a:prstGeom>
          <a:ln w="0">
            <a:noFill/>
          </a:ln>
        </p:spPr>
      </p:pic>
      <p:sp>
        <p:nvSpPr>
          <p:cNvPr id="91" name="Text Box 4"/>
          <p:cNvSpPr/>
          <p:nvPr/>
        </p:nvSpPr>
        <p:spPr>
          <a:xfrm>
            <a:off x="3048120" y="609480"/>
            <a:ext cx="54100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雨说，我来了，我来的地方很遥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那儿山峰耸立，白云满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我也曾是孩子和你们一样地爱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可是，我是幸运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c1c1c"/>
                </a:solidFill>
                <a:latin typeface="Times New Roman"/>
                <a:ea typeface="黑体"/>
              </a:rPr>
              <a:t>我是在白云的襁褓中笑着长大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319040" y="350028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自述自己的来历，给以想象的空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4"/>
          <p:cNvSpPr/>
          <p:nvPr/>
        </p:nvSpPr>
        <p:spPr>
          <a:xfrm>
            <a:off x="914400" y="457200"/>
            <a:ext cx="60199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第一样事儿，我要教你们勇敢地笑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君不见，柳条儿见了我笑弯了腰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石狮子见了我笑出了泪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小燕子见了我笑斜了翅膀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609480" y="373392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诗人借柳条儿、石狮子、小燕子这些自然界的精灵，抓住它们生动的一刹那，抒发自己对勇敢、乐观、自信的赞美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6" descr="F:\素材库\动画图片\BIRD10.GIF"/>
          <p:cNvPicPr/>
          <p:nvPr/>
        </p:nvPicPr>
        <p:blipFill>
          <a:blip r:embed="rId1"/>
          <a:stretch/>
        </p:blipFill>
        <p:spPr>
          <a:xfrm>
            <a:off x="6858000" y="1752480"/>
            <a:ext cx="1257480" cy="6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F:\素材库\lzcxx68_高级动画图案\高级动画图案\飘国旗.gif"/>
          <p:cNvPicPr/>
          <p:nvPr/>
        </p:nvPicPr>
        <p:blipFill>
          <a:blip r:embed="rId1"/>
          <a:stretch/>
        </p:blipFill>
        <p:spPr>
          <a:xfrm>
            <a:off x="-6480" y="1440"/>
            <a:ext cx="3886200" cy="3581640"/>
          </a:xfrm>
          <a:prstGeom prst="rect">
            <a:avLst/>
          </a:prstGeom>
          <a:ln w="0">
            <a:noFill/>
          </a:ln>
        </p:spPr>
      </p:pic>
      <p:sp>
        <p:nvSpPr>
          <p:cNvPr id="97" name="Text Box 8"/>
          <p:cNvSpPr/>
          <p:nvPr/>
        </p:nvSpPr>
        <p:spPr>
          <a:xfrm>
            <a:off x="717480" y="3027240"/>
            <a:ext cx="57913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第二样事，我还要教你们勇敢地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那旗子见了我笑得哗啦啦地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要旗子笑、春天的声音就有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只要你们笑，大地的希望就有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685800" y="5562720"/>
            <a:ext cx="6934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只要孩子始终保持快乐的童心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新的世界就有希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10" descr="C:\My Documents\My Pictures\笑脸.gif"/>
          <p:cNvPicPr/>
          <p:nvPr/>
        </p:nvPicPr>
        <p:blipFill>
          <a:blip r:embed="rId2"/>
          <a:stretch/>
        </p:blipFill>
        <p:spPr>
          <a:xfrm>
            <a:off x="6324480" y="3733920"/>
            <a:ext cx="2819520" cy="31240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11"/>
          <p:cNvSpPr/>
          <p:nvPr/>
        </p:nvSpPr>
        <p:spPr>
          <a:xfrm>
            <a:off x="6629400" y="0"/>
            <a:ext cx="2286000" cy="3048120"/>
          </a:xfrm>
          <a:prstGeom prst="wedgeEllipse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0" y="1219320"/>
            <a:ext cx="8839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Picture 6" descr="F:\素材库\动画图片\question动画.gif"/>
          <p:cNvPicPr/>
          <p:nvPr/>
        </p:nvPicPr>
        <p:blipFill>
          <a:blip r:embed="rId1"/>
          <a:stretch/>
        </p:blipFill>
        <p:spPr>
          <a:xfrm>
            <a:off x="304920" y="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7"/>
          <p:cNvSpPr/>
          <p:nvPr/>
        </p:nvSpPr>
        <p:spPr>
          <a:xfrm>
            <a:off x="1371600" y="0"/>
            <a:ext cx="6400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一读第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两节，这其中的“笑”你是怎样理解的？谈谈自己的看法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228600" y="1600200"/>
            <a:ext cx="861048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两节诗，虽是“春雨教儿童二样事”，但内容只有一样，即“教你们勇敢地笑”。不同的是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诗人通过景物描写，通过物对雨的态度，看到“笑”的作用。“柳条儿”被雨打自然是要矮一些的，这拟人逼真，风雨中的柳树长得更潇洒；而一石狮，石狮流的不是泪，那分明是雨水呀，风雨中石狮也多了一种乐趣；雨中的飞燕，倾斜那灵巧的躯林，穿梭其中，那是一种喜庆、勇敢的身姿，可见诗人透过雨，教给儿童们的是勇敢地面对生活的挑战，只有这样，乐对人生，才能幸福成长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而第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节中“只要旗子笑，春天的声音就有了／只要你们笑，大地的希望就有了”是作者情感的流露，这里的“笑”仍然是教儿童们要勇敢地面对人生。儿童是大地的主人，儿童是未来。只要我们的广大儿童勇敢面对生活，乐对人生，我们的国家，民族就有希望。这是诗人殷切的希望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C:\My Documents\My Pictures\吃苹果2.gif"/>
          <p:cNvPicPr/>
          <p:nvPr/>
        </p:nvPicPr>
        <p:blipFill>
          <a:blip r:embed="rId1"/>
          <a:stretch/>
        </p:blipFill>
        <p:spPr>
          <a:xfrm>
            <a:off x="685800" y="457200"/>
            <a:ext cx="22096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4" descr="C:\My Documents\My Pictures\吃苹果3.jpg"/>
          <p:cNvPicPr/>
          <p:nvPr/>
        </p:nvPicPr>
        <p:blipFill>
          <a:blip r:embed="rId2"/>
          <a:stretch/>
        </p:blipFill>
        <p:spPr>
          <a:xfrm>
            <a:off x="6934320" y="228600"/>
            <a:ext cx="2209680" cy="33526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366920" y="304920"/>
            <a:ext cx="442440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雨说，我来了，我来了就不再回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你们自由地笑了，我就快乐地安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一天，你们吃着苹果擦着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要记着，你们嘴里的那份甜呀，就是我祝福的心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6"/>
          <p:cNvSpPr/>
          <p:nvPr/>
        </p:nvSpPr>
        <p:spPr>
          <a:xfrm>
            <a:off x="457200" y="2666880"/>
            <a:ext cx="2666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赏析：捕捉孩童吃苹果这一细节，撷取内涵丰富的那份“甜”，化为“祝福的心意”，虽卒章显志，却不露声色，体现了中国传统诗歌的含蓄美，又不乏新诗自由的风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7" dur="indefinite" restart="never" nodeType="tmRoot">
          <p:childTnLst>
            <p:seq>
              <p:cTn id="398" dur="indefinite" nodeType="mainSeq">
                <p:childTnLst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dur="indefinite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14400" y="68580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2209680" y="685800"/>
            <a:ext cx="6248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8" descr="F:\素材库\动画图片\分隔线.gif"/>
          <p:cNvPicPr/>
          <p:nvPr/>
        </p:nvPicPr>
        <p:blipFill>
          <a:blip r:embed="rId1"/>
          <a:stretch/>
        </p:blipFill>
        <p:spPr>
          <a:xfrm>
            <a:off x="685800" y="1905120"/>
            <a:ext cx="7315200" cy="56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0"/>
          <p:cNvSpPr/>
          <p:nvPr/>
        </p:nvSpPr>
        <p:spPr>
          <a:xfrm>
            <a:off x="2133720" y="380880"/>
            <a:ext cx="4876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2"/>
          <p:cNvSpPr/>
          <p:nvPr/>
        </p:nvSpPr>
        <p:spPr>
          <a:xfrm>
            <a:off x="1905120" y="533520"/>
            <a:ext cx="670536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最后一节中写道：“当你们自由地笑了，我就快乐地安息”，你如何理解这句话，这“快乐的安息”让你联想起龚自珍的哪两句诗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?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3"/>
          <p:cNvSpPr/>
          <p:nvPr/>
        </p:nvSpPr>
        <p:spPr>
          <a:xfrm>
            <a:off x="1523880" y="2438280"/>
            <a:ext cx="6553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1066680" y="2438280"/>
            <a:ext cx="3276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写春雨希望孩子们自由快乐地生活，为此她甘心奉献自己的一切；“快乐的安息”可让我们联想到龚自珍的“落红不是无情物，化作春泥更护花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7" descr="F:\素材库\动画图片\QUEDH4.GIF"/>
          <p:cNvPicPr/>
          <p:nvPr/>
        </p:nvPicPr>
        <p:blipFill>
          <a:blip r:embed="rId2"/>
          <a:stretch/>
        </p:blipFill>
        <p:spPr>
          <a:xfrm>
            <a:off x="533520" y="685800"/>
            <a:ext cx="1295280" cy="8571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8" descr="F:\素材库\我的图片\一年四季.gif"/>
          <p:cNvPicPr/>
          <p:nvPr/>
        </p:nvPicPr>
        <p:blipFill>
          <a:blip r:embed="rId3"/>
          <a:stretch/>
        </p:blipFill>
        <p:spPr>
          <a:xfrm>
            <a:off x="4495680" y="2971800"/>
            <a:ext cx="4000680" cy="30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2"/>
          <p:cNvSpPr/>
          <p:nvPr/>
        </p:nvSpPr>
        <p:spPr>
          <a:xfrm>
            <a:off x="609480" y="3049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228600" y="1523880"/>
            <a:ext cx="8915400" cy="428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这首诗按雨的行踪，可以分四部分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一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前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来前大地萧条，也因大地萧条，才来探访大地。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二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4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5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中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来临，大地更新，春雨的来临为大地带来了欢乐。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三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7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、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8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告知儿童自己曾在笑中长大，教儿童要勇敢面对生活、幸福成长。</a:t>
            </a:r>
            <a:br>
              <a:rPr sz="2400"/>
            </a:b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第四部分：（第</a:t>
            </a:r>
            <a:r>
              <a:rPr b="0" lang="en-US" sz="2400" spc="-1" strike="noStrike">
                <a:solidFill>
                  <a:srgbClr val="ff3300"/>
                </a:solidFill>
                <a:latin typeface="宋体"/>
              </a:rPr>
              <a:t>9</a:t>
            </a:r>
            <a:r>
              <a:rPr b="0" lang="zh-CN" sz="2400" spc="-1" strike="noStrike">
                <a:solidFill>
                  <a:srgbClr val="ff3300"/>
                </a:solidFill>
                <a:latin typeface="宋体"/>
              </a:rPr>
              <a:t>节）雨息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写春雨向儿童们表达自己的最大心愿是看到儿童们自由地笑，幸福成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762120" y="609480"/>
            <a:ext cx="6095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371600" y="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这首诗布局谋篇，层次井然，请给诗分段并归纳段意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6" descr="F:\素材库\动画图片\question动画.gif"/>
          <p:cNvPicPr/>
          <p:nvPr/>
        </p:nvPicPr>
        <p:blipFill>
          <a:blip r:embed="rId1"/>
          <a:stretch/>
        </p:blipFill>
        <p:spPr>
          <a:xfrm>
            <a:off x="228600" y="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8"/>
          <p:cNvSpPr/>
          <p:nvPr/>
        </p:nvSpPr>
        <p:spPr>
          <a:xfrm>
            <a:off x="380880" y="58672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4"/>
          <p:cNvSpPr txBox="1"/>
          <p:nvPr/>
        </p:nvSpPr>
        <p:spPr>
          <a:xfrm>
            <a:off x="609480" y="228600"/>
            <a:ext cx="1828800" cy="15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课文小结</a:t>
            </a:r>
            <a:endParaRPr b="0" lang="en-US" sz="28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Text Box 5"/>
          <p:cNvSpPr/>
          <p:nvPr/>
        </p:nvSpPr>
        <p:spPr>
          <a:xfrm>
            <a:off x="3200400" y="838080"/>
            <a:ext cx="5638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诗歌的题目是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那么诗人笔下的雨都说了什么？这些话集中表达了一个什么意思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80880" y="2743200"/>
            <a:ext cx="8077320" cy="26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雨”说她来了；她是温柔亲切的爱的使者；她，静悄悄地走来，孩子们不要拒绝她的来到；她，来自遥远的地方；她曾在幸运的笑中长大。“雨”说她来了，就不再回去，当孩子们学会了自由地笑，她 快乐地安息。这些话表达了中国的长者们为了让儿童们能够无忧无虑、健康幸福的长大，他们愿意做出一切的努力、付出一切的代价。</a:t>
            </a:r>
            <a:br>
              <a:rPr sz="2800"/>
            </a:b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中心 ：表达了作者对春雨无私奉献精神的赞美和对“生活在中国大地上的儿童”的由衷祝福及热切期望</a:t>
            </a:r>
            <a:r>
              <a:rPr b="0" lang="zh-CN" sz="2000" spc="-1" strike="noStrike">
                <a:solidFill>
                  <a:srgbClr val="3333cc"/>
                </a:solidFill>
                <a:latin typeface="Times New Roman"/>
              </a:rPr>
              <a:t>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3"/>
          <p:cNvSpPr txBox="1"/>
          <p:nvPr/>
        </p:nvSpPr>
        <p:spPr>
          <a:xfrm>
            <a:off x="1905120" y="533520"/>
            <a:ext cx="243828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诗人简介</a:t>
            </a:r>
            <a:endParaRPr b="0" lang="en-US" sz="4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609480" y="1828800"/>
            <a:ext cx="85345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郑愁予，本名郑文韬，祖籍河北， 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93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生于山东济南。童年随父亲辗转大江南北。抗战胜利后到北京上学，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49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随家人去台湾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953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大学毕业，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1968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年赴美，在爱荷华大学学习，现旅居美国，任耶鲁大学东亚文学系教授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        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郑愁予本名文韬，愁予是他的诗名，源自于辛弃疾的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《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菩萨 蛮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·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书江西造口壁</a:t>
            </a: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0033cc"/>
                </a:solidFill>
                <a:latin typeface="Times New Roman"/>
              </a:rPr>
              <a:t>末句：“江晚正愁予，山深闻鹧鸪．”这里的 “愁”已是“西北望长安”的政治情怀了。作为台湾“现代派”诗人 的杰出代表，郑憨予一生创作饱含了对国家、民族的深切关怀和 理性思考，动荡的年代给他的诗情打下了“沉郁顿挫”的精神烙 印，西风古雨又使得他的诗风熔铸在变幻无穷的浑然天成中．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1523880" y="5335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3"/>
          <p:cNvSpPr/>
          <p:nvPr/>
        </p:nvSpPr>
        <p:spPr>
          <a:xfrm>
            <a:off x="1676520" y="68580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828800" y="838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6"/>
          <p:cNvSpPr/>
          <p:nvPr/>
        </p:nvSpPr>
        <p:spPr>
          <a:xfrm>
            <a:off x="990720" y="259092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6" descr="F:\素材库\动画图片\QUEDH1.GIF"/>
          <p:cNvPicPr/>
          <p:nvPr/>
        </p:nvPicPr>
        <p:blipFill>
          <a:blip r:embed="rId1"/>
          <a:stretch/>
        </p:blipFill>
        <p:spPr>
          <a:xfrm>
            <a:off x="609480" y="914400"/>
            <a:ext cx="1524240" cy="1295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F:\素材库\动画图片\QUEDH2.GIF"/>
          <p:cNvPicPr/>
          <p:nvPr/>
        </p:nvPicPr>
        <p:blipFill>
          <a:blip r:embed="rId2"/>
          <a:stretch/>
        </p:blipFill>
        <p:spPr>
          <a:xfrm>
            <a:off x="6248520" y="4267080"/>
            <a:ext cx="307800" cy="2286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28"/>
          <p:cNvSpPr/>
          <p:nvPr/>
        </p:nvSpPr>
        <p:spPr>
          <a:xfrm>
            <a:off x="2666880" y="762120"/>
            <a:ext cx="579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3300"/>
                </a:solidFill>
                <a:latin typeface="Times New Roman"/>
              </a:rPr>
              <a:t>副标题起什么作用？这一首诗的副标“为生活在中国大地的儿童而歌”对我们理解这首诗的题旨有什么帮助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29"/>
          <p:cNvSpPr/>
          <p:nvPr/>
        </p:nvSpPr>
        <p:spPr>
          <a:xfrm>
            <a:off x="304920" y="2666880"/>
            <a:ext cx="8458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散文和诗歌中的副标题一般以是提示诗、文写作缘由为多。如（有的人）其副标题是“纪念鲁迅有感”其实这首诗就是为纪念鲁迅逝世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周年的创作的，目的也就是以鲜明的爱憎，赞颂鲁迅先生自愿“俯下身子给人民当牛马”，“情愿作野草，等着地下的火烧”的伟大精神。（雨说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这首诗的副标题“为生活在中国大地上的儿童而歌”它提示了读者，诗人写作本首诗歌的出</a:t>
            </a:r>
            <a:br>
              <a:rPr sz="2400"/>
            </a:b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发点是为中国的广大儿童们。诗人想借“春雨”告诉中国的儿童们，中国人传统的人文思想是“一切为了孩子”“一切为了下一代”，儿童们应该去感受生活的美好，去体会长者的爱抚，在无忧无虑中幸福成长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3" descr="F:\素材库\动画图片\question动画.gif"/>
          <p:cNvPicPr/>
          <p:nvPr/>
        </p:nvPicPr>
        <p:blipFill>
          <a:blip r:embed="rId1"/>
          <a:stretch/>
        </p:blipFill>
        <p:spPr>
          <a:xfrm>
            <a:off x="304920" y="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4"/>
          <p:cNvSpPr/>
          <p:nvPr/>
        </p:nvSpPr>
        <p:spPr>
          <a:xfrm>
            <a:off x="1447920" y="38088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讨论诗歌运用的修辞手法及好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1219320" y="1066680"/>
            <a:ext cx="64767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主要运用了“拟人”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亲切，便于抒情；另外，还运用了比喻、排比、反复等修辞手法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1143000" y="274320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想一想，这首诗与艾青（黎明的通知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在拟人化手法运用上有什么异同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F:\素材库\动画图片\question动画.gif"/>
          <p:cNvPicPr/>
          <p:nvPr/>
        </p:nvPicPr>
        <p:blipFill>
          <a:blip r:embed="rId2"/>
          <a:stretch/>
        </p:blipFill>
        <p:spPr>
          <a:xfrm>
            <a:off x="228600" y="2819520"/>
            <a:ext cx="822240" cy="822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609480" y="3776760"/>
            <a:ext cx="76201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这首诗主要运用了拟人化手法。这一点和艾青的（黎明的通知）类似。艾青的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黎明的通知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全诗以“黎明”为说话者，而郑愁予的（雨说），全诗以春雨为说话者。不同的是艾诗主要是“黎明”让诗人转告人们它的通知，而郑诗则用“雨”直接与儿童对话，表情达意罢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990720" y="609480"/>
            <a:ext cx="6248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Object 3" descr=""/>
          <p:cNvPicPr/>
          <p:nvPr/>
        </p:nvPicPr>
        <p:blipFill>
          <a:blip r:embed="rId1"/>
          <a:stretch/>
        </p:blipFill>
        <p:spPr>
          <a:xfrm>
            <a:off x="2286000" y="2852640"/>
            <a:ext cx="4572000" cy="342900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4"/>
          <p:cNvSpPr/>
          <p:nvPr/>
        </p:nvSpPr>
        <p:spPr>
          <a:xfrm>
            <a:off x="685800" y="1752480"/>
            <a:ext cx="655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　春雨已经对我们说了这么多的话，现在，我们不妨也对春雨说几句话，说几句你心里最想说的话或写几行诗都行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5"/>
          <p:cNvSpPr/>
          <p:nvPr/>
        </p:nvSpPr>
        <p:spPr>
          <a:xfrm>
            <a:off x="228600" y="304920"/>
            <a:ext cx="5791320" cy="231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总结、扩展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1141阳光总在风雨后.mp3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380880" y="376200"/>
            <a:ext cx="83822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郑愁予其人其诗都给人一种神秘感。他本人是一个运动健将，但诗中表现的却是一个多情书生；他有着极深的文学修养，但他却毕业于法商学院；他身为现代派的主要干将，但他的诗却处处流淌着古典韵味；他的诗婉约犹如李商隐，但豪放起来酷似李白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　　郑愁予比较有名的诗作，比如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错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错误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是他流传最广的作品。在台湾被誉为“现代抒情诗的绝唱”）、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《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水手刀</a:t>
            </a: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》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等，大多都是以旅人为抒情主人公的。因此他被称为“浪子诗人”。对此，郑愁予不以为然，他说：“因为我从小是在抗战中长大，所以我接触到中国的苦难，人民流浪不安的生活，我把这些写进诗里，有些人便叫我‘浪子’。其实影响我童年的和青年时代的，更多的是传统的仁侠精神。”也许正是仁侠精神和浪子情怀的结合，才使郑愁予的诗有如此动人的艺术魅力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3"/>
          <p:cNvSpPr/>
          <p:nvPr/>
        </p:nvSpPr>
        <p:spPr>
          <a:xfrm>
            <a:off x="4267080" y="1066680"/>
            <a:ext cx="4038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1447920" y="3048120"/>
            <a:ext cx="5410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990720" y="5867280"/>
            <a:ext cx="6553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971800" y="2819520"/>
            <a:ext cx="1828800" cy="69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写作背景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0" y="380880"/>
            <a:ext cx="883908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郑愁予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3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出生于山东济南。童年随父辗转大江南北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4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随家人去台湾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5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开始发表作品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6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赴美，在爱荷华大学国际写作班进修学习，获艺术硕士学位。此后一直保持沉默、很少发表作品。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左右再度出山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说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他复出之后于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7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写成的，此时诗人虽身在美国，却心系祖国，以满腔的热忱关注祖国儿童的成长。诗歌以新颖而鲜活的意象，灵动而多情的语言，抒发了对儿童浓浓的关爱之情，表达了对祖国未来真诚的祝福。诗人从小在炮火中长大，他深切体味过战争的苦难和流浪的辛酸，所以他更珍视童心的天真烂漫，也更能懂得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关爱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对童年的意义。诗中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雨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成了温柔亲切的爱的使者，正寄寓了诗人真诚的希望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5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7"/>
          <p:cNvSpPr/>
          <p:nvPr/>
        </p:nvSpPr>
        <p:spPr>
          <a:xfrm>
            <a:off x="1447920" y="10666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WordArt 8"/>
          <p:cNvSpPr txBox="1"/>
          <p:nvPr/>
        </p:nvSpPr>
        <p:spPr>
          <a:xfrm>
            <a:off x="1676520" y="1219320"/>
            <a:ext cx="1828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ln w="0">
                  <a:noFill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学习目标</a:t>
            </a:r>
            <a:endParaRPr b="0" lang="en-US" sz="2800" spc="-1" strike="noStrike">
              <a:ln w="0">
                <a:noFill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80880" y="2819520"/>
            <a:ext cx="792504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1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会细致观察景物，抓住事物特征的描写方法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．学习在景物描写中抒发感情的方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3  </a:t>
            </a: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学习作者塑造博大、宽广的胸怀，以造福于人为自己最大的幸福的精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2"/>
          <p:cNvSpPr/>
          <p:nvPr/>
        </p:nvSpPr>
        <p:spPr>
          <a:xfrm>
            <a:off x="380880" y="762120"/>
            <a:ext cx="822960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大自然的花开花谢，星沉日落，雨雪风霜，常常带给我们无穷无尽的遐想和无限的感慨。特别是一些难忘的时刻和事件，总是和它们联系在一起，为我们的回忆增添了无限的浪漫。杜甫给我们留下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喜雨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朱自清给我们带来了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，今天，台湾诗人郑愁予又给我们带来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《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雨说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》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，让我们与作家诗人一起去欢迎春天的精灵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——</a:t>
            </a: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春雨吧。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lzcxx68_春夜喜雨.mp3" descr=""/>
          <p:cNvPicPr/>
          <p:nvPr/>
        </p:nvPicPr>
        <p:blipFill>
          <a:blip r:embed="rId2"/>
          <a:stretch/>
        </p:blipFill>
        <p:spPr>
          <a:xfrm>
            <a:off x="914400" y="4495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F:\课件\My Pictures\2646漓江烟雨.jpg"/>
          <p:cNvPicPr/>
          <p:nvPr/>
        </p:nvPicPr>
        <p:blipFill>
          <a:blip r:embed="rId3"/>
          <a:stretch/>
        </p:blipFill>
        <p:spPr>
          <a:xfrm>
            <a:off x="2362320" y="3962520"/>
            <a:ext cx="541008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11听雨.wma" descr=""/>
          <p:cNvPicPr/>
          <p:nvPr/>
        </p:nvPicPr>
        <p:blipFill>
          <a:blip r:embed="rId1"/>
          <a:stretch/>
        </p:blipFill>
        <p:spPr>
          <a:xfrm>
            <a:off x="8458200" y="63244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914400" y="6094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0" y="0"/>
            <a:ext cx="7467480" cy="11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7010280" y="3886200"/>
            <a:ext cx="2133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7162920" y="4724280"/>
            <a:ext cx="198108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1295280" y="5562720"/>
            <a:ext cx="5562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304920" y="380880"/>
            <a:ext cx="8839080" cy="458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雨说：四月已在大地上等待久了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等待久了的田圃跟牧场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等待久了的鱼塘和小溪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当田圃冷冻了一冬禁锢着种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牧场枯黄失去了牛羊的踪迹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当鱼塘寒浅留滞着游鱼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小溪渐渐哨哑歌不成调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　　雨说，我来了，我来探访四月的大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6019920" y="914400"/>
            <a:ext cx="3429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Times New Roman"/>
              </a:rPr>
              <a:t>怎样理解诗歌开头括号中的话的含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6858000" y="2133720"/>
            <a:ext cx="22860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　　明确：“四月”点明时间是春天，“等待久了”表明了对春雨的渴盼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914400" y="441972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雨在大地万物的企盼中及时到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685800" y="457200"/>
            <a:ext cx="61722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来了，我走得很轻，而且温声细语的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的爱心像丝缕那样把天地织在一起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呼唤每一个孩子的乳名又甜又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我来了，雷电不喧嚷，风也不拥挤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324480" y="609480"/>
            <a:ext cx="2438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轻盈、绵绵不断、温柔的特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943600" y="3124080"/>
            <a:ext cx="2819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侧面写的轻盈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温柔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609480" y="4343400"/>
            <a:ext cx="5257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cc"/>
                </a:solidFill>
                <a:latin typeface="Times New Roman"/>
              </a:rPr>
              <a:t>比喻、拟人；形象生动、温柔可亲，像爱的使者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C:\My Documents\My Pictures\春雨98.jpg"/>
          <p:cNvPicPr/>
          <p:nvPr/>
        </p:nvPicPr>
        <p:blipFill>
          <a:blip r:embed="rId1"/>
          <a:stretch/>
        </p:blipFill>
        <p:spPr>
          <a:xfrm>
            <a:off x="380880" y="304920"/>
            <a:ext cx="3962520" cy="2438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C:\My Documents\My Pictures\春雨465.jpg"/>
          <p:cNvPicPr/>
          <p:nvPr/>
        </p:nvPicPr>
        <p:blipFill>
          <a:blip r:embed="rId2"/>
          <a:stretch/>
        </p:blipFill>
        <p:spPr>
          <a:xfrm>
            <a:off x="4800600" y="380880"/>
            <a:ext cx="3809880" cy="2286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My Documents\My Pictures\春雨49.jpg"/>
          <p:cNvPicPr/>
          <p:nvPr/>
        </p:nvPicPr>
        <p:blipFill>
          <a:blip r:embed="rId3"/>
          <a:stretch/>
        </p:blipFill>
        <p:spPr>
          <a:xfrm>
            <a:off x="380880" y="3048120"/>
            <a:ext cx="3505320" cy="18288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5"/>
          <p:cNvSpPr/>
          <p:nvPr/>
        </p:nvSpPr>
        <p:spPr>
          <a:xfrm>
            <a:off x="4495680" y="3124080"/>
            <a:ext cx="46483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当我临近的时候你们也许知悉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可别打开油伞将我抗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关起你的门窗，放下你的帘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别忙着披蓑衣，急着戴斗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4114800" y="5562720"/>
            <a:ext cx="6858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春雨希望人们用真心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cc00"/>
                </a:solidFill>
                <a:latin typeface="Times New Roman"/>
              </a:rPr>
              <a:t>感知她、接受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7" descr="C:\My Documents\My Pictures\春雨6.jpg"/>
          <p:cNvPicPr/>
          <p:nvPr/>
        </p:nvPicPr>
        <p:blipFill>
          <a:blip r:embed="rId4"/>
          <a:stretch/>
        </p:blipFill>
        <p:spPr>
          <a:xfrm>
            <a:off x="380880" y="5105520"/>
            <a:ext cx="358164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7T07:46:08Z</dcterms:created>
  <dc:creator>第一PPT模板网-WWW.1PPT.COM</dc:creator>
  <dc:description>第一PPT模板网-WWW.1PPT.COM
</dc:description>
  <cp:keywords>第一PPT模板网-WWW.1PPT.COM</cp:keywords>
  <dc:language>en-US</dc:language>
  <cp:lastModifiedBy>win7-64</cp:lastModifiedBy>
  <dcterms:modified xsi:type="dcterms:W3CDTF">2017-04-17T07:52:18Z</dcterms:modified>
  <cp:revision>1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382</vt:lpwstr>
  </property>
</Properties>
</file>