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16ED-4FF7-42F2-916C-7FAF5B64C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1A49-FA99-4DED-8DAC-4AFC38B5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366C-E655-4326-ABBF-2DEE5C7DA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25CA-6E59-4F0D-A3D0-FCA00E7CF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C9D68-8446-4B31-8FCD-24CE072F0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55DB2-61F9-4C53-B7E9-4414BE196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0AB10-D536-4DDA-A1F4-61027094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E64A3-9C7B-40CE-A69F-F3D213C5A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61A0C-9EAF-46D8-8112-E6BA3B60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A32A5-8239-4F41-BD26-CD0DC9FF2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7083-655F-462B-8763-B161B6C2E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5BF-E702-45B3-A969-27F2EF88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37417-18CE-4A35-B7DC-C22BBDC63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4FF22-A5BA-4B26-BA12-794DF6A0F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32950-0BFA-41EC-9B45-AEBF40AA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C2904-1470-46E1-93D1-ACCCCA328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712BC-9540-49A6-91C1-816787696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AD45-D0FE-4E71-A274-3571C1A3A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D9CCA-40F9-47E6-A0B8-A48CB4973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04B-A0B3-4991-9891-A951F2A18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BFF29-DFB0-47F7-81CC-8054F1005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0342-814B-4FC8-A553-8274C9FBE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85BE-2426-4DB5-9889-5DF290C0E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546C-178C-4FF3-B10F-3AB52D14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8F53C-1F00-4ABF-8EC1-A48D24D40FA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2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Picture 3" descr="D:\FRONTPAGE THEMES\NATURE\ANABNR2.PNG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4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7DE7D-24BC-4968-B607-C482BF435A5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D:\新建文6\m6chunyu.bmp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541440" y="476280"/>
            <a:ext cx="8177040" cy="34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5b5249"/>
                </a:solidFill>
                <a:latin typeface="MT Extra"/>
                <a:ea typeface="MT Extra"/>
              </a:rPr>
              <a:t>雨说</a:t>
            </a:r>
            <a:r>
              <a:rPr b="0" lang="zh-CN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为生活在中国大地上的儿童而歌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        </a:t>
            </a:r>
            <a:r>
              <a:rPr b="0" lang="zh-CN" sz="5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郑愁予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D:\新建文6\36-2.jpg"/>
          <p:cNvPicPr/>
          <p:nvPr/>
        </p:nvPicPr>
        <p:blipFill>
          <a:blip r:embed="rId1"/>
          <a:stretch/>
        </p:blipFill>
        <p:spPr>
          <a:xfrm>
            <a:off x="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2"/>
          <p:cNvSpPr/>
          <p:nvPr/>
        </p:nvSpPr>
        <p:spPr>
          <a:xfrm>
            <a:off x="533520" y="1700280"/>
            <a:ext cx="87328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        </a:t>
            </a: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听录音，找出自己感受最 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深的意象词语，通过联想和想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象，把他描绘成一幅图画。</a:t>
            </a:r>
            <a:endParaRPr b="0" lang="en-US" sz="4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66600" y="333360"/>
            <a:ext cx="535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在淅淅沥沥的春雨中，田圃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牧场上的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新苗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池塘的鱼儿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还有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……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D:\新建文6\36-2.jpg"/>
          <p:cNvPicPr/>
          <p:nvPr/>
        </p:nvPicPr>
        <p:blipFill>
          <a:blip r:embed="rId1"/>
          <a:stretch/>
        </p:blipFill>
        <p:spPr>
          <a:xfrm>
            <a:off x="0" y="0"/>
            <a:ext cx="4419720" cy="35164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D:\新建文6\39-1.jpg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053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D:\123\任颖艳\1016-1.gif"/>
          <p:cNvPicPr/>
          <p:nvPr/>
        </p:nvPicPr>
        <p:blipFill>
          <a:blip r:embed="rId3"/>
          <a:stretch/>
        </p:blipFill>
        <p:spPr>
          <a:xfrm>
            <a:off x="0" y="3505320"/>
            <a:ext cx="9144000" cy="3298680"/>
          </a:xfrm>
          <a:prstGeom prst="rect">
            <a:avLst/>
          </a:prstGeom>
          <a:ln w="0">
            <a:noFill/>
          </a:ln>
        </p:spPr>
      </p:pic>
      <p:pic>
        <p:nvPicPr>
          <p:cNvPr id="99" name="geq.MPG" descr=""/>
          <p:cNvPicPr/>
          <p:nvPr/>
        </p:nvPicPr>
        <p:blipFill>
          <a:blip r:embed="rId4"/>
          <a:stretch/>
        </p:blipFill>
        <p:spPr>
          <a:xfrm>
            <a:off x="1066680" y="380880"/>
            <a:ext cx="6934320" cy="567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500"/>
                            </p:stCondLst>
                            <p:childTnLst>
                              <p:par>
                                <p:cTn id="4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0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3e68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2"/>
          <p:cNvSpPr/>
          <p:nvPr/>
        </p:nvSpPr>
        <p:spPr>
          <a:xfrm>
            <a:off x="2748960" y="1312920"/>
            <a:ext cx="3909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1.</a:t>
            </a:r>
            <a:r>
              <a:rPr b="0" i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细腻精巧的语言美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我的爱心像丝缕那样把天地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 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在一起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2.</a:t>
            </a:r>
            <a:r>
              <a:rPr b="0" i="1" lang="zh-CN" sz="3200" spc="-1" strike="noStrike">
                <a:solidFill>
                  <a:srgbClr val="0000ff"/>
                </a:solidFill>
                <a:latin typeface="华文新魏"/>
                <a:ea typeface="华文新魏"/>
              </a:rPr>
              <a:t>拟人化手法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我来了，我走得很轻，而且温声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细语的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“</a:t>
            </a: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柳条儿见了我笑弯了腰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石狮子见了我笑出了泪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cc"/>
                </a:solidFill>
                <a:latin typeface="华文新魏"/>
                <a:ea typeface="华文新魏"/>
              </a:rPr>
              <a:t>小燕子见了我笑斜了翅膀啊</a:t>
            </a:r>
            <a:r>
              <a:rPr b="0" lang="zh-CN" sz="3200" spc="-1" strike="noStrike">
                <a:solidFill>
                  <a:srgbClr val="cc00cc"/>
                </a:solidFill>
                <a:latin typeface="Times New Roman"/>
                <a:ea typeface="华文新魏"/>
              </a:rPr>
              <a:t>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3"/>
          <p:cNvSpPr/>
          <p:nvPr/>
        </p:nvSpPr>
        <p:spPr>
          <a:xfrm>
            <a:off x="1600200" y="609480"/>
            <a:ext cx="1828800" cy="581400"/>
          </a:xfrm>
          <a:prstGeom prst="rect">
            <a:avLst/>
          </a:prstGeom>
          <a:gradFill rotWithShape="0">
            <a:gsLst>
              <a:gs pos="0">
                <a:srgbClr val="ff00ff"/>
              </a:gs>
              <a:gs pos="50000">
                <a:srgbClr val="ffffff"/>
              </a:gs>
              <a:gs pos="100000">
                <a:srgbClr val="ff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欣赏品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3"/>
          <p:cNvSpPr/>
          <p:nvPr/>
        </p:nvSpPr>
        <p:spPr>
          <a:xfrm>
            <a:off x="304920" y="990720"/>
            <a:ext cx="861048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9900"/>
                </a:solidFill>
                <a:latin typeface="Times New Roman"/>
              </a:rPr>
              <a:t>家庭作业：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诵读诗歌，与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再别康桥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、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《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田野</a:t>
            </a:r>
            <a:r>
              <a:rPr b="1" lang="en-US" sz="5400" spc="-1" strike="noStrike">
                <a:solidFill>
                  <a:srgbClr val="ff00ff"/>
                </a:solidFill>
                <a:latin typeface="Times New Roman"/>
              </a:rPr>
              <a:t>》</a:t>
            </a:r>
            <a:r>
              <a:rPr b="1" lang="zh-CN" sz="5400" spc="-1" strike="noStrike">
                <a:solidFill>
                  <a:srgbClr val="ff00ff"/>
                </a:solidFill>
                <a:latin typeface="Times New Roman"/>
              </a:rPr>
              <a:t>作比较，看有何异同。</a:t>
            </a:r>
            <a:endParaRPr b="0" lang="en-US" sz="5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C:\My Documents\c033.JPG"/>
          <p:cNvPicPr/>
          <p:nvPr/>
        </p:nvPicPr>
        <p:blipFill>
          <a:blip r:embed="rId1"/>
          <a:stretch/>
        </p:blipFill>
        <p:spPr>
          <a:xfrm>
            <a:off x="-228600" y="-380880"/>
            <a:ext cx="9372600" cy="72388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2"/>
          <p:cNvSpPr/>
          <p:nvPr/>
        </p:nvSpPr>
        <p:spPr>
          <a:xfrm>
            <a:off x="1143000" y="2438280"/>
            <a:ext cx="67816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让我们做诗的知己吧，让无数珍贵的生命的花朵，带着灵魂的闪光思想的色彩、感情的汁液，融入我们的生命，使我们的精神世界永不成为沙漠和荒原吧！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             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——</a:t>
            </a:r>
            <a:r>
              <a:rPr b="1" lang="zh-CN" sz="3600" spc="-1" strike="noStrike">
                <a:solidFill>
                  <a:srgbClr val="0000ff"/>
                </a:solidFill>
                <a:latin typeface="华文新魏"/>
                <a:ea typeface="华文新魏"/>
              </a:rPr>
              <a:t>邵燕祥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C:\My Documents\0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1143000" y="1219320"/>
            <a:ext cx="67816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让我们做诗的知己吧，让无数珍贵的生命的花朵，带着灵魂的闪光思想的色彩、感情的汁液，融入我们的生命，使我们的精神世界永不成为沙漠和荒原吧！ 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                               </a:t>
            </a:r>
            <a:r>
              <a:rPr b="1" lang="en-US" sz="40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——</a:t>
            </a:r>
            <a:r>
              <a:rPr b="1" lang="zh-CN" sz="4000" spc="-1" strike="noStrike">
                <a:solidFill>
                  <a:srgbClr val="6600ff"/>
                </a:solidFill>
                <a:latin typeface="华文新魏"/>
                <a:ea typeface="华文新魏"/>
              </a:rPr>
              <a:t>邵燕祥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16T07:12:45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7:49:28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