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0DE-BE37-43B0-99FB-DF16931D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A35-53EB-427F-8590-BCED6DC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CED-2A26-4FB8-B709-4345EF42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6CE-C2E5-4EF6-8E67-893FDBA5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DA6-9902-4B90-96D8-39892F7E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87A-7032-4607-B8F8-DB14157D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C2B-D51A-4AC0-A14C-746F4625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208-8AE2-45E6-84D1-B9E8046B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E17-0CD6-4720-9235-1046A6F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1B9-0818-430C-9D90-576AE25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301-6FC5-43F1-BF07-E6E05B8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00E-9482-4E91-BCBF-5DC47820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7C09-A981-4F3E-B762-B812C3942F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141C-9037-46A2-81FB-FA434067D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4520" y="711000"/>
            <a:ext cx="5489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幼时记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8520" y="2219040"/>
            <a:ext cx="4943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沈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9600" y="1133640"/>
            <a:ext cx="6296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所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则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或百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果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鹤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0440" y="170820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助词，不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9800" y="170820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想像的景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280" y="411156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连词，那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55880" y="41115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连词，或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33880" y="409896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副词，真的，果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27080" y="2238480"/>
            <a:ext cx="723888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中想象的景观（是鹤舞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5080" y="4645080"/>
            <a:ext cx="740088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那么或者成千或者成百（飞舞着的蚊子）果真（觉得它们）是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28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1240" y="1338120"/>
            <a:ext cx="70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昂首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27280" y="2028960"/>
            <a:ext cx="25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wèi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介词，表原因，因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59320" y="2028960"/>
            <a:ext cx="38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指代“昂首观之”的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4000" y="3260880"/>
            <a:ext cx="670860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仰起头来观赏这种景象，脖颈因为这样都僵硬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4760" y="1514520"/>
            <a:ext cx="708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又留蚊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帐中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徐喷以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7840" y="223200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即“以烟徐喷之”，宾语“之”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06360" y="3230640"/>
            <a:ext cx="673416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有时我）又把蚊子留在白色的蚊帐里，用烟慢慢地喷（它们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4400" y="1512720"/>
            <a:ext cx="70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冲烟飞鸣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云白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2840" y="218916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代蚊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54400" y="2189160"/>
            <a:ext cx="25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即“当……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5440" y="3056040"/>
            <a:ext cx="616104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它们冲着烟雾飞叫，（把这种情景）当做青云白鹤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39760" y="1731960"/>
            <a:ext cx="70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果如鹤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端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然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称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1240" y="256860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助词，“……的样子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39760" y="3502080"/>
            <a:ext cx="658188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果真就像鹤在云头上高亢地鸣叫，令人高兴得连声叫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8520" y="-270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7840" y="1440000"/>
            <a:ext cx="70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土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凹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，花台小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丛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3280" y="213048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82840" y="3071880"/>
            <a:ext cx="623880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高低不平的土墙边，杂草丛生的花台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8520" y="-270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2680" y="1338120"/>
            <a:ext cx="70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使与台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定目细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3440" y="3375000"/>
            <a:ext cx="651672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我）常蹲下自己的身子，使身子与花台一样高，定睛细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9960" y="202572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代词，相当于“自己的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44840" y="202716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即“使之与台齐”，宾语“之”代身子，省略。齐，一样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4472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2080" y="942840"/>
            <a:ext cx="708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林，以虫蚁为兽，以土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凸者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凹者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，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13400" y="196848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想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5600" y="1954080"/>
            <a:ext cx="27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代想像中的山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70160" y="2693880"/>
            <a:ext cx="39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己感到得意或安闲舒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8240" y="3495600"/>
            <a:ext cx="760428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丛聚的草当做树林，把昆虫蚂蚁当做野兽，把泥土瓦砾突起的地方当做山丘，低洼的地方当做山沟，想像在里面游历的情景，真感到心情舒畅，自得其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85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2080" y="987480"/>
            <a:ext cx="708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日，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虫斗草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09840" y="1527120"/>
            <a:ext cx="25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即斗于草间，介词“于”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16440" y="156996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代二虫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80000" y="1511280"/>
            <a:ext cx="22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程度深，这里是兴趣浓厚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44520" y="2700360"/>
            <a:ext cx="714528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天，看见两只虫子在草丛间相斗，（我）观看这一情景兴趣正浓厚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85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3600" y="1409760"/>
            <a:ext cx="708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忽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庞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物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癞虾蟆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1965240"/>
            <a:ext cx="20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很大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1440" y="1965240"/>
            <a:ext cx="22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连词，表修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9160" y="3557520"/>
            <a:ext cx="6953400" cy="9478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突然有一个很大的东西，像推开大山，撞到大树一般地闯了过来，原来是一只癞蛤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学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幼时记趣》选自《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浮生六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。《浮生六记》是一本自传体散文，记叙了作者夫妇的家居生活和自己的坎坷经历，文字朴素自然，情感真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沈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字三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号梅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清乾隆二十八年生于长洲（今江苏苏州）。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清代文学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著有《浮生六记》。工诗画、散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61960" y="154296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舌一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虫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5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连词，表承接，“便”、“就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3000" y="20955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表被动，“被…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0360" y="3276720"/>
            <a:ext cx="695340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蛤蟆）舌头一伸，两只虫子就全被吞进肚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1320" y="1731960"/>
            <a:ext cx="76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余年幼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出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不觉呀然惊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89160" y="235908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1480" y="2403360"/>
            <a:ext cx="37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精神过度集中而有点发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4840" y="3379680"/>
            <a:ext cx="695160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那时年纪还小，正看得出神，不禁“唉呀”地惊叫一声，感到害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2520" y="15271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捉蛤蟆，鞭数十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驱之别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1040" y="222264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心神安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16520" y="2247840"/>
            <a:ext cx="42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即驱之于别院，介词“于”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50920" y="3200400"/>
            <a:ext cx="695160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神安定下来，捉住蛤蟆，鞭打它几十下，把它赶到别的院子里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79200" y="371304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用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73920" y="4145040"/>
            <a:ext cx="29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“或者”，表示选择关系）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9880" y="47750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原来是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7400" y="246204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指“群鹤舞空”的景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样，指“昂首观之”的动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36800" y="1238400"/>
            <a:ext cx="4642560" cy="1221840"/>
            <a:chOff x="1036800" y="1238400"/>
            <a:chExt cx="4642560" cy="1221840"/>
          </a:xfrm>
        </p:grpSpPr>
        <p:sp>
          <p:nvSpPr>
            <p:cNvPr id="167" name=""/>
            <p:cNvSpPr/>
            <p:nvPr/>
          </p:nvSpPr>
          <p:spPr>
            <a:xfrm>
              <a:off x="1608480" y="1392480"/>
              <a:ext cx="158400" cy="1067760"/>
            </a:xfrm>
            <a:custGeom>
              <a:avLst/>
              <a:gdLst>
                <a:gd name="textAreaLeft" fmla="*/ 101160 w 158400"/>
                <a:gd name="textAreaRight" fmla="*/ 158760 w 158400"/>
                <a:gd name="textAreaTop" fmla="*/ 27720 h 1067760"/>
                <a:gd name="textAreaBottom" fmla="*/ 1040040 h 106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36800" y="1238400"/>
              <a:ext cx="4642560" cy="1191240"/>
              <a:chOff x="1036800" y="1238400"/>
              <a:chExt cx="4642560" cy="1191240"/>
            </a:xfrm>
          </p:grpSpPr>
          <p:sp>
            <p:nvSpPr>
              <p:cNvPr id="169" name=""/>
              <p:cNvSpPr/>
              <p:nvPr/>
            </p:nvSpPr>
            <p:spPr>
              <a:xfrm>
                <a:off x="1036800" y="17118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67240" y="1238400"/>
                <a:ext cx="3912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物外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心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所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昂首观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项为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5558760" y="11653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助词，的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69280" y="17002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助词，无实义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23120" y="3686040"/>
            <a:ext cx="2481840" cy="527040"/>
            <a:chOff x="1023120" y="3686040"/>
            <a:chExt cx="2481840" cy="527040"/>
          </a:xfrm>
        </p:grpSpPr>
        <p:sp>
          <p:nvSpPr>
            <p:cNvPr id="174" name=""/>
            <p:cNvSpPr/>
            <p:nvPr/>
          </p:nvSpPr>
          <p:spPr>
            <a:xfrm>
              <a:off x="1023120" y="3692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9200" y="3686040"/>
              <a:ext cx="18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徐喷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23120" y="4145040"/>
            <a:ext cx="2842200" cy="572760"/>
            <a:chOff x="1023120" y="4145040"/>
            <a:chExt cx="2842200" cy="572760"/>
          </a:xfrm>
        </p:grpSpPr>
        <p:sp>
          <p:nvSpPr>
            <p:cNvPr id="177" name=""/>
            <p:cNvSpPr/>
            <p:nvPr/>
          </p:nvSpPr>
          <p:spPr>
            <a:xfrm>
              <a:off x="1023120" y="4197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9640" y="4145040"/>
              <a:ext cx="21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或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千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或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008360" y="4827600"/>
            <a:ext cx="2288160" cy="520560"/>
            <a:chOff x="1008360" y="4827600"/>
            <a:chExt cx="2288160" cy="520560"/>
          </a:xfrm>
        </p:grpSpPr>
        <p:sp>
          <p:nvSpPr>
            <p:cNvPr id="180" name=""/>
            <p:cNvSpPr/>
            <p:nvPr/>
          </p:nvSpPr>
          <p:spPr>
            <a:xfrm>
              <a:off x="1008360" y="4827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18520" y="4842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盖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癞蛤蟆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 rot="810600">
            <a:off x="3344760" y="4248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虚词积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7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419720" y="18669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它，代蚊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2800" y="39942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因为）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240" y="23004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代“自己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20800" y="4643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被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00680" y="1940040"/>
            <a:ext cx="3279240" cy="1355760"/>
            <a:chOff x="1300680" y="1940040"/>
            <a:chExt cx="3279240" cy="1355760"/>
          </a:xfrm>
        </p:grpSpPr>
        <p:sp>
          <p:nvSpPr>
            <p:cNvPr id="188" name=""/>
            <p:cNvSpPr/>
            <p:nvPr/>
          </p:nvSpPr>
          <p:spPr>
            <a:xfrm>
              <a:off x="1846440" y="2044080"/>
              <a:ext cx="218880" cy="118836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300680" y="1940040"/>
              <a:ext cx="2650680" cy="934920"/>
              <a:chOff x="1300680" y="1940040"/>
              <a:chExt cx="2650680" cy="934920"/>
            </a:xfrm>
          </p:grpSpPr>
          <p:sp>
            <p:nvSpPr>
              <p:cNvPr id="190" name=""/>
              <p:cNvSpPr/>
              <p:nvPr/>
            </p:nvSpPr>
            <p:spPr>
              <a:xfrm>
                <a:off x="1300680" y="2177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42880" y="1940040"/>
                <a:ext cx="160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①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使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其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冲烟飞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35240" y="2415240"/>
                <a:ext cx="124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②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常蹲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其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989360" y="28360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神游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419720" y="2732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代“想象中的山林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72280" y="3994200"/>
            <a:ext cx="4524840" cy="1797840"/>
            <a:chOff x="872280" y="3994200"/>
            <a:chExt cx="4524840" cy="1797840"/>
          </a:xfrm>
        </p:grpSpPr>
        <p:grpSp>
          <p:nvGrpSpPr>
            <p:cNvPr id="196" name=""/>
            <p:cNvGrpSpPr/>
            <p:nvPr/>
          </p:nvGrpSpPr>
          <p:grpSpPr>
            <a:xfrm>
              <a:off x="872280" y="3994200"/>
              <a:ext cx="3151800" cy="1797840"/>
              <a:chOff x="872280" y="3994200"/>
              <a:chExt cx="3151800" cy="1797840"/>
            </a:xfrm>
          </p:grpSpPr>
          <p:sp>
            <p:nvSpPr>
              <p:cNvPr id="197" name=""/>
              <p:cNvSpPr/>
              <p:nvPr/>
            </p:nvSpPr>
            <p:spPr>
              <a:xfrm>
                <a:off x="1410120" y="4100760"/>
                <a:ext cx="137520" cy="1691280"/>
              </a:xfrm>
              <a:custGeom>
                <a:avLst/>
                <a:gdLst>
                  <a:gd name="textAreaLeft" fmla="*/ 87840 w 137520"/>
                  <a:gd name="textAreaRight" fmla="*/ 137520 w 137520"/>
                  <a:gd name="textAreaTop" fmla="*/ 43920 h 1691280"/>
                  <a:gd name="textAreaBottom" fmla="*/ 1647360 h 169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543"/>
                    </a:lnTo>
                    <a:cubicBezTo>
                      <a:pt x="10800" y="11443"/>
                      <a:pt x="5400" y="12343"/>
                      <a:pt x="0" y="12343"/>
                    </a:cubicBezTo>
                    <a:cubicBezTo>
                      <a:pt x="5400" y="12343"/>
                      <a:pt x="10800" y="13243"/>
                      <a:pt x="10800" y="14143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872280" y="3994200"/>
                <a:ext cx="3151800" cy="1094760"/>
                <a:chOff x="872280" y="3994200"/>
                <a:chExt cx="3151800" cy="10947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872280" y="429444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771920" y="3994200"/>
                  <a:ext cx="132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①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项</a:t>
                  </a: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  <a:ea typeface="黑体"/>
                    </a:rPr>
                    <a:t>为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之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659320" y="4629240"/>
                  <a:ext cx="136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②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舌一吐而二虫尽</a:t>
                  </a: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  <a:ea typeface="黑体"/>
                    </a:rPr>
                    <a:t>为所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吞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"/>
            <p:cNvSpPr/>
            <p:nvPr/>
          </p:nvSpPr>
          <p:spPr>
            <a:xfrm>
              <a:off x="1563840" y="5158800"/>
              <a:ext cx="38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以虫蚁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648320" y="5075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当做，作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 rot="810600">
            <a:off x="3424320" y="29160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虚词积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 rot="810600">
            <a:off x="6084720" y="33300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特殊句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06" name=""/>
          <p:cNvSpPr/>
          <p:nvPr/>
        </p:nvSpPr>
        <p:spPr>
          <a:xfrm>
            <a:off x="1824120" y="960480"/>
            <a:ext cx="46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方正姚体"/>
              </a:rPr>
              <a:t>省略句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   群鹤舞（   ）空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     使（   ）与台齐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     驱之（   ）别院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93880" y="3521160"/>
            <a:ext cx="526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方正姚体"/>
              </a:rPr>
              <a:t>固定句式 ：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……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……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所…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73880" y="1492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42240" y="26510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67040" y="4067280"/>
            <a:ext cx="49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当做……看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41920" y="4638600"/>
            <a:ext cx="42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把……当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13320" y="5219640"/>
            <a:ext cx="45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表示被动，译为“被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7160" y="1996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75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7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48000" y="26028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1125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课题中的“趣”指的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43280" y="1773360"/>
            <a:ext cx="2971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物外之趣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421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作者认为自己能够“时有物外之趣”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3645000"/>
            <a:ext cx="7467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因为可以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张目对日，明察秋毫。见藐小微物，必细察其纹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。所以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时有物外之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注意：“明察秋毫”是文章的线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765000"/>
            <a:ext cx="842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童年时代最珍惜、最宝贵的回忆，往往是一些充满童真童趣的行为。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作者在课文中依次向我们介绍了哪些有趣的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事情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？作者又是怎样安排文章的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结构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的？你能用四字短语提炼出文中充满童趣的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四幅画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9640" y="1125360"/>
            <a:ext cx="619308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段：总叙物外之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段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观蚊如鹤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之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段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神游山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之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段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鞭打蛤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之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516360" y="1268280"/>
            <a:ext cx="1656000" cy="764280"/>
            <a:chOff x="6516360" y="1268280"/>
            <a:chExt cx="1656000" cy="764280"/>
          </a:xfrm>
        </p:grpSpPr>
        <p:sp>
          <p:nvSpPr>
            <p:cNvPr id="222" name=""/>
            <p:cNvSpPr/>
            <p:nvPr/>
          </p:nvSpPr>
          <p:spPr>
            <a:xfrm>
              <a:off x="7164360" y="1268280"/>
              <a:ext cx="1008000" cy="7642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516360" y="1699920"/>
              <a:ext cx="647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711840" y="2421000"/>
            <a:ext cx="1460520" cy="1944720"/>
            <a:chOff x="6711840" y="2421000"/>
            <a:chExt cx="1460520" cy="1944720"/>
          </a:xfrm>
        </p:grpSpPr>
        <p:sp>
          <p:nvSpPr>
            <p:cNvPr id="225" name=""/>
            <p:cNvSpPr/>
            <p:nvPr/>
          </p:nvSpPr>
          <p:spPr>
            <a:xfrm>
              <a:off x="7164360" y="3086280"/>
              <a:ext cx="1008000" cy="7642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11840" y="2421000"/>
              <a:ext cx="431640" cy="19447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059280" y="333360"/>
            <a:ext cx="54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件趣事      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219640" y="3429000"/>
            <a:ext cx="2879640" cy="2174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154400" y="417528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566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游山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22920" y="566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鞭打蛤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2708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鹤舞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637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云白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219640" y="40464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51280" y="270828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88040" y="404640"/>
            <a:ext cx="1444320" cy="2016000"/>
            <a:chOff x="3488040" y="404640"/>
            <a:chExt cx="1444320" cy="2016000"/>
          </a:xfrm>
        </p:grpSpPr>
        <p:sp>
          <p:nvSpPr>
            <p:cNvPr id="239" name=""/>
            <p:cNvSpPr/>
            <p:nvPr/>
          </p:nvSpPr>
          <p:spPr>
            <a:xfrm>
              <a:off x="3488040" y="404640"/>
              <a:ext cx="1155240" cy="2016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观蚊如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634920" y="155700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3280" y="155700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907920"/>
            <a:ext cx="8856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 ）   藐（     ）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项为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） 鹤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）云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）然称快   凹凸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然大物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907920"/>
            <a:ext cx="88567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 ）   藐（     ）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幼小                 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项为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） 鹤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）云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“僵”，僵硬    （鹤、鸿雁等）高亢地鸣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）然称快   凹凸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喜悦                      高低不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瓦砾              同“丘”，土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然大物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沟                  很大，巨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905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90792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mi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1916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jiā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1989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06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y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t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40114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2000" y="40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qi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5157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5157720"/>
            <a:ext cx="13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pá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26028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一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4360" y="260352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你能从文中找出体现作者“童趣”的句子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66720" y="2043000"/>
            <a:ext cx="80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癞蛤蟆比起人来确实是微不足道的，为什么童年的“我”会觉得它“庞然大物”，“拔山倒树而来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9640" y="765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朗读课文，分析作者能够从这些事情中体验到“童趣”，其主要原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24000" y="321300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丰富的想象力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132000" y="4581360"/>
            <a:ext cx="25196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以小观大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148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作者把癞蛤蟆“鞭数十，驱之别院”，可以看出作者怎样的“童心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979640" y="371628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同情弱小，惩罚强暴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60520" y="24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从文中我们看到一个怎样的作者？请结合文章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0280" y="245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趁热打铁：字词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50920" y="1052640"/>
            <a:ext cx="828180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明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秋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有物外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私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拟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群鹤舞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心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项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徐喷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烟，使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冲烟飞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云白鹤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怡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称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052640"/>
            <a:ext cx="828180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明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秋毫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眼力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（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看清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有物外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趣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所以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助词，的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私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拟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群鹤舞空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自己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心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向（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助词，无实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项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因为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同“僵”，僵硬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徐喷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烟，使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冲烟飞鸣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用；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它，代“蚊子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云白鹤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观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当做……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怡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称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快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喜悦的样子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痛快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26028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333360"/>
            <a:ext cx="8496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常蹲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身，使与台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丛草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林，以虫蚁为兽，以土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砾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凸者为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邱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凹者为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神游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观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拔山倒树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而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盖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癞蛤蟆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二虫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尽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所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方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出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鞭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数十，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驱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别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333360"/>
            <a:ext cx="8820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常蹲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身，使与台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齐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自己的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一样高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丛草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林，以虫蚁为兽，以土砾凸者为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邱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凹者为壑    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把……当做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同“丘”，土山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神游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在想像中游历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想像中的山林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观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浓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这种情景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兴趣浓厚的时候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拔山倒树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而来（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搬开土山，撞倒树木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盖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癞蛤蟆也（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原来是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二虫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尽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所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吞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全，都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方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出神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正；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精神过度集中有点发呆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鞭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数十，驱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别院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鞭打；</a:t>
            </a:r>
            <a:r>
              <a:rPr b="1" lang="zh-CN" sz="3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它，代“蛤蟆”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3" descr=""/>
          <p:cNvPicPr/>
          <p:nvPr/>
        </p:nvPicPr>
        <p:blipFill>
          <a:blip r:embed="rId1"/>
          <a:srcRect l="0" t="0" r="0" b="11465"/>
          <a:stretch/>
        </p:blipFill>
        <p:spPr>
          <a:xfrm>
            <a:off x="685800" y="911160"/>
            <a:ext cx="8456760" cy="593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50920" y="260280"/>
            <a:ext cx="27432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温故知新</a:t>
            </a:r>
            <a:endParaRPr b="1" i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981000"/>
            <a:ext cx="8066160" cy="37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常见的节奏划分方法都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主谓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之间必须分。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如：楚人 有涉江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动词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宾语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之间应该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如：遽契 其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关联词语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与后面内容必须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如：至之市，而 忘操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0720" y="1773360"/>
            <a:ext cx="67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852640"/>
            <a:ext cx="6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4437000"/>
            <a:ext cx="68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3" descr=""/>
          <p:cNvPicPr/>
          <p:nvPr/>
        </p:nvPicPr>
        <p:blipFill>
          <a:blip r:embed="rId1"/>
          <a:srcRect l="0" t="0" r="0" b="11465"/>
          <a:stretch/>
        </p:blipFill>
        <p:spPr>
          <a:xfrm>
            <a:off x="685800" y="981000"/>
            <a:ext cx="8405640" cy="5848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9280" y="333360"/>
            <a:ext cx="27432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读准节奏</a:t>
            </a:r>
            <a:endParaRPr b="1" i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413000"/>
            <a:ext cx="8128080" cy="37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给下面句子划分节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余忆童稚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见藐小微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故时有物外之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2276640"/>
            <a:ext cx="43196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余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忆童稚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286080"/>
            <a:ext cx="43052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藐小微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4292640"/>
            <a:ext cx="576108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时有物外之趣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3959"/>
          <a:stretch/>
        </p:blipFill>
        <p:spPr>
          <a:xfrm>
            <a:off x="612720" y="981000"/>
            <a:ext cx="8417160" cy="577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79280" y="333360"/>
            <a:ext cx="27432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新知到达</a:t>
            </a:r>
            <a:endParaRPr b="1" i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197000"/>
            <a:ext cx="7273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发语词与后面内容必须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如：盖一癞蛤蟆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1989000"/>
            <a:ext cx="496872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盖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癞蛤蟆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0" r="0" b="15938"/>
          <a:stretch/>
        </p:blipFill>
        <p:spPr>
          <a:xfrm>
            <a:off x="5796000" y="4581360"/>
            <a:ext cx="2376360" cy="15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1116000" cy="1511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285264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用的句首发语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5020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至、若、至若、夫、若夫、盖、然、则、然则、岂、岂若、宜、诚宜、何尝、其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46080" y="160956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童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张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日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明察秋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230652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代词，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06880" y="23320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睁大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3621240"/>
            <a:ext cx="734040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回忆幼小的时候，能睁大眼睛对着太阳，眼力足以看得清极细小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5580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46080" y="1244520"/>
            <a:ext cx="73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藐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物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纹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故时有物外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6080" y="3254400"/>
            <a:ext cx="740088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到细小的东西，一定要仔细观察它的花纹。所以（我）时常有观察物体本身以外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3720" y="19861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副词，一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0600" y="208764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代词，相当于“它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01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实词、虚词、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57400" y="1090440"/>
            <a:ext cx="70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夏蚊成雷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群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舞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00320" y="1781280"/>
            <a:ext cx="29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私下，这里是“自己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05480" y="1781280"/>
            <a:ext cx="29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即舞于空，介词“于”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2"/>
          <a:stretch/>
        </p:blipFill>
        <p:spPr>
          <a:xfrm>
            <a:off x="1015920" y="3192480"/>
            <a:ext cx="2857680" cy="220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73560" y="3192480"/>
            <a:ext cx="3965400" cy="521280"/>
          </a:xfrm>
          <a:prstGeom prst="rect">
            <a:avLst/>
          </a:prstGeom>
          <a:solidFill>
            <a:srgbClr val="cfdef3"/>
          </a:soli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夏天的蚊群飞鸣声像雷声一样，我把它们比做群鹤在空中飞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周卉</dc:creator>
  <dc:description/>
  <dc:language>en-US</dc:language>
  <cp:lastModifiedBy>bianxiaoxiang</cp:lastModifiedBy>
  <dcterms:modified xsi:type="dcterms:W3CDTF">2014-09-25T02:02:1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