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zr57.wav" ContentType="audio/x-wav"/>
  <Override PartName="/ppt/media/projctor.wav" ContentType="audio/x-wav"/>
  <Override PartName="/ppt/media/image6.gif" ContentType="image/gif"/>
  <Override PartName="/ppt/media/image5.jpeg" ContentType="image/jpeg"/>
  <Override PartName="/ppt/media/image7.gif" ContentType="image/gif"/>
  <Override PartName="/ppt/media/applause.wav" ContentType="audio/x-wav"/>
  <Override PartName="/ppt/media/image10.png" ContentType="image/png"/>
  <Override PartName="/ppt/media/drumroll.wav" ContentType="audio/x-wav"/>
  <Override PartName="/ppt/media/type.wav" ContentType="audio/x-wav"/>
  <Override PartName="/ppt/media/chimes.wav" ContentType="audio/x-wav"/>
  <Override PartName="/ppt/media/image15.jpeg" ContentType="image/jpeg"/>
  <Override PartName="/ppt/media/image14.jpeg" ContentType="image/jpeg"/>
  <Override PartName="/ppt/media/whoosh.wav" ContentType="audio/x-wav"/>
  <Override PartName="/ppt/media/image13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laser.wav" ContentType="audio/x-wav"/>
  <Override PartName="/ppt/media/cashreg.wav" ContentType="audio/x-wav"/>
  <Override PartName="/ppt/media/image12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175-C0DE-4EC3-ACE4-1BC4B678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AE4-9618-4DB7-9CD7-0D0B3E50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998-9755-473F-A4BF-8BBBDABF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155-5D32-42AD-B67C-E7348845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C74D-2CDA-485A-83E1-9AD7286E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DD39-47D2-4F65-8E61-84895AEA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F8DD-7BAF-4E80-B8D1-C20FB468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2729-F7FC-478E-B20D-E8DC2CA2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5A13-9240-45DC-B733-94C6BF2D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93F2-0AE3-49A5-BF80-DC88E79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2E98-6CEC-4D8A-8C5D-56539497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7EA-9082-49BD-B4C6-0489E4AF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4908-4AEA-413B-B55E-90EA5AA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CBB0-3C02-46FC-B3C4-ED1912BC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C8C5-D130-4647-8806-1F8FE919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0B03-FF2F-4190-A5C6-DC044BF2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AE8D-36AE-403F-8395-58E43ABB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3BB-3FA2-4478-9701-516D0E5A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E6B-D5A2-481B-BB5C-0D2C8950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8CF-0373-4BE9-A482-32AB2271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D6A-3FA8-47F0-856C-5F23F890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11F-D242-447A-B29E-107A607C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5FD-E5CC-4A0F-B8CC-2F9E0863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F7F-A666-4000-9B0F-81159738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8321-4584-47F3-8B90-F92CBC04A3B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1B76-6F02-4D60-AF29-272262A71CF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drumroll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audio" Target="../media/zr57.wav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amera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429000" y="609480"/>
            <a:ext cx="20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总有一天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220320" cy="281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要变成…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228600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449568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说明孩子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非常丰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01640" y="4191120"/>
            <a:ext cx="1415160" cy="91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想象力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29920" y="198360"/>
            <a:ext cx="2009160" cy="4145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33"/>
                </a:solidFill>
                <a:latin typeface="Times New Roman"/>
                <a:ea typeface="隶书"/>
              </a:rPr>
              <a:t>幼时记趣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66680" y="914400"/>
            <a:ext cx="65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楷体_GB2312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99cc"/>
                </a:solidFill>
                <a:latin typeface="楷体_GB2312"/>
                <a:ea typeface="华文新魏"/>
              </a:rPr>
              <a:t>你认为给自己留下最深印象的是哪一个事例</a:t>
            </a:r>
            <a:r>
              <a:rPr b="1" lang="zh-CN" sz="3600" spc="-1" strike="noStrike">
                <a:solidFill>
                  <a:srgbClr val="0099cc"/>
                </a:solidFill>
                <a:latin typeface="楷体_GB2312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0099cc"/>
                </a:solidFill>
                <a:latin typeface="楷体_GB2312"/>
                <a:ea typeface="华文新魏"/>
              </a:rPr>
              <a:t>它好在哪里</a:t>
            </a:r>
            <a:r>
              <a:rPr b="1" lang="zh-CN" sz="3600" spc="-1" strike="noStrike">
                <a:solidFill>
                  <a:srgbClr val="0099cc"/>
                </a:solidFill>
                <a:latin typeface="楷体_GB2312"/>
                <a:ea typeface="华文新魏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隶书"/>
                <a:ea typeface="隶书"/>
              </a:rPr>
              <a:t>思考练习二</a:t>
            </a:r>
            <a:r>
              <a:rPr b="0" lang="zh-CN" sz="3600" spc="-1" strike="noStrike">
                <a:solidFill>
                  <a:srgbClr val="0066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2438640" cy="1909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77120" y="3809880"/>
            <a:ext cx="2315880" cy="1895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657600" y="380988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67760" y="28195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观蚊如鹤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3600" y="28195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神游丛林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1360" y="2895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驱打蛤蟆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2057400"/>
            <a:ext cx="18396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764640"/>
            <a:ext cx="4033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Times New Roman"/>
                <a:ea typeface="隶书"/>
              </a:rPr>
              <a:t>课堂练习一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175248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拼 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438280"/>
            <a:ext cx="200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稚（       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5240" y="24382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项为之强（     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3000" y="30481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刚强（       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17000" y="2666880"/>
            <a:ext cx="42444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81800" y="373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鹤唳（   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733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怡（    ）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55360" y="4572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凹凸（   ）（   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81800" y="4648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丘壑（   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36232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zhì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362320"/>
            <a:ext cx="83844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2360" y="2330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jià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597120"/>
            <a:ext cx="761760" cy="641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21320" y="3549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lì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62520" y="2863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qiá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6800" y="3549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yí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86400" y="4572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h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1972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ā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4240" y="441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t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50640"/>
            <a:ext cx="3962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隶书"/>
                <a:ea typeface="隶书"/>
              </a:rPr>
              <a:t>课堂练习二</a:t>
            </a:r>
            <a:r>
              <a:rPr b="0" lang="zh-CN" sz="4400" spc="-1" strike="noStrike">
                <a:solidFill>
                  <a:srgbClr val="003399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71160" y="1447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cc"/>
                </a:solidFill>
                <a:latin typeface="Times New Roman"/>
                <a:ea typeface="华文新魏"/>
              </a:rPr>
              <a:t>解释下列划线的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200" y="2438280"/>
            <a:ext cx="43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徐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喷以烟（      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4382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怡然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                  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114800"/>
            <a:ext cx="404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拔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山倒树（         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9840" y="32767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余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年幼（  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82840" y="3200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明</a:t>
            </a:r>
            <a:r>
              <a:rPr b="0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察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秋毫（  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4480" y="40384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项为之</a:t>
            </a:r>
            <a:r>
              <a:rPr b="0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强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      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2240" y="4869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蹲</a:t>
            </a:r>
            <a:r>
              <a:rPr b="0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其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身（        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6760" y="5554800"/>
            <a:ext cx="67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以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丛草</a:t>
            </a:r>
            <a:r>
              <a:rPr b="0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为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林（                 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12520" y="2438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慢慢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23623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喜悦的样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46920" y="3276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39600" y="3200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看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23920" y="4038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移，搬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40384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僵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10600" y="4876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自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84360" y="5562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把…当作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6094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扩 展 练 习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676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请用“一至十”</a:t>
            </a:r>
            <a:r>
              <a:rPr b="1" lang="zh-CN" sz="2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个数字分别填在横线上</a:t>
            </a:r>
            <a:r>
              <a:rPr b="1" lang="zh-CN" sz="2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使原句正确无误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隶书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59280" y="2286000"/>
            <a:ext cx="22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年一觉扬州梦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160" y="327672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春白雪归春冢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19112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月黄鹂飞上林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160" y="502920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边伐鼓雪海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160" y="579132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去紫台连朔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220968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月秋高风怒号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27672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月七日长生殿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30640" y="419112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更鼓角声悲壮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95288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宫粉黛无颜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30640" y="571500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天闾阖开宫殿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4520" y="213372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十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64240" y="220968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八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3200400"/>
            <a:ext cx="74772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三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48120" y="318924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七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395136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72160" y="402732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五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4520" y="487692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四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64240" y="487692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六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2200" y="5638680"/>
            <a:ext cx="74016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40200" y="563868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342900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一、</a:t>
            </a:r>
            <a:r>
              <a:rPr b="0" lang="zh-CN" sz="5400" spc="-1" strike="noStrike">
                <a:solidFill>
                  <a:srgbClr val="ff3399"/>
                </a:solidFill>
                <a:latin typeface="隶书"/>
                <a:ea typeface="华文新魏"/>
              </a:rPr>
              <a:t>完成课文后的练习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隶书"/>
                <a:ea typeface="华文新魏"/>
              </a:rPr>
              <a:t>二、背诵全文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7040" y="1066680"/>
            <a:ext cx="4800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  <a:ea typeface="隶书"/>
              </a:rPr>
              <a:t>家 庭 作 业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谢  谢  使  用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32080" y="1828800"/>
            <a:ext cx="6208200" cy="314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6699"/>
                </a:solidFill>
                <a:latin typeface="Times New Roman"/>
                <a:ea typeface="隶书"/>
              </a:rPr>
              <a:t>再 见</a:t>
            </a:r>
            <a:r>
              <a:rPr b="1" lang="zh-CN" sz="20000" spc="-1" strike="noStrike">
                <a:solidFill>
                  <a:srgbClr val="006699"/>
                </a:solidFill>
                <a:latin typeface="Times New Roman"/>
                <a:ea typeface="隶书"/>
              </a:rPr>
              <a:t>!</a:t>
            </a:r>
            <a:endParaRPr b="0" lang="en-US" sz="20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0160" y="5105520"/>
            <a:ext cx="185724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贵阳十四中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d60093"/>
                </a:solidFill>
                <a:latin typeface="华文新魏"/>
                <a:ea typeface="华文新魏"/>
              </a:rPr>
              <a:t>幼时记趣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705720" y="2133720"/>
            <a:ext cx="1752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沈 复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53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0371c"/>
                </a:solidFill>
                <a:latin typeface="Times New Roman"/>
                <a:ea typeface="隶书"/>
              </a:rPr>
              <a:t>苏教版语文七年级上册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38088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■</a:t>
            </a:r>
            <a:r>
              <a:rPr b="1" lang="zh-CN" sz="1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设计制作</a:t>
            </a:r>
            <a:r>
              <a:rPr b="1" lang="zh-CN" sz="1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贵阳十四中</a:t>
            </a:r>
            <a:r>
              <a:rPr b="1" lang="zh-CN" sz="1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0371c"/>
                </a:solidFill>
                <a:latin typeface="Times New Roman"/>
                <a:ea typeface="楷体_GB2312"/>
              </a:rPr>
              <a:t>冉华   张 荣玲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r5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58920" y="1844640"/>
            <a:ext cx="748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zh-CN" sz="2100" spc="-1" strike="noStrike">
                <a:solidFill>
                  <a:srgbClr val="006600"/>
                </a:solidFill>
                <a:latin typeface="Times New Roman"/>
              </a:rPr>
              <a:t>作者简介：</a:t>
            </a:r>
            <a:r>
              <a:rPr b="1" lang="zh-CN" sz="2200" spc="-1" strike="noStrike" u="sng">
                <a:solidFill>
                  <a:srgbClr val="ff0033"/>
                </a:solidFill>
                <a:uFillTx/>
                <a:latin typeface="Times New Roman"/>
              </a:rPr>
              <a:t>沈复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</a:rPr>
              <a:t>，生于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</a:rPr>
              <a:t>1763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</a:rPr>
              <a:t>年，卒年不详。字</a:t>
            </a:r>
            <a:r>
              <a:rPr b="1" lang="zh-CN" sz="2200" spc="-1" strike="noStrike" u="sng">
                <a:solidFill>
                  <a:srgbClr val="ff0033"/>
                </a:solidFill>
                <a:uFillTx/>
                <a:latin typeface="Times New Roman"/>
              </a:rPr>
              <a:t>三白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</a:rPr>
              <a:t>，号梅逸，长洲（今江苏苏州市）人。</a:t>
            </a:r>
            <a:r>
              <a:rPr b="1" lang="zh-CN" sz="2200" spc="-1" strike="noStrike" u="sng">
                <a:solidFill>
                  <a:srgbClr val="ff0033"/>
                </a:solidFill>
                <a:uFillTx/>
                <a:latin typeface="Times New Roman"/>
              </a:rPr>
              <a:t>清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</a:rPr>
              <a:t>代</a:t>
            </a:r>
            <a:r>
              <a:rPr b="1" lang="zh-CN" sz="2200" spc="-1" strike="noStrike" u="sng">
                <a:solidFill>
                  <a:srgbClr val="ff0033"/>
                </a:solidFill>
                <a:uFillTx/>
                <a:latin typeface="Times New Roman"/>
              </a:rPr>
              <a:t>散文家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</a:rPr>
              <a:t>。他一生长期做幕僚，奔走南北，游历过许多地方。能文善画，著有</a:t>
            </a:r>
            <a:r>
              <a:rPr b="1" lang="zh-CN" sz="2200" spc="-1" strike="noStrike" u="sng">
                <a:solidFill>
                  <a:srgbClr val="006600"/>
                </a:solidFill>
                <a:uFillTx/>
                <a:latin typeface="Times New Roman"/>
              </a:rPr>
              <a:t>《</a:t>
            </a:r>
            <a:r>
              <a:rPr b="1" lang="zh-CN" sz="2200" spc="-1" strike="noStrike" u="sng">
                <a:solidFill>
                  <a:srgbClr val="ff0033"/>
                </a:solidFill>
                <a:uFillTx/>
                <a:latin typeface="Times New Roman"/>
              </a:rPr>
              <a:t>浮生六记</a:t>
            </a:r>
            <a:r>
              <a:rPr b="1" lang="zh-CN" sz="2200" spc="-1" strike="noStrike" u="sng">
                <a:solidFill>
                  <a:srgbClr val="006600"/>
                </a:solidFill>
                <a:uFillTx/>
                <a:latin typeface="Times New Roman"/>
              </a:rPr>
              <a:t>》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42900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3657600"/>
            <a:ext cx="7723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2200" spc="-1" strike="noStrike">
                <a:solidFill>
                  <a:srgbClr val="006600"/>
                </a:solidFill>
                <a:latin typeface="Times New Roman"/>
              </a:rPr>
              <a:t>出处：</a:t>
            </a:r>
            <a:r>
              <a:rPr b="1" lang="zh-CN" sz="1800" spc="-1" strike="noStrike" u="sng">
                <a:solidFill>
                  <a:srgbClr val="006600"/>
                </a:solidFill>
                <a:uFillTx/>
                <a:latin typeface="Times New Roman"/>
              </a:rPr>
              <a:t>《</a:t>
            </a:r>
            <a:r>
              <a:rPr b="1" lang="zh-CN" sz="1800" spc="-1" strike="noStrike" u="sng">
                <a:solidFill>
                  <a:srgbClr val="ff0033"/>
                </a:solidFill>
                <a:uFillTx/>
                <a:latin typeface="Times New Roman"/>
              </a:rPr>
              <a:t>浮生六记</a:t>
            </a:r>
            <a:r>
              <a:rPr b="1" lang="zh-CN" sz="1800" spc="-1" strike="noStrike" u="sng">
                <a:solidFill>
                  <a:srgbClr val="006600"/>
                </a:solidFill>
                <a:uFillTx/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是一部</a:t>
            </a:r>
            <a:r>
              <a:rPr b="1" lang="zh-CN" sz="1800" spc="-1" strike="noStrike" u="sng">
                <a:solidFill>
                  <a:srgbClr val="ff0033"/>
                </a:solidFill>
                <a:uFillTx/>
                <a:latin typeface="Times New Roman"/>
              </a:rPr>
              <a:t>自传体</a:t>
            </a: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散文，原书为六卷，今存</a:t>
            </a:r>
            <a:r>
              <a:rPr b="1" lang="zh-CN" sz="1800" spc="-1" strike="noStrike" u="sng">
                <a:solidFill>
                  <a:srgbClr val="006600"/>
                </a:solidFill>
                <a:uFillTx/>
                <a:latin typeface="Times New Roman"/>
              </a:rPr>
              <a:t>《</a:t>
            </a:r>
            <a:r>
              <a:rPr b="1" lang="zh-CN" sz="1800" spc="-1" strike="noStrike" u="sng">
                <a:solidFill>
                  <a:srgbClr val="ff0033"/>
                </a:solidFill>
                <a:uFillTx/>
                <a:latin typeface="Times New Roman"/>
              </a:rPr>
              <a:t>闺房记乐</a:t>
            </a:r>
            <a:r>
              <a:rPr b="1" lang="zh-CN" sz="1800" spc="-1" strike="noStrike" u="sng">
                <a:solidFill>
                  <a:srgbClr val="006600"/>
                </a:solidFill>
                <a:uFillTx/>
                <a:latin typeface="Times New Roman"/>
              </a:rPr>
              <a:t>》《</a:t>
            </a:r>
            <a:r>
              <a:rPr b="1" lang="zh-CN" sz="1800" spc="-1" strike="noStrike" u="sng">
                <a:solidFill>
                  <a:srgbClr val="ff0033"/>
                </a:solidFill>
                <a:uFillTx/>
                <a:latin typeface="Times New Roman"/>
              </a:rPr>
              <a:t>闲情记趣</a:t>
            </a:r>
            <a:r>
              <a:rPr b="1" lang="zh-CN" sz="1800" spc="-1" strike="noStrike" u="sng">
                <a:solidFill>
                  <a:srgbClr val="006600"/>
                </a:solidFill>
                <a:uFillTx/>
                <a:latin typeface="Times New Roman"/>
              </a:rPr>
              <a:t>》《</a:t>
            </a:r>
            <a:r>
              <a:rPr b="1" lang="zh-CN" sz="1800" spc="-1" strike="noStrike" u="sng">
                <a:solidFill>
                  <a:srgbClr val="ff0033"/>
                </a:solidFill>
                <a:uFillTx/>
                <a:latin typeface="Times New Roman"/>
              </a:rPr>
              <a:t>坎坷记愁</a:t>
            </a:r>
            <a:r>
              <a:rPr b="1" lang="zh-CN" sz="1800" spc="-1" strike="noStrike" u="sng">
                <a:solidFill>
                  <a:srgbClr val="006600"/>
                </a:solidFill>
                <a:uFillTx/>
                <a:latin typeface="Times New Roman"/>
              </a:rPr>
              <a:t>》《</a:t>
            </a:r>
            <a:r>
              <a:rPr b="1" lang="zh-CN" sz="1800" spc="-1" strike="noStrike" u="sng">
                <a:solidFill>
                  <a:srgbClr val="ff0033"/>
                </a:solidFill>
                <a:uFillTx/>
                <a:latin typeface="Times New Roman"/>
              </a:rPr>
              <a:t>浪游记快</a:t>
            </a:r>
            <a:r>
              <a:rPr b="1" lang="zh-CN" sz="1800" spc="-1" strike="noStrike" u="sng">
                <a:solidFill>
                  <a:srgbClr val="006600"/>
                </a:solidFill>
                <a:uFillTx/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四卷，卷五《</a:t>
            </a:r>
            <a:r>
              <a:rPr b="1" lang="zh-CN" sz="1800" spc="-1" strike="noStrike">
                <a:solidFill>
                  <a:srgbClr val="ff0033"/>
                </a:solidFill>
                <a:latin typeface="Times New Roman"/>
              </a:rPr>
              <a:t>中山记历</a:t>
            </a: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》、卷六《</a:t>
            </a:r>
            <a:r>
              <a:rPr b="1" lang="zh-CN" sz="1800" spc="-1" strike="noStrike">
                <a:solidFill>
                  <a:srgbClr val="ff0033"/>
                </a:solidFill>
                <a:latin typeface="Times New Roman"/>
              </a:rPr>
              <a:t>养生记道</a:t>
            </a: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》已逸。作者在《浮生六记》中记叙了夫妻间平凡的家居生活和各地浪游的见闻，记叙了自己大半生的经历，欢愉处与悲苦处两相对照，真切感人，从中可以看出当时的一些世态人情旧礼教对人们的束缚，以及主人公的坎坷遭遇。文词朴素，情感真挚，前人曾有“幽芳凄绝，读之心醉”的评语，文学气氛颇浓。由于时代的局限，书中也存在一些不健康的情趣，情调低沉，略含感伤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0371c"/>
                </a:solidFill>
                <a:latin typeface="Times New Roman"/>
              </a:rPr>
              <a:t>背景简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幼圆"/>
              </a:rPr>
              <a:t>思考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幼圆"/>
              </a:rPr>
              <a:t>1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幼圆"/>
              </a:rPr>
              <a:t>：童年时代最珍惜最宝贵的回忆往往是一些充满童真童趣的行为，我们看看作者在课文中向我们介绍了哪些有趣的事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752120" y="3733560"/>
            <a:ext cx="58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33"/>
                </a:solidFill>
                <a:uFillTx/>
                <a:latin typeface="Times New Roman"/>
                <a:ea typeface="华文新魏"/>
                <a:hlinkClick r:id="rId1" action="ppaction://hlinksldjump"/>
              </a:rPr>
              <a:t>①观</a:t>
            </a:r>
            <a:r>
              <a:rPr b="1" lang="zh-CN" sz="4800" spc="-1" strike="noStrike">
                <a:solidFill>
                  <a:srgbClr val="60371c"/>
                </a:solidFill>
                <a:latin typeface="Times New Roman"/>
                <a:ea typeface="华文新魏"/>
              </a:rPr>
              <a:t>蚊如鹤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0371c"/>
                </a:solidFill>
                <a:latin typeface="Times New Roman"/>
                <a:ea typeface="华文新魏"/>
              </a:rPr>
              <a:t>②</a:t>
            </a:r>
            <a:r>
              <a:rPr b="1" lang="zh-CN" sz="4800" spc="-1" strike="noStrike">
                <a:solidFill>
                  <a:srgbClr val="60371c"/>
                </a:solidFill>
                <a:latin typeface="Times New Roman"/>
                <a:ea typeface="华文新魏"/>
              </a:rPr>
              <a:t>神游“丛林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0371c"/>
                </a:solidFill>
                <a:latin typeface="Times New Roman"/>
                <a:ea typeface="华文新魏"/>
              </a:rPr>
              <a:t>③</a:t>
            </a:r>
            <a:r>
              <a:rPr b="1" lang="zh-CN" sz="4800" spc="-1" strike="noStrike">
                <a:solidFill>
                  <a:srgbClr val="60371c"/>
                </a:solidFill>
                <a:latin typeface="Times New Roman"/>
                <a:ea typeface="华文新魏"/>
              </a:rPr>
              <a:t>驱打蛤蟆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252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新魏"/>
                <a:ea typeface="华文新魏"/>
              </a:rPr>
              <a:t>思考</a:t>
            </a:r>
            <a:r>
              <a:rPr b="0" lang="zh-CN" sz="4400" spc="-1" strike="noStrike">
                <a:solidFill>
                  <a:srgbClr val="008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8000"/>
                </a:solidFill>
                <a:latin typeface="华文新魏"/>
                <a:ea typeface="华文新魏"/>
              </a:rPr>
              <a:t>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493704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2666880" cy="208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71800" y="556272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想 象 丰 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92520" y="914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文中作者最与众不同的地方是：（         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85640" y="1295280"/>
            <a:ext cx="86583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仿宋_GB2312"/>
              </a:rPr>
              <a:t>文中描写充满“童趣”的句子有哪些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仿宋_GB2312"/>
              </a:rPr>
              <a:t>?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54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1.…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私拟作群鹤舞空…昂首观之，项为之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581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又留蚊于素帐中，徐喷以烟…怡然称快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148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3.…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呀然惊恐，神定，捉蛤蟆…驱之别院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55680" y="541008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些都说明作者具有丰富的—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2666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思考</a:t>
            </a: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867280" y="4952880"/>
            <a:ext cx="2895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想象力</a:t>
            </a:r>
            <a:endParaRPr b="0" lang="en-US" sz="96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914400"/>
            <a:ext cx="81057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60371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文中表现作者观小为大的丰富想象力的句子有哪些？</a:t>
            </a:r>
            <a:endParaRPr b="1" lang="en-US" sz="2800" spc="1" strike="noStrike">
              <a:ln w="93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60371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954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夏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成雷，私拟作群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鹤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舞空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2819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a56e37"/>
                </a:solidFill>
                <a:uFillTx/>
                <a:latin typeface="Times New Roman"/>
              </a:rPr>
              <a:t>观蚊如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809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a56e37"/>
                </a:solidFill>
                <a:uFillTx/>
                <a:latin typeface="Times New Roman"/>
              </a:rPr>
              <a:t>神游“丛林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724280"/>
            <a:ext cx="19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a56e37"/>
                </a:solidFill>
                <a:uFillTx/>
                <a:latin typeface="Times New Roman"/>
              </a:rPr>
              <a:t>驱打蛤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733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丛草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林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……神游其中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724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庞然大物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盖一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癞蛤蟆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471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思考</a:t>
            </a: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4</a:t>
            </a: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752480"/>
            <a:ext cx="8077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仿宋_GB2312"/>
              </a:rPr>
              <a:t>分别出自文章中的哪一个事例？</a:t>
            </a:r>
            <a:endParaRPr b="1" lang="en-US" sz="3200" spc="1" strike="noStrike">
              <a:ln w="1260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仿宋_GB2312"/>
              <a:ea typeface="仿宋_GB2312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5486400"/>
            <a:ext cx="1219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cc"/>
                </a:solidFill>
                <a:latin typeface="隶书"/>
                <a:ea typeface="隶书"/>
              </a:rPr>
              <a:t>全 文 结 构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676520"/>
            <a:ext cx="60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第一段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总叙“物外之趣”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1240" y="2514600"/>
            <a:ext cx="48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第二段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,“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物外之趣”一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: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观蚊如鹤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27672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第三段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, “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物外之趣”二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: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神游山林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038480"/>
            <a:ext cx="80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第四段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, “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物外之趣”三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: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隶书"/>
              </a:rPr>
              <a:t>鞭打蛤蟆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3119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思考练习一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2952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4000" spc="-1" strike="noStrike">
                <a:solidFill>
                  <a:srgbClr val="0099cc"/>
                </a:solidFill>
                <a:latin typeface="Times New Roman"/>
                <a:ea typeface="华文新魏"/>
              </a:rPr>
              <a:t>这篇叙述作者童年生活的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Times New Roman"/>
                <a:ea typeface="华文新魏"/>
              </a:rPr>
              <a:t>散文围绕的中心是什么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200400"/>
            <a:ext cx="386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6dcac"/>
                </a:solidFill>
                <a:latin typeface="Times New Roman"/>
                <a:ea typeface="隶书"/>
              </a:rPr>
              <a:t>童  趣</a:t>
            </a:r>
            <a:endParaRPr b="0" lang="en-US" sz="9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ang</cp:lastModifiedBy>
  <dcterms:modified xsi:type="dcterms:W3CDTF">2003-04-05T03:34:54Z</dcterms:modified>
  <cp:revision>53</cp:revision>
  <dc:subject/>
  <dc:title>PowerPoint Presentation</dc:title>
</cp:coreProperties>
</file>