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8E9-4A3F-423D-87A3-DDCD0AB2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CDB-3238-4D78-B0F3-021998C8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AAE-A816-471D-BCC6-2E642AD9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5EC-FC9F-493F-90D5-D3D014C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D50-6560-4325-8404-D335A2AF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024-21D7-4E7A-BDF1-87C30C2F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D8B-0FA1-4D1B-88AF-6C40EF3E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CB1-70C2-4DA1-976D-5A5FB82A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E19-FA88-4CC7-B5D4-346BC0BB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232-0180-4FEF-BD1C-613ABBC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9F9-9B05-43B0-A3D4-51AEACBE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6E3-F72F-4961-98AB-C0F62F8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888-95B9-4CD4-A9DE-4D29EA4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7AA-D0BD-475F-B4F0-ECB9CB4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87A6-E532-4CCF-A821-897028F46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851280" y="115920"/>
            <a:ext cx="100800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619280" y="62064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隶书"/>
              </a:rPr>
              <a:t>幼 时 记 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file://E:/webapps/gaoqs-services/wenku_down/mask.jpg"/>
          <p:cNvPicPr/>
          <p:nvPr/>
        </p:nvPicPr>
        <p:blipFill>
          <a:blip r:embed="rId3"/>
          <a:stretch/>
        </p:blipFill>
        <p:spPr>
          <a:xfrm>
            <a:off x="0" y="0"/>
            <a:ext cx="2541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8360" y="62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土墙凹凸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台小草丛杂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蹲其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与台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目细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11280" y="342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丛草为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虫蚁为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土砾凸者为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凹者为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神游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怡然自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68360" y="184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我常在坑洼不平的土墙边，杂草丛生的花台旁，常常蹲下自己的身子，使身子与花台一样高，定睛细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68360" y="4508640"/>
            <a:ext cx="79200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译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把丛聚的草当作树林，把昆虫蚂蚁当作野兽，把泥土瓦砾突起的地方当作山丘，低洼的地方当作沟谷，想象在里面游历的情景，真感到心情舒畅，自得其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918160" y="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40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二虫斗草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之正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有庞然大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拔山倒树而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盖一癞蛤蟆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5640" y="3357720"/>
            <a:ext cx="66978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舌一吐而二虫尽为所吞。余年幼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出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觉呀然惊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捉蛤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鞭数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驱之别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360" y="4149720"/>
            <a:ext cx="7632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蛤蟆舌头一伸，两只虫子就全被吞进肚子里。我那时年纪还小，正看得出神，不禁“唉呀”的惊叫一声，感到害怕；心神安定下来，捉住蛤蟆，鞭打了它几十下，把它赶到别的院子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17480" y="1413000"/>
            <a:ext cx="79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一天，看到两只虫子在草丛间相斗，我观看这一情景兴趣正浓厚的时候，突然有一个很大的东西，像推开大山，撞到大树一样闯了过来，原来是一只大蛤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758960" y="181080"/>
            <a:ext cx="49006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Arial Black"/>
                <a:ea typeface="华文彩云"/>
              </a:rPr>
              <a:t>看看谁最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请选择你要做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71600" y="1989000"/>
            <a:ext cx="230004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鸦雀无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06880" y="1989000"/>
            <a:ext cx="230184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搜索枯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054840" y="1989000"/>
            <a:ext cx="233352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记忆犹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935600" y="4221000"/>
            <a:ext cx="230040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津津有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79600" y="4292640"/>
            <a:ext cx="230040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明察秋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132000" y="333360"/>
            <a:ext cx="230364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鸦雀无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4360" y="1557360"/>
            <a:ext cx="3809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余忆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童稚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能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张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目对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察秋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明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察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秋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明察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秋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见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藐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小微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必细察其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纹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故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时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有物外之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故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时有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物外之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648320" y="1484280"/>
            <a:ext cx="3809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幼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张开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眼力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看清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秋日鸟兽新长的羽毛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比喻极细小的东西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小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花纹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经常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  <a:ea typeface="黑体"/>
              </a:rPr>
              <a:t>所以，  事物本身以外的乐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共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24000" y="981000"/>
            <a:ext cx="6408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正确理解下列句中加横线的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059280" y="404640"/>
            <a:ext cx="230472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搜索枯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95280" y="2278080"/>
            <a:ext cx="35989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丛草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为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以土砾凸者为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凹者为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神游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怡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自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观之正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山倒树而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盖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一癞蛤蟆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二虫尽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为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所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方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华文楷体"/>
              </a:rPr>
              <a:t>出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211640" y="2276640"/>
            <a:ext cx="40305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把</a:t>
            </a:r>
            <a:r>
              <a:rPr b="1" lang="en-US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……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当作</a:t>
            </a:r>
            <a:r>
              <a:rPr b="1" lang="en-US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同</a:t>
            </a:r>
            <a:r>
              <a:rPr b="1" lang="zh-CN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丘</a:t>
            </a:r>
            <a:r>
              <a:rPr b="1" lang="zh-CN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，土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山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想象中游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自己感到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程度深，指兴趣浓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搬开，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原来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5280" y="1268280"/>
            <a:ext cx="77770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正确理解下列句中加横线的字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419640" y="455760"/>
            <a:ext cx="230472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记忆犹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2276640"/>
            <a:ext cx="3741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拟作群鹤舞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心之所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则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或千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或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百果然鹤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则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或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千或百果然鹤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项为之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又留蚊于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素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徐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喷以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使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冲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烟飞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青云白鹤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华文楷体"/>
              </a:rPr>
              <a:t>怡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楷体"/>
              </a:rPr>
              <a:t>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006880" y="2276640"/>
            <a:ext cx="3525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私下，指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那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或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同</a:t>
            </a:r>
            <a:r>
              <a:rPr b="1" lang="zh-CN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僵</a:t>
            </a:r>
            <a:r>
              <a:rPr b="1" lang="zh-CN" sz="2800" spc="-1" strike="noStrike">
                <a:solidFill>
                  <a:srgbClr val="339933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，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白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慢慢，缓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朝着，冲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当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华文楷体"/>
              </a:rPr>
              <a:t>喜悦的 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68360" y="1401840"/>
            <a:ext cx="8424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正确理解下列句中加横线的字词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244680" y="404640"/>
            <a:ext cx="240696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明察秋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55720" y="1776240"/>
            <a:ext cx="3975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昂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青云白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察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毫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必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纹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视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余忆童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物外之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强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舌一吐而二虫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570280" y="1892160"/>
            <a:ext cx="300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观：（看）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（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察：（看到、看清）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（观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神：（精神、注意力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（精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时：（时候）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（时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为：（因为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（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-36360" y="1125360"/>
            <a:ext cx="84247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正确理解下列句中红色字词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314880" y="333360"/>
            <a:ext cx="233676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津津有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629080" y="1773360"/>
            <a:ext cx="1487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故时有物外之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心之所向，则或千或百果然鹤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青云白鹤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丛草为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神游其中，怡然自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0920" y="1125360"/>
            <a:ext cx="84247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把下面的句子译成现代汉语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4000" y="1752480"/>
            <a:ext cx="92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以时常有观察物体本身以外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中想像的景观是鹤，那么或者成千或者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飞舞的蚊子，果真觉得它们是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作青云白鹤看（观赏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丛聚的草当作树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像在里面游乐的情景，真感到心情舒畅，自得其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无标题2"/>
          <p:cNvPicPr/>
          <p:nvPr/>
        </p:nvPicPr>
        <p:blipFill>
          <a:blip r:embed="rId2"/>
          <a:stretch/>
        </p:blipFill>
        <p:spPr>
          <a:xfrm>
            <a:off x="0" y="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95280" y="21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写的“物外之趣”有哪几件？请用简洁的语言概括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群鸟飞翔"/>
          <p:cNvPicPr/>
          <p:nvPr/>
        </p:nvPicPr>
        <p:blipFill>
          <a:blip r:embed="rId2"/>
          <a:stretch/>
        </p:blipFill>
        <p:spPr>
          <a:xfrm>
            <a:off x="250920" y="404640"/>
            <a:ext cx="3457440" cy="270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绿树"/>
          <p:cNvPicPr/>
          <p:nvPr/>
        </p:nvPicPr>
        <p:blipFill>
          <a:blip r:embed="rId3"/>
          <a:stretch/>
        </p:blipFill>
        <p:spPr>
          <a:xfrm>
            <a:off x="5364000" y="40464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蟾蜍"/>
          <p:cNvPicPr/>
          <p:nvPr/>
        </p:nvPicPr>
        <p:blipFill>
          <a:blip r:embed="rId4"/>
          <a:stretch/>
        </p:blipFill>
        <p:spPr>
          <a:xfrm>
            <a:off x="3492360" y="3357720"/>
            <a:ext cx="410544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539640" y="321300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观蚊如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54400" y="417528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56400" y="907920"/>
            <a:ext cx="12776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神游山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145280" y="4005360"/>
            <a:ext cx="1521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驱打蛤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920" y="563400"/>
            <a:ext cx="84247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第一课时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，积累文言词汇，掌握重点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注释、工具书理解文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900000" y="2349360"/>
            <a:ext cx="3240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外之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716360" y="1197000"/>
            <a:ext cx="29289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蚊如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716360" y="24922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神游山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140360" y="1413000"/>
            <a:ext cx="215640" cy="3095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859280" y="3789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鞭打蛤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763640" y="4941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203640" y="4941720"/>
            <a:ext cx="1871640" cy="863640"/>
          </a:xfrm>
          <a:prstGeom prst="rightArrow">
            <a:avLst>
              <a:gd name="adj1" fmla="val 50000"/>
              <a:gd name="adj2" fmla="val 54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651640" y="494172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仙鹤飞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蟾蜍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84360" y="549360"/>
            <a:ext cx="734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产生“物外之趣”的原因是作者观察细致，想象奇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43000" y="152388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反映了作者惩罚强暴、同情弱小的纯真的童心和观小为大、想象奇特的童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87320" y="115920"/>
            <a:ext cx="55342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追忆了作者自己的童年生活，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映了儿童丰富的想象力和天真烂漫的童趣，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味文中精美的语句，把你认为最有趣的地方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荐给同学们，并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余忆童稚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憨态可掬，童真童趣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于其中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②心之所向，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也（想象奇特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③徐喷以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非童稚不能为也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④忽有庞然大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照应上文“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儿童特有的感受，非世俗成人所能想到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⑤神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之别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物我同趣，令人哑然失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895400" y="189000"/>
            <a:ext cx="5699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合文章内容，小组合作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了这一课，你能就课文结构、内容、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、顺序、语句理解等方面提出一个有价值的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进行研究探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联系全文“物外之趣”“物内之趣”指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外之趣”产生的原因是什么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物内之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察其纹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物外之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据事物的特点，在头脑中创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出超出事物本身特性的新事物，从中得到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种“物外之趣”是借助丰富的联想和想象创造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的，在文中一是指童年乐趣，一是身处尘世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得的闲情。观察细致，想像奇特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8320" y="517680"/>
            <a:ext cx="5747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   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作者的作文思路入手，请说明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段置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中的合理性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 ③第四段作为一个儿童故事，其童趣表现在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么地方？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童心：惩罚强暴、同情弱小的童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童趣：观小为大、想像奇特的童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34671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e3100"/>
                </a:solidFill>
                <a:latin typeface="Arial"/>
                <a:ea typeface="华文楷体"/>
              </a:rPr>
              <a:t>背景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沈复"/>
          <p:cNvPicPr/>
          <p:nvPr/>
        </p:nvPicPr>
        <p:blipFill>
          <a:blip r:embed="rId2"/>
          <a:stretch/>
        </p:blipFill>
        <p:spPr>
          <a:xfrm>
            <a:off x="468360" y="1773360"/>
            <a:ext cx="3382920" cy="4375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140360" y="1125360"/>
            <a:ext cx="438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沈复，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字三白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苏州人。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清代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散文家。他一生长期做幕僚，奔走南北，游历过许多地方。能文善画，著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浮生六记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浮生六记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一本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自传体散文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记叙了作者夫妇的家居生活和浪游各地的见闻，以及他们的坎坷遭遇。文辞朴素自然，情感真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幼时记趣》选自《浮生六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隶书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闲情记趣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是作者追记童年生活的一篇极有情趣的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散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946520" y="1163520"/>
            <a:ext cx="54032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题目是文章的眼睛，阅读时我们不能忽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题目。从这个题目看，课文的重点应落在哪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趣）“趣”是乐趣、情趣，“记趣”，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乐趣、情趣记录下来； “幼时”：年幼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合起来可以理解成“记录年幼时的乐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15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诵读的要求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小组先齐读再进行创意自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清停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语气和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89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95280" y="14130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）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）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项为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）   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）云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）然自得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凹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土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953360" y="1413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775480" y="140976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803680" y="1835280"/>
            <a:ext cx="17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43716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643040" y="2411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114640" y="285264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   t 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900080" y="3354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763640" y="3851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i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899720" y="43624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11280" y="1335240"/>
            <a:ext cx="795636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组合作，结合注释、词典，试着翻译全文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顺序，以句号为单位一人一句循环发言（互相发现问题，提出意见），最后全班交流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钟后期待你的精彩发言）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611280" y="260280"/>
            <a:ext cx="40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自学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2" name="Picture 4" descr="tov-75"/>
          <p:cNvPicPr/>
          <p:nvPr/>
        </p:nvPicPr>
        <p:blipFill>
          <a:blip r:embed="rId2"/>
          <a:stretch/>
        </p:blipFill>
        <p:spPr>
          <a:xfrm>
            <a:off x="6588000" y="5013360"/>
            <a:ext cx="20163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095480" y="27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326680" y="549360"/>
            <a:ext cx="424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忆童稚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张目对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察秋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662200" y="2565360"/>
            <a:ext cx="23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藐小微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细察其纹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2684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时有物外之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14130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译：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我回忆幼小的时候，能够睁大眼睛对着太阳，眼力足以看得清极细小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4360" y="364500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译：我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看见细小的东西，一定要仔细观察它的花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46200" y="57340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译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：所以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我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时常有观察物体本身以外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855160" y="0"/>
            <a:ext cx="13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400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蚊成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私拟作群鹤舞空。心之所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或千或百果然鹤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5120" y="7905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77800" y="278136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昂首观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为之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43120" y="237492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0920" y="393372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留蚊于素帐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徐喷以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其冲烟飞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青云白鹤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如鹤唳云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怡然称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24000" y="1413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夏天蚊子的飞鸣声像雷声一样，我私下把它们比作鹤群在空中飞舞。心中想像的是鹤，那么呈现在眼前的或是成千或是成百（飞舞着的蚊子）便果真是鹤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328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我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仰起头来观赏这种景象，脖颈因此都僵硬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24000" y="4869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译：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有时）我又把蚊子留在白色的蚊帐里，用烟慢慢地喷它，使它冲着烟雾飞叫，（我把这种情景）当作青云白鹤图看，果真就像鹤在云头上高亢的鸣叫，令人高兴得连声叫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22880" y="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9:25:18Z</dcterms:created>
  <dc:creator> </dc:creator>
  <dc:description> </dc:description>
  <dc:language>en-US</dc:language>
  <cp:lastModifiedBy>USER</cp:lastModifiedBy>
  <dcterms:modified xsi:type="dcterms:W3CDTF">2016-11-18T20:43:30Z</dcterms:modified>
  <cp:revision>0</cp:revision>
  <dc:subject>   </dc:subject>
  <dc:title> </dc:title>
</cp:coreProperties>
</file>