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733-8DBC-4376-A8F5-3ED6BE79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58D-2327-49F7-AEE5-D371356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C5C-2253-4DBA-8EC1-2A72F5A1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478-00C9-4E53-ADB6-39699C3F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FD4B-0F7A-4C99-BFCF-5139ED0A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39D5-E97F-42C3-8AA8-817A1EE2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99C-EF86-43E9-AA4F-5CCCC52E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E38-227E-422C-82FB-46A4902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F1F-575D-440A-AF22-8D9D0CAB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CF9E-521E-4C79-AF1C-F3947430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703-F726-4291-B7BB-B11B223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791-6E73-4CE0-9BB7-51785CDE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02AE-BBB1-4955-94B5-B946A8C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D67-65C5-4B64-949E-B074930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BFA-B425-493B-BFC0-B4904672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EE27-9E40-4E38-9D9E-9AF52197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8ED7-659E-4D3F-B4A8-D5A3DE85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012-6E0B-4592-BEF3-48B85FD7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C74-FE69-481A-9108-C5B10EFF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A82-FB81-445C-8133-DBA8F826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DCC-64A5-4924-97C2-CB3CA3AA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4BB-010E-4C20-9858-5DF7700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37C-0C6C-4518-887E-1A89E1F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EC0-A603-4958-9F3D-95C5D95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920" y="-10080"/>
            <a:ext cx="9236160" cy="6937560"/>
            <a:chOff x="-34920" y="-10080"/>
            <a:chExt cx="9236160" cy="6937560"/>
          </a:xfrm>
        </p:grpSpPr>
        <p:sp>
          <p:nvSpPr>
            <p:cNvPr id="1" name="Rectangle 3"/>
            <p:cNvSpPr/>
            <p:nvPr/>
          </p:nvSpPr>
          <p:spPr>
            <a:xfrm>
              <a:off x="8744040" y="-6120"/>
              <a:ext cx="455040" cy="69246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28440" y="-6120"/>
              <a:ext cx="456840" cy="693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2600" y="-10440"/>
              <a:ext cx="9200880" cy="456840"/>
            </a:xfrm>
            <a:custGeom>
              <a:avLst/>
              <a:gdLst>
                <a:gd name="textAreaLeft" fmla="*/ 997920 w 9200880"/>
                <a:gd name="textAreaRight" fmla="*/ 8202960 w 9200880"/>
                <a:gd name="textAreaTop" fmla="*/ 48960 h 456840"/>
                <a:gd name="textAreaBottom" fmla="*/ 40788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4560" y="6467400"/>
              <a:ext cx="9236160" cy="460080"/>
            </a:xfrm>
            <a:custGeom>
              <a:avLst/>
              <a:gdLst>
                <a:gd name="textAreaLeft" fmla="*/ 1004400 w 9236160"/>
                <a:gd name="textAreaRight" fmla="*/ 8231760 w 9236160"/>
                <a:gd name="textAreaTop" fmla="*/ 50760 h 460080"/>
                <a:gd name="textAreaBottom" fmla="*/ 40932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5760" y="285480"/>
              <a:ext cx="8620200" cy="6327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72BB-D81C-4CC0-A18A-2EFFBBFDC1EA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4920" y="-10080"/>
            <a:ext cx="9236160" cy="6937560"/>
            <a:chOff x="-34920" y="-10080"/>
            <a:chExt cx="9236160" cy="6937560"/>
          </a:xfrm>
        </p:grpSpPr>
        <p:sp>
          <p:nvSpPr>
            <p:cNvPr id="48" name="Rectangle 3"/>
            <p:cNvSpPr/>
            <p:nvPr/>
          </p:nvSpPr>
          <p:spPr>
            <a:xfrm>
              <a:off x="8744040" y="-6120"/>
              <a:ext cx="455040" cy="69246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28440" y="-6120"/>
              <a:ext cx="456840" cy="693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2600" y="-10440"/>
              <a:ext cx="9200880" cy="456840"/>
            </a:xfrm>
            <a:custGeom>
              <a:avLst/>
              <a:gdLst>
                <a:gd name="textAreaLeft" fmla="*/ 997920 w 9200880"/>
                <a:gd name="textAreaRight" fmla="*/ 8202960 w 9200880"/>
                <a:gd name="textAreaTop" fmla="*/ 48960 h 456840"/>
                <a:gd name="textAreaBottom" fmla="*/ 40788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4560" y="6467400"/>
              <a:ext cx="9236160" cy="460080"/>
            </a:xfrm>
            <a:custGeom>
              <a:avLst/>
              <a:gdLst>
                <a:gd name="textAreaLeft" fmla="*/ 1004400 w 9236160"/>
                <a:gd name="textAreaRight" fmla="*/ 8231760 w 9236160"/>
                <a:gd name="textAreaTop" fmla="*/ 50760 h 460080"/>
                <a:gd name="textAreaBottom" fmla="*/ 40932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5760" y="285480"/>
              <a:ext cx="8620200" cy="6327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A483-AA29-4176-B49F-2632343F3360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3429000" y="60948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总有一天……</a:t>
            </a:r>
            <a:endParaRPr b="0" lang="en-US" sz="2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95" name="Picture 8" descr="88"/>
          <p:cNvPicPr/>
          <p:nvPr/>
        </p:nvPicPr>
        <p:blipFill>
          <a:blip r:embed="rId2"/>
          <a:stretch/>
        </p:blipFill>
        <p:spPr>
          <a:xfrm>
            <a:off x="0" y="6172200"/>
            <a:ext cx="9220320" cy="281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要变成…</a:t>
            </a:r>
            <a:r>
              <a:rPr b="1" lang="en-US" sz="5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13" descr="tov-77"/>
          <p:cNvPicPr/>
          <p:nvPr/>
        </p:nvPicPr>
        <p:blipFill>
          <a:blip r:embed="rId3"/>
          <a:stretch/>
        </p:blipFill>
        <p:spPr>
          <a:xfrm>
            <a:off x="457200" y="15228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6"/>
          <p:cNvSpPr/>
          <p:nvPr/>
        </p:nvSpPr>
        <p:spPr>
          <a:xfrm>
            <a:off x="304920" y="449568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说明孩子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非常丰富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301640" y="4191120"/>
            <a:ext cx="141516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33"/>
                </a:solidFill>
                <a:latin typeface="Times New Roman"/>
              </a:rPr>
              <a:t>想象力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6829920" y="198360"/>
            <a:ext cx="2009160" cy="4145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Times New Roman"/>
                <a:ea typeface="隶书"/>
              </a:rPr>
              <a:t>幼时记趣</a:t>
            </a:r>
            <a:endParaRPr b="0" lang="en-US" sz="60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37960" y="1255680"/>
            <a:ext cx="8723520" cy="738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96720" y="249228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.…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私拟作群鹤舞空…昂首观之，项为之强。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9440" y="328464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又留蚊于素帐中，徐喷以烟…怡然称快。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14480" y="4149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3.…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呀然惊恐，神定，捉蛤蟆…驱之别院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255680" y="541008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些都说明作者具有丰富的——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思考</a:t>
            </a:r>
            <a:r>
              <a:rPr b="0" lang="en-US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5867280" y="495288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想象力</a:t>
            </a:r>
            <a:endParaRPr b="0" lang="en-US" sz="96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1026"/>
          <p:cNvSpPr txBox="1"/>
          <p:nvPr/>
        </p:nvSpPr>
        <p:spPr>
          <a:xfrm>
            <a:off x="533520" y="914400"/>
            <a:ext cx="8105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文中表现作者观小为大的丰富想象力的句子有哪些？</a:t>
            </a:r>
            <a:endParaRPr b="1" lang="en-US" sz="2800" spc="-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0" y="28954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夏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宋体"/>
              </a:rPr>
              <a:t>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成雷，私拟作群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宋体"/>
              </a:rPr>
              <a:t>鹤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舞空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宋体"/>
              </a:rPr>
              <a:t>         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586728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e37"/>
                </a:solidFill>
                <a:uFillTx/>
                <a:latin typeface="Times New Roman"/>
                <a:ea typeface="宋体"/>
              </a:rPr>
              <a:t>观蚊如鹤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7" name="Text Box 1029"/>
          <p:cNvSpPr/>
          <p:nvPr/>
        </p:nvSpPr>
        <p:spPr>
          <a:xfrm>
            <a:off x="5715000" y="3809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e37"/>
                </a:solidFill>
                <a:uFillTx/>
                <a:latin typeface="Times New Roman"/>
                <a:ea typeface="宋体"/>
              </a:rPr>
              <a:t>神游“丛林”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8" name="Text Box 1030"/>
          <p:cNvSpPr/>
          <p:nvPr/>
        </p:nvSpPr>
        <p:spPr>
          <a:xfrm>
            <a:off x="5715000" y="4724280"/>
            <a:ext cx="19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e37"/>
                </a:solidFill>
                <a:uFillTx/>
                <a:latin typeface="Times New Roman"/>
                <a:ea typeface="宋体"/>
              </a:rPr>
              <a:t>驱打蛤蟆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9" name="Rectangle 1035"/>
          <p:cNvSpPr/>
          <p:nvPr/>
        </p:nvSpPr>
        <p:spPr>
          <a:xfrm>
            <a:off x="3808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…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以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宋体"/>
              </a:rPr>
              <a:t>丛草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为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宋体"/>
              </a:rPr>
              <a:t>林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……神游其中…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0" name="Rectangle 1036"/>
          <p:cNvSpPr/>
          <p:nvPr/>
        </p:nvSpPr>
        <p:spPr>
          <a:xfrm>
            <a:off x="533520" y="4724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宋体"/>
              </a:rPr>
              <a:t>庞然大物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，盖一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宋体"/>
              </a:rPr>
              <a:t>癞蛤蟆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也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471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思考</a:t>
            </a:r>
            <a:r>
              <a:rPr b="0" lang="en-US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4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WordArt 1301"/>
          <p:cNvSpPr txBox="1"/>
          <p:nvPr/>
        </p:nvSpPr>
        <p:spPr>
          <a:xfrm>
            <a:off x="609480" y="1752480"/>
            <a:ext cx="8077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分别出自文章中的哪一个事例？</a:t>
            </a:r>
            <a:endParaRPr b="1" lang="en-US" sz="3200" spc="1" strike="noStrike">
              <a:ln w="1260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53" name="Picture 1302" descr="0311"/>
          <p:cNvPicPr/>
          <p:nvPr/>
        </p:nvPicPr>
        <p:blipFill>
          <a:blip r:embed="rId3"/>
          <a:stretch/>
        </p:blipFill>
        <p:spPr>
          <a:xfrm>
            <a:off x="7315200" y="5486400"/>
            <a:ext cx="1219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cc"/>
                </a:solidFill>
                <a:latin typeface="隶书"/>
                <a:ea typeface="隶书"/>
              </a:rPr>
              <a:t>全 文 结 构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9640" y="1700280"/>
            <a:ext cx="75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一段总叙“物外之趣”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11280" y="2811600"/>
            <a:ext cx="851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二段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物外之趣”   </a:t>
            </a:r>
            <a:r>
              <a:rPr b="1" lang="en-US" sz="4400" spc="-1" strike="noStrike">
                <a:solidFill>
                  <a:srgbClr val="3bef11"/>
                </a:solidFill>
                <a:latin typeface="Times New Roman"/>
                <a:ea typeface="隶书"/>
              </a:rPr>
              <a:t>1</a:t>
            </a:r>
            <a:r>
              <a:rPr b="1" lang="zh-CN" sz="4400" spc="-1" strike="noStrike">
                <a:solidFill>
                  <a:srgbClr val="3bef11"/>
                </a:solidFill>
                <a:latin typeface="Times New Roman"/>
                <a:ea typeface="隶书"/>
              </a:rPr>
              <a:t>观蚊如鹤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0" y="3789360"/>
            <a:ext cx="88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三段“物外之趣” </a:t>
            </a:r>
            <a:r>
              <a:rPr b="1" lang="en-US" sz="4400" spc="-1" strike="noStrike">
                <a:solidFill>
                  <a:srgbClr val="3bef11"/>
                </a:solidFill>
                <a:latin typeface="Times New Roman"/>
                <a:ea typeface="隶书"/>
              </a:rPr>
              <a:t>2</a:t>
            </a:r>
            <a:r>
              <a:rPr b="1" lang="zh-CN" sz="4400" spc="-1" strike="noStrike">
                <a:solidFill>
                  <a:srgbClr val="3bef11"/>
                </a:solidFill>
                <a:latin typeface="Times New Roman"/>
                <a:ea typeface="隶书"/>
              </a:rPr>
              <a:t>神游从林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264960" y="4824360"/>
            <a:ext cx="86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四段“物外之趣” </a:t>
            </a:r>
            <a:r>
              <a:rPr b="1" lang="en-US" sz="4400" spc="-1" strike="noStrike">
                <a:solidFill>
                  <a:srgbClr val="3bef11"/>
                </a:solidFill>
                <a:latin typeface="Times New Roman"/>
                <a:ea typeface="隶书"/>
              </a:rPr>
              <a:t>3</a:t>
            </a:r>
            <a:r>
              <a:rPr b="1" lang="zh-CN" sz="4400" spc="-1" strike="noStrike">
                <a:solidFill>
                  <a:srgbClr val="3bef11"/>
                </a:solidFill>
                <a:latin typeface="Times New Roman"/>
                <a:ea typeface="隶书"/>
              </a:rPr>
              <a:t>驱打蛤蟆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3119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思考练习一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85800" y="12952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99cc"/>
                </a:solidFill>
                <a:latin typeface="Times New Roman"/>
              </a:rPr>
              <a:t>这篇叙述作者童年生活的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</a:rPr>
              <a:t>散文围绕的中心是什么？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86000" y="3200400"/>
            <a:ext cx="386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6dcac"/>
                </a:solidFill>
                <a:latin typeface="Times New Roman"/>
                <a:ea typeface="隶书"/>
              </a:rPr>
              <a:t>童  趣</a:t>
            </a:r>
            <a:endParaRPr b="0" lang="en-US" sz="96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24000" y="90792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你认为给自己留下</a:t>
            </a:r>
            <a:r>
              <a:rPr b="1" lang="zh-CN" sz="3600" spc="-1" strike="noStrike">
                <a:solidFill>
                  <a:srgbClr val="ff0033"/>
                </a:solidFill>
                <a:latin typeface="楷体_GB2312"/>
              </a:rPr>
              <a:t>最深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印象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           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的是哪一个事例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?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它好在哪里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</a:rPr>
              <a:t>?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思考练习二</a:t>
            </a:r>
            <a:r>
              <a:rPr b="0" lang="en-US" sz="3600" spc="-1" strike="noStrike">
                <a:solidFill>
                  <a:srgbClr val="0066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7" descr="蟾蜍"/>
          <p:cNvPicPr/>
          <p:nvPr/>
        </p:nvPicPr>
        <p:blipFill>
          <a:blip r:embed="rId1"/>
          <a:stretch/>
        </p:blipFill>
        <p:spPr>
          <a:xfrm>
            <a:off x="6477120" y="3809880"/>
            <a:ext cx="2315880" cy="189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绿树"/>
          <p:cNvPicPr/>
          <p:nvPr/>
        </p:nvPicPr>
        <p:blipFill>
          <a:blip r:embed="rId2"/>
          <a:stretch/>
        </p:blipFill>
        <p:spPr>
          <a:xfrm>
            <a:off x="3457440" y="380988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196920" y="285264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观蚊如鹤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333600" y="2847960"/>
            <a:ext cx="27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神游丛林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324480" y="2852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驱打蛤蟆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133720" y="2057400"/>
            <a:ext cx="18396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170" name="Picture 15" descr="图片1"/>
          <p:cNvPicPr/>
          <p:nvPr/>
        </p:nvPicPr>
        <p:blipFill>
          <a:blip r:embed="rId3"/>
          <a:stretch/>
        </p:blipFill>
        <p:spPr>
          <a:xfrm>
            <a:off x="324000" y="3789360"/>
            <a:ext cx="24382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764640"/>
            <a:ext cx="4033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Times New Roman"/>
                <a:ea typeface="隶书"/>
              </a:rPr>
              <a:t>课堂练习一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838080" y="17524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宋体"/>
              </a:rPr>
              <a:t>拼 音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2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258920" y="3038400"/>
            <a:ext cx="20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稚（       ）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392360" y="26384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项为之强（       ）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255200" y="3419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刚强（       ）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14640" y="4321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鹤唳（   ）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4356000" y="4365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怡（   ）然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4067280" y="537372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凹凸（   ）（   ）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1209960" y="5373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丘壑（   ）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1749600" y="2895480"/>
            <a:ext cx="13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zh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ì</a:t>
            </a: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5867280" y="2362320"/>
            <a:ext cx="83844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1905120" y="3597120"/>
            <a:ext cx="761760" cy="641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1922400" y="42339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l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ì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5045040" y="329256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qi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á</a:t>
            </a: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ng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5189400" y="425772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y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í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1979640" y="5300640"/>
            <a:ext cx="9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h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è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5262480" y="525780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āo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6516720" y="52736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tū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3924360" y="2824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eaeaea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5796000" y="2492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Verdana"/>
                <a:ea typeface="宋体"/>
              </a:rPr>
              <a:t>jiāng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50640"/>
            <a:ext cx="3962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隶书"/>
                <a:ea typeface="隶书"/>
              </a:rPr>
              <a:t>课堂练习二</a:t>
            </a:r>
            <a:r>
              <a:rPr b="0" lang="en-US" sz="4400" spc="-1" strike="noStrike">
                <a:solidFill>
                  <a:srgbClr val="003399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71160" y="1447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cc"/>
                </a:solidFill>
                <a:latin typeface="Times New Roman"/>
              </a:rPr>
              <a:t>解释下列划线的词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88200" y="2324160"/>
            <a:ext cx="43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徐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喷以烟（           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33840" y="230976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怡然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                       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95280" y="4005360"/>
            <a:ext cx="404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拔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山倒树（              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-307440" y="3141720"/>
            <a:ext cx="50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余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年幼     （          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4100760" y="3200400"/>
            <a:ext cx="50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明</a:t>
            </a: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察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秋毫    （          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627800" y="39765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项为之</a:t>
            </a: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强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      ）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34360" y="4797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蹲</a:t>
            </a: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其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身（        ）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-394200" y="566100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以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丛草</a:t>
            </a: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林（                 ）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368440" y="2292480"/>
            <a:ext cx="14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慢慢地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934240" y="22622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喜悦的样子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2861280" y="310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7086600" y="3186000"/>
            <a:ext cx="11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看清  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2322360" y="398160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移，搬开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791400" y="399564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僵硬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2556000" y="4797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自己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2987640" y="566100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把…当作…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拓 展 练 习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84360" y="981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汉语中某些动物的叫声有其固定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隶书"/>
              </a:rPr>
              <a:t> 的词来描绘，如本文中的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鹤</a:t>
            </a:r>
            <a:r>
              <a:rPr b="1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隶书"/>
              </a:rPr>
              <a:t>唳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隶书"/>
              </a:rPr>
              <a:t>”。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隶书"/>
              </a:rPr>
              <a:t>请写出下列动物的叫声：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26920" y="2060640"/>
            <a:ext cx="7921800" cy="3653640"/>
            <a:chOff x="826920" y="2060640"/>
            <a:chExt cx="7921800" cy="3653640"/>
          </a:xfrm>
        </p:grpSpPr>
        <p:sp>
          <p:nvSpPr>
            <p:cNvPr id="212" name="Text Box 30"/>
            <p:cNvSpPr/>
            <p:nvPr/>
          </p:nvSpPr>
          <p:spPr>
            <a:xfrm>
              <a:off x="826920" y="2060640"/>
              <a:ext cx="345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马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3203280" y="2060640"/>
              <a:ext cx="28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犬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5940360" y="2060640"/>
              <a:ext cx="28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狼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5" name="Text Box 33"/>
            <p:cNvSpPr/>
            <p:nvPr/>
          </p:nvSpPr>
          <p:spPr>
            <a:xfrm>
              <a:off x="826920" y="3429000"/>
              <a:ext cx="28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虎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3276360" y="3429000"/>
              <a:ext cx="237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猿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7" name="Text Box 35"/>
            <p:cNvSpPr/>
            <p:nvPr/>
          </p:nvSpPr>
          <p:spPr>
            <a:xfrm>
              <a:off x="6011640" y="3429000"/>
              <a:ext cx="273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狮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8" name="Text Box 36"/>
            <p:cNvSpPr/>
            <p:nvPr/>
          </p:nvSpPr>
          <p:spPr>
            <a:xfrm>
              <a:off x="826920" y="4797360"/>
              <a:ext cx="31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鸟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  <p:sp>
          <p:nvSpPr>
            <p:cNvPr id="219" name="Text Box 37"/>
            <p:cNvSpPr/>
            <p:nvPr/>
          </p:nvSpPr>
          <p:spPr>
            <a:xfrm>
              <a:off x="3276360" y="4797360"/>
              <a:ext cx="2303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66ff"/>
                  </a:solidFill>
                  <a:latin typeface="Times New Roman"/>
                </a:rPr>
                <a:t>鹤</a:t>
              </a:r>
              <a:r>
                <a:rPr b="0" lang="en-US" sz="5400" spc="-1" strike="noStrike">
                  <a:solidFill>
                    <a:srgbClr val="3366ff"/>
                  </a:solidFill>
                  <a:latin typeface="Times New Roman"/>
                </a:rPr>
                <a:t>____</a:t>
              </a:r>
              <a:endParaRPr b="0" lang="en-US" sz="5400" spc="-1" strike="noStrike">
                <a:solidFill>
                  <a:srgbClr val="3366ff"/>
                </a:solidFill>
                <a:latin typeface="Times New Roman"/>
              </a:endParaRPr>
            </a:p>
          </p:txBody>
        </p:sp>
      </p:grpSp>
      <p:sp>
        <p:nvSpPr>
          <p:cNvPr id="220" name="Text Box 39"/>
          <p:cNvSpPr/>
          <p:nvPr/>
        </p:nvSpPr>
        <p:spPr>
          <a:xfrm>
            <a:off x="1619280" y="2060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嘶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4211640" y="2060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吠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7020000" y="2060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嚎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1619280" y="342900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啸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1619280" y="472608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鸣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7020000" y="342900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吼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4213080" y="3429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啼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4284720" y="4797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唳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762120" y="2276640"/>
            <a:ext cx="813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ff"/>
                </a:solidFill>
                <a:latin typeface="Times New Roman"/>
              </a:rPr>
              <a:t>一、</a:t>
            </a:r>
            <a:r>
              <a:rPr b="0" lang="zh-CN" sz="5400" spc="-1" strike="noStrike">
                <a:solidFill>
                  <a:srgbClr val="3399ff"/>
                </a:solidFill>
                <a:latin typeface="隶书"/>
              </a:rPr>
              <a:t>完成课文后的练习。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ff"/>
                </a:solidFill>
                <a:latin typeface="隶书"/>
              </a:rPr>
              <a:t>二、背诵全文。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560" y="1052280"/>
            <a:ext cx="4753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  <a:ea typeface="隶书"/>
              </a:rPr>
              <a:t>作    业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" descr="360壁纸 286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692360" y="1628640"/>
            <a:ext cx="67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66ff"/>
                </a:solidFill>
                <a:latin typeface="Times New Roman"/>
              </a:rPr>
              <a:t>课  间  休  息</a:t>
            </a:r>
            <a:endParaRPr b="0" lang="en-US" sz="80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85880" y="105264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60093"/>
                </a:solidFill>
                <a:latin typeface="华文新魏"/>
                <a:ea typeface="华文新魏"/>
              </a:rPr>
              <a:t>幼时记趣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84360" y="2349000"/>
            <a:ext cx="1752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——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沈 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566568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bef11"/>
                </a:solidFill>
                <a:latin typeface="Times New Roman"/>
                <a:ea typeface="楷体_GB2312"/>
              </a:rPr>
              <a:t>■</a:t>
            </a:r>
            <a:r>
              <a:rPr b="1" lang="zh-CN" sz="1800" spc="-1" strike="noStrike">
                <a:solidFill>
                  <a:srgbClr val="3bef11"/>
                </a:solidFill>
                <a:latin typeface="Times New Roman"/>
                <a:ea typeface="楷体_GB2312"/>
              </a:rPr>
              <a:t>设计制作</a:t>
            </a:r>
            <a:r>
              <a:rPr b="1" lang="zh-CN" sz="1800" spc="-1" strike="noStrike">
                <a:solidFill>
                  <a:srgbClr val="3bef11"/>
                </a:solidFill>
                <a:latin typeface="Times New Roman"/>
                <a:ea typeface="楷体_GB2312"/>
              </a:rPr>
              <a:t>:</a:t>
            </a:r>
            <a:endParaRPr b="0" lang="en-US" sz="1800" spc="-1" strike="noStrike">
              <a:solidFill>
                <a:srgbClr val="3366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bef11"/>
                </a:solidFill>
                <a:latin typeface="Times New Roman"/>
                <a:ea typeface="楷体_GB2312"/>
              </a:rPr>
              <a:t>江川县  上头营学校</a:t>
            </a:r>
            <a:endParaRPr b="0" lang="en-US" sz="1800" spc="-1" strike="noStrike">
              <a:solidFill>
                <a:srgbClr val="3366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bef11"/>
                </a:solidFill>
                <a:latin typeface="Times New Roman"/>
                <a:ea typeface="楷体_GB2312"/>
              </a:rPr>
              <a:t>沈江明</a:t>
            </a:r>
            <a:endParaRPr b="0" lang="en-US" sz="18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"/>
          <p:cNvSpPr/>
          <p:nvPr/>
        </p:nvSpPr>
        <p:spPr>
          <a:xfrm>
            <a:off x="179280" y="148428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33"/>
                </a:solidFill>
                <a:latin typeface="Times New Roman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ff0033"/>
                </a:solidFill>
                <a:latin typeface="Times New Roman"/>
                <a:ea typeface="宋体"/>
              </a:rPr>
              <a:t>沈复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，生于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1763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年，卒年不详。字</a:t>
            </a:r>
            <a:r>
              <a:rPr b="1" lang="zh-CN" sz="2200" spc="-1" strike="noStrike">
                <a:solidFill>
                  <a:srgbClr val="ff0033"/>
                </a:solidFill>
                <a:latin typeface="Times New Roman"/>
                <a:ea typeface="宋体"/>
              </a:rPr>
              <a:t>三白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，号梅逸，长洲（今江苏苏州市）人。</a:t>
            </a:r>
            <a:r>
              <a:rPr b="1" lang="zh-CN" sz="2200" spc="-1" strike="noStrike">
                <a:solidFill>
                  <a:srgbClr val="ff0033"/>
                </a:solidFill>
                <a:latin typeface="Times New Roman"/>
                <a:ea typeface="宋体"/>
              </a:rPr>
              <a:t>清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代</a:t>
            </a:r>
            <a:r>
              <a:rPr b="1" lang="zh-CN" sz="2200" spc="-1" strike="noStrike">
                <a:solidFill>
                  <a:srgbClr val="ff0033"/>
                </a:solidFill>
                <a:latin typeface="Times New Roman"/>
                <a:ea typeface="宋体"/>
              </a:rPr>
              <a:t>散文家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。他一生长期做幕僚，奔走南北，游历过许多地方。能文善画，著有《</a:t>
            </a:r>
            <a:r>
              <a:rPr b="1" lang="zh-CN" sz="2200" spc="-1" strike="noStrike">
                <a:solidFill>
                  <a:srgbClr val="ff0033"/>
                </a:solidFill>
                <a:latin typeface="Times New Roman"/>
                <a:ea typeface="宋体"/>
              </a:rPr>
              <a:t>浮生六记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》。</a:t>
            </a:r>
            <a:endParaRPr b="0" lang="en-US" sz="2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3880" y="342900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01600" y="3213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是一部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自传体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散文，原书为六卷，今存《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闺房记乐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闲情记趣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坎坷记愁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浪游记快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》四卷，卷五《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中山记历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》、卷六《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养生记道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》已逸。作者在《浮生六记》中记叙了夫妻间平凡的家居生活和各地游历的见闻，记叙了自己大半生的经历，欢愉处与悲苦处两相对照，真切感人，从中可以看出当时的一些世态人情和旧礼教对人们的束缚，以及主人公的坎坷遭遇。文词朴素，情感真挚，前人曾有“幽芳凄绝，读之心醉”的评语，文学气氛颇浓。由于时代的局限，书中也存在一些不健康的情趣，情调低沉，略含感伤。</a:t>
            </a:r>
            <a:endParaRPr b="0" lang="en-US" sz="2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0371c"/>
                </a:solidFill>
                <a:latin typeface="Times New Roman"/>
              </a:rPr>
              <a:t>背景简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055880" y="98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作者简介：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641240" y="270828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《浮生六记》：</a:t>
            </a:r>
            <a:endParaRPr b="0" lang="en-US" sz="28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611280" y="47628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Times New Roman"/>
              </a:rPr>
              <a:t>理解下列词语：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21720" y="184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Times New Roman"/>
              </a:rPr>
              <a:t>明察秋毫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5770080" y="184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Times New Roman"/>
              </a:rPr>
              <a:t>物外之趣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39760" y="3284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Times New Roman"/>
              </a:rPr>
              <a:t>怡然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843160" y="3213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Times New Roman"/>
              </a:rPr>
              <a:t>庞然大物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684360" y="260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读准字音</a:t>
            </a:r>
            <a:endParaRPr b="0" lang="en-US" sz="5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95280" y="141300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童稚（       ）       藐（     ）小 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项为之强（       ）   鹤唳（     ）云端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怡（      ）然自得   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凹凸（           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土砾（  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)     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为邱（     ） 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为壑（  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976040" y="14130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810760" y="14097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miǎo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826720" y="18352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jiāng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43716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lì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65348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yí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148840" y="285264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āo   t ū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900080" y="3354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lì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766160" y="3851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qiū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933560" y="436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hè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187280" y="260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解释加横线的词语并口头翻译句子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55640" y="1052640"/>
            <a:ext cx="7292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明察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秋毫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故时有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物外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之趣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私拟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作群鹤舞空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心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之所向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项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为之强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徐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喷以烟，使其冲烟飞鸣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作青云白鹤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观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8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怡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然称快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68360" y="193680"/>
            <a:ext cx="828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9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常蹲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身，使与台齐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以丛草为林，以虫蚁为兽，以土砾凸者为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邱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，凹者为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壑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1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神游其中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观之正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浓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3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忽有庞然大物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拔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山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倒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树而来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4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盖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一癞蛤蟆也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5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二虫尽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为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所吞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6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方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出神，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7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鞭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数十，驱之别院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幼圆"/>
              </a:rPr>
              <a:t>思考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幼圆"/>
              </a:rPr>
              <a:t>1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幼圆"/>
              </a:rPr>
              <a:t>：童年时代最珍惜最宝贵的回忆往往是一些充满童真童趣的行为，我们看看作者在课文中向我们介绍了哪些有趣的事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916360" y="4437000"/>
            <a:ext cx="3743280" cy="856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</a:rPr>
              <a:t>②神游“丛林”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435640" y="5445000"/>
            <a:ext cx="3313080" cy="856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</a:rPr>
              <a:t>③驱打蛤蟆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763640" y="3429000"/>
            <a:ext cx="3240000" cy="856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</a:rPr>
              <a:t>①观</a:t>
            </a:r>
            <a:r>
              <a:rPr b="0" lang="zh-CN" sz="44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蚊</a:t>
            </a:r>
            <a:r>
              <a:rPr b="0" lang="zh-CN" sz="4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</a:rPr>
              <a:t>如鹤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252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思考</a:t>
            </a:r>
            <a:r>
              <a:rPr b="0" lang="en-US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Picture 15" descr="tov-75"/>
          <p:cNvPicPr/>
          <p:nvPr/>
        </p:nvPicPr>
        <p:blipFill>
          <a:blip r:embed="rId1"/>
          <a:stretch/>
        </p:blipFill>
        <p:spPr>
          <a:xfrm>
            <a:off x="3733920" y="1447920"/>
            <a:ext cx="493704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7"/>
          <p:cNvSpPr/>
          <p:nvPr/>
        </p:nvSpPr>
        <p:spPr>
          <a:xfrm>
            <a:off x="2411280" y="5562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幼圆"/>
              </a:rPr>
              <a:t>想 象 丰 富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84360" y="1052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新魏"/>
              </a:rPr>
              <a:t>文中作者最与众不同的地方是：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6:37:49Z</dcterms:created>
  <dc:creator/>
  <dc:description/>
  <dc:language>en-US</dc:language>
  <cp:lastModifiedBy>Sky123.Org</cp:lastModifiedBy>
  <dcterms:modified xsi:type="dcterms:W3CDTF">2014-09-24T02:58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