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874-A001-44E2-8B61-4528132E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BF73-4DEB-4C3E-8F5C-F57C74E1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F9FF0-AB60-4F5D-8643-033BD2B0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1C5DB-32C9-4182-AC6B-DA53B270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367AC-7CAC-44DD-AECA-3F047761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554B9-0053-4BA0-AFE0-6D2584DE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73793-267E-40EB-847D-89549227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DFCF1-76DB-43F8-9471-CC5346EB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482EC-B3B2-4CF7-A1EF-C715F664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5CE87-2780-4A09-9626-E238BC05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EEAAB-559D-4647-8EAD-D6B91236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E76F7-D6C0-4A9B-A2E9-E758594E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3BEE-6AA1-43F6-87D2-2908BD6B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C385F-613F-409B-A784-16994BDD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8625A-D70B-4D60-BDE1-E18080A0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B11D0-DD92-4B5E-8AC1-F72EA7F2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15BDB-8A7B-4288-A1BA-DDB098B9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5BDC8-CC77-44A4-A712-5E5F5A5F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EFDF2-7AD6-444D-BC8B-16E383BD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4C3CB-74B5-45D9-A673-2B4595D0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AD480-5777-4F57-9C89-5AA62D6C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A9232-0374-4DA8-8F29-5A51E5FC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1D2EE-B29D-481C-A7C3-1ECC870F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BBD-127F-495E-9CA0-8B6E5161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28204-CDB6-4E9C-8979-1AF51F35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9B37D-FCD0-4DF9-9D13-491B3305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D2E23-47F5-4626-8E3E-42A80CDA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16745-AD32-48A7-B56A-1A80BFD7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C58BE-53A7-483C-9E3C-25920B91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88648-7B79-4AF0-8CB5-4C8ED23C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2E752-2ACE-455C-B8C4-CA58BFCB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DB880-EB32-4DCD-B427-097807C9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4A311-DD90-4C00-ADF1-54E9F800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512D6-9F3A-4ABF-B0FC-84259B5E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D6A9-08D3-4A4A-A54F-E76A1C51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117A3-ADAB-419F-B476-B4B8C620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98476-2360-43B3-BE16-A7C20B3A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4411C-C64F-4929-A297-5DDD39C0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69038-E2FE-4A51-9A47-54CB0154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67DF8-A720-45AD-870D-1043DF1F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0DC51-66DC-4CF6-9696-084514B5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EB265-6138-4586-BD43-C9339076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E4754-FFF5-4EA4-92F1-42CFFA6A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0AD5E-C721-4138-8A36-0E57A6C5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76151-84FC-4949-BB81-6C3C3824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129A-0D59-4A3B-AA56-1AF2B02A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A23E0-3D6A-43EA-A77F-3B279ECD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0E7B1-E352-4182-B3A3-409EEB4E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D3D0D-9460-4427-86FB-4DBF4A56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E8FF7-0F7A-4336-9D3E-E377DF9D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34DCA-70A9-4D59-966C-E63D04E3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2AFA-66A3-4CE8-B48E-41026ED9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621B-FAAA-4999-9B39-3C2F8528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1D24-A159-437C-B001-635719B9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9211-4DFA-4409-9837-7301580C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D3D0-4D9C-4694-84CB-985F17B8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DD5-D915-49EC-86DC-E9BC90BC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772E-C340-4909-8F36-38127A3E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795A-BB95-42C5-A7A2-BBE45B41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F96A-7AD0-4E91-B636-B72DB661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A49E-B899-4E3E-A494-41261E5C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43C0-6FA2-48A6-A98B-8196BB9A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6EB56-8103-4C3D-9B13-D886D665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C8A31-E330-4761-B936-82530235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1924D-E877-4034-8F01-484C3E90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70C2B-8592-4D00-8780-104F53A2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88864-1DAE-4CEA-B1EE-D6D16887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420-B29C-4F90-A1AA-A260289A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6AD12-A3E4-4BDB-8DD2-E33DF531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CFB65-31F3-4BB4-B075-E078A940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ED104-FF66-4D6D-972F-BFD492EA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031FF-B264-468B-B5FA-F6B7C2A4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D1741-6884-40B8-9A33-9A377084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89D9B-22B4-4EDA-9A89-61C646E5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10D42-9E18-4CE9-886F-DBDCD836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42F5C-967A-461E-B1B9-F250BBBA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53673-53E8-4831-A776-8A56F2DA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1527C-725C-4391-BFAB-561B322C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300-6600-4C06-8D08-ABD78503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C18BE-14E3-4BB2-9939-1344957D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052A9-C2A8-413C-9F13-EB0FCE3F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E7C1B-AD8A-4FC6-BB15-CB6DB96A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1E96C-2489-4E7C-B7D0-02E65AAE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ACF2A-5CC7-4F46-98C5-F0E9360D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78741-A972-4757-B1F3-34BFFBA4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56111-6B14-4753-A7B9-D72BDB74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1D9FE-A2B1-45C7-86E6-11852DBF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1100D-AC3C-4721-8E7F-E2FF74EC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DDC46-7476-434B-8E56-07EEB253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7166-9FB3-493B-8D91-1C008895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17B67-997C-46F8-BC0F-501F0F06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9AEEF-3A31-41A1-A6C8-F2B6D4B4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53FB2-281A-4C3B-97FD-F8A75498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D2B9D-32A3-42F1-BAAB-246E3E51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3FD8F-16CA-46F3-868F-FBBB9D91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5BAEE-69E1-47E8-95A0-44CCBA6C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21D72-31AB-4E68-A18C-434F6CA8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6428A-BABB-4298-96B0-C4B28DAB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5946E-33F6-43D4-A18B-98D08F75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4CB5D-3C74-460F-829F-D0B00F89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A96-91E6-4F0B-B5C0-578C8256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AA72D-2755-40FD-8B38-1D62DA77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84BE2-1C1E-46A0-81B5-E1220442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4471D-BF6F-489F-8CB7-A56FF0CF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B6361-5E53-451A-9739-4B3182C3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BD085-1009-4F1A-ADC2-E3E5664A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B66C9-CBD4-453A-99C4-7C462BBC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7FD4E-649A-4018-94F2-F88E513C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02B77-617B-4619-A5FA-3C907242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C4EE5-7722-4BB2-8534-F06879BF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DE1E4-E900-47B5-AD25-A42507FD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79E-F16D-45F8-9A5E-8318A15E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4989F-7256-4A53-B07A-FB548C82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EA7D2-3BA8-48CE-BFDD-9E06D3B1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0D21A-F285-4B69-B6B2-C652471F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7DE0D-AD9F-4EAD-BDA6-27C576CC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527AB-AF2E-479C-9C1B-9E60E5CC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A529D-D9E2-4DC1-A481-30364E57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D1AAE-B59B-4F9F-AACC-3F8DDC8F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3F7BA-B599-4DFE-8940-AD04ED36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0DE24-8615-4E0E-A592-C3C35C6E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24680-5132-4FBB-8DD3-2CB2D14D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83D-D551-407C-B02C-1BBBD6F5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D69F0-086E-40AE-AB3C-ED9FD4AA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D1BEF-8865-49BE-9EF6-4116872A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A5216-7F6B-464B-AD2F-B1A69A00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30F9C-5495-4B59-B393-06852EDA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3FA01-17E0-4433-8345-12F34DFA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8F262-50AF-4C6D-B9A8-91619526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D478E-989D-43FD-BA14-165C2847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6D1DC-0A79-4D55-917A-433739C4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52892-A332-4F93-94EE-5488F8E2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30871-B65F-4E42-8A22-3F597056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0A44-925D-4652-AB7F-A30A97B2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7731A-9E4C-4E31-A5F8-3CF35BEF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42C9A-4B11-4889-96C2-C5D1EEBF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B5624-A448-4CCC-B113-839B82CD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8C01D-1490-4B76-9046-92E43D05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60F53-A8EE-443C-84D5-AF9934D9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66A02-8475-4FA3-9102-C93A787D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E5334-0413-4680-AE2E-454D67E8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45408-E107-4B65-99C5-C541203F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6A473-4EBA-4766-9F51-1E9EDF5B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98ACC-5195-4087-A8D3-D227A086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DBCF-EA6A-437F-9ADF-2EAEB7050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小学资源网官方logo"/>
          <p:cNvPicPr/>
          <p:nvPr/>
        </p:nvPicPr>
        <p:blipFill>
          <a:blip r:embed="rId3"/>
          <a:stretch/>
        </p:blipFill>
        <p:spPr>
          <a:xfrm>
            <a:off x="0" y="6126120"/>
            <a:ext cx="152388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BEAF-295C-4C43-B9B2-D3DFD5594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3922-0219-456B-9CF5-830F1B0E2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C40E-D73D-4617-95C2-F6E5F0176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7A42-4F6C-4475-A673-455C78A29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0A50-BAC7-48BF-8B6D-78896AB71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9717-7164-4016-972E-B356594B0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71AF-EA94-4A07-BC95-28DAECBAE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10CC-993A-4710-A2A5-F1EE729DB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E6EE-A6E0-4A08-B299-89A87F395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9759-25F5-4E31-9DA5-05285F3EC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1EDC-36B7-462F-B401-73B711AF5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4"/>
          <p:cNvSpPr/>
          <p:nvPr/>
        </p:nvSpPr>
        <p:spPr>
          <a:xfrm>
            <a:off x="1676520" y="19051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鄂教版三年级品德与社会下册课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单元 爱心温暖你我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WordArt 6" descr=""/>
          <p:cNvPicPr/>
          <p:nvPr/>
        </p:nvPicPr>
        <p:blipFill>
          <a:blip r:embed="rId1"/>
          <a:stretch/>
        </p:blipFill>
        <p:spPr>
          <a:xfrm>
            <a:off x="774720" y="3340080"/>
            <a:ext cx="70833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WordArt 4"/>
          <p:cNvSpPr txBox="1"/>
          <p:nvPr/>
        </p:nvSpPr>
        <p:spPr>
          <a:xfrm rot="486600">
            <a:off x="2437920" y="2361960"/>
            <a:ext cx="4267440" cy="26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37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37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8"/>
          <p:cNvSpPr/>
          <p:nvPr/>
        </p:nvSpPr>
        <p:spPr>
          <a:xfrm>
            <a:off x="1066680" y="19810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远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指的就是远方的亲戚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近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指的是住在住家附近的邻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990720" y="36576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远亲不如近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比喻有困难需要帮忙时，住在远方的亲戚或家属，反而不如住在附近邻居的互相帮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5"/>
          <p:cNvSpPr/>
          <p:nvPr/>
        </p:nvSpPr>
        <p:spPr>
          <a:xfrm>
            <a:off x="533520" y="3809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远亲不如近邻，近邻不如对门。”道理简单又真实，远亲不常见，邻居却每日见面。现实生活中难免出现一些意想不到的应急事情，就非常需要帮忙，然而亲人又不能及时赶到，问题不能及时解决。此刻就出现待援无助的局面。此时邻居及时赶到，你出主意、我想办法，很快此事得到了妥善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6" descr="xinsrc_062090410084882863194"/>
          <p:cNvPicPr/>
          <p:nvPr/>
        </p:nvPicPr>
        <p:blipFill>
          <a:blip r:embed="rId1"/>
          <a:stretch/>
        </p:blipFill>
        <p:spPr>
          <a:xfrm>
            <a:off x="2514600" y="685800"/>
            <a:ext cx="38098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7" descr="wenhao"/>
          <p:cNvPicPr/>
          <p:nvPr/>
        </p:nvPicPr>
        <p:blipFill>
          <a:blip r:embed="rId1"/>
          <a:srcRect l="5276" t="10551" r="5276" b="10551"/>
          <a:stretch/>
        </p:blipFill>
        <p:spPr>
          <a:xfrm>
            <a:off x="6553080" y="2971800"/>
            <a:ext cx="1981440" cy="17478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4"/>
          <p:cNvSpPr/>
          <p:nvPr/>
        </p:nvSpPr>
        <p:spPr>
          <a:xfrm>
            <a:off x="1447920" y="1721520"/>
            <a:ext cx="58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邻里之间应该和睦相处，这种相处是相互的，当你帮助别人越多时，得到的帮助就越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1295280" y="419112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邻里之间应和谐相处，那么我们邻居小朋友应该如何做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5" descr="1212"/>
          <p:cNvPicPr/>
          <p:nvPr/>
        </p:nvPicPr>
        <p:blipFill>
          <a:blip r:embed="rId1"/>
          <a:stretch/>
        </p:blipFill>
        <p:spPr>
          <a:xfrm>
            <a:off x="2133720" y="228600"/>
            <a:ext cx="523872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5"/>
          <p:cNvSpPr/>
          <p:nvPr/>
        </p:nvSpPr>
        <p:spPr>
          <a:xfrm>
            <a:off x="1143000" y="2058120"/>
            <a:ext cx="685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大院着火了（农村），附近的村民全都 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提着水桶来救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村里来盗贼了，一声喊，全村出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生活困难时邻里互相借粮，很重要的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可能你不会体验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农忙时及秋收时，各户互助，一家的力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量有限，只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劳力不能完成作业， 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要多人合作才行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3319560" y="236160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远水不救近火，远亲不如近邻。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谚语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838080" y="3199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有木头，支不起房子；没有邻居，过不好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2608560" y="426636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金买户，八百买邻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谚语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1409760" y="5257080"/>
            <a:ext cx="33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到难处邻里来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谚语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WordArt 8"/>
          <p:cNvSpPr txBox="1"/>
          <p:nvPr/>
        </p:nvSpPr>
        <p:spPr>
          <a:xfrm>
            <a:off x="3505320" y="1066680"/>
            <a:ext cx="1904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谚语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4"/>
          <p:cNvSpPr/>
          <p:nvPr/>
        </p:nvSpPr>
        <p:spPr>
          <a:xfrm>
            <a:off x="609480" y="25146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邻居低头不见抬头见，对事物的见解、看法及思维方式都不一样，此时不可太认真，大事讲原则，小事讲团结。邻里相处讲简单，相见双方好见面。好邻居、邻居好、和和睦睦视珍宝。平时相互多关照，遇事不忙又不躁，条件允许应沟通，加深了解促和谐。割不断的亲、离不开的邻。邻里近居实实际际，相互帮助和睦相处。和睦和谐、安居乐业。你家高兴，我家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533520" y="1600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处理好邻里间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4"/>
          <p:cNvSpPr/>
          <p:nvPr/>
        </p:nvSpPr>
        <p:spPr>
          <a:xfrm>
            <a:off x="685800" y="30481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法１：邻居有困难时，能主动关怀、帮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助邻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法２：时常打招呼，互相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法３：跟邻居一起分享关於自己感到快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乐的事、分享美味的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531520" y="198108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和邻居相处，才能达到睦邻的目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10T03:36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