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gif" ContentType="image/gi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F86-6FC3-46AC-BC0C-B4024CB3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0A7-3727-4EEA-9BE2-35B26911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5B2-28A7-4EFB-9291-68F00099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2AF-F287-44FD-ADB6-5C565BCF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5C6-82D3-4279-AD9D-8A8CE81A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A61-D5B3-4A16-ABC7-07D075BB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0DB-4EBF-40F8-B681-2241B80B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B8B-C232-4A44-978D-4DF0D951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B22-9DC2-46EB-B20C-9314A725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9B5-8B85-4B8B-9706-27048537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DDD-0379-435F-BD29-F506B8D9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9EB-CA2B-4A49-8BE5-063083EB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CB20-5538-4CCC-A826-FA86CC95A9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115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895840" cy="2771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15238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609480"/>
            <a:ext cx="69339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华文行楷"/>
              </a:rPr>
              <a:t>世说新语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华文行楷"/>
              </a:rPr>
              <a:t>.</a:t>
            </a: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华文行楷"/>
              </a:rPr>
              <a:t>咏雪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华文行楷"/>
              <a:ea typeface="华文行楷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191120" y="411480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99ff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刘义庆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99ff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S7L6C15_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066680" y="1219320"/>
            <a:ext cx="73152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ff33cc"/>
                    </a:gs>
                    <a:gs pos="100000">
                      <a:srgbClr val="ccff99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谢谢！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ff33cc"/>
                  </a:gs>
                  <a:gs pos="100000">
                    <a:srgbClr val="ccff99"/>
                  </a:gs>
                </a:gsLst>
                <a:lin ang="81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0"/>
            <a:ext cx="8839080" cy="68580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修饰3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91440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是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六朝志人小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代表作，南朝宋临川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刘义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撰，梁刘孝标作注，主要记载汉末年到东晋士族阶层的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遗闻轶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比较全面地反映了这个时期士族阶层的荒诞生活和风气 。在中国小说中自成一体，后代仿作很多。书中存在不少消极因素，但也有不少批判黑暗，讽刺奢淫，表彰善良的记述。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全书语言精练，善于通过一言一行刻画人物   肖像，精神面貌。全书按内容分类记事，共分德行、言语、政事 、文学 、方正 、雅量等三十六门。“咏雪”选自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“言语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4120" y="22860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《世说新语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0" y="0"/>
            <a:ext cx="4419720" cy="1295280"/>
          </a:xfrm>
          <a:prstGeom prst="flowChartMagneticTape">
            <a:avLst/>
          </a:prstGeom>
          <a:gradFill rotWithShape="0">
            <a:gsLst>
              <a:gs pos="0">
                <a:srgbClr val="ff66ff"/>
              </a:gs>
              <a:gs pos="5000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边框3" descr=""/>
          <p:cNvPicPr/>
          <p:nvPr/>
        </p:nvPicPr>
        <p:blipFill>
          <a:blip r:embed="rId1"/>
          <a:stretch/>
        </p:blipFill>
        <p:spPr>
          <a:xfrm flipH="1" rot="10800000">
            <a:off x="-533520" y="990360"/>
            <a:ext cx="10058400" cy="6172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18288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刘义庆（公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03—44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），南北朝刘宋王朝宗室，彭城（今江苏苏州市）人，袭封临川王，曾任兖州刺史，加开府仪同三史 ，他秉性简素，爱好文史，喜欢招聚文学之士，除《世说新语》外，还编有《函明录》等，但已散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286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25280" y="2286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边框9" descr=""/>
          <p:cNvPicPr/>
          <p:nvPr/>
        </p:nvPicPr>
        <p:blipFill>
          <a:blip r:embed="rId1"/>
          <a:stretch/>
        </p:blipFill>
        <p:spPr>
          <a:xfrm>
            <a:off x="-533520" y="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75520" y="444600"/>
            <a:ext cx="21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ff"/>
                </a:solidFill>
                <a:latin typeface="Times New Roman"/>
                <a:ea typeface="华文彩云"/>
              </a:rPr>
              <a:t>阅 读 感 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70480" y="1703520"/>
            <a:ext cx="3746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儿女：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俄而：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骤 ：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欣然 ：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差可拟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51040" y="108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2880" y="2465280"/>
            <a:ext cx="89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久，一会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09920" y="4419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差不多可以相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5080" y="1752480"/>
            <a:ext cx="10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家中年轻一代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3067200"/>
            <a:ext cx="121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得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84960" y="3753000"/>
            <a:ext cx="121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兴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宽形长板2" descr=""/>
          <p:cNvPicPr/>
          <p:nvPr/>
        </p:nvPicPr>
        <p:blipFill>
          <a:blip r:embed="rId1"/>
          <a:stretch/>
        </p:blipFill>
        <p:spPr>
          <a:xfrm>
            <a:off x="1981080" y="0"/>
            <a:ext cx="5486400" cy="1782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63080" y="649440"/>
            <a:ext cx="21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探 究 讨 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11640" y="2230560"/>
            <a:ext cx="6022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太傅对于谢朗、谢道韫的两个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喻未作出评价，只是一笑而过。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么，你认为作者的态度如何？为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如果你来评价，你觉得哪个比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好？为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106704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68" name="宽形长板2" descr=""/>
          <p:cNvPicPr/>
          <p:nvPr/>
        </p:nvPicPr>
        <p:blipFill>
          <a:blip r:embed="rId2"/>
          <a:stretch/>
        </p:blipFill>
        <p:spPr>
          <a:xfrm>
            <a:off x="1981080" y="-304920"/>
            <a:ext cx="5486400" cy="178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71560" y="304920"/>
            <a:ext cx="260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延 伸 拓 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18960" y="157176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举出几句古人吟咏白雪时用了比喻的诗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46000" y="2313000"/>
            <a:ext cx="7707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白雪却嫌春色晚，故穿庭树作飞花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韩愈《春雪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风卷地百草折，胡天八月即飞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忽如一夜春风来，千树万树梨花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岑参《白雪歌送武判官归京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燕山雪花大如席，纷纷吹落轩辕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李白《北风行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六出飞花入户时，坐看青竹变琼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群《对雪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宽形长板2" descr=""/>
          <p:cNvPicPr/>
          <p:nvPr/>
        </p:nvPicPr>
        <p:blipFill>
          <a:blip r:embed="rId1"/>
          <a:stretch/>
        </p:blipFill>
        <p:spPr>
          <a:xfrm>
            <a:off x="2057400" y="-380880"/>
            <a:ext cx="5486400" cy="178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23840" y="152280"/>
            <a:ext cx="260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延 伸 拓 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600" y="990720"/>
            <a:ext cx="32004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比喻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5" name=""/>
          <p:cNvSpPr/>
          <p:nvPr/>
        </p:nvSpPr>
        <p:spPr>
          <a:xfrm>
            <a:off x="2656800" y="2666880"/>
            <a:ext cx="4712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之为义，取类不常；或喻于声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方乎貌，或拟于心，或譬于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刘勰《文心雕龙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切至为贵。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刘勰《文心雕龙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66688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464832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115" descr=""/>
          <p:cNvPicPr/>
          <p:nvPr/>
        </p:nvPicPr>
        <p:blipFill>
          <a:blip r:embed="rId2"/>
          <a:stretch/>
        </p:blipFill>
        <p:spPr>
          <a:xfrm>
            <a:off x="6781680" y="4419720"/>
            <a:ext cx="2362320" cy="2438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03880" y="228600"/>
            <a:ext cx="574452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发挥你的想象力，紧接第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句，试着再写几句，使其成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首小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有人喜欢把“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0”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放平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躺在上面像一叶舒适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游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—————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，————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—————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，———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边框9" descr=""/>
          <p:cNvPicPr/>
          <p:nvPr/>
        </p:nvPicPr>
        <p:blipFill>
          <a:blip r:embed="rId3"/>
          <a:stretch/>
        </p:blipFill>
        <p:spPr>
          <a:xfrm>
            <a:off x="0" y="304920"/>
            <a:ext cx="3048120" cy="6553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79040" y="1295280"/>
            <a:ext cx="1217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比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想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运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修饰3" descr=""/>
          <p:cNvPicPr/>
          <p:nvPr/>
        </p:nvPicPr>
        <p:blipFill>
          <a:blip r:embed="rId4"/>
          <a:stretch/>
        </p:blipFill>
        <p:spPr>
          <a:xfrm>
            <a:off x="152280" y="228600"/>
            <a:ext cx="1219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95280" y="0"/>
            <a:ext cx="6400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华文行楷"/>
              </a:rPr>
              <a:t>“</a:t>
            </a: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华文行楷"/>
              </a:rPr>
              <a:t>0”</a:t>
            </a: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华文行楷"/>
              </a:rPr>
              <a:t>的想象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华文行楷"/>
              <a:ea typeface="华文行楷"/>
            </a:endParaRPr>
          </a:p>
        </p:txBody>
      </p:sp>
      <p:sp>
        <p:nvSpPr>
          <p:cNvPr id="84" name=""/>
          <p:cNvSpPr/>
          <p:nvPr/>
        </p:nvSpPr>
        <p:spPr>
          <a:xfrm>
            <a:off x="1622880" y="1768320"/>
            <a:ext cx="53488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人喜欢斜靠的“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它像方向盘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人喜欢竖起的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”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它是飞转向前的车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人问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什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音乐家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休止符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数学家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零，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诗人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朝阳，满月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摩登女郎则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它是耳环、项链、戒指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镯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1:02:54Z</dcterms:created>
  <dc:creator>mu00</dc:creator>
  <dc:description/>
  <dc:language>en-US</dc:language>
  <cp:lastModifiedBy>guest1</cp:lastModifiedBy>
  <dcterms:modified xsi:type="dcterms:W3CDTF">2004-12-07T04:53:15Z</dcterms:modified>
  <cp:revision>87</cp:revision>
  <dc:subject/>
  <dc:title>PowerPoint 演示文稿</dc:title>
</cp:coreProperties>
</file>