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E54-703D-444A-9239-FD9F0E43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854-6932-4ADC-9E1C-7104D00B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852-4E19-4B48-81EE-B9B02719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87B-62B2-422E-8D68-EAD8D023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3D4-8143-485F-878F-CEA5DE49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4DB-536B-48FF-89BE-F2DD62D9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92F-513C-4463-8949-9E758805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418-62B0-4754-8C3E-424B4393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F21-EB4B-4CB3-BFCF-B8CBD16E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838-100B-41A3-B100-CE010DA5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078-9ECF-44B0-8F7A-C62D639D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962-91E5-470B-BEBB-C55E8E5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DD56-6B6D-4B8B-B05A-155036468C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>
                    <a:hlinkClick r:id="" action="ppaction://hlinkshowjump?jump=firs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00520" y="1371600"/>
            <a:ext cx="1642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雁门太守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33520" y="-685800"/>
            <a:ext cx="8609400" cy="5343840"/>
            <a:chOff x="533520" y="-685800"/>
            <a:chExt cx="8609400" cy="5343840"/>
          </a:xfrm>
        </p:grpSpPr>
        <p:sp>
          <p:nvSpPr>
            <p:cNvPr id="45" name=""/>
            <p:cNvSpPr/>
            <p:nvPr/>
          </p:nvSpPr>
          <p:spPr>
            <a:xfrm>
              <a:off x="533520" y="-685800"/>
              <a:ext cx="67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雁门太守行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520" y="906480"/>
              <a:ext cx="86094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6600"/>
                  </a:solidFill>
                  <a:latin typeface="Times New Roman"/>
                  <a:ea typeface="隶书"/>
                </a:rPr>
                <a:t>雁门太守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6600"/>
                  </a:solidFill>
                  <a:latin typeface="Times New Roman"/>
                  <a:ea typeface="隶书"/>
                </a:rPr>
                <a:t>　黑云压城城欲摧，甲光向日金鳞开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6600"/>
                  </a:solidFill>
                  <a:latin typeface="Times New Roman"/>
                  <a:ea typeface="隶书"/>
                </a:rPr>
                <a:t>　角色满天秋色里，塞上胭脂凝夜紫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6600"/>
                  </a:solidFill>
                  <a:latin typeface="Times New Roman"/>
                  <a:ea typeface="隶书"/>
                </a:rPr>
                <a:t>　半卷红旗临易水，霜重鼓寒声不起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6600"/>
                  </a:solidFill>
                  <a:latin typeface="Times New Roman"/>
                  <a:ea typeface="隶书"/>
                </a:rPr>
                <a:t>　报君黄金台上意，提携玉龙为君死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积雨云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97040" y="1143000"/>
            <a:ext cx="75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黑云压城城欲摧，甲光向日金鳞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971800"/>
            <a:ext cx="7772400" cy="14770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乌云弥漫在城上，城郭似乎被催垮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日光穿过云的缝隙，战士们的铠甲上金光闪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97040" y="533520"/>
            <a:ext cx="75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角色满天秋色里，塞上胭脂凝夜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772400" cy="10688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在深秋的季节里吹响号角，长城附近的泥土在夕阳的掩映下更加凝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7040" y="1066680"/>
            <a:ext cx="75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半卷红旗临易水，霜重鼓寒声不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895480"/>
            <a:ext cx="8076960" cy="14770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深夜里，部队行进在易水河边，寒风卷动着红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浓霜湿透了鼓皮，低沉的鼓声在四周回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27080" y="533520"/>
            <a:ext cx="70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报君黄金台上意，提携玉龙为君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343400"/>
            <a:ext cx="7848720" cy="1477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为了报答君王招纳贤才的厚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宁愿手提利剑战死在沙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4572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523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通过读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你看到了什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听到了什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联想到了什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感受到了什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06:16:03Z</dcterms:created>
  <dc:creator>hz</dc:creator>
  <dc:description/>
  <dc:language>en-US</dc:language>
  <cp:lastModifiedBy>liqing</cp:lastModifiedBy>
  <dcterms:modified xsi:type="dcterms:W3CDTF">2003-05-16T06:50:50Z</dcterms:modified>
  <cp:revision>14</cp:revision>
  <dc:subject/>
  <dc:title>PowerPoint 演示文稿</dc:title>
</cp:coreProperties>
</file>