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135-A666-40D7-BDE3-48AAB710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95E-6C7A-435E-B8A3-1FFE8C6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90C-5378-4E34-BB8B-B7129288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1D1-0876-4FA2-A0F7-5F6B3DD6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B1F-6256-46E6-A562-A00EA9F9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E9AD-C0DD-4140-82AE-0F81C8C1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6ADE-05B7-477A-9F4A-434B302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6A78-988E-4E2D-B413-1797F8A8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69FB-CEF9-4605-9614-BA76B25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999F-D74C-4A5A-98DD-C9A39B56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5D27-A55D-471B-9A79-15D4C42C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951-9C89-48FE-B1C7-5366976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E57E-14B1-4632-BEDE-14BD9477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BEA4-FCB2-4434-A065-13CDED9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74E8-AD8B-4C80-90AD-12CE3FB7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BD2C-0E6C-4938-B98E-6811903F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DE0C-5506-42E1-A2C8-0A0BFD5B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57F8-6C68-4AA3-8DA7-42B719CD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831B-85FE-448B-B6DC-6600D091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12C4-0806-4A02-932A-0B9176E4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C638-A4B0-44A7-9D2C-94C3C49F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E43D-8545-4FE7-966D-2BD00EE2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DAD-3578-4CC0-878C-259C9A0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AFF4-F17B-471B-A4C0-F69A660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4175-5117-44E6-9482-617400F8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4AE1-F9B1-4D71-A7FD-D1B6AF8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F4E9-444F-492C-A216-E869AA8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C07F-CC3A-48F6-809B-672F864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52B6-F22C-4818-B29A-5ED6DBAC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5015-2B3E-47DE-911A-29B09726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04F2-DC96-45F6-AD53-396E1016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7A51-54B1-4E12-8331-CFE1E9F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264E-A772-41F0-B595-41511D2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066-B88E-4BFA-98B4-1F630377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6D40-34F8-4A53-AD76-7221C670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BEDB-D70E-4BCA-BED6-6930D62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D9B2-5E21-4513-8759-5B16AD6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6F0A-2810-420D-865F-975E2F0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C7A7-2C96-4DEB-8659-2CF44065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4EE11-122D-4A42-866A-EF1B35C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8775-0FF4-4E73-989C-CBD5B475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4B3E-F510-4058-A161-6B0DC82B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B5DA-3692-4FB5-990C-CC750E5D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418-AD39-440A-9F62-7391643B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DD9-D68E-4FF4-B5F7-6D7771D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982-A0CA-4981-BEF3-DDAFC2BC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8B8-96E5-4B42-B990-9B2E65F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5E1-AA1D-4514-8B9E-170323B5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C1E6-BD4C-4FA1-9806-FD1485DBC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9D23-FB22-4F72-B837-128FFB3F2B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DBB8-4054-4C54-A8FE-3CE9484337C0}" type="slidenum"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foot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FC4-AE79-4023-8BC0-1B08F38286FF}" type="slidenum"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2d2015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2d2015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2d2015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24247;&#26725;&#26391;&#35829;&#20316;&#21697;&#65306;&#34398;&#32654;&#20154;&#65288;&#26446;&#29020;&#65289;&#26032;&#29256;.Wm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zgr.netor.com/m/box200310/m30616.asp?BoardID=30616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38382;&#21531;&#33021;&#26377;&#20960;&#22810;&#24833;&#29255;&#22836;&#26354;.Wmv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4479840" y="154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438280" y="1523880"/>
            <a:ext cx="4343400" cy="26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隶书"/>
              </a:rPr>
              <a:t>虞美人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李  煜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098960" y="53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5"/>
          <p:cNvSpPr txBox="1"/>
          <p:nvPr/>
        </p:nvSpPr>
        <p:spPr>
          <a:xfrm>
            <a:off x="1600200" y="2286000"/>
            <a:ext cx="586728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个才子真绝代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可怜薄命作君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2016000"/>
            <a:ext cx="77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把握节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春花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秋月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何时了？往事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知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多少。小楼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昨夜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又东风，故国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不堪回首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月明中。雕栏玉砌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应犹在，只是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朱颜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改。问君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能有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几多愁？恰似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一江春水</a:t>
            </a:r>
            <a:r>
              <a:rPr b="1" lang="en-US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向东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找出韵脚：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了、少、风、中、在、改、愁，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重读表现词人内心痛苦的词语，</a:t>
            </a:r>
            <a:r>
              <a:rPr b="1" lang="zh-CN" sz="2400" spc="-1" strike="noStrike">
                <a:solidFill>
                  <a:srgbClr val="140409"/>
                </a:solidFill>
                <a:latin typeface="楷体_GB2312"/>
                <a:ea typeface="楷体_GB2312"/>
              </a:rPr>
              <a:t>如：何时、多少、又、不堪、应、只是、几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把握低沉凄迷的感情基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276720" y="380880"/>
            <a:ext cx="41907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四、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/>
              </a:rPr>
              <a:t>诵读感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295280" y="1935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词的词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277344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问君能有几多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愁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276720" y="380880"/>
            <a:ext cx="38862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五、鉴赏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3754440" y="2895480"/>
            <a:ext cx="1655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>
                        <a:alpha val="78039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愁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>
                      <a:alpha val="78039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11160" y="65412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70103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170103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170103"/>
                </a:solidFill>
                <a:latin typeface="黑体"/>
                <a:ea typeface="黑体"/>
              </a:rPr>
              <a:t>二</a:t>
            </a:r>
            <a:r>
              <a:rPr b="0" lang="en-US" sz="2800" spc="-1" strike="noStrike">
                <a:solidFill>
                  <a:srgbClr val="170103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170103"/>
                </a:solidFill>
                <a:latin typeface="黑体"/>
                <a:ea typeface="黑体"/>
              </a:rPr>
              <a:t>、根据这首词，再结合李煜的生平，看看李煜到底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哪些愁</a:t>
            </a:r>
            <a:r>
              <a:rPr b="0" lang="zh-CN" sz="2800" spc="-1" strike="noStrike">
                <a:solidFill>
                  <a:srgbClr val="170103"/>
                </a:solidFill>
                <a:latin typeface="黑体"/>
                <a:ea typeface="黑体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4038480" y="121932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李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7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字重光，初名从嘉，自号钟隐、莲峰居士，徐州人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南唐中主李璟第六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宋建隆二年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6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六月李璟去世，李煜嗣位于金陵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位十五年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史称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南唐后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李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性格软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迫于形势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宋称臣纳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苟且求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借佛教安慰精神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宋太祖开宝八年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97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宋军长驱直入，围攻金陵，李煜被迫肉袒出降，随即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送解到汴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受封右千牛卫上将军、违命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mmm3061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4952880" y="228600"/>
            <a:ext cx="2590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知人论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2120" y="15858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7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李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生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七月七日晚上，于其所拘小楼宴饮奏乐，命歌伎演唱他的新作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虞美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声传于外。宋太宗（赵光义）知道了此事，认为他怀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故国之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于是，就命秦王赵廷美赐他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牵机药”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他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毒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476360" y="2209680"/>
            <a:ext cx="1655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>
                        <a:alpha val="78039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愁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>
                      <a:alpha val="78039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059280" y="1828800"/>
            <a:ext cx="1008000" cy="865080"/>
          </a:xfrm>
          <a:prstGeom prst="line">
            <a:avLst/>
          </a:prstGeom>
          <a:ln w="38160">
            <a:solidFill>
              <a:srgbClr val="6911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131640" y="3048120"/>
            <a:ext cx="1079640" cy="71280"/>
          </a:xfrm>
          <a:prstGeom prst="line">
            <a:avLst/>
          </a:prstGeom>
          <a:ln w="38160">
            <a:solidFill>
              <a:srgbClr val="6911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123720" y="3324240"/>
            <a:ext cx="1009800" cy="790560"/>
          </a:xfrm>
          <a:prstGeom prst="line">
            <a:avLst/>
          </a:prstGeom>
          <a:ln w="38160">
            <a:solidFill>
              <a:srgbClr val="6911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01760" y="3613320"/>
            <a:ext cx="1089000" cy="1644480"/>
          </a:xfrm>
          <a:prstGeom prst="line">
            <a:avLst/>
          </a:prstGeom>
          <a:ln w="38160">
            <a:solidFill>
              <a:srgbClr val="6911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54520" y="137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3"/>
                </a:solidFill>
                <a:latin typeface="Arial"/>
              </a:rPr>
              <a:t>往事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30840" y="274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3"/>
                </a:solidFill>
                <a:latin typeface="Arial"/>
              </a:rPr>
              <a:t>亡国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17880" y="3809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3"/>
                </a:solidFill>
                <a:latin typeface="Arial"/>
              </a:rPr>
              <a:t>离家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17880" y="5089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103"/>
                </a:solidFill>
                <a:latin typeface="Arial"/>
              </a:rPr>
              <a:t>思乡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3360" y="1447920"/>
            <a:ext cx="82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）、作者是通过哪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写“愁”的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2209680"/>
            <a:ext cx="5332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春花秋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往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东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故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雕栏玉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朱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4720" y="501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意象中变的是什么？不变的又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716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永恒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春花秋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62440" y="3235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今非昔比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24160" y="39211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年到来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东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62440" y="437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39974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堪回首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故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24160" y="51404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应犹在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雕栏玉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62440" y="55976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28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改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朱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514600"/>
            <a:ext cx="6933960" cy="3962520"/>
          </a:xfrm>
          <a:prstGeom prst="rect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09880" y="1657080"/>
            <a:ext cx="0" cy="480060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457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不变的“外物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1480" y="1657080"/>
            <a:ext cx="0" cy="480060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4856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巨变的“人事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81532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27261" y="10800"/>
                </a:moveTo>
                <a:lnTo>
                  <a:pt x="16756" y="17806"/>
                </a:lnTo>
                <a:lnTo>
                  <a:pt x="16756" y="3794"/>
                </a:lnTo>
                <a:close/>
              </a:path>
              <a:path fill="darken" w="47524" h="21600">
                <a:moveTo>
                  <a:pt x="29106" y="3794"/>
                </a:moveTo>
                <a:lnTo>
                  <a:pt x="29106" y="17806"/>
                </a:lnTo>
                <a:lnTo>
                  <a:pt x="30769" y="17806"/>
                </a:lnTo>
                <a:lnTo>
                  <a:pt x="3076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3360" y="182880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、那些层层叠叠、排山倒海、接踵而来的忧愁，我们虽看不见，摸不着，却能真切地感受到。那么，作者运用了哪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手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他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愁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实可感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00200" y="2133720"/>
            <a:ext cx="70866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、导入新课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音乐欣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80880" y="21621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作者将一腔愁绪化为有形的流水，无穷无尽，无边无际，丰盈而且沉重。这样的比喻，一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春水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就是一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愁水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一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苦水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。使得抒发的感情兼有了无边无际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广度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深度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457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比喻、夸张、设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371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问君能有几多愁，恰似一江春水向东流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3341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把抽象的感情形象化、具体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1880" y="4006800"/>
            <a:ext cx="8301240" cy="9471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用远离自己而代表故土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长江喻愁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当然含有怀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故国之情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情感更为深沉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562120" y="182880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、春花秋月        </a:t>
            </a: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——  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往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69280" y="10666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84520" y="274320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、小楼东风        </a:t>
            </a: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——   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故国明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84520" y="374796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、雕栏玉砌        </a:t>
            </a:r>
            <a:r>
              <a:rPr b="1" lang="en-US" sz="2800" spc="-1" strike="noStrike">
                <a:solidFill>
                  <a:srgbClr val="170103"/>
                </a:solidFill>
                <a:latin typeface="Arial"/>
              </a:rPr>
              <a:t>——          </a:t>
            </a:r>
            <a:r>
              <a:rPr b="1" lang="zh-CN" sz="2800" spc="-1" strike="noStrike">
                <a:solidFill>
                  <a:srgbClr val="170103"/>
                </a:solidFill>
                <a:latin typeface="Arial"/>
              </a:rPr>
              <a:t>已改朱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6760" y="4876920"/>
            <a:ext cx="36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宇宙永恒不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800600"/>
            <a:ext cx="36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人生短暂无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7620120" y="57913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8093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16247" y="3794"/>
                </a:lnTo>
                <a:lnTo>
                  <a:pt x="16247" y="17806"/>
                </a:lnTo>
                <a:lnTo>
                  <a:pt x="145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846000" y="4037040"/>
            <a:ext cx="73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问天</a:t>
            </a:r>
            <a:r>
              <a:rPr b="1" lang="en-US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问人</a:t>
            </a:r>
            <a:r>
              <a:rPr b="1" lang="en-US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问自己，一唱三叹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问天天不应，问人人不知，问己泪满面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。凄楚中，造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曲折回旋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流走自如</a:t>
            </a:r>
            <a:r>
              <a:rPr b="1" lang="zh-CN" sz="2800" spc="-1" strike="noStrike">
                <a:solidFill>
                  <a:srgbClr val="140409"/>
                </a:solidFill>
                <a:latin typeface="Arial"/>
                <a:ea typeface="楷体_GB2312"/>
              </a:rPr>
              <a:t>的艺术结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27080" y="199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天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春花秋月何时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84880" y="26049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人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往事知多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27080" y="3290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己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问君能有几多愁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609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设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971800" y="1676520"/>
            <a:ext cx="2057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春花秋月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小楼东风图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雕栏玉砌图故国明月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朱颜凋零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江春水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24960" y="10666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虚实结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838080" y="1828800"/>
            <a:ext cx="4191120" cy="9907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写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春花秋月、小楼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东风、明月、雕栏玉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685800" y="3581280"/>
            <a:ext cx="4444920" cy="4572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虚写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往事、故国、朱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5257800" y="2057400"/>
            <a:ext cx="3124080" cy="5335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物是（自然永恒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5257800" y="3581280"/>
            <a:ext cx="3124080" cy="5335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非（人生无常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514600" y="1905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比喻、夸张、设问、借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60496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276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虚实结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6858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艺术手法小结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80360" cy="1584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首词到底是一首什么词，竟会招来杀身之祸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2708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本词表现了一个亡国国君的故国之恋。念念不忘过去的美好生活，念念不忘东风是故国吹来，春水又向故乡流去，这在宋太祖看来是不是会有“东归故国”之意呢？可以这样说，两个“东”字，断送了一代文章圣手的性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82655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33520" y="16765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法国作家缪塞尔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“最美丽的诗歌是最绝望的诗歌，有些不朽的篇章是纯粹的眼泪。’’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    尼采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“在所有文学作品中，我尤其喜欢那些用血写出来的文字。”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词中有不堪回首的回忆，有痛苦难耐的现实，作者以赤子之心写惨痛的国破家亡之痛，写出了一种通向宇宙人生的普遍悲剧情感，引起后人的强烈共鸣。后主之词就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自己的血写出来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。作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字一泪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读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字一泪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歌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字一泪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3200400" y="625320"/>
            <a:ext cx="24382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课堂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838080" y="2239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默写几句运用比喻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其它古诗词名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200400" y="549360"/>
            <a:ext cx="3733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六、课堂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5"/>
          <p:cNvSpPr/>
          <p:nvPr/>
        </p:nvSpPr>
        <p:spPr>
          <a:xfrm>
            <a:off x="533520" y="1143000"/>
            <a:ext cx="82296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白发三千丈，缘愁似个长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浦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离愁渐远渐无穷，迢迢不断如春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欧阳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踏莎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问君能有几多愁？恰似一江春 水向东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虞美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抽刀断水水更流，举杯消愁愁更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宣州谢眺楼饯别校书叔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609480" y="1643040"/>
            <a:ext cx="7925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唐教坊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初咏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项羽的宠姬虞美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得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唐代一无名氏根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项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虞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悲剧故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了一首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虞美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词牌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便源于此。因李煜填此词的名句，又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一江春水”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外又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玉壶冰”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二、解   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380880" y="132228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梧桐更兼细雨，到黄昏、点点滴滴。这次第，怎一个愁字了得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清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声声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剪不断，理还乱，是离愁。别是一般滋味在心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见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花自飘零水自流，一种相思，两处闲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清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剪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685800" y="762120"/>
            <a:ext cx="7924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此情无计可消除，才下眉头，却上心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清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剪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若问闲愁都几许？一川烟草，满城风絮，梅子黄时雨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贺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玉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衣带渐宽终不悔，为伊消得人憔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晏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蝶恋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暮乡关何处是？烟波江上使人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崔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明月高楼休独倚。酒入愁肠，化作相思泪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仲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80880" y="10652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10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70103"/>
                </a:solidFill>
                <a:latin typeface="楷体_GB2312"/>
                <a:ea typeface="楷体_GB2312"/>
              </a:rPr>
              <a:t>在李煜的创作中，浸染着这种泣血之愁的词作还有很多，就下面两首词，找出你欣赏的句子，写一写你喜欢的理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2438280"/>
            <a:ext cx="80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《浪淘沙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帘外雨潺潺，春意阑珊，罗衾不耐五更寒。梦里不知身是客，一晌贪欢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独自莫凭栏，无限江山，别时容易见时难。流水落花春去也，天上人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590920" y="152280"/>
            <a:ext cx="47242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七、课后作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3448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《相见欢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无言独上西楼，月如钩。寂寞梧桐深院锁清秋。剪不断，理还乱，是离愁。别是一般滋味在心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893880" y="-525600"/>
            <a:ext cx="10585440" cy="8147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拓展引申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19640" y="33336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浪    淘    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1066680"/>
            <a:ext cx="25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【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南唐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】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李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0920" y="1989000"/>
            <a:ext cx="6624720" cy="376416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帘外雨潺潺，春意阑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罗衾不耐五更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梦里不知身是客，一晌贪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独自莫凭栏，无限江山，别时容易见时难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流水落花春去也，天上人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-222120"/>
            <a:ext cx="9325080" cy="7080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对比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虞美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达物是人非的感慨和绵绵不绝的愁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浪涛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达梦醒之间身份错位的漂泊无依之感，离别之痛，繁华不再，人生无常的无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是亡国之痛，这首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虞美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得更哀伤、凄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忧患意识不可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个人愁绪当释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植物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虞美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114800" y="1373040"/>
            <a:ext cx="5029200" cy="3351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13525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虞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2440080"/>
            <a:ext cx="8839440" cy="4341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56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垓下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：“力拔山兮气盖世，时不利兮骓不逝。骓不逝兮可奈何，虞兮虞兮奈若何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562720" y="76320"/>
            <a:ext cx="342900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635280" y="1197000"/>
            <a:ext cx="53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虞美人是著名词牌之一，此调原为唐教坊曲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初咏项羽宠姬虞美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以为名。又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江春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壶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巫山十二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双调，五十六字，上下片各四句，皆为两仄韵转两平韵。古代词开始大体以所咏事物为题，配乐歌唱逐渐形成固定曲调，后即开始名为调名即词牌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虞美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是如此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75200" cy="6095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牌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虞美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25520" y="914400"/>
            <a:ext cx="818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姓名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李煜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名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重光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生辰：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37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七月初七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祭日：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78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七月初七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籍贯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徐州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国家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南唐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职业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国主、词人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信仰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佛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词作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前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品大都描写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宫廷享乐生活、男女恋情，风格绮丽柔靡 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后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描写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乡之情，亡国之恨以及对昔日生活的怀念，风格凄凉悲壮，意境深远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86520" y="522360"/>
            <a:ext cx="2981160" cy="3744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3200400" y="22860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三、作者简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914400" y="603396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薄 命 君 王，绝 代 词 人</a:t>
            </a:r>
            <a:r>
              <a:rPr b="1" lang="zh-CN" sz="4000" spc="-1" strike="noStrike">
                <a:solidFill>
                  <a:srgbClr val="ffcc66"/>
                </a:solidFill>
                <a:latin typeface="华文彩云"/>
                <a:ea typeface="华文彩云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gradFill rotWithShape="0">
            <a:gsLst>
              <a:gs pos="0">
                <a:srgbClr val="f4d700">
                  <a:alpha val="62352"/>
                </a:srgbClr>
              </a:gs>
              <a:gs pos="100000">
                <a:srgbClr val="523e26">
                  <a:alpha val="5137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0606"/>
                </a:solidFill>
                <a:latin typeface="经典繁随意"/>
                <a:ea typeface="经典繁随意"/>
              </a:rPr>
              <a:t>  </a:t>
            </a:r>
            <a:r>
              <a:rPr b="1" lang="zh-CN" sz="4000" spc="-1" strike="noStrike">
                <a:solidFill>
                  <a:srgbClr val="fe0606"/>
                </a:solidFill>
                <a:latin typeface="经典繁随意"/>
                <a:ea typeface="经典繁随意"/>
              </a:rPr>
              <a:t>南唐李后主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38960" y="3960720"/>
            <a:ext cx="1333440" cy="1301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38080" y="685800"/>
            <a:ext cx="2378160" cy="916920"/>
          </a:xfrm>
          <a:prstGeom prst="rect">
            <a:avLst/>
          </a:prstGeom>
          <a:solidFill>
            <a:srgbClr val="66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c1c1c"/>
                </a:solidFill>
                <a:latin typeface="Arial"/>
              </a:rPr>
              <a:t>词中帝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685800"/>
            <a:ext cx="2362320" cy="916920"/>
          </a:xfrm>
          <a:prstGeom prst="rect">
            <a:avLst/>
          </a:prstGeom>
          <a:solidFill>
            <a:srgbClr val="66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c1c1c"/>
                </a:solidFill>
                <a:latin typeface="Arial"/>
              </a:rPr>
              <a:t>亡国君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2057400"/>
            <a:ext cx="8610840" cy="764280"/>
          </a:xfrm>
          <a:prstGeom prst="rect">
            <a:avLst/>
          </a:prstGeom>
          <a:solidFill>
            <a:srgbClr val="66ff3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"/>
              </a:rPr>
              <a:t>做个才人真绝代　可怜薄命作君王　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16040" y="304920"/>
            <a:ext cx="6627960" cy="581400"/>
          </a:xfrm>
          <a:prstGeom prst="rect">
            <a:avLst/>
          </a:prstGeom>
          <a:solidFill>
            <a:srgbClr val="e7ebeb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迷你简启体"/>
                <a:ea typeface="迷你简启体"/>
              </a:rPr>
              <a:t>作为红颜知己的李煜——性情中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360" y="1197000"/>
            <a:ext cx="3672000" cy="3190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440320" y="1197000"/>
            <a:ext cx="3587760" cy="316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050920" y="4437000"/>
            <a:ext cx="5505480" cy="2376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2360" y="465444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大周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4654440"/>
            <a:ext cx="9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小周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林耀和</dc:creator>
  <dc:description/>
  <dc:language>en-US</dc:language>
  <cp:lastModifiedBy>SDWM</cp:lastModifiedBy>
  <dcterms:modified xsi:type="dcterms:W3CDTF">2013-06-12T08:46:31Z</dcterms:modified>
  <cp:revision>203</cp:revision>
  <dc:subject/>
  <dc:title>虞美人（李煜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