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BCB-ABB9-4334-9E48-4DE1AD29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EE0-2661-4EE2-B13B-2B1B9CB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371-90D3-4059-B81F-CAA7EE9A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50C-736D-4C60-AF41-4F17FD96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F11-D1FB-431A-A513-7642666F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5FF-7EE9-494D-91E4-D747AB2F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AEE-4879-40FB-B33D-9B567DA7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99D-4571-4DC9-A2D3-432FEFFC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8C8-896A-43CE-917F-FE3BD258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15D-7F2E-4C55-9E46-1E85880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C84-546C-4129-B018-3D62F37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FED-DC2F-4B1F-85CE-CD05AAFB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5C65-D6CD-4C0C-927C-E8ECA6C30B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6440" y="-32940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梦圆飞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908440" cy="2705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98600" y="1752480"/>
            <a:ext cx="345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浩瀚的太空从此写下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中国人的名字，留下了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人的脚印。中华民族千年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飞天梦想，今朝终于成真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0680" y="1828800"/>
            <a:ext cx="419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烈焰升腾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大漠震颤。宛如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龙的橘红色火焰划破秋日的戈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长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托举着“神舟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号飞船的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箭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在地动山摇般的轰鸣声中腾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而起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直指苍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24480" y="1295280"/>
            <a:ext cx="25020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7800" y="1828800"/>
            <a:ext cx="4133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这声音穿过茫茫太空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传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北京指挥控制中心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传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游弋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浩瀚大洋上的“远望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号测量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传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每一个炎黄子孙的心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24480" y="1295280"/>
            <a:ext cx="25020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35080" y="1828800"/>
            <a:ext cx="423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神舟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号发射成功！指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大厅里一片沸腾，每个人的脸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都洋溢着澎湃的激情、胜利的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悦和无限的自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24480" y="1295280"/>
            <a:ext cx="25020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908440" cy="2705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98600" y="1752480"/>
            <a:ext cx="345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浩瀚的太空从此写下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中国人的名字，留下了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人的脚印。中华民族千年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飞天梦想，今朝终于成真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908440" cy="2705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64400" y="1752480"/>
            <a:ext cx="363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向世界各国人民问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向在太空中工作的同行们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好 ！向祖国人民、港澳同胞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台湾同胞、海外侨胞问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感谢全国人民的关怀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042400" y="123264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美丽的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908440" cy="2705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98600" y="1752480"/>
            <a:ext cx="345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浩瀚的太空从此写下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中国人的名字，留下了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人的脚印。中华民族千年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飞天梦想，今朝终于成真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7-03-17T05:5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