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wmf" ContentType="image/x-wmf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8.jpeg" ContentType="image/jpeg"/>
  <Override PartName="/ppt/media/image19.wmf" ContentType="image/x-wmf"/>
  <Override PartName="/ppt/media/image14.jpeg" ContentType="image/jpeg"/>
  <Override PartName="/ppt/media/image15.wmf" ContentType="image/x-wmf"/>
  <Override PartName="/ppt/media/image22.jpeg" ContentType="image/jpeg"/>
  <Override PartName="/ppt/media/image1.jpeg" ContentType="image/jpeg"/>
  <Override PartName="/ppt/media/image4.wmf" ContentType="image/x-wmf"/>
  <Override PartName="/ppt/media/image2.png" ContentType="image/png"/>
  <Override PartName="/ppt/media/image2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comments/comment4.xml" ContentType="application/vnd.openxmlformats-officedocument.presentationml.comments+xml"/>
  <Override PartName="/ppt/comments/comment1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<Relationship Id="rId49" Type="http://schemas.openxmlformats.org/officeDocument/2006/relationships/commentAuthors" Target="commentAuthors.xml"/>
</Relationships>
</file>

<file path=ppt/comments/comment12.xml><?xml version="1.0" encoding="utf-8"?>
<p:cmLst xmlns:p="http://schemas.openxmlformats.org/presentationml/2006/main">
  <p:cm authorId="0" dt="2012-03-28T09:31:46.932000000" idx="2">
    <p:pos x="5329" y="1164"/>
    <p:text/>
  </p:cm>
</p:cmLst>
</file>

<file path=ppt/comments/comment4.xml><?xml version="1.0" encoding="utf-8"?>
<p:cmLst xmlns:p="http://schemas.openxmlformats.org/presentationml/2006/main">
  <p:cm authorId="0" dt="2012-03-28T09:31:36.238000000" idx="1">
    <p:pos x="5319" y="504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1760" y="6470640"/>
            <a:ext cx="2822400" cy="347760"/>
          </a:xfrm>
          <a:prstGeom prst="roundRect">
            <a:avLst>
              <a:gd name="adj" fmla="val 16667"/>
            </a:avLst>
          </a:prstGeom>
          <a:solidFill>
            <a:srgbClr val="ffffff">
              <a:alpha val="2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425520" y="6545160"/>
            <a:ext cx="323640" cy="2001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112760" y="6475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69696"/>
                </a:solidFill>
                <a:latin typeface="华文中宋"/>
                <a:ea typeface="华文中宋"/>
              </a:rPr>
              <a:t>湖南长郡卫星远程学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236000" y="6475320"/>
            <a:ext cx="16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69696"/>
                </a:solidFill>
                <a:latin typeface="黑体"/>
                <a:ea typeface="黑体"/>
              </a:rPr>
              <a:t>2011</a:t>
            </a:r>
            <a:r>
              <a:rPr b="0" lang="zh-CN" sz="1600" spc="-1" strike="noStrike">
                <a:solidFill>
                  <a:srgbClr val="969696"/>
                </a:solidFill>
                <a:latin typeface="黑体"/>
                <a:ea typeface="黑体"/>
              </a:rPr>
              <a:t>年上学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724360" y="64753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69696"/>
                </a:solidFill>
                <a:latin typeface="黑体"/>
                <a:ea typeface="黑体"/>
              </a:rPr>
              <a:t>制作 </a:t>
            </a:r>
            <a:r>
              <a:rPr b="0" lang="zh-CN" sz="1600" spc="-1" strike="noStrike">
                <a:solidFill>
                  <a:srgbClr val="969696"/>
                </a:solidFill>
                <a:latin typeface="黑体"/>
                <a:ea typeface="黑体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1760" y="6470640"/>
            <a:ext cx="2822400" cy="347760"/>
          </a:xfrm>
          <a:prstGeom prst="roundRect">
            <a:avLst>
              <a:gd name="adj" fmla="val 16667"/>
            </a:avLst>
          </a:prstGeom>
          <a:solidFill>
            <a:srgbClr val="ffffff">
              <a:alpha val="2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25520" y="6545160"/>
            <a:ext cx="323640" cy="200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12760" y="6475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华文中宋"/>
                <a:ea typeface="华文中宋"/>
              </a:rPr>
              <a:t>湖南长郡卫星远程学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236000" y="6475320"/>
            <a:ext cx="16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黑体"/>
                <a:ea typeface="黑体"/>
              </a:rPr>
              <a:t>2011</a:t>
            </a:r>
            <a:r>
              <a:rPr b="0" lang="zh-CN" sz="1600" spc="-1" strike="noStrike">
                <a:solidFill>
                  <a:srgbClr val="333333"/>
                </a:solidFill>
                <a:latin typeface="黑体"/>
                <a:ea typeface="黑体"/>
              </a:rPr>
              <a:t>年上学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24360" y="64753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黑体"/>
                <a:ea typeface="黑体"/>
              </a:rPr>
              <a:t>制作 </a:t>
            </a:r>
            <a:r>
              <a:rPr b="0" lang="zh-CN" sz="1600" spc="-1" strike="noStrike">
                <a:solidFill>
                  <a:srgbClr val="333333"/>
                </a:solidFill>
                <a:latin typeface="黑体"/>
                <a:ea typeface="黑体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01760" y="6470640"/>
            <a:ext cx="2822400" cy="347760"/>
          </a:xfrm>
          <a:prstGeom prst="roundRect">
            <a:avLst>
              <a:gd name="adj" fmla="val 16667"/>
            </a:avLst>
          </a:prstGeom>
          <a:solidFill>
            <a:srgbClr val="ffffff">
              <a:alpha val="2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25520" y="6545160"/>
            <a:ext cx="323640" cy="200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12760" y="6475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华文中宋"/>
                <a:ea typeface="华文中宋"/>
              </a:rPr>
              <a:t>湖南长郡卫星远程学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36000" y="6475320"/>
            <a:ext cx="16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黑体"/>
                <a:ea typeface="黑体"/>
              </a:rPr>
              <a:t>2011</a:t>
            </a:r>
            <a:r>
              <a:rPr b="0" lang="zh-CN" sz="1600" spc="-1" strike="noStrike">
                <a:solidFill>
                  <a:srgbClr val="333333"/>
                </a:solidFill>
                <a:latin typeface="黑体"/>
                <a:ea typeface="黑体"/>
              </a:rPr>
              <a:t>年上学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64753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黑体"/>
                <a:ea typeface="黑体"/>
              </a:rPr>
              <a:t>制作 </a:t>
            </a:r>
            <a:r>
              <a:rPr b="0" lang="zh-CN" sz="1600" spc="-1" strike="noStrike">
                <a:solidFill>
                  <a:srgbClr val="333333"/>
                </a:solidFill>
                <a:latin typeface="黑体"/>
                <a:ea typeface="黑体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3&#38632;&#38678;&#38083;__&#26391;&#35835;_.ex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97080" y="0"/>
            <a:ext cx="4977000" cy="685800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3456000" y="5516640"/>
            <a:ext cx="865080" cy="1125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隶书"/>
              </a:rPr>
              <a:t>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隶书"/>
              </a:rPr>
              <a:t>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553080" y="181080"/>
            <a:ext cx="1071720" cy="27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66880" y="162000"/>
            <a:ext cx="5573520" cy="65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00"/>
                </a:solidFill>
                <a:latin typeface="Arial"/>
                <a:ea typeface="黑体"/>
              </a:rPr>
              <a:t>渡 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席 慕 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让我与你握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再轻轻地抽出我的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知道思念从此生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浮云白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山川庄严温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让我与你握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再轻轻抽出我的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华年从此停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热泪在心中汇成河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那样万般无奈的凝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渡口旁找不到一朵可相送的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就把祝福别在襟上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而明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明日又隔天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rcRect l="11433" t="9287" r="14447" b="9410"/>
          <a:stretch/>
        </p:blipFill>
        <p:spPr>
          <a:xfrm>
            <a:off x="6299280" y="2894040"/>
            <a:ext cx="2431800" cy="3559320"/>
          </a:xfrm>
          <a:prstGeom prst="rect">
            <a:avLst/>
          </a:prstGeom>
          <a:ln w="28440">
            <a:solidFill>
              <a:srgbClr val="d1fda9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451640" y="78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434280" y="581040"/>
            <a:ext cx="2509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寒蝉凄切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451640" y="78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434280" y="581040"/>
            <a:ext cx="2509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寒蝉凄切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613560" y="1847880"/>
            <a:ext cx="1846080" cy="466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457200" y="542880"/>
            <a:ext cx="1600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长亭</a:t>
            </a:r>
            <a:endParaRPr b="1" lang="en-US" sz="1800" spc="1" strike="noStrike">
              <a:ln w="0">
                <a:noFill/>
              </a:ln>
              <a:solidFill>
                <a:srgbClr val="3333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542880"/>
            <a:ext cx="1600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长亭</a:t>
            </a:r>
            <a:endParaRPr b="1" lang="en-US" sz="1800" spc="1" strike="noStrike">
              <a:ln w="0">
                <a:noFill/>
              </a:ln>
              <a:solidFill>
                <a:srgbClr val="3333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9" name=""/>
          <p:cNvSpPr/>
          <p:nvPr/>
        </p:nvSpPr>
        <p:spPr>
          <a:xfrm>
            <a:off x="612720" y="4278240"/>
            <a:ext cx="83422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十里五里，长亭短亭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——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庾信《哀江南赋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457200" y="542880"/>
            <a:ext cx="1600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长亭</a:t>
            </a:r>
            <a:endParaRPr b="1" lang="en-US" sz="1800" spc="1" strike="noStrike">
              <a:ln w="0">
                <a:noFill/>
              </a:ln>
              <a:solidFill>
                <a:srgbClr val="3333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2" name=""/>
          <p:cNvSpPr/>
          <p:nvPr/>
        </p:nvSpPr>
        <p:spPr>
          <a:xfrm>
            <a:off x="612720" y="5392800"/>
            <a:ext cx="81345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长亭更短亭，何处是归程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——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李白《菩萨蛮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2720" y="4278240"/>
            <a:ext cx="83422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十里五里，长亭短亭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——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庾信《哀江南赋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9776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705800" y="216000"/>
            <a:ext cx="714240" cy="66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9776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705800" y="216000"/>
            <a:ext cx="714240" cy="6642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847800" y="2257560"/>
            <a:ext cx="5600520" cy="22161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营造悲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凄清的氛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9612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7886880" y="0"/>
            <a:ext cx="684000" cy="709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9612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886880" y="0"/>
            <a:ext cx="684000" cy="70992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26880" y="795240"/>
            <a:ext cx="7182000" cy="21056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状愁之绵长、</a:t>
            </a:r>
            <a:br>
              <a:rPr sz="6000"/>
            </a:b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           浓重、无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976640" y="1720800"/>
            <a:ext cx="3856320" cy="447372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366840" y="574560"/>
            <a:ext cx="856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雨霖铃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原于唐玄宗与杨贵妃的故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840" y="1666800"/>
            <a:ext cx="4365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　　马嵬兵变后，杨贵妃缢死，在平定叛乱之后，玄宗北还，一路戚雨沥沥，风雨吹打皇鸾的金铃上。玄宗触景生情，甚是思念贵妃，遂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雨霖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一曲，以寄恨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6520" y="1674720"/>
            <a:ext cx="4514760" cy="45212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2472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543800" y="372960"/>
            <a:ext cx="1233360" cy="613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00160" y="285840"/>
            <a:ext cx="4170240" cy="313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5143680" y="298440"/>
            <a:ext cx="306036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华文行楷"/>
              </a:rPr>
              <a:t>名句欣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59400" y="1558800"/>
            <a:ext cx="45846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幼圆"/>
                <a:ea typeface="幼圆"/>
              </a:rPr>
              <a:t>今宵酒醒何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幼圆"/>
                <a:ea typeface="幼圆"/>
              </a:rPr>
              <a:t>杨柳岸晓风残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00160" y="285840"/>
            <a:ext cx="4170240" cy="313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411120" y="4602240"/>
            <a:ext cx="810252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en-US" sz="3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昔我往矣，杨柳依依；今我来思，雨雪霏霏</a:t>
            </a:r>
            <a:r>
              <a:rPr b="1" lang="en-US" sz="3400" spc="-1" strike="noStrike">
                <a:solidFill>
                  <a:srgbClr val="ffffff"/>
                </a:solidFill>
                <a:latin typeface="宋体"/>
              </a:rPr>
              <a:t>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　　——《诗经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3680" y="298440"/>
            <a:ext cx="306036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华文行楷"/>
              </a:rPr>
              <a:t>名句欣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59400" y="1558800"/>
            <a:ext cx="45846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幼圆"/>
                <a:ea typeface="幼圆"/>
              </a:rPr>
              <a:t>今宵酒醒何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幼圆"/>
                <a:ea typeface="幼圆"/>
              </a:rPr>
              <a:t>杨柳岸晓风残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00160" y="285840"/>
            <a:ext cx="4170240" cy="313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411120" y="4602240"/>
            <a:ext cx="810252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en-US" sz="3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昔我往矣，杨柳依依；今我来思，雨雪霏霏</a:t>
            </a:r>
            <a:r>
              <a:rPr b="1" lang="en-US" sz="3400" spc="-1" strike="noStrike">
                <a:solidFill>
                  <a:srgbClr val="ffffff"/>
                </a:solidFill>
                <a:latin typeface="宋体"/>
              </a:rPr>
              <a:t>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　　——《诗经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9680" y="3651120"/>
            <a:ext cx="761688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Times New Roman"/>
                <a:ea typeface="黑体"/>
              </a:rPr>
              <a:t>1.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华文行楷"/>
              </a:rPr>
              <a:t>谐音为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留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</a:rPr>
              <a:t>”，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暗写别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43680" y="298440"/>
            <a:ext cx="306036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华文行楷"/>
              </a:rPr>
              <a:t>名句欣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59400" y="1558800"/>
            <a:ext cx="45846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幼圆"/>
                <a:ea typeface="幼圆"/>
              </a:rPr>
              <a:t>今宵酒醒何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幼圆"/>
                <a:ea typeface="幼圆"/>
              </a:rPr>
              <a:t>杨柳岸晓风残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rcRect l="0" t="0" r="11" b="16"/>
          <a:stretch/>
        </p:blipFill>
        <p:spPr>
          <a:xfrm>
            <a:off x="195120" y="1506600"/>
            <a:ext cx="3124440" cy="4875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344520" y="433440"/>
            <a:ext cx="306072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华文行楷"/>
              </a:rPr>
              <a:t>名句欣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51400" y="436680"/>
            <a:ext cx="55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今宵酒醒何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杨柳岸晓风残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rcRect l="12961" t="5161" r="6589" b="6396"/>
          <a:stretch/>
        </p:blipFill>
        <p:spPr>
          <a:xfrm>
            <a:off x="195120" y="1506600"/>
            <a:ext cx="3124440" cy="4875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02" name=""/>
          <p:cNvSpPr/>
          <p:nvPr/>
        </p:nvSpPr>
        <p:spPr>
          <a:xfrm>
            <a:off x="344520" y="433440"/>
            <a:ext cx="306072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华文行楷"/>
              </a:rPr>
              <a:t>名句欣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03680" y="2343240"/>
            <a:ext cx="49053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把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杨柳、晓风、残月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这三件最能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触动离愁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的事物集中成为一幅鲜明的画面，构成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凄清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的意境，引起离人的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孤独寂寞之感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1400" y="436680"/>
            <a:ext cx="55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今宵酒醒何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杨柳岸晓风残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rcRect l="8328" t="0" r="1163" b="880"/>
          <a:stretch/>
        </p:blipFill>
        <p:spPr>
          <a:xfrm>
            <a:off x="184320" y="1133640"/>
            <a:ext cx="3124080" cy="4875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3394080" y="1832040"/>
            <a:ext cx="5332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惆怅晓莺残月   ——</a:t>
            </a:r>
            <a:r>
              <a:rPr b="1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韦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94080" y="2795760"/>
            <a:ext cx="3708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此夜曲中闻折柳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何人不起故园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61080" y="3103560"/>
            <a:ext cx="222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94080" y="4195800"/>
            <a:ext cx="272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原为西南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长逝人君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61080" y="4437000"/>
            <a:ext cx="20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曹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rcRect l="0" t="0" r="11" b="16"/>
          <a:stretch/>
        </p:blipFill>
        <p:spPr>
          <a:xfrm>
            <a:off x="195120" y="1506600"/>
            <a:ext cx="3124440" cy="4875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12" name=""/>
          <p:cNvSpPr/>
          <p:nvPr/>
        </p:nvSpPr>
        <p:spPr>
          <a:xfrm>
            <a:off x="344520" y="433440"/>
            <a:ext cx="306072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华文行楷"/>
              </a:rPr>
              <a:t>名句欣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51400" y="425520"/>
            <a:ext cx="55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今宵酒醒何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幼圆"/>
                <a:ea typeface="幼圆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杨柳岸晓风残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435480" y="1901880"/>
            <a:ext cx="539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此画面出现在特定的时刻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       ——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酒醒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之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0" t="0" r="11" b="16"/>
          <a:stretch/>
        </p:blipFill>
        <p:spPr>
          <a:xfrm>
            <a:off x="195120" y="1506600"/>
            <a:ext cx="3124440" cy="4875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344520" y="433440"/>
            <a:ext cx="306072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华文行楷"/>
              </a:rPr>
              <a:t>名句欣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51400" y="425520"/>
            <a:ext cx="55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今宵酒醒何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幼圆"/>
                <a:ea typeface="幼圆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杨柳岸晓风残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435480" y="1901880"/>
            <a:ext cx="539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此画面出现在特定的时刻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       ——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酒醒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之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08200" y="3405240"/>
            <a:ext cx="53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醉不成欢惨将别—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白居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08200" y="4282920"/>
            <a:ext cx="51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举杯消愁愁更愁—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李 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08200" y="5162400"/>
            <a:ext cx="560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扶头酒醒，别是闲滋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—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李清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0" t="0" r="11" b="16"/>
          <a:stretch/>
        </p:blipFill>
        <p:spPr>
          <a:xfrm>
            <a:off x="195120" y="1506600"/>
            <a:ext cx="3124440" cy="4875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344520" y="433440"/>
            <a:ext cx="306072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华文行楷"/>
              </a:rPr>
              <a:t>名句欣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51400" y="425520"/>
            <a:ext cx="55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今宵酒醒何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幼圆"/>
                <a:ea typeface="幼圆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杨柳岸晓风残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97080" y="0"/>
            <a:ext cx="4977000" cy="685800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3456000" y="5516640"/>
            <a:ext cx="865080" cy="1125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隶书"/>
              </a:rPr>
              <a:t>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隶书"/>
              </a:rPr>
              <a:t>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26720" y="1808280"/>
            <a:ext cx="546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25480" y="1957320"/>
            <a:ext cx="0" cy="28512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5480" y="1957320"/>
            <a:ext cx="0" cy="28512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553080" y="181080"/>
            <a:ext cx="1071720" cy="27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rcRect l="0" t="0" r="11" b="16"/>
          <a:stretch/>
        </p:blipFill>
        <p:spPr>
          <a:xfrm>
            <a:off x="195120" y="1506600"/>
            <a:ext cx="3124440" cy="4875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26" name=""/>
          <p:cNvSpPr/>
          <p:nvPr/>
        </p:nvSpPr>
        <p:spPr>
          <a:xfrm>
            <a:off x="344520" y="433440"/>
            <a:ext cx="306072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华文行楷"/>
              </a:rPr>
              <a:t>名句欣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89160" y="436680"/>
            <a:ext cx="413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今宵酒醒何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幼圆"/>
                <a:ea typeface="幼圆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杨柳岸晓风残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611520" y="2543040"/>
            <a:ext cx="533088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4.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以可见的景象推想酒醒后的凄凉，将虚景实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半虚半实、虚实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0" t="0" r="11" b="16"/>
          <a:stretch/>
        </p:blipFill>
        <p:spPr>
          <a:xfrm>
            <a:off x="195120" y="1506600"/>
            <a:ext cx="3124440" cy="4875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30" name=""/>
          <p:cNvSpPr/>
          <p:nvPr/>
        </p:nvSpPr>
        <p:spPr>
          <a:xfrm>
            <a:off x="344520" y="433440"/>
            <a:ext cx="306072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华文行楷"/>
              </a:rPr>
              <a:t>名句欣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89160" y="436680"/>
            <a:ext cx="413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今宵酒醒何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幼圆"/>
                <a:ea typeface="幼圆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杨柳岸晓风残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866880" y="162000"/>
            <a:ext cx="5573520" cy="65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00"/>
                </a:solidFill>
                <a:latin typeface="Arial"/>
                <a:ea typeface="黑体"/>
              </a:rPr>
              <a:t>渡 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席 慕 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让我与你握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再轻轻地抽出我的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知道思念从此生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浮云白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山川庄严温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让我与你握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再轻轻抽出我的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华年从此停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热泪在心中汇成河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那样万般无奈的凝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渡口旁找不到一朵可相送的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就把祝福别在襟上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而明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明日又隔天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11433" t="9287" r="14447" b="9410"/>
          <a:stretch/>
        </p:blipFill>
        <p:spPr>
          <a:xfrm>
            <a:off x="6299280" y="2894040"/>
            <a:ext cx="2431800" cy="3559320"/>
          </a:xfrm>
          <a:prstGeom prst="rect">
            <a:avLst/>
          </a:prstGeom>
          <a:ln w="28440">
            <a:solidFill>
              <a:srgbClr val="d1fda9"/>
            </a:solidFill>
            <a:miter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866880" y="162000"/>
            <a:ext cx="5573520" cy="65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00"/>
                </a:solidFill>
                <a:latin typeface="Arial"/>
                <a:ea typeface="黑体"/>
              </a:rPr>
              <a:t>渡 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席 慕 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让我与你握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再轻轻地抽出我的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知道思念从此生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浮云白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山川庄严温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让我与你握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再轻轻抽出我的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华年从此停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热泪在心中汇成河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那样万般无奈的凝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渡口旁找不到一朵可相送的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就把祝福别在襟上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而明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明日又隔天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rcRect l="11433" t="9287" r="14447" b="9410"/>
          <a:stretch/>
        </p:blipFill>
        <p:spPr>
          <a:xfrm>
            <a:off x="6299280" y="2894040"/>
            <a:ext cx="2431800" cy="3559320"/>
          </a:xfrm>
          <a:prstGeom prst="rect">
            <a:avLst/>
          </a:prstGeom>
          <a:ln w="28440">
            <a:solidFill>
              <a:srgbClr val="d1fda9"/>
            </a:solidFill>
            <a:miter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68280" y="101520"/>
            <a:ext cx="8286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　　秋后的蝉鸣，哀婉，凄凉，急促，阵雨刚刚停歇，面对长亭，眼看夜幕已经降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　　京门外设帐饯别饮酒，无情无绪，正相互留恋时，有人催促：船儿即将开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　　手牵着手儿，泪眼朦胧，相互凝视，竟哽咽在喉，无言以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　　想到的是这次远行楚地，千里迢迢，万里烟波，暮色之中，雾霭弥漫，无边无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　　自古以来，最动感情、最伤心的事情是离别，何况又恰恰是在这清冷零落的晚秋时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　　今晚酒醒之时，身在何处？应该是杨柳岸边，顶着清晨的风，戴着黎明的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　　此一别，年复一年，即使最好的时辰，最美的风景，也如同虚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　　纵有千种风骚，万般情意，再与何人诉说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0" t="2623" r="0" b="0"/>
          <a:stretch/>
        </p:blipFill>
        <p:spPr>
          <a:xfrm>
            <a:off x="192240" y="101520"/>
            <a:ext cx="2606400" cy="38451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065840" y="874800"/>
            <a:ext cx="335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（一）情真意切、情深意重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离情更加刻骨铭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75320" y="2317680"/>
            <a:ext cx="213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（二）以景衬情、点缀渲染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离情更加真挚自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1240" y="4151160"/>
            <a:ext cx="90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（三）场面描写、细节刻画使离情更加细腻真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1240" y="5513400"/>
            <a:ext cx="90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（四）虚实相生、层层深入使离情更加丰富具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17600" y="2170080"/>
            <a:ext cx="81788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寒蝉凄切，对长亭晚，骤雨初歇。都门帐饮无绪，留恋处，兰舟催发。执手相看泪眼，竟无语凝噎。念去去，千里烟波，暮霭沉沉楚天阔。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多情自古伤离别。更那堪冷落清秋节！今宵酒醒何处？杨柳岸晓风残月。此去经年，应是良辰好景虚设。便纵有千种风情，更与何人说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/>
          </p:cNvPr>
          <p:cNvSpPr/>
          <p:nvPr/>
        </p:nvSpPr>
        <p:spPr>
          <a:xfrm>
            <a:off x="7004160" y="615960"/>
            <a:ext cx="1042920" cy="601560"/>
          </a:xfrm>
          <a:custGeom>
            <a:avLst/>
            <a:gdLst>
              <a:gd name="textAreaLeft" fmla="*/ 38880 w 1042920"/>
              <a:gd name="textAreaRight" fmla="*/ 1004040 w 1042920"/>
              <a:gd name="textAreaTop" fmla="*/ 38880 h 601560"/>
              <a:gd name="textAreaBottom" fmla="*/ 562680 h 601560"/>
            </a:gdLst>
            <a:ahLst/>
            <a:rect l="textAreaLeft" t="textAreaTop" r="textAreaRight" b="textAreaBottom"/>
            <a:pathLst>
              <a:path w="37438" h="21600">
                <a:moveTo>
                  <a:pt x="0" y="0"/>
                </a:moveTo>
                <a:lnTo>
                  <a:pt x="37438" y="0"/>
                </a:lnTo>
                <a:lnTo>
                  <a:pt x="37438" y="21600"/>
                </a:lnTo>
                <a:lnTo>
                  <a:pt x="0" y="21600"/>
                </a:lnTo>
                <a:close/>
              </a:path>
              <a:path fill="lightenLess" w="37438" h="21600">
                <a:moveTo>
                  <a:pt x="0" y="0"/>
                </a:moveTo>
                <a:lnTo>
                  <a:pt x="37438" y="0"/>
                </a:lnTo>
                <a:lnTo>
                  <a:pt x="36038" y="1400"/>
                </a:lnTo>
                <a:lnTo>
                  <a:pt x="1400" y="1400"/>
                </a:lnTo>
                <a:close/>
              </a:path>
              <a:path fill="darken" w="37438" h="21600">
                <a:moveTo>
                  <a:pt x="37438" y="0"/>
                </a:moveTo>
                <a:lnTo>
                  <a:pt x="37438" y="21600"/>
                </a:lnTo>
                <a:lnTo>
                  <a:pt x="36038" y="20200"/>
                </a:lnTo>
                <a:lnTo>
                  <a:pt x="36038" y="1400"/>
                </a:lnTo>
                <a:close/>
              </a:path>
              <a:path fill="darkenLess" w="37438" h="21600">
                <a:moveTo>
                  <a:pt x="374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38" y="20200"/>
                </a:lnTo>
                <a:close/>
              </a:path>
              <a:path fill="lighten" w="374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38" h="21600">
                <a:moveTo>
                  <a:pt x="11713" y="8406"/>
                </a:moveTo>
                <a:lnTo>
                  <a:pt x="16143" y="8406"/>
                </a:lnTo>
                <a:lnTo>
                  <a:pt x="20564" y="3794"/>
                </a:lnTo>
                <a:lnTo>
                  <a:pt x="20564" y="17806"/>
                </a:lnTo>
                <a:lnTo>
                  <a:pt x="16143" y="13194"/>
                </a:lnTo>
                <a:lnTo>
                  <a:pt x="11713" y="13194"/>
                </a:lnTo>
                <a:close/>
              </a:path>
              <a:path fill="darken" w="37438" h="21600">
                <a:moveTo>
                  <a:pt x="22218" y="10800"/>
                </a:moveTo>
                <a:lnTo>
                  <a:pt x="25726" y="10800"/>
                </a:lnTo>
              </a:path>
              <a:path fill="darken" w="37438" h="21600">
                <a:moveTo>
                  <a:pt x="22218" y="8406"/>
                </a:moveTo>
                <a:lnTo>
                  <a:pt x="25726" y="5639"/>
                </a:lnTo>
              </a:path>
              <a:path fill="darken" w="37438" h="21600">
                <a:moveTo>
                  <a:pt x="22218" y="13194"/>
                </a:moveTo>
                <a:lnTo>
                  <a:pt x="25726" y="1596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4760" y="506520"/>
            <a:ext cx="348120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华文行楷"/>
              </a:rPr>
              <a:t>歌曲欣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35400" y="419040"/>
            <a:ext cx="269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隶书"/>
              </a:rPr>
              <a:t>雨霖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52920" y="1393920"/>
            <a:ext cx="18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柳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693880" y="476280"/>
            <a:ext cx="4103640" cy="825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别离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8440" y="1911240"/>
            <a:ext cx="2376360" cy="64260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幼圆"/>
              </a:rPr>
              <a:t>概　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8440" y="2854440"/>
            <a:ext cx="7975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　　由于道路崎岖难行，交通工具落后，古人别离动辄数年，相会无期，因而古人更重离别。</a:t>
            </a:r>
            <a:r>
              <a:rPr b="1" lang="zh-CN" sz="3200" spc="-1" strike="noStrike">
                <a:solidFill>
                  <a:srgbClr val="00ffff"/>
                </a:solidFill>
                <a:latin typeface="Arial"/>
                <a:ea typeface="黑体"/>
              </a:rPr>
              <a:t>文人士大夫们离别时，不光是备酒饯行，折柳相送，还常常写诗送给行者（送别），或留给居者（留别），这类诗歌，我们统称为别离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939960" y="1289160"/>
            <a:ext cx="4525920" cy="64260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幼圆"/>
              </a:rPr>
              <a:t>别离诗的思想感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46040" y="2724120"/>
            <a:ext cx="696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　　别离诗在思想内容上常表现为以下几方面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658800"/>
            <a:ext cx="9310680" cy="84924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7600" y="647640"/>
            <a:ext cx="9090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表达离愁别绪，多迷恋、伤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11440" y="2014560"/>
            <a:ext cx="5284800" cy="403524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赋得古草原送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白居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离离原上草，一岁一枯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野火烧不尽，春风吹又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远芳侵古道，晴翠接荒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又送王孙去，萋萋满别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52440" y="0"/>
            <a:ext cx="439272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7402680" y="177840"/>
            <a:ext cx="866520" cy="65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华文新魏"/>
              </a:rPr>
              <a:t>黯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华文新魏"/>
              </a:rPr>
              <a:t>然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华文新魏"/>
              </a:rPr>
              <a:t>销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华文新魏"/>
              </a:rPr>
              <a:t>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华文新魏"/>
              </a:rPr>
              <a:t>者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华文新魏"/>
              </a:rPr>
              <a:t>，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华文新魏"/>
              </a:rPr>
              <a:t>唯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华文新魏"/>
              </a:rPr>
              <a:t>别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华文新魏"/>
              </a:rPr>
              <a:t>而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华文新魏"/>
              </a:rPr>
              <a:t>已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华文新魏"/>
              </a:rPr>
              <a:t>矣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28240" y="3019320"/>
            <a:ext cx="66780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江淹《别赋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658800"/>
            <a:ext cx="9306000" cy="84924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62080" y="668160"/>
            <a:ext cx="86803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表达深情厚谊，多赞美、留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6200" y="1763640"/>
            <a:ext cx="3697200" cy="428940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赠汪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李白乘舟将欲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忽闻岸上踏歌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桃花潭水深千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不及汪伦送我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5459400" y="1666800"/>
            <a:ext cx="300996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658800"/>
            <a:ext cx="9306000" cy="84924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8920" y="671400"/>
            <a:ext cx="9302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表达诗人豁达的胸襟和豪放的气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31640" y="1822320"/>
            <a:ext cx="3549960" cy="428940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别董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高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千里黄云白日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北风吹雁雪纷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莫愁前路无知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天下谁人不识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6131" t="0" r="15253" b="0"/>
          <a:stretch/>
        </p:blipFill>
        <p:spPr>
          <a:xfrm>
            <a:off x="4378320" y="2179800"/>
            <a:ext cx="4498920" cy="34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658800"/>
            <a:ext cx="9306000" cy="84924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1200" y="646200"/>
            <a:ext cx="802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表达诗人高远的志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734000" y="1928880"/>
            <a:ext cx="3846600" cy="399564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芙蓉楼送辛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王昌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寒雨连江夜入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平明送客楚山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洛阳亲友如相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一片冰心在玉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68200" y="2247840"/>
            <a:ext cx="40482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490760" y="1828800"/>
            <a:ext cx="614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考一本练习讲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63400" y="2100240"/>
            <a:ext cx="3962520" cy="1027080"/>
          </a:xfrm>
          <a:prstGeom prst="rect">
            <a:avLst/>
          </a:prstGeom>
          <a:solidFill>
            <a:srgbClr val="ffe161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1"/>
          </p:cNvPr>
          <p:cNvSpPr/>
          <p:nvPr/>
        </p:nvSpPr>
        <p:spPr>
          <a:xfrm>
            <a:off x="2014560" y="3722760"/>
            <a:ext cx="903240" cy="576360"/>
          </a:xfrm>
          <a:custGeom>
            <a:avLst/>
            <a:gdLst>
              <a:gd name="textAreaLeft" fmla="*/ 37080 w 903240"/>
              <a:gd name="textAreaRight" fmla="*/ 866160 w 9032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3843" h="21600">
                <a:moveTo>
                  <a:pt x="0" y="0"/>
                </a:moveTo>
                <a:lnTo>
                  <a:pt x="33843" y="0"/>
                </a:lnTo>
                <a:lnTo>
                  <a:pt x="33843" y="21600"/>
                </a:lnTo>
                <a:lnTo>
                  <a:pt x="0" y="21600"/>
                </a:lnTo>
                <a:close/>
              </a:path>
              <a:path fill="lightenLess" w="33843" h="21600">
                <a:moveTo>
                  <a:pt x="0" y="0"/>
                </a:moveTo>
                <a:lnTo>
                  <a:pt x="33843" y="0"/>
                </a:lnTo>
                <a:lnTo>
                  <a:pt x="32443" y="1400"/>
                </a:lnTo>
                <a:lnTo>
                  <a:pt x="1400" y="1400"/>
                </a:lnTo>
                <a:close/>
              </a:path>
              <a:path fill="darken" w="33843" h="21600">
                <a:moveTo>
                  <a:pt x="33843" y="0"/>
                </a:moveTo>
                <a:lnTo>
                  <a:pt x="33843" y="21600"/>
                </a:lnTo>
                <a:lnTo>
                  <a:pt x="32443" y="20200"/>
                </a:lnTo>
                <a:lnTo>
                  <a:pt x="32443" y="1400"/>
                </a:lnTo>
                <a:close/>
              </a:path>
              <a:path fill="darkenLess" w="33843" h="21600">
                <a:moveTo>
                  <a:pt x="33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43" y="20200"/>
                </a:lnTo>
                <a:close/>
              </a:path>
              <a:path fill="lighten" w="33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43" h="21600">
                <a:moveTo>
                  <a:pt x="9915" y="8406"/>
                </a:moveTo>
                <a:lnTo>
                  <a:pt x="14345" y="8406"/>
                </a:lnTo>
                <a:lnTo>
                  <a:pt x="18767" y="3794"/>
                </a:lnTo>
                <a:lnTo>
                  <a:pt x="18767" y="17806"/>
                </a:lnTo>
                <a:lnTo>
                  <a:pt x="14345" y="13194"/>
                </a:lnTo>
                <a:lnTo>
                  <a:pt x="9915" y="13194"/>
                </a:lnTo>
                <a:close/>
              </a:path>
              <a:path fill="darken" w="33843" h="21600">
                <a:moveTo>
                  <a:pt x="20420" y="10800"/>
                </a:moveTo>
                <a:lnTo>
                  <a:pt x="23928" y="10800"/>
                </a:lnTo>
              </a:path>
              <a:path fill="darken" w="33843" h="21600">
                <a:moveTo>
                  <a:pt x="20420" y="8406"/>
                </a:moveTo>
                <a:lnTo>
                  <a:pt x="23928" y="5639"/>
                </a:lnTo>
              </a:path>
              <a:path fill="darken" w="33843" h="21600">
                <a:moveTo>
                  <a:pt x="20420" y="13194"/>
                </a:moveTo>
                <a:lnTo>
                  <a:pt x="23928" y="15961"/>
                </a:lnTo>
              </a:path>
            </a:pathLst>
          </a:custGeom>
          <a:solidFill>
            <a:srgbClr val="ffffff"/>
          </a:solidFill>
          <a:ln w="25560">
            <a:solidFill>
              <a:srgbClr val="9a7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rcRect l="0" t="0" r="0" b="12"/>
          <a:stretch/>
        </p:blipFill>
        <p:spPr>
          <a:xfrm>
            <a:off x="5303880" y="631800"/>
            <a:ext cx="3419280" cy="5753160"/>
          </a:xfrm>
          <a:prstGeom prst="rect">
            <a:avLst/>
          </a:prstGeom>
          <a:ln w="57240">
            <a:solidFill>
              <a:srgbClr val="9a7200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914400" y="2154240"/>
            <a:ext cx="461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聆听诵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66880" y="162000"/>
            <a:ext cx="5573520" cy="65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00"/>
                </a:solidFill>
                <a:latin typeface="Arial"/>
                <a:ea typeface="黑体"/>
              </a:rPr>
              <a:t>渡 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席 慕 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让我与你握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再轻轻地抽出我的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知道思念从此生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浮云白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山川庄严温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让我与你握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再轻轻抽出我的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华年从此停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热泪在心中汇成河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那样万般无奈的凝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渡口旁找不到一朵可相送的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就把祝福别在襟上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而明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明日又隔天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rcRect l="11433" t="9287" r="14447" b="9410"/>
          <a:stretch/>
        </p:blipFill>
        <p:spPr>
          <a:xfrm>
            <a:off x="6299280" y="2894040"/>
            <a:ext cx="2431800" cy="3559320"/>
          </a:xfrm>
          <a:prstGeom prst="rect">
            <a:avLst/>
          </a:prstGeom>
          <a:ln w="28440">
            <a:solidFill>
              <a:srgbClr val="d1fda9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66880" y="162000"/>
            <a:ext cx="5573520" cy="65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00"/>
                </a:solidFill>
                <a:latin typeface="Arial"/>
                <a:ea typeface="黑体"/>
              </a:rPr>
              <a:t>渡 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席 慕 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黑体"/>
              </a:rPr>
              <a:t>让我与你握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黑体"/>
              </a:rPr>
              <a:t>再轻轻地抽出我的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知道思念从此生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浮云白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山川庄严温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让我与你握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再轻轻抽出我的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华年从此停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黑体"/>
              </a:rPr>
              <a:t>热泪在心中汇成河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黑体"/>
              </a:rPr>
              <a:t>是那样万般无奈的凝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渡口旁找不到一朵可相送的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就把祝福别在襟上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而明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明日又隔天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rcRect l="11433" t="9287" r="14447" b="9410"/>
          <a:stretch/>
        </p:blipFill>
        <p:spPr>
          <a:xfrm>
            <a:off x="6299280" y="2894040"/>
            <a:ext cx="2431800" cy="3559320"/>
          </a:xfrm>
          <a:prstGeom prst="rect">
            <a:avLst/>
          </a:prstGeom>
          <a:ln w="28440">
            <a:solidFill>
              <a:srgbClr val="d1fda9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0" t="0" r="0" b="-29"/>
          <a:stretch/>
        </p:blipFill>
        <p:spPr>
          <a:xfrm>
            <a:off x="0" y="38412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46280" y="566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6040" y="674640"/>
            <a:ext cx="468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执手相看泪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39040" cy="6870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856640" y="1486080"/>
            <a:ext cx="9730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都门帐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3:58:40Z</dcterms:created>
  <dc:creator>www.xkb1.com; changjun</dc:creator>
  <dc:description>www.xkb1.com</dc:description>
  <cp:keywords>www.xkb1.com</cp:keywords>
  <dc:language>en-US</dc:language>
  <cp:lastModifiedBy>新课标第一网</cp:lastModifiedBy>
  <dcterms:modified xsi:type="dcterms:W3CDTF">2012-03-28T01:31:48Z</dcterms:modified>
  <cp:revision>292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18000000000001023600</vt:lpwstr>
  </property>
</Properties>
</file>