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driveby.wav" ContentType="audio/x-wav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BF1-15DA-4BE7-BBC3-9EEF4F2FD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37B-62B0-412C-961C-005ECC8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681-5C32-4575-97C4-32CFDE68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DDD-27CD-47DA-9136-7393C991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D57-D681-4E8F-9807-C83B29F1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30B-48DD-402D-AD89-779BB5A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AF3-F181-495D-A81E-825A23C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83B4-ED17-49D3-9218-8A7D7C84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D37-869F-40E2-82E2-E8CDA791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EA8-457D-4347-916A-2D94FDA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F0B-8D92-4BF0-B755-EC012CC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B07-9E36-480C-AD6F-643C09B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CAD6-A461-4F92-9965-7FA7900456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ilosophy-times.net/chinese/memory_pearflower.htm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999999.net.cn/htm/xinlaopy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999999.net.cn/htm/xinlaopy.htm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hyperlink" Target="http://cubspace.8u8.com/yaozu3.htm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7gg.net/jyqx/xszn/2.htm" TargetMode="External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eifeng.yingkou.net.cn/g3.html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999999.net.cn/htm/xinlaopy.htm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cubspace.8u8.com/yaozu3.htm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baidu.com/ir?u=http://www.yndaily.com.cn/zl/daguan/1130/image/bwy02.jpg&amp;f=http://www.yndaily.com.cn/zl/daguan/1130/dg11306.htm&amp;c=baidu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qingzangtibet.com/jcly/jinchuanV131.htm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qh.xinhua.org/gdx/zfwq.htm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qingzangtibet.com/jcly/jinchuanV131.htm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baidu.com/ir?u=http://www.yndaily.com.cn/zl/daguan/1130/image/bwy02.jpg&amp;f=http://www.yndaily.com.cn/zl/daguan/1130/dg11306.htm&amp;c=baidu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hyperlink" Target="http://cubspace.8u8.com/yaozu3.htm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jxwjy.njenet.net.cn/school/jxpt_4/jx_sc/xx/xxyw3/xxyw_3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07120" y="-1158120"/>
            <a:ext cx="3836880" cy="82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驿路梨花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彭荆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74880"/>
            <a:ext cx="5486400" cy="498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38280" y="685800"/>
            <a:ext cx="6172200" cy="7621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他们修的小茅屋呀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5486400" y="3287880"/>
            <a:ext cx="3657600" cy="35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6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上图为哈尼女骇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486400" y="3278160"/>
            <a:ext cx="3657600" cy="3570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8320" y="228600"/>
            <a:ext cx="4495680" cy="1905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才是梨花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你见不着喔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她出嫁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5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371600" y="304920"/>
            <a:ext cx="5867280" cy="990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真是驿路梨花处处开呀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304920" y="380880"/>
          <a:ext cx="8381880" cy="6248520"/>
        </p:xfrm>
        <a:graphic>
          <a:graphicData uri="http://schemas.openxmlformats.org/drawingml/2006/table">
            <a:tbl>
              <a:tblPr/>
              <a:tblGrid>
                <a:gridCol w="1828800"/>
                <a:gridCol w="1143000"/>
                <a:gridCol w="3200400"/>
                <a:gridCol w="220968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出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顺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所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好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Times New Roman"/>
                        </a:rPr>
                        <a:t>做好事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662940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年后的一天早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52480"/>
            <a:ext cx="146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”和老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3760" y="180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752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给房顶加草，挖排水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3886200"/>
            <a:ext cx="2819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289548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瑶族老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4240" y="2787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44240" y="2790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专门运粮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819520"/>
            <a:ext cx="20574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同上、前天晚上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3733920"/>
            <a:ext cx="221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前几天，姐姐出嫁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8862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群姑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24240" y="3778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04360" y="380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照管小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36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放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7920" y="4692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4876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砍树割草盖小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72428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多年前路过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332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24240" y="5683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4360" y="5791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照料小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5797440"/>
            <a:ext cx="22258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放军盖小屋后，她出嫁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46280" y="239760"/>
            <a:ext cx="7864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按时间的顺序小茅屋的建造和照料过程应该是怎样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876920"/>
            <a:ext cx="7848720" cy="533160"/>
          </a:xfrm>
          <a:prstGeom prst="rightArrow">
            <a:avLst>
              <a:gd name="adj1" fmla="val 50000"/>
              <a:gd name="adj2" fmla="val 36802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1447920" cy="1219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3733920"/>
            <a:ext cx="1447920" cy="12189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874880"/>
            <a:ext cx="5486400" cy="498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304920"/>
            <a:ext cx="8763120" cy="8380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几年前，一群解放军叔叔修建了小茅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486400" y="3287880"/>
            <a:ext cx="3657600" cy="3570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上图为哈尼女骇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86400" y="3278160"/>
            <a:ext cx="3657600" cy="3570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48320" y="990720"/>
            <a:ext cx="449568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姑娘照看小茅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5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8610480" cy="2057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出嫁了，照管小茅屋的任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落到了梨花妹妹和其它哈尼姑娘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144792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72160" y="0"/>
            <a:ext cx="45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瑶族老人迷路后遇到小茅屋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觉照看小茅屋，专门运粮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40" y="1447920"/>
            <a:ext cx="4243680" cy="541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6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4152960"/>
            <a:ext cx="3962520" cy="270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257800" y="320040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457200"/>
            <a:ext cx="9144000" cy="10666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73640" y="533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和老余见到小茅屋，修葺小茅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54160" y="1166760"/>
            <a:ext cx="6835680" cy="4525920"/>
            <a:chOff x="1154160" y="1166760"/>
            <a:chExt cx="6835680" cy="4525920"/>
          </a:xfrm>
        </p:grpSpPr>
        <p:grpSp>
          <p:nvGrpSpPr>
            <p:cNvPr id="45" name=""/>
            <p:cNvGrpSpPr/>
            <p:nvPr/>
          </p:nvGrpSpPr>
          <p:grpSpPr>
            <a:xfrm>
              <a:off x="1154160" y="1166760"/>
              <a:ext cx="6835680" cy="4525920"/>
              <a:chOff x="1154160" y="1166760"/>
              <a:chExt cx="6835680" cy="452592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1154160" y="1166760"/>
                <a:ext cx="6835680" cy="4525920"/>
                <a:chOff x="1154160" y="1166760"/>
                <a:chExt cx="6835680" cy="452592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1154160" y="1166760"/>
                  <a:ext cx="6835680" cy="4525920"/>
                  <a:chOff x="1154160" y="1166760"/>
                  <a:chExt cx="6835680" cy="452592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1154160" y="1166760"/>
                    <a:ext cx="6835680" cy="452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zh-CN" sz="26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</a:t>
                    </a: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                                   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1154160" y="1166760"/>
                    <a:ext cx="6835680" cy="4525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" name=""/>
                <p:cNvSpPr/>
                <p:nvPr/>
              </p:nvSpPr>
              <p:spPr>
                <a:xfrm>
                  <a:off x="1154160" y="1166760"/>
                  <a:ext cx="6835680" cy="452592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1154160" y="1166760"/>
                <a:ext cx="6835680" cy="452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1154160" y="1166760"/>
              <a:ext cx="6835680" cy="45259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郑州森林公园的百年梨树有型有款"/>
          <p:cNvPicPr/>
          <p:nvPr/>
        </p:nvPicPr>
        <p:blipFill>
          <a:blip r:embed="rId1"/>
          <a:stretch/>
        </p:blipFill>
        <p:spPr>
          <a:xfrm>
            <a:off x="395280" y="1268280"/>
            <a:ext cx="2743200" cy="425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5724360"/>
            <a:ext cx="73188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郑州森林公园的百年梨树有型有款"/>
          <p:cNvPicPr/>
          <p:nvPr/>
        </p:nvPicPr>
        <p:blipFill>
          <a:blip r:embed="rId3"/>
          <a:stretch/>
        </p:blipFill>
        <p:spPr>
          <a:xfrm>
            <a:off x="3132000" y="1268280"/>
            <a:ext cx="2743200" cy="425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郑州森林公园的百年梨树有型有款"/>
          <p:cNvPicPr/>
          <p:nvPr/>
        </p:nvPicPr>
        <p:blipFill>
          <a:blip r:embed="rId4"/>
          <a:stretch/>
        </p:blipFill>
        <p:spPr>
          <a:xfrm>
            <a:off x="5867280" y="1268280"/>
            <a:ext cx="2743200" cy="425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5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362320"/>
            <a:ext cx="2133720" cy="2286000"/>
          </a:xfrm>
          <a:prstGeom prst="flowChart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十几年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放军路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建小茅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838080"/>
            <a:ext cx="5105160" cy="763560"/>
          </a:xfrm>
          <a:prstGeom prst="flowChartProcess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71800" y="190512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59120" y="838080"/>
            <a:ext cx="718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姑娘照料小茅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981080"/>
            <a:ext cx="2438280" cy="251460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姑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出嫁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妹妹接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照料小茅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952880"/>
            <a:ext cx="2438640" cy="1676520"/>
          </a:xfrm>
          <a:prstGeom prst="flowChartProcess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瑶族老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借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照看小茅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952880"/>
            <a:ext cx="2438640" cy="1600200"/>
          </a:xfrm>
          <a:prstGeom prst="flowChartProcess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们”路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住宿，修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562720"/>
            <a:ext cx="838080" cy="83808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5410080"/>
            <a:ext cx="838080" cy="83844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1447920"/>
            <a:ext cx="838080" cy="83808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752480"/>
            <a:ext cx="838080" cy="83844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8600"/>
            <a:ext cx="838440" cy="83808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67652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插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80880"/>
            <a:ext cx="1752840" cy="60984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插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05740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插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990720"/>
            <a:ext cx="5334120" cy="10666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71600" y="110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样写有什么作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1400" y="48006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波澜起伏，引人入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895480"/>
            <a:ext cx="4038480" cy="11430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设置悬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19320"/>
            <a:ext cx="1676520" cy="8380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悬念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76720"/>
            <a:ext cx="1676520" cy="8380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悬念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410080"/>
            <a:ext cx="1676520" cy="8384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悬念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106668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是什么人的房子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32004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到底谁是房子的主人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65360" y="5607000"/>
            <a:ext cx="374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放军为什么盖房子呢？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219320"/>
            <a:ext cx="1676520" cy="8380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误会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38480"/>
            <a:ext cx="1676520" cy="8384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误会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99072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们认为瑶族老人是“主人”时，他说不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114800"/>
            <a:ext cx="541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误认为梨花的妹妹就是梨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28600" y="2543040"/>
            <a:ext cx="8686800" cy="1738440"/>
            <a:chOff x="228600" y="2543040"/>
            <a:chExt cx="8686800" cy="1738440"/>
          </a:xfrm>
        </p:grpSpPr>
        <p:sp>
          <p:nvSpPr>
            <p:cNvPr id="186" name=""/>
            <p:cNvSpPr/>
            <p:nvPr/>
          </p:nvSpPr>
          <p:spPr>
            <a:xfrm>
              <a:off x="228600" y="2543040"/>
              <a:ext cx="8686800" cy="173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8600" y="2543040"/>
              <a:ext cx="8686800" cy="1738440"/>
              <a:chOff x="228600" y="2543040"/>
              <a:chExt cx="8686800" cy="1738440"/>
            </a:xfrm>
          </p:grpSpPr>
          <p:sp>
            <p:nvSpPr>
              <p:cNvPr id="188" name=""/>
              <p:cNvSpPr/>
              <p:nvPr/>
            </p:nvSpPr>
            <p:spPr>
              <a:xfrm>
                <a:off x="228600" y="2543040"/>
                <a:ext cx="8572680" cy="172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8600" y="2543040"/>
                <a:ext cx="8686800" cy="173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  </a:t>
                </a:r>
                <a:r>
                  <a:rPr b="0" lang="zh-CN" sz="108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  <a:ea typeface="_x000b__x000c_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485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41800"/>
            <a:ext cx="2660760" cy="361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33720" y="6095880"/>
            <a:ext cx="838080" cy="762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4960" y="3289320"/>
            <a:ext cx="3929040" cy="3568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325600" y="6095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200400"/>
            <a:ext cx="1295280" cy="1143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1859040"/>
            <a:ext cx="6858000" cy="3139920"/>
            <a:chOff x="1143000" y="1859040"/>
            <a:chExt cx="6858000" cy="3139920"/>
          </a:xfrm>
        </p:grpSpPr>
        <p:sp>
          <p:nvSpPr>
            <p:cNvPr id="197" name=""/>
            <p:cNvSpPr/>
            <p:nvPr/>
          </p:nvSpPr>
          <p:spPr>
            <a:xfrm>
              <a:off x="1143000" y="1859040"/>
              <a:ext cx="6858000" cy="24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3000" y="1859040"/>
              <a:ext cx="68580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19000" spc="-1" strike="noStrike">
                  <a:solidFill>
                    <a:srgbClr val="000000"/>
                  </a:solidFill>
                  <a:latin typeface="宋体"/>
                </a:rPr>
                <a:t> </a:t>
              </a: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                                             </a:t>
              </a:r>
              <a:r>
                <a:rPr b="0" lang="zh-CN" sz="1000" spc="-1" strike="noStrike">
                  <a:solidFill>
                    <a:srgbClr val="000099"/>
                  </a:solidFill>
                  <a:latin typeface="宋体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2209680" cy="28195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00200" y="1676520"/>
            <a:ext cx="114300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685800"/>
            <a:ext cx="1143000" cy="10666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4343400"/>
            <a:ext cx="1752480" cy="1752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4114800" y="1905120"/>
            <a:ext cx="38088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742840" y="2438280"/>
            <a:ext cx="160020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209680"/>
            <a:ext cx="15238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0" y="0"/>
            <a:ext cx="2286000" cy="156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543800" y="1295280"/>
            <a:ext cx="1143000" cy="10670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4800" y="312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修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0"/>
            <a:ext cx="1067040" cy="609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4060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照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80880"/>
            <a:ext cx="10666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62640" y="30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照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上图为哈尼女骇"/>
          <p:cNvPicPr/>
          <p:nvPr/>
        </p:nvPicPr>
        <p:blipFill>
          <a:blip r:embed="rId9"/>
          <a:stretch/>
        </p:blipFill>
        <p:spPr>
          <a:xfrm>
            <a:off x="4495680" y="0"/>
            <a:ext cx="1879560" cy="281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00800" y="838080"/>
            <a:ext cx="106668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修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0" name="chimes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1969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文章的标题是“驿路梨花”，字面的意义是指驿路上的梨花，实际上是一语双关，它还指什么？用“驿路梨花”作标题并在文章结尾引用诗句有什么含义？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7480"/>
            <a:ext cx="994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梨花”还指梨花其人、梨花精神即雷锋精神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913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以物喻人，使自然的梨花同小茅屋的主人相互辉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029200"/>
            <a:ext cx="923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梨花是全文的线索。结尾引用诗句“驿路梨花处处开”歌颂了雷锋精神已经在边境地区军民中发扬光大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457200"/>
            <a:ext cx="533412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小茅屋的真正主人是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590920"/>
            <a:ext cx="3886200" cy="6858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429000"/>
            <a:ext cx="3886200" cy="6858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梨花的妹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886200" cy="6858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瑶族老人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19720"/>
            <a:ext cx="3886200" cy="6858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解放军叔叔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523880"/>
            <a:ext cx="4724280" cy="160020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茅屋的建造者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照管者都是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1066680"/>
            <a:ext cx="7711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找出课文中描写梨花的语句，看看哪些写的是自然界的梨花，哪些写的是人，二者的前后照应倾注了作者怎样的感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3886200"/>
            <a:ext cx="9144000" cy="2743200"/>
          </a:xfrm>
          <a:prstGeom prst="foldedCorner">
            <a:avLst>
              <a:gd name="adj" fmla="val 125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4267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色梨花开满枝头，多么美丽的一片梨树林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山间的夜风吹得人脸上凉凉的，梨花的白色花瓣轻轻飘落在我们身上。”——这是自然界的梨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609480"/>
            <a:ext cx="76356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、快速阅读课文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阅读方法：做到“两动”，“四不”。“两动”是动眼，动脑；“四不”是不出声、不动唇、不指读、不回视。在规定的有限时间内，概括故事情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946240"/>
            <a:ext cx="676584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上图为哈尼女骇"/>
          <p:cNvPicPr/>
          <p:nvPr/>
        </p:nvPicPr>
        <p:blipFill>
          <a:blip r:embed="rId1"/>
          <a:stretch/>
        </p:blipFill>
        <p:spPr>
          <a:xfrm>
            <a:off x="-507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013360" y="297000"/>
            <a:ext cx="3673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到处打听小茅屋的主人是哪个，好不容易才从一个赶马人那里知道个大概，原来对门山头上有个名叫梨花的哈尼小姑娘……多好的梨花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”—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是写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838080"/>
            <a:ext cx="9982080" cy="7040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04920" y="5181480"/>
            <a:ext cx="11125440" cy="190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838080"/>
            <a:ext cx="53352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49528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天夜里，我睡得十分香甜，梦中恍惚在那香气四溢的梨花林里漫步，还看见一个身穿着花衫的哈尼小姑娘在梨花丛中歌唱……”——先写花，后写人，把花和人自然地结合在一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我望着这群充满朝气的哈尼小姑娘和那洁白的梨花，不由得想起了一句诗：‘驿路梨花处处开。’”——“驿路梨花”双关花和人，实际上赞颂的是世代相传的雷锋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以花写人，以花映人，写出了花的美，更突出了人的精神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302360" y="533520"/>
            <a:ext cx="6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揣摩下列语句，注意加点词语的感情色彩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600200"/>
            <a:ext cx="8474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ff99ff"/>
                </a:solidFill>
                <a:latin typeface="宋体"/>
              </a:rPr>
              <a:t>温暖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火、</a:t>
            </a:r>
            <a:r>
              <a:rPr b="1" lang="zh-CN" sz="4400" spc="-1" strike="noStrike">
                <a:solidFill>
                  <a:srgbClr val="ff99ff"/>
                </a:solidFill>
                <a:latin typeface="宋体"/>
              </a:rPr>
              <a:t>喷香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米饭和</a:t>
            </a:r>
            <a:r>
              <a:rPr b="1" lang="zh-CN" sz="4400" spc="-1" strike="noStrike">
                <a:solidFill>
                  <a:srgbClr val="ff99ff"/>
                </a:solidFill>
                <a:latin typeface="宋体"/>
              </a:rPr>
              <a:t>滚热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洗脚水，把我们身上的疲劳、饥饿都</a:t>
            </a:r>
            <a:r>
              <a:rPr b="1" lang="zh-CN" sz="4400" spc="-1" strike="noStrike">
                <a:solidFill>
                  <a:srgbClr val="ff99ff"/>
                </a:solidFill>
                <a:latin typeface="宋体"/>
              </a:rPr>
              <a:t>撵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38480"/>
            <a:ext cx="9144000" cy="18288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4267080"/>
            <a:ext cx="93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烘托出“我们”在深山中见到小茅屋、有歇身之处后那种愉快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4572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我和老余同时</a:t>
            </a:r>
            <a:r>
              <a:rPr b="1" lang="zh-CN" sz="4800" spc="-1" strike="noStrike">
                <a:solidFill>
                  <a:srgbClr val="ff99ff"/>
                </a:solidFill>
                <a:latin typeface="宋体"/>
              </a:rPr>
              <a:t>抓住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老人的手，</a:t>
            </a:r>
            <a:r>
              <a:rPr b="1" lang="zh-CN" sz="4400" spc="-1" strike="noStrike">
                <a:solidFill>
                  <a:srgbClr val="ff99ff"/>
                </a:solidFill>
                <a:latin typeface="宋体"/>
              </a:rPr>
              <a:t>抢着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说感谢的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743200"/>
            <a:ext cx="832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我和老余”误以为瑶族老人是小茅屋的主人，所以“同时抓住”老人的手，“抢着”说话，表达了“我们”对“主人”的感激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457200"/>
            <a:ext cx="801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我望着这群</a:t>
            </a:r>
            <a:r>
              <a:rPr b="1" lang="zh-CN" sz="4800" spc="-1" strike="noStrike">
                <a:solidFill>
                  <a:srgbClr val="ff99ff"/>
                </a:solidFill>
                <a:latin typeface="宋体"/>
              </a:rPr>
              <a:t>充满朝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的哈尼小姑娘和那洁白的梨花，</a:t>
            </a:r>
            <a:r>
              <a:rPr b="1" lang="zh-CN" sz="4800" spc="-1" strike="noStrike">
                <a:solidFill>
                  <a:srgbClr val="ff99ff"/>
                </a:solidFill>
                <a:latin typeface="宋体"/>
              </a:rPr>
              <a:t>不由得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想起了一句诗：“驿路梨花处处开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76720"/>
            <a:ext cx="9144000" cy="213336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充满朝气”写出了哈尼小姑娘的活力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由得”写出了作者被这种情景所感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不由自主产生了强烈的赞美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533520"/>
            <a:ext cx="832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我们正在劳动，突然梨树丛中</a:t>
            </a:r>
            <a:r>
              <a:rPr b="1" lang="zh-CN" sz="5400" spc="-1" strike="noStrike">
                <a:solidFill>
                  <a:srgbClr val="ff99ff"/>
                </a:solidFill>
                <a:latin typeface="宋体"/>
              </a:rPr>
              <a:t>闪出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了一群哈尼小姑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429000"/>
            <a:ext cx="9144000" cy="152388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闪出”写出了动作的轻快，活跃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与她们的年龄特征相吻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1295280"/>
            <a:ext cx="845820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趣味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假如哈尼小姑娘在驿站开起了旅店，勤劳致富，你怎么看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14400" y="17640"/>
            <a:ext cx="10820520" cy="6727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09480" y="1628640"/>
            <a:ext cx="381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二、整体理解课文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 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按课文顺序复述课文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563400" cy="39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563760" cy="39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80880" y="46080"/>
            <a:ext cx="9982080" cy="7040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2946240"/>
            <a:ext cx="6765840" cy="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上图为哈尼女骇"/>
          <p:cNvPicPr/>
          <p:nvPr/>
        </p:nvPicPr>
        <p:blipFill>
          <a:blip r:embed="rId1"/>
          <a:stretch/>
        </p:blipFill>
        <p:spPr>
          <a:xfrm>
            <a:off x="-5076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013360" y="297000"/>
            <a:ext cx="36734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哈尼族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　　哈尼族主要聚居在云南省红河哈尼族彝族自治州和思茅、玉溪、西双版纳傣族自治州等地。有本民族的语言，历史上无本民族的文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191120" y="1905120"/>
            <a:ext cx="1371600" cy="178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52960"/>
            <a:ext cx="3962520" cy="270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55280" y="480960"/>
            <a:ext cx="13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我、老余，见到小茅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600200"/>
            <a:ext cx="3962520" cy="1447920"/>
          </a:xfrm>
          <a:prstGeom prst="wedgeEllipseCallout">
            <a:avLst>
              <a:gd name="adj1" fmla="val 11416"/>
              <a:gd name="adj2" fmla="val 17017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21920" y="189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茅屋主人是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72800" y="16002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505320" cy="3421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37200" y="30492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他。瑶族老人是专门运粮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440" y="1295280"/>
            <a:ext cx="4362480" cy="556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0" y="2133720"/>
            <a:ext cx="426708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人是他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6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8440" y="1285920"/>
            <a:ext cx="436248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257800" y="228600"/>
            <a:ext cx="3886200" cy="2743200"/>
          </a:xfrm>
          <a:prstGeom prst="wedgeRoundRectCallout">
            <a:avLst>
              <a:gd name="adj1" fmla="val -113888"/>
              <a:gd name="adj2" fmla="val 56944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572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门山头上有个叫梨花的小姑娘，茅屋可能是她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943600" y="3436920"/>
            <a:ext cx="3505320" cy="342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18860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498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喂！你们谁是梨花啊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523880"/>
            <a:ext cx="4800600" cy="9907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茅屋定是你们的啦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5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8610480" cy="2057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错啦！茅屋不是我们修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27:39Z</dcterms:created>
  <dc:creator>HCSY</dc:creator>
  <dc:description/>
  <dc:language>en-US</dc:language>
  <cp:lastModifiedBy>friend</cp:lastModifiedBy>
  <dcterms:modified xsi:type="dcterms:W3CDTF">2004-09-13T13:52:27Z</dcterms:modified>
  <cp:revision>12</cp:revision>
  <dc:subject/>
  <dc:title>PowerPoint 演示文稿</dc:title>
</cp:coreProperties>
</file>