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标题 1"/>
          <p:cNvSpPr/>
          <p:nvPr/>
        </p:nvSpPr>
        <p:spPr>
          <a:xfrm>
            <a:off x="1584360" y="1052640"/>
            <a:ext cx="53816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棵小桃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1"/>
          <p:cNvSpPr/>
          <p:nvPr/>
        </p:nvSpPr>
        <p:spPr>
          <a:xfrm>
            <a:off x="3705120" y="196848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贾平凹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"/>
          <p:cNvSpPr/>
          <p:nvPr/>
        </p:nvSpPr>
        <p:spPr>
          <a:xfrm>
            <a:off x="950040" y="98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311040" y="87804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写的主要物是什么？主要的人是谁？另外还写何物何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901800" y="200484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桃树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1130400" y="3816360"/>
            <a:ext cx="83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衬托小桃树顽强的生命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395280" y="2637000"/>
            <a:ext cx="79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写盆景、爷爷种花有何作用？多次写奶奶又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4718160" y="2062080"/>
            <a:ext cx="37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盆景、爷爷奶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1130400" y="4470480"/>
            <a:ext cx="63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为奶奶同小桃树关系密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330120" y="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研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3385800" y="399960"/>
            <a:ext cx="30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何理解小桃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得太不是地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291960" y="825480"/>
            <a:ext cx="85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小桃树长在院子的角落里，暗示自己出生于穷乡别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3179160" y="176040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何理解小桃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委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"/>
          <p:cNvSpPr/>
          <p:nvPr/>
        </p:nvSpPr>
        <p:spPr>
          <a:xfrm>
            <a:off x="214200" y="2211480"/>
            <a:ext cx="85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小桃树生长条件很差，暗示自己出生于穷乡别壤，孤陋寡闻，后来到城里，才知道天地如此广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4297680" y="36036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章为何多次写小桃树长得弱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155520" y="4181400"/>
            <a:ext cx="89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生长环境太差，不能长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灼灼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暗示自己难成大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468000" y="90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1848960" y="568440"/>
            <a:ext cx="505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在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中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怜的小桃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为可怜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1461960" y="1727280"/>
            <a:ext cx="27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埋在院子角落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"/>
          <p:cNvSpPr/>
          <p:nvPr/>
        </p:nvSpPr>
        <p:spPr>
          <a:xfrm>
            <a:off x="1955160" y="2416320"/>
            <a:ext cx="42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笑话它，奶奶说它没出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1581480" y="4424400"/>
            <a:ext cx="37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边从来没有蜂飞蝶舞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2234160" y="3095640"/>
            <a:ext cx="12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猪拱折过一次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"/>
          <p:cNvSpPr/>
          <p:nvPr/>
        </p:nvSpPr>
        <p:spPr>
          <a:xfrm>
            <a:off x="1380240" y="3763800"/>
            <a:ext cx="25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差点被人砍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434880" y="417600"/>
            <a:ext cx="7712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用横线画出表明小桃树生长过程的词语，试着连起来说说课文主要写了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33520" y="224460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埋在角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921040" y="2227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萌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2274840" y="2490840"/>
            <a:ext cx="67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3843360" y="24908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4425840" y="21906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长上二尺来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img.sucai.redocn.com/attachments/images/201007/20100704/20100701_6091a0884c14e11122e3B4gZ1yLwakfz.jpg"/>
          <p:cNvPicPr/>
          <p:nvPr/>
        </p:nvPicPr>
        <p:blipFill>
          <a:blip r:embed="rId1"/>
          <a:srcRect l="0" t="0" r="0" b="10989"/>
          <a:stretch/>
        </p:blipFill>
        <p:spPr>
          <a:xfrm>
            <a:off x="5045040" y="2114640"/>
            <a:ext cx="3044880" cy="2714400"/>
          </a:xfrm>
          <a:prstGeom prst="rect">
            <a:avLst/>
          </a:prstGeom>
          <a:ln w="0">
            <a:noFill/>
          </a:ln>
        </p:spPr>
      </p:pic>
      <p:sp>
        <p:nvSpPr>
          <p:cNvPr id="100" name="Line 13"/>
          <p:cNvSpPr/>
          <p:nvPr/>
        </p:nvSpPr>
        <p:spPr>
          <a:xfrm>
            <a:off x="7275600" y="249408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20840" y="2851200"/>
            <a:ext cx="26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有院墙高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2606760" y="313524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233880" y="2838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开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3579840" y="3371760"/>
            <a:ext cx="0" cy="43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238480" y="374328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枝儿上保留着一个欲绽的花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217440" y="54000"/>
            <a:ext cx="8356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“人世原来有人世的大书，我却连第一行文字还读不懂呢”。这个句子富有表现力，请加以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466560" y="1670040"/>
            <a:ext cx="50641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运用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比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的修辞手法，将人世比作大书，生动形象地写出了自己对人世的认识肤浅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表现了社会的复杂和自己的幼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154480" y="1558800"/>
            <a:ext cx="3891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课件用\图库\各种框\235107-12100923440742.jpg"/>
          <p:cNvPicPr/>
          <p:nvPr/>
        </p:nvPicPr>
        <p:blipFill>
          <a:blip r:embed="rId1"/>
          <a:stretch/>
        </p:blipFill>
        <p:spPr>
          <a:xfrm>
            <a:off x="816120" y="1246320"/>
            <a:ext cx="5302080" cy="3456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054880" y="469800"/>
            <a:ext cx="46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”从小桃树身上获得了怎样的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1720800" y="1943280"/>
            <a:ext cx="3979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生活中要敢于克服困难，在逆境中顽强拼搏，作主宰自己命运的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pic1a.nipic.com/2008-08-21/200882183332282_2.jpg"/>
          <p:cNvPicPr/>
          <p:nvPr/>
        </p:nvPicPr>
        <p:blipFill>
          <a:blip r:embed="rId2"/>
          <a:srcRect l="28003" t="17118" r="24579" b="17437"/>
          <a:stretch/>
        </p:blipFill>
        <p:spPr>
          <a:xfrm>
            <a:off x="6213600" y="1765440"/>
            <a:ext cx="308448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矩形 3" descr=""/>
          <p:cNvPicPr/>
          <p:nvPr/>
        </p:nvPicPr>
        <p:blipFill>
          <a:blip r:embed="rId1"/>
          <a:stretch/>
        </p:blipFill>
        <p:spPr>
          <a:xfrm>
            <a:off x="3029040" y="-60480"/>
            <a:ext cx="2334960" cy="11829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4048200" y="1119240"/>
            <a:ext cx="486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描写了一棵在逆境中诞生并成长的小桃树，虽历经风雨仍顽强生存，赞颂了小桃树顽强同命运抗争的精神，揭示了一个生活的哲理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不屈不挠的奋斗，定会战胜磨难，创造出美好的未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http://www.photohn.com/bbs/data/attachment/forum/dvbbs/2010-4/2010471885692413.jpg"/>
          <p:cNvPicPr/>
          <p:nvPr/>
        </p:nvPicPr>
        <p:blipFill>
          <a:blip r:embed="rId2"/>
          <a:stretch/>
        </p:blipFill>
        <p:spPr>
          <a:xfrm rot="333600">
            <a:off x="286920" y="1285920"/>
            <a:ext cx="3635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C:\Users\Administrator\Desktop\人七语大课堂\素材积累.tif"/>
          <p:cNvPicPr/>
          <p:nvPr/>
        </p:nvPicPr>
        <p:blipFill>
          <a:blip r:embed="rId1"/>
          <a:stretch/>
        </p:blipFill>
        <p:spPr>
          <a:xfrm>
            <a:off x="3691080" y="401760"/>
            <a:ext cx="1684080" cy="479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493560" y="880920"/>
            <a:ext cx="8079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绝不气馁的贾平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贾平凹在大学中文系读书时，开始进行文学创作，他连连在校报上发表诗作，并逐步将作品投向社会上的大小报刊，尽管那时他收到的退稿单比稿费单要多得多，但他毫不气馁，一如既往地看书、写作、投稿，终于获得成功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年来，他以一枝灵秀之笔，写下了七八百万字的作品，出版了六七十部著作，数十次获得国内外各种文学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矩形 5" descr=""/>
          <p:cNvPicPr/>
          <p:nvPr/>
        </p:nvPicPr>
        <p:blipFill>
          <a:blip r:embed="rId2"/>
          <a:stretch/>
        </p:blipFill>
        <p:spPr>
          <a:xfrm>
            <a:off x="85680" y="-115920"/>
            <a:ext cx="29815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520560" y="1733400"/>
            <a:ext cx="798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中哪些语句触动了你的心扉，先有感情地朗读，再把它抄写下来，最后用一段完整的话把你欣赏的理由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3"/>
          <p:cNvGrpSpPr/>
          <p:nvPr/>
        </p:nvGrpSpPr>
        <p:grpSpPr>
          <a:xfrm>
            <a:off x="2679840" y="-114480"/>
            <a:ext cx="2995920" cy="1714680"/>
            <a:chOff x="2679840" y="-114480"/>
            <a:chExt cx="2995920" cy="1714680"/>
          </a:xfrm>
        </p:grpSpPr>
        <p:pic>
          <p:nvPicPr>
            <p:cNvPr id="121" name="Picture 2" descr="F:\课件用\图库\卡通\铅笔.jpg"/>
            <p:cNvPicPr/>
            <p:nvPr/>
          </p:nvPicPr>
          <p:blipFill>
            <a:blip r:embed="rId1"/>
            <a:stretch/>
          </p:blipFill>
          <p:spPr>
            <a:xfrm>
              <a:off x="2679840" y="-114480"/>
              <a:ext cx="17128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2"/>
            <p:cNvSpPr/>
            <p:nvPr/>
          </p:nvSpPr>
          <p:spPr>
            <a:xfrm>
              <a:off x="4154040" y="66996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后作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39600" y="101520"/>
            <a:ext cx="9615600" cy="61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-23760" y="-9360"/>
            <a:ext cx="915192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矩形 1" descr=""/>
          <p:cNvPicPr/>
          <p:nvPr/>
        </p:nvPicPr>
        <p:blipFill>
          <a:blip r:embed="rId1"/>
          <a:stretch/>
        </p:blipFill>
        <p:spPr>
          <a:xfrm>
            <a:off x="128520" y="79200"/>
            <a:ext cx="3005280" cy="1408320"/>
          </a:xfrm>
          <a:prstGeom prst="rect">
            <a:avLst/>
          </a:prstGeom>
          <a:ln w="0">
            <a:noFill/>
          </a:ln>
        </p:spPr>
      </p:pic>
      <p:sp>
        <p:nvSpPr>
          <p:cNvPr id="41" name="TextBox 2"/>
          <p:cNvSpPr/>
          <p:nvPr/>
        </p:nvSpPr>
        <p:spPr>
          <a:xfrm>
            <a:off x="243000" y="1143000"/>
            <a:ext cx="57718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贾平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当代作家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5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出生于陕西农村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7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进入西北大学学习汉语言文字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8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后从事专业创作。主要作品有小说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废都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秦腔</a:t>
            </a: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散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的踪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的小桃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img9.ph.126.net/g4pvL6X8mPVWHG25obzerw==/2540874614784246569.jpg"/>
          <p:cNvPicPr/>
          <p:nvPr/>
        </p:nvPicPr>
        <p:blipFill>
          <a:blip r:embed="rId2"/>
          <a:stretch/>
        </p:blipFill>
        <p:spPr>
          <a:xfrm>
            <a:off x="6345360" y="1336680"/>
            <a:ext cx="25686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1063800"/>
            <a:ext cx="925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持（    ）    摇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撼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）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拱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淅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淅沥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沥（     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恍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然（      ）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嵬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坡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忏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悔（    ）    欲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绽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猥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幼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）   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裸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）  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侍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323360" y="128736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j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532040" y="1200240"/>
            <a:ext cx="9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111800" y="116856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ɡǒ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090520" y="2008080"/>
            <a:ext cx="89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xī 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4664520" y="1940040"/>
            <a:ext cx="14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huǎ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1204200" y="270036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c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8098200" y="194940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wé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552920" y="264312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z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7309440" y="270036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wěi s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1412640" y="34322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4703040" y="3343320"/>
            <a:ext cx="8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l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7773480" y="344160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宋体"/>
              </a:rPr>
              <a:t>s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855960" y="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宋体"/>
              </a:rPr>
              <a:t>记记背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6"/>
          <p:cNvSpPr/>
          <p:nvPr/>
        </p:nvSpPr>
        <p:spPr>
          <a:xfrm>
            <a:off x="647640" y="855720"/>
            <a:ext cx="83487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伫立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长久地站立。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孱头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软弱无能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矜持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拘谨，拘束。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楚楚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娇弱柔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垂垂暮老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形容像老人一样没有生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忏悔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认识了过去的错误或罪过而感觉痛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猥琐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容貌、举止）庸俗不大方。含贬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赤裸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光着身子，不穿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059000" y="30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宋体"/>
              </a:rPr>
              <a:t>记记背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"/>
          <p:cNvSpPr/>
          <p:nvPr/>
        </p:nvSpPr>
        <p:spPr>
          <a:xfrm>
            <a:off x="650880" y="384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题解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237960" y="1554120"/>
            <a:ext cx="882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题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棵小桃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点名了写作对象，是贯穿全文的线索，说明这是一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托物言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章，作者借小桃树表达了什么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3480" y="936720"/>
            <a:ext cx="9032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平凹出生在偏僻落后的山村小院，生活贫苦。天地狭小，孤陋寡闻。后来离家出山，进城读书，感到自己渺小，但想干一番事业。长大成人后，方知人世复杂，自感幼稚天真了。在极左路线的重压下，他遭受了种种不幸。但像小桃树一样，他心里“到底还有一朵花呢”，对理想对幸福的追求更加坚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矩形 2" descr=""/>
          <p:cNvPicPr/>
          <p:nvPr/>
        </p:nvPicPr>
        <p:blipFill>
          <a:blip r:embed="rId1"/>
          <a:stretch/>
        </p:blipFill>
        <p:spPr>
          <a:xfrm>
            <a:off x="2627280" y="-225360"/>
            <a:ext cx="29750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"/>
          <p:cNvSpPr/>
          <p:nvPr/>
        </p:nvSpPr>
        <p:spPr>
          <a:xfrm>
            <a:off x="409680" y="-85680"/>
            <a:ext cx="83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感知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是一棵（      ）的小桃树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"/>
          <p:cNvSpPr/>
          <p:nvPr/>
        </p:nvSpPr>
        <p:spPr>
          <a:xfrm>
            <a:off x="2469600" y="434880"/>
            <a:ext cx="479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长得很委屈……瘦瘦的，黄黄的，似乎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碰，就立即会断了去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7124760" y="860400"/>
            <a:ext cx="20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先天不足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4"/>
          <p:cNvSpPr/>
          <p:nvPr/>
        </p:nvSpPr>
        <p:spPr>
          <a:xfrm>
            <a:off x="579600" y="1330200"/>
            <a:ext cx="86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那桃树被猪拱过一次，要不早就开了花了。他们曾嫌长的不是地方，又不好看，想砍掉它，奶奶却不同意，常常护着给它浇水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7746840" y="2416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厄运连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"/>
          <p:cNvSpPr/>
          <p:nvPr/>
        </p:nvSpPr>
        <p:spPr>
          <a:xfrm>
            <a:off x="88920" y="288612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每每看着它，却发现从未有一只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蜂去恋过它，一只蝴蝶去飞过它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7"/>
          <p:cNvSpPr/>
          <p:nvPr/>
        </p:nvSpPr>
        <p:spPr>
          <a:xfrm>
            <a:off x="7746840" y="3273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孤独寂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8"/>
          <p:cNvSpPr/>
          <p:nvPr/>
        </p:nvSpPr>
        <p:spPr>
          <a:xfrm>
            <a:off x="144360" y="3851280"/>
            <a:ext cx="888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雨还在下着，我的小桃树千百次地俯下身去，又千百次地挣扎起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"/>
          <p:cNvSpPr/>
          <p:nvPr/>
        </p:nvSpPr>
        <p:spPr>
          <a:xfrm>
            <a:off x="7569000" y="447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顽强拼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cp:keywords/>
  <dc:language>en-US</dc:language>
  <cp:lastModifiedBy>Administrator</cp:lastModifiedBy>
  <dcterms:modified xsi:type="dcterms:W3CDTF">2017-05-04T06:16:07Z</dcterms:modified>
  <cp:revision>13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