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4.gif" ContentType="image/gif"/>
  <Override PartName="/ppt/media/image23.jpeg" ContentType="image/jpeg"/>
  <Override PartName="/ppt/media/image20.jpeg" ContentType="image/jpeg"/>
  <Override PartName="/ppt/media/image19.gif" ContentType="image/gif"/>
  <Override PartName="/ppt/media/image18.gif" ContentType="image/gif"/>
  <Override PartName="/ppt/media/image21.jpeg" ContentType="image/jpeg"/>
  <Override PartName="/ppt/media/image36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7.gif" ContentType="image/gif"/>
  <Override PartName="/ppt/media/image22.jpeg" ContentType="image/jpeg"/>
  <Override PartName="/ppt/media/image46.gif" ContentType="image/gif"/>
  <Override PartName="/ppt/media/image1.jpeg" ContentType="image/jpeg"/>
  <Override PartName="/ppt/media/image10.jpeg" ContentType="image/jpeg"/>
  <Override PartName="/ppt/media/image45.gif" ContentType="image/gif"/>
  <Override PartName="/ppt/media/image8.jpeg" ContentType="image/jpeg"/>
  <Override PartName="/ppt/media/image11.gif" ContentType="image/gif"/>
  <Override PartName="/ppt/media/image34.gif" ContentType="image/gif"/>
  <Override PartName="/ppt/media/image38.gif" ContentType="image/gif"/>
  <Override PartName="/ppt/media/image40.gif" ContentType="image/gif"/>
  <Override PartName="/ppt/media/image39.gif" ContentType="image/gif"/>
  <Override PartName="/ppt/media/image41.gif" ContentType="image/gif"/>
  <Override PartName="/ppt/media/image30.gif" ContentType="image/gif"/>
  <Override PartName="/ppt/media/image28.gif" ContentType="image/gif"/>
  <Override PartName="/ppt/media/image42.gif" ContentType="image/gif"/>
  <Override PartName="/ppt/media/image25.gif" ContentType="image/gif"/>
  <Override PartName="/ppt/media/image6.jpeg" ContentType="image/jpeg"/>
  <Override PartName="/ppt/media/image31.gif" ContentType="image/gif"/>
  <Override PartName="/ppt/media/image43.gif" ContentType="image/gif"/>
  <Override PartName="/ppt/media/image44.gif" ContentType="image/gif"/>
  <Override PartName="/ppt/media/image2.gif" ContentType="image/gif"/>
  <Override PartName="/ppt/media/image32.gif" ContentType="image/gif"/>
  <Override PartName="/ppt/media/image26.jpeg" ContentType="image/jpeg"/>
  <Override PartName="/ppt/media/image9.jpeg" ContentType="image/jpeg"/>
  <Override PartName="/ppt/media/image5.gif" ContentType="image/gif"/>
  <Override PartName="/ppt/media/image35.gif" ContentType="image/gif"/>
  <Override PartName="/ppt/media/image12.gif" ContentType="image/gif"/>
  <Override PartName="/ppt/media/image7.gif" ContentType="image/gif"/>
  <Override PartName="/ppt/media/image37.gif" ContentType="image/gif"/>
  <Override PartName="/ppt/media/image13.gif" ContentType="image/gif"/>
  <Override PartName="/ppt/media/image4.jpeg" ContentType="image/jpeg"/>
  <Override PartName="/ppt/media/image3.gif" ContentType="image/gif"/>
  <Override PartName="/ppt/media/image3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18B-0874-4A65-8168-8622FFE2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007-0064-48F1-B8A2-039DB96F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3330-4599-40A2-9EE6-2D84CB67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557-1AC9-49BB-8BF6-38A8038A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2D2-F877-4F62-8E98-3733B720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098-C6E4-444D-94E8-3F7E35BD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A73-F9DE-4617-9C81-9E4162D9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07E6-FE18-4837-8208-17EEAD95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E88-E495-4453-B732-60399F69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64A-C458-40F7-8135-506371F5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59F-CAE7-4B64-B721-F25B8E15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787-7C5C-42A4-9322-C3842317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BAD1-4EAD-47FA-BAF5-6DA66C6633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舍先生的《小麻雀》一文中，小麻雀是一个弱小者的形象，逆来顺受。今天，我们再来学习贾平凹的一篇《一棵小桃树》，小桃树同样是一个弱者，它的命运和结局是否和小麻雀相同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Documents and Settings\Administrator\Application Data\Tencent\Users\375276231\QQ\WinTemp\RichOle\V}M%4NE4`M1@ISF`B4Z{M0N.png"/>
          <p:cNvPicPr/>
          <p:nvPr/>
        </p:nvPicPr>
        <p:blipFill>
          <a:blip r:embed="rId1"/>
          <a:stretch/>
        </p:blipFill>
        <p:spPr>
          <a:xfrm>
            <a:off x="0" y="4797360"/>
            <a:ext cx="8961480" cy="2060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740720" y="0"/>
            <a:ext cx="1403280" cy="981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84640"/>
            <a:ext cx="11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836640"/>
            <a:ext cx="1224000" cy="5761080"/>
          </a:xfrm>
          <a:custGeom>
            <a:avLst/>
            <a:gdLst>
              <a:gd name="textAreaLeft" fmla="*/ 781920 w 1224000"/>
              <a:gd name="textAreaRight" fmla="*/ 1224360 w 122400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47628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h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602136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h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404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桃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5950080"/>
            <a:ext cx="19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梨核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321300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907920"/>
            <a:ext cx="1295280" cy="54738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142560 h 5473800"/>
              <a:gd name="textAreaBottom" fmla="*/ 5331240 h 547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47628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sà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5805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ā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96360" y="476280"/>
            <a:ext cx="15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懊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96360" y="5734080"/>
            <a:ext cx="15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丧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1368360" cy="4032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1441440" cy="4176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68640"/>
            <a:ext cx="7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981000"/>
            <a:ext cx="1008000" cy="4969080"/>
          </a:xfrm>
          <a:custGeom>
            <a:avLst/>
            <a:gdLst>
              <a:gd name="textAreaLeft" fmla="*/ 644040 w 1008000"/>
              <a:gd name="textAreaRight" fmla="*/ 1008360 w 1008000"/>
              <a:gd name="textAreaTop" fmla="*/ 129600 h 4969080"/>
              <a:gd name="textAreaBottom" fmla="*/ 4839480 h 49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549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l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5516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l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476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绿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4000" y="5516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绿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314172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692280"/>
            <a:ext cx="1079640" cy="5616360"/>
          </a:xfrm>
          <a:custGeom>
            <a:avLst/>
            <a:gdLst>
              <a:gd name="textAreaLeft" fmla="*/ 689760 w 1079640"/>
              <a:gd name="textAreaRight" fmla="*/ 1080000 w 1079640"/>
              <a:gd name="textAreaTop" fmla="*/ 146160 h 5616360"/>
              <a:gd name="textAreaBottom" fmla="*/ 5470200 h 56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3333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ā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0360" y="260280"/>
            <a:ext cx="14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凹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57340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w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28000" y="57340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贾平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1714320" cy="3529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443640" y="1700280"/>
            <a:ext cx="1714680" cy="3529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词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忏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hàn   hu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识了过去的错误，决心改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楚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hǔ    ch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姿态）娇美；纤弱；秀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矜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jīn     ch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庄重；严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孱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àn    tou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称呼软弱无能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恍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uǎng     rá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猛然领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猥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wěi        su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容貌、举动）庸俗不大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68360" y="5877000"/>
            <a:ext cx="1360800" cy="981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516720" y="6165720"/>
            <a:ext cx="1360440" cy="692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渺小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miǎo      xiǎ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微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血气方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xuè    qì     fāng      gā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血气：精力；方：正；刚：强劲。形容年青人精力正旺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垂垂暮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huí   chuí   mù    lǎ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形容渐渐衰老的状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祸不单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uò   bù    dān    xí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祸：灾难。指不幸的事接二连三地发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灼灼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huó    zhu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明亮、鲜明的样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苦涩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kǔ       s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形容心情愁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8360" y="4941720"/>
            <a:ext cx="755640" cy="1916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651640" y="0"/>
            <a:ext cx="1360440" cy="879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783560" y="0"/>
            <a:ext cx="1360440" cy="549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赤裸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hì     lu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裸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刹那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hà     n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般用来表示时间之极短者，如一瞬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灵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shēng  lí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踏青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tà    qī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清明节前后郊野游览的习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魂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ún   p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人的精神灵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轰轰烈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ōng   hōng   liè   li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形容声势浩大，气魄宏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03640" y="6000840"/>
            <a:ext cx="4140360" cy="857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40360" cy="857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_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眼前桃树的情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_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对桃树的回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部分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_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接着写眼前桃树的情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四部分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希望中的桃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主学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我”为什么常常“自个儿忏悔”，又“自个儿安慰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常常想要给我的小桃树写点文章，但却终没有写就一个字来。”所以感到内疚，要忏悔；现在“给它写点什么了”， 所以感到安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c:\documents and settings\administrator\application data\360se6\User Data\temp\5817249_112821620163_2.jpg"/>
          <p:cNvPicPr/>
          <p:nvPr/>
        </p:nvPicPr>
        <p:blipFill>
          <a:blip r:embed="rId1"/>
          <a:stretch/>
        </p:blipFill>
        <p:spPr>
          <a:xfrm>
            <a:off x="0" y="4869000"/>
            <a:ext cx="9144000" cy="1989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作者写雨下得大，有何用意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为下文写小桃树的遭遇做铺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c:\documents and settings\administrator\application data\360se6\User Data\temp\6442773_235144646000_2.jpg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4005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哦，我可怜的小桃树儿！”作者认为小桃树的“可怜”表现在哪几方面？请结合全文简要分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小桃树遭受风雨等的摧残来表现它的可怜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小桃树长得很委屈，样子很委琐，花儿单薄等来表现它的可怜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写小桃树被人鄙视，孤独寂寞来表现它的可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啊，它已经老了许多呢，瘦了许多呢，昨日楚楚的容颜全然褪尽了。”这句话有何表达效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用了拟人的修辞手法，一个“瘦”字用得十分恰贴。“容颜全然褪尽”令人心酸、痛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documents and settings\administrator\application data\360se6\User Data\temp\Img328781478.jpg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棵小桃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贾平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documents and settings\administrator\application data\360se6\User Data\temp\nUGljcy9yODYwNi9yMDA7LTA6L4VudGl0bGVkMS6qcGc=.jpg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56000" y="76500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散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奶奶的话给了“我”什么启迪？“想让它在那蓄着我的梦。”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 奶奶的话启发了“我”追求理想、追求幸福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“蓄着我的梦”反映了作者孩提时代对美好的未来、幸福的人生的朦胧向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documents and settings\administrator\application data\360se6\User Data\temp\171589612.jpg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067280" y="2060640"/>
            <a:ext cx="5076720" cy="647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771640" y="4076640"/>
            <a:ext cx="6372360" cy="647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如何理解“它长得很委屈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长得“委屈”表面是说它生长的环境不宽松，在一个墙角里，不能茁壮成长，暗示作者自己从小生活在小山村的环境里，孤陋寡闻，直到进城里上学，才知道山外的天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documents and settings\administrator\application data\360se6\User Data\temp\nUGljcy9yODYwNi9yMDA7LTA6L4VudGl0bGVkMS6qcGc=.jpg"/>
          <p:cNvPicPr/>
          <p:nvPr/>
        </p:nvPicPr>
        <p:blipFill>
          <a:blip r:embed="rId1"/>
          <a:stretch/>
        </p:blipFill>
        <p:spPr>
          <a:xfrm>
            <a:off x="0" y="4495680"/>
            <a:ext cx="9144000" cy="2362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5640" cy="1195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拿爷爷的各种各样的花草与“默默地长”的小桃树进行对比，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反衬了小桃树生命力的旺盛，即使在恶劣的环境里也能不屈不挠地生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documents and settings\administrator\application data\360se6\User Data\temp\182152u0h0ch5hxcgcc0go.jpg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7596360" cy="415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写自己的经历和小桃树有什么联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少年时代努力奋斗，胸怀大志，就像“一个春天”“长上二尺来高”的小桃树，充满向上的朝气，小桃树就是自己的化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8964720" cy="2708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主学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仅仅是为奶奶的去世痛哭一场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是。国之不幸，家之不幸，己之不幸交织在一起。作者看着多灾多难的小桃树，想想自己坎坷的经历，百感交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4941720"/>
            <a:ext cx="9144000" cy="1916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1052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文章多处写到“奶奶”，其作用是什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突出了小桃树与奶奶的密切关系：奶奶买来桃子才种下桃树，奶奶打扫卫生才发现桃树，奶奶的保护才留存桃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奶奶是作者感恩的对象，表达了作者对奶奶的感激、思念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桃树开了花表现了她怎样的品性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桃树在困境中坚持理想，终于开花，表现了它不畏困难、执着追求的品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9144000" cy="3860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曾去看守终南山下的夹竹桃花，也去领略过马嵬坡前的水密桃花，那花儿开得火灼灼的，可我的小桃树儿，一颗“仙桃”的种子，却开得太白了、太淡了，那瓣片儿单薄得似纸做的，没有肉的感觉，没有粉的感觉，像患了重病的少女，苍白白的脸儿，又偏苦涩涩地笑着。我忍不住几分忧伤泪珠儿又要下来了。 ”这句话运用了什么修辞？有何表达效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比、比喻；终南山下的夹竹桃花，马嵬坡前的蜜水桃花和小桃树的花形成对比，突出了小桃树的花单薄、色淡，又把小桃树比喻成患了重病的少女，生动形象地表现出小桃树瘦弱、孤独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356000" y="3500280"/>
            <a:ext cx="4788000" cy="576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桃树遭受风雨的洗礼，暗示着作者怎样的人生经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暗示着作者几经挫折，几经磨难的经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写小桃树在大雨中拼命“挣扎”，树的高处还“保留着一个欲绽的花苞”有何用意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采用了先抑后扬的写法，再次显示小桃树“要开花”“要结果”的执着追求和美好理想，也暗示着作者经历挫折、磨难后，仍有百折不挠地追求着人生的幸福和美好的理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了解有关贾平凹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联系背景体会重点句子的含义，把握文章表达的情感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作者抓住事物特征进行细致描绘、炼字的表现手法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本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托物言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欲扬先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写法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小桃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屈不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战胜磨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创造美好未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1197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说说最后一段的作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从小桃树的顽强生命力看到了希望，坚定了信念。尽管经历了生活的磨难，但是，坚信不屈不挠的奋斗，定会创造美好的未来，实现美好的理想。是本文的主旨所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言赏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世原来有人世的大书，我却连第一行文字还读不懂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将人世比作大书，自己对人世的认识比作连第一行文字还读不懂，表现了社会的错综复杂，自己的幼稚天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71640" cy="79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但它却没有掉下去，像风浪里航道上的指示灯，闪着时隐时现的嫩黄的光，嫩红的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将花苞比作风浪里航道上的指示灯，闪光灯，表现了小桃树顽强的生命力，同时也给予作者希望和信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画出课文中描写小桃树在不同生长阶段中的形态、颜色、动作、神态的重点语句，并说说这些描写表现了小桃树的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摹形着色的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纤纤生灵”“太小”“瘦瘦的、黄黄的”“太白、太淡”“单薄”等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弱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描写动作、神情的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哆嗦”“弯着头，抱紧着身子”“努力撑着”“挣扎”“抖着”“摇着”“苦涩涩地笑”等等 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表现它面对逆境顽强搏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644220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桃树在生长过程中经历了哪些磨难？“我”为什么那么关心爱护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桃树是在几乎被“我”忘却是破土而出的。一出世，大家都笑它，连奶奶也说它没出息。它在生长过程中被猪拱折过。险些被砍掉。它历经风雨的摧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章一开头就饱含着作者对小桃树的一往情深：当初始怀着它能给我带来幸福的希望，让它“孕育着我的梦”而种下它，所以，“我”偏爱它。见到它长得纤弱，没人管它，为自己漂泊他乡忘却了它而难过。当自己生活遭到挫折，见到小桃树在风雨中挣扎，顽强同命运作斗争时，“我”不油对它产生赞美之情。总之，小桃树象征着“我”的幸福和希望，小桃树的坎坷经历又和我的相似，所以，我关注它、爱护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195640" y="6093000"/>
            <a:ext cx="6948360" cy="981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总结全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章由两条线索构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明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小桃树的经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核儿埋在角落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萌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嫩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到二尺来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瘦，黄，没人理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院墙高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猪拱，讨人嫌，被遗忘，奶奶照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弱小，遭大雨，花零落，挣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高的一枝上保留着一个欲绽的花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1224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238880" y="0"/>
            <a:ext cx="1905120" cy="1052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暗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”出生在偏僻落后的山村小院，土生土长，生活贫苦。天地狭小，孤陋寡闻。离家出山，进城读书，感到自己渺小，但想干一番事业。长大成人后，方知人世复杂，社会复杂，感到自己太幼稚、太天真了，在极左路线的重压下，遭受种种不幸。但像小桃树一样，我心里“到底还有一朵花呢。”对理想对幸福的追求更加坚定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描写了一棵在逆境中诞生，在逆境中成长的小桃树，历经风雨仍顽强生存。赞颂了小桃树顽强同命运抗争的精神。揭示一个生活的哲理：不屈不挠的奋斗，定会战胜磨难，创造出美好的未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76400" cy="1484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启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我们应敢于克服困难，在逆境中顽强拼搏，做主宰自己命运的主人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面对挫折和磨难，只要不屈不挠，定能创造出美好的未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58920" cy="1197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83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作背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0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，为期十年的“文化大革命”终于结束，在这十年期间，无数被时代耽误年华和奋斗机会的青年人开始反思，开始追求。作家贾平凹在这个大的时代背景下，托物言志，以小桃树的形象来象征“文化大革命”中成长起来的青年一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C:\Documents and Settings\Administrator\Application Data\Tencent\Users\375276231\QQ\WinTemp\RichOle\BQE3Y[RGHIMI@3KTQXMAVN4.png"/>
          <p:cNvPicPr/>
          <p:nvPr/>
        </p:nvPicPr>
        <p:blipFill>
          <a:blip r:embed="rId1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700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过它坎坷的出生、成长到迷茫和看到希望的描述，反映了青年一代在迷茫和探索中成长的真实历程。文章最后写小桃树所孕育所保留的那一个花苞，岂止是“风浪里航道上的指示灯”，它更是青年一代胸怀大志、奋起直追、报效祖国的象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documents and settings\administrator\application data\360se6\User Data\temp\2011421205529920.jpg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4112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走近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2050920" cy="5516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340000" y="0"/>
            <a:ext cx="680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贾平凹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95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生于陕西省商洛市丹凤县棣花镇，当代作家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获美孚飞马文学奖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获法国费米娜外国文学奖，代表作有小说集《兵娃》《姐妹本纪》《腊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月》等，长篇小说《浮躁》《废都》《白夜》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documents and settings\administrator\application data\360se6\User Data\temp\8187447_204307373130_2.jpg"/>
          <p:cNvPicPr/>
          <p:nvPr/>
        </p:nvPicPr>
        <p:blipFill>
          <a:blip r:embed="rId2"/>
          <a:stretch/>
        </p:blipFill>
        <p:spPr>
          <a:xfrm>
            <a:off x="2050920" y="5373720"/>
            <a:ext cx="7093080" cy="1484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忏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hà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悔              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jī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持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uǎ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然            执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hu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服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shì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w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miǎ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          幼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hì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赤裸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u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à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xiā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纤               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tu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尽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摞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uò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wé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坡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灼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hu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灼              苦涩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sè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hà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抖              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h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73360"/>
            <a:ext cx="90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读准字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114624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多音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28464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268280"/>
            <a:ext cx="1440000" cy="4824720"/>
          </a:xfrm>
          <a:custGeom>
            <a:avLst/>
            <a:gdLst>
              <a:gd name="textAreaLeft" fmla="*/ 920160 w 1440000"/>
              <a:gd name="textAreaRight" fmla="*/ 1440000 w 1440000"/>
              <a:gd name="textAreaTop" fmla="*/ 125640 h 4824720"/>
              <a:gd name="textAreaBottom" fmla="*/ 4699080 h 482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907920"/>
            <a:ext cx="19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xiā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5589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qià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907920"/>
            <a:ext cx="194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纤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3640" y="558972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拉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51280" y="314172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刹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836640"/>
            <a:ext cx="1728720" cy="5472000"/>
          </a:xfrm>
          <a:custGeom>
            <a:avLst/>
            <a:gdLst>
              <a:gd name="textAreaLeft" fmla="*/ 1104480 w 1728720"/>
              <a:gd name="textAreaRight" fmla="*/ 1729080 w 1728720"/>
              <a:gd name="textAreaTop" fmla="*/ 142560 h 5472000"/>
              <a:gd name="textAreaBottom" fmla="*/ 5329440 h 54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sh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0360" y="573408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ch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67640" y="476280"/>
            <a:ext cx="16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刹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96360" y="5661000"/>
            <a:ext cx="18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刹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1297080" cy="30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659640" y="1989000"/>
            <a:ext cx="1441440" cy="3095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68640"/>
            <a:ext cx="10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052640"/>
            <a:ext cx="1800360" cy="5040360"/>
          </a:xfrm>
          <a:custGeom>
            <a:avLst/>
            <a:gdLst>
              <a:gd name="textAreaLeft" fmla="*/ 1150200 w 1800360"/>
              <a:gd name="textAreaRight" fmla="*/ 1800720 w 180036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4000" y="69228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bā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95640" y="558972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32000" y="62064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剥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16360" y="55897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剥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3141720"/>
            <a:ext cx="15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颤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1052640"/>
            <a:ext cx="1800360" cy="5040360"/>
          </a:xfrm>
          <a:custGeom>
            <a:avLst/>
            <a:gdLst>
              <a:gd name="textAreaLeft" fmla="*/ 1150200 w 1800360"/>
              <a:gd name="textAreaRight" fmla="*/ 1800720 w 180036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47628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ch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566100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zh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40720" y="47628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颤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40720" y="558972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颤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1151280" cy="345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27640" y="1700280"/>
            <a:ext cx="1150920" cy="345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1T12:41:37Z</dcterms:created>
  <dc:creator>未知用户</dc:creator>
  <dc:description/>
  <dc:language>en-US</dc:language>
  <cp:lastModifiedBy>微软用户</cp:lastModifiedBy>
  <dcterms:modified xsi:type="dcterms:W3CDTF">2018-10-20T05:24:01Z</dcterms:modified>
  <cp:revision>9</cp:revision>
  <dc:subject/>
  <dc:title>幻灯片 1</dc:title>
</cp:coreProperties>
</file>