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5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0E13-DD21-426C-BCFC-DDFFBD30D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3BF8-7A44-4A91-8E73-96E32C208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E8B1-D7B5-44AD-B172-E4217ADB5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FD74-01ED-4F34-90B5-A4571F76A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2DA2-CD47-4E2B-A40A-02914D504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66B2-115C-45A8-B74B-ED079BB9E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09CA-9A3D-4C3C-83E1-D0DCD9EC5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B27F-6A25-4BEA-93E7-BAEA3939B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AAF6-17B9-4B2D-81A9-21D7BADA1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D27E-BD1C-4FA2-9CAD-D9018053B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B8A3-4FC7-4F81-A6D0-0B326E052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0D98-743E-479E-805E-7D6D4C0AD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31D00-14A7-40EE-96CF-AFDB148B225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" descr="C:\Documents and Settings\Administrator\Application Data\Tencent\Users\375276231\QQ\WinTemp\RichOle\67%JK0@L60ZQ@M]UJ138RBS.png"/>
          <p:cNvPicPr/>
          <p:nvPr/>
        </p:nvPicPr>
        <p:blipFill>
          <a:blip r:embed="rId2"/>
          <a:stretch/>
        </p:blipFill>
        <p:spPr>
          <a:xfrm>
            <a:off x="2895480" y="762120"/>
            <a:ext cx="4191120" cy="51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c:\documents and settings\administrator\application data\360se6\User Data\temp\182152u0h0ch5hxcgcc0go.jpg"/>
          <p:cNvPicPr/>
          <p:nvPr/>
        </p:nvPicPr>
        <p:blipFill>
          <a:blip r:embed="rId2"/>
          <a:stretch/>
        </p:blipFill>
        <p:spPr>
          <a:xfrm>
            <a:off x="1143000" y="914400"/>
            <a:ext cx="619776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" descr="C:\Documents and Settings\Administrator\Application Data\Tencent\Users\375276231\QQ\WinTemp\RichOle\BQE3Y[RGHIMI@3KTQXMAVN4.png"/>
          <p:cNvPicPr/>
          <p:nvPr/>
        </p:nvPicPr>
        <p:blipFill>
          <a:blip r:embed="rId2"/>
          <a:stretch/>
        </p:blipFill>
        <p:spPr>
          <a:xfrm>
            <a:off x="152280" y="1143000"/>
            <a:ext cx="4011840" cy="35053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C:\Documents and Settings\Administrator\Application Data\Tencent\Users\375276231\QQ\WinTemp\RichOle\V}M%4NE4`M1@ISF`B4Z{M0N.png"/>
          <p:cNvPicPr/>
          <p:nvPr/>
        </p:nvPicPr>
        <p:blipFill>
          <a:blip r:embed="rId3"/>
          <a:stretch/>
        </p:blipFill>
        <p:spPr>
          <a:xfrm>
            <a:off x="3733920" y="1905120"/>
            <a:ext cx="518148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c:\documents and settings\administrator\application data\360se6\User Data\temp\20091027044345.jpg"/>
          <p:cNvPicPr/>
          <p:nvPr/>
        </p:nvPicPr>
        <p:blipFill>
          <a:blip r:embed="rId1"/>
          <a:stretch/>
        </p:blipFill>
        <p:spPr>
          <a:xfrm>
            <a:off x="5745240" y="4343400"/>
            <a:ext cx="2278080" cy="1600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c:\documents and settings\administrator\application data\360se6\User Data\temp\2011421205529920.jpg"/>
          <p:cNvPicPr/>
          <p:nvPr/>
        </p:nvPicPr>
        <p:blipFill>
          <a:blip r:embed="rId2"/>
          <a:stretch/>
        </p:blipFill>
        <p:spPr>
          <a:xfrm>
            <a:off x="990720" y="53352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c:\documents and settings\administrator\application data\360se6\User Data\temp\5817249_112821620163_2.jpg"/>
          <p:cNvPicPr/>
          <p:nvPr/>
        </p:nvPicPr>
        <p:blipFill>
          <a:blip r:embed="rId2"/>
          <a:stretch/>
        </p:blipFill>
        <p:spPr>
          <a:xfrm>
            <a:off x="4267080" y="838080"/>
            <a:ext cx="4788000" cy="51818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c:\documents and settings\administrator\application data\360se6\User Data\temp\6442773_235144646000_2.jpg"/>
          <p:cNvPicPr/>
          <p:nvPr/>
        </p:nvPicPr>
        <p:blipFill>
          <a:blip r:embed="rId3"/>
          <a:stretch/>
        </p:blipFill>
        <p:spPr>
          <a:xfrm>
            <a:off x="228600" y="380880"/>
            <a:ext cx="4191120" cy="558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c:\documents and settings\administrator\application data\360se6\User Data\temp\171589612.jpg"/>
          <p:cNvPicPr/>
          <p:nvPr/>
        </p:nvPicPr>
        <p:blipFill>
          <a:blip r:embed="rId2"/>
          <a:stretch/>
        </p:blipFill>
        <p:spPr>
          <a:xfrm>
            <a:off x="228600" y="0"/>
            <a:ext cx="5618160" cy="40384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c:\documents and settings\administrator\application data\360se6\User Data\temp\8187447_204307373130_2.jpg"/>
          <p:cNvPicPr/>
          <p:nvPr/>
        </p:nvPicPr>
        <p:blipFill>
          <a:blip r:embed="rId3"/>
          <a:stretch/>
        </p:blipFill>
        <p:spPr>
          <a:xfrm>
            <a:off x="2743200" y="2209680"/>
            <a:ext cx="6730920" cy="50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c:\documents and settings\administrator\application data\360se6\User Data\temp\Img328781478.jpg"/>
          <p:cNvPicPr/>
          <p:nvPr/>
        </p:nvPicPr>
        <p:blipFill>
          <a:blip r:embed="rId1"/>
          <a:stretch/>
        </p:blipFill>
        <p:spPr>
          <a:xfrm>
            <a:off x="685800" y="380880"/>
            <a:ext cx="7391520" cy="55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c:\documents and settings\administrator\application data\360se6\User Data\temp\nUGljcy9yODYwNi9yMDA7LTA6L4VudGl0bGVkMS6qcGc=.jpg"/>
          <p:cNvPicPr/>
          <p:nvPr/>
        </p:nvPicPr>
        <p:blipFill>
          <a:blip r:embed="rId2"/>
          <a:stretch/>
        </p:blipFill>
        <p:spPr>
          <a:xfrm>
            <a:off x="990720" y="685800"/>
            <a:ext cx="72133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istrator</cp:lastModifiedBy>
  <dcterms:modified xsi:type="dcterms:W3CDTF">2015-10-26T09:11:18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