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voltage.wav" ContentType="audio/x-wav"/>
  <Override PartName="/ppt/media/image9.jpeg" ContentType="image/jpeg"/>
  <Override PartName="/ppt/media/image11.png" ContentType="image/png"/>
  <Override PartName="/ppt/media/image6.png" ContentType="image/png"/>
  <Override PartName="/ppt/media/coin.wav" ContentType="audio/x-wav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laser.wav" ContentType="audio/x-wav"/>
  <Override PartName="/ppt/media/image5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chimes.wav" ContentType="audio/x-wav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C9B81-18CD-4B08-9E9F-B5079051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D5C0D-A141-47D6-BF45-BC4D40FE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55137-B4F6-4D68-AA4E-25D70B10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1D598-879A-4E36-BBF3-8E692742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30042-CD4B-40C5-997F-FE7138C4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487B6-53E2-42F2-8D4F-379B5447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66DFA-D798-4A15-8F3B-E6B00DE0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868B6-9E12-438E-8AFA-FB1B0899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27B89-7B22-403C-99E0-B930DE90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87E-9018-4635-B21B-8A1A19E2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B3B-0B4B-401D-B8CB-EC7998D8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9B9-2B45-4EE2-A854-154C6725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4CE8-0D42-4644-8C93-F5461040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433-D74E-480F-9E2B-5BF2A8B3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8D05-D8B6-417C-99D9-80C7A658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9C7-EEEC-4C82-A5B8-AA42E0F9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A3C-8CFF-44BE-96DA-9D07B8ED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C6E-BA0C-4969-ADE3-E27BEC44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3F53-5170-44F1-A8A0-6246E9D4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8E3E-6176-4813-AFB1-4AAB412D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46F-B439-4DBF-8C64-EEC61FC2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C19C-FD83-4D30-92A1-CE24E569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98CE-AA0B-4082-A450-51452EC3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2F21-22EF-4EA2-B77B-9052D34B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9F52-3E72-47D9-8367-5EC4CD36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FC00-A51B-4CCA-8884-04EBE140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EF7E-457C-47C2-BA18-32F609E5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EF29-5E73-43DD-8685-CC0CA25A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648C-8FA5-4C3B-9E60-A06D650A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70D3-809C-4C7C-B1D7-6BB9BC4C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D3D9-A5B0-4F8B-9BC0-AF465ADE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C358-7F6C-4CEF-9767-015429EA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10BA-AE58-48EA-B955-6D34BAE5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EC57E-72C6-4FE9-95D3-95FEF194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8C117-0968-493A-82FF-9EFFCD95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6D86B-8282-4322-AA92-2080194B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31366-AA3E-4464-BD23-82695CC4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AB49-C863-44FB-9737-EC6B1998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CCEC9-7892-4C60-B348-241FA63A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A0BB-BC7A-4616-BFF9-85953E4C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44458-3234-4496-A956-C728EE4A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A32A7-BB3D-41FB-8A46-46D37407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3140B-72F3-4A70-A09E-6CC6DD2E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DDDB8-E182-44E5-90C3-98760296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B92E4-C166-4FFE-B54C-D5E9AFA4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1EE86-B13F-4A2D-BD6E-2599C9CA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94361-1986-496F-8DCE-73AC5DB7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840CF-0F03-43A5-9AB0-1B4FDCF2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429E6-A98B-49C7-9389-5D8BCA55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CA3EA-2ADD-44D9-80E7-D98BDDF7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3A85C-9DC9-4003-8E9C-08BB76DE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CB344-F463-4175-8B02-8AF99AF1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1E1EB-4689-4D05-BA8E-162023CF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C2104-99EF-4329-A682-B395CFAB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C351B-A395-46B0-A6E7-1D58EAE5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3A1C2-6628-4AB6-973A-C659B749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A2FF2-B083-444E-AEE1-DF8BEE39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3E9E3-F99F-4428-A3C4-2F99C439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B6F2A-B12F-4DFF-AD4A-7F72CB08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16ADB-2132-4354-8162-58F88C10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059C6-EB3A-41FD-9E11-B0E3C82B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F4880-41B8-4330-993D-B43414CE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1D15E-8582-4097-8459-F70C38A3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846F4-733A-44B0-A5D7-5E31E610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152BF-6800-49E6-905E-A2B208FD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63247-59ED-4627-A89A-7FB6D523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0F32D-ABE7-4AC9-BB06-43C4F451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91994-B937-4F4E-9D9E-A60D5731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6FCB7-6213-4BD6-8E39-1D7972A0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1A921-D8B2-48E0-84E5-268DAC91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BF617-2938-4E2F-8145-DEAE8A10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2FD59-B185-4037-BBA9-5A58BA5F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62DAD-C092-437C-9665-47F6442A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1AFE3-73E5-4BD8-BF86-8942B159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8FF98-FF08-4923-B103-AD8A8298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9235B-04CB-4DAE-BDB6-2411CCBA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896F1-2AD9-49A0-BC86-70DCD612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301CB-6443-4349-A21A-4825EA05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3EC56-1C59-4EFA-B153-8EBCB2B9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263BE-A99D-4CC4-A6B4-DB5BB2D3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5D6FE-19DD-4296-AA81-6314A0E4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8D7CA7-3611-4DA3-8556-E2BD3E28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612EEE-BFE3-45ED-8837-E8A6F0B3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D54C8F-FCDF-4AF5-B16D-7E68E873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82A81E-5915-4372-B105-31931F0F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70F9E4-41EA-458A-8AAA-128857E0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830C9E-ACC3-47C1-9CD1-982C1DDF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6508A9-68B8-49EF-841F-2D6F69B4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C1C852-4066-4C28-B9EE-39CA6FB3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424BCA-01E1-42F1-81BF-A15BEB51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15B476-E819-43ED-97F7-96E000D2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84FC24-E027-419C-A6CD-31315FA6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EC286E-D4BC-4725-A37A-B0F92BCF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C320F-239C-4ED4-BE54-EEB069D5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B2158-62EF-49B4-9471-690F8160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29D6B-1275-4AD6-A735-B20CA1AE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BE56-945F-459F-A9CA-A2CDB05521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7ECE-176D-47EE-A4B2-0ADFF8B87C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27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A99C-50B4-499D-BF21-A2FA27747DB0}" type="slidenum">
              <a:rPr b="0" lang="zh-C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171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E1A8-D07B-4E91-9AD3-D6A65A9DD718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20E8-C3F2-4B82-9B0D-D01214D2A3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D5EF-3603-40BC-A2E6-6A61DE438A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295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700F-3205-4EB4-9CA2-6D581D01950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dt" idx="2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ftr" idx="2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55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7DF3-43F4-4A23-88A0-3D2929D84C7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oin.wav" TargetMode="External"/><Relationship Id="rId2" Type="http://schemas.microsoft.com/office/2007/relationships/media" Target="file:///tmp/home/.config/libreoffice/4/user/gallery/coin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永久的悔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154764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     </a:t>
            </a:r>
            <a:r>
              <a:rPr b="0" lang="en-US" sz="5400" spc="-1" strike="noStrike">
                <a:solidFill>
                  <a:srgbClr val="ff3300"/>
                </a:solidFill>
                <a:latin typeface="黑体"/>
                <a:ea typeface="黑体"/>
              </a:rPr>
              <a:t>---</a:t>
            </a:r>
            <a:r>
              <a:rPr b="0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季羡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178920" y="-360"/>
            <a:ext cx="8541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第四段末尾一句包含什么感情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楷体_GB2312"/>
              </a:rPr>
              <a:t>说明母亲从未出过远门见过世面，是个普通的农村妇女。表达了对母亲一生苦难的同情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学习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6-8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段：主要写什么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楷体_GB2312"/>
              </a:rPr>
              <a:t>详细叙述了自己幼年的生活情况。换句话说，写了自己找吃的方法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请概括作者找吃的方法有哪些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⑴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讨好家境很好的大奶奶，每天混得一小块馍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⑵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麦收季节到富人的地里拾麦子，用劳动换得一点“白的”吃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⑶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到庄外去割草、劈高粱叶给二大爷喂牛，蹭上一顿“黄的”吃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20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500"/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" dur="500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500"/>
                                        <p:tgtEl>
                                          <p:spTgt spid="8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第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段末尾“不但是月饼，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… …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只有吃野草了。”包含什么感情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母亲一生过着艰苦的生活，把仅有的一点好吃的都留给了儿子，作者感叹母亲的艰辛，赞叹母爱的伟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这句话当中“从来都没有尝过”中“从来”能否去掉？为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不能。“从来”表示从过去到现在始终不变，更能突出母亲一生生活的艰辛，反映母爱的深沉与艰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3" dur="5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500"/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思考：写家庭情况和自己幼年的生活情况与母亲有什么关系？与“永久的悔”有什么关系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写家境的贫寒、生活的艰辛，从侧面表现了母亲一生所遭受的苦难，在食物极度匮乏的年代，母亲宁可自己挨饿，也舍不得吃好点的东西，把“白的”食物都留给了我，这种情况下所表现出的至爱亲情更是难能可贵，更加重了作者因没有报答母亲的养育之恩而产生的悔恨之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问题：“特别有一点，让我难解而又易解”，“难解而又易解”是否有矛盾？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不矛盾。“难解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的是一个人怎么能一辈子没有笑过呢？不理解母亲生活的辛酸悲苦。“易解”的是随着自己年岁的增长，逐渐理解了家境贫困，儿子远离，受尽苦难，没有过上一天舒心的日子，那笑容从何而来？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这句话同时也包含了作者未能尽孝的无穷的悔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问题：第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段末尾一句话蕴含怎样深刻的感情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年幼时不懂事，没有想到如何孝敬母亲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年轻时经济不能独立，无法实现孝敬母亲 的愿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自己大学未毕业，母亲却永远地走了，自己永远不能尽孝了。每想到此，就会心肝俱裂，热泪盈眶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本段最感人的话语是哪几句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——“</a:t>
            </a:r>
            <a:r>
              <a:rPr b="1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我不忍想象</a:t>
            </a:r>
            <a:r>
              <a:rPr b="1" lang="en-US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… …</a:t>
            </a:r>
            <a:r>
              <a:rPr b="1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”至末尾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只是作者的肺腑之言，这个“悔”包含着作者复杂的感情，作者内心充满了自责、无奈、悔恨，那种撕心裂肺的痛将伴随作者的一生，读起来令人潸然泪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10094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游子吟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979640" y="1916280"/>
            <a:ext cx="7020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慈母手中线，游子身上衣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临行密密缝，意恐迟迟归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谁言寸草心，报得三春晖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oin.wav"/>
      </p:stSnd>
    </p:sndAc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相通之处：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二者都用普通的语言，描绘普通的事件，却感人至深。表现了母子间难以割舍的深情，体现了人间亲情的伟大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启迪：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我们应该格外珍惜着至爱亲情，做一个有孝心的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himes.wav"/>
      </p:stSnd>
    </p:sndAc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隶书"/>
              </a:rPr>
              <a:t>小结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主旨：作者通过回忆过去的家庭生活表达了对母亲的深深思念，表达了因无法报答母亲的养育之恩而悔恨不已的心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思考：本文题为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永久的悔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，作者用大量的篇幅回忆自己吃的经历。作者这样写是否离题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4067280" y="836640"/>
            <a:ext cx="4392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fdef6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季羡林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1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生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3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考入清华大学西洋文学系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3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赴德国留学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4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获哲学博士学位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4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回国，任北京大学教授兼东方语言文学系主任。是当代语言学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3024360" cy="446580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3780000" y="2977560"/>
            <a:ext cx="48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课后作业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人民日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举办过“献给母亲的一句话”活动，请你欣赏两则获奖作品并完成文后练习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慈母手中那根为游子缝补衣衫的线，是世界上最长的线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母亲是月台，儿子是那挂长长的列车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请你也参加此项活动，为你的母亲设计一份贺卡， 献上一句话或说说心里话，表达你的爱，好吗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635280" y="98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56" dur="indefinite" restart="never" nodeType="tmRoot">
          <p:childTnLst>
            <p:seq>
              <p:cTn id="457" restart="whenNotActive" nodeType="interactiveSeq" fill="hold">
                <p:stCondLst>
                  <p:cond evt="onClick">
                    <p:tgtEl>
                      <p:spTgt spid="860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860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1" dur="263341" fill="hold"/>
                                        <p:tgtEl>
                                          <p:spTgt spid="8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60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fdef6"/>
                </a:solidFill>
                <a:latin typeface="Arial"/>
                <a:ea typeface="黑体"/>
              </a:rPr>
              <a:t>生字    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唾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手可得          立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之地          苦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够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呛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    所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恃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蹭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轮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廓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懵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懂              下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掰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劈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盈眶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00360" y="227664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u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940360" y="234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zhu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8101080" y="2349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835280" y="2997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qià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500720" y="292428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h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020000" y="285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è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8000" y="364500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ku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356000" y="3645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ě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164360" y="3645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à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403280" y="42926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ā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987640" y="4221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508720" y="4292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í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g  kuà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散文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: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形散而神不散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抒情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表达方式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2920" y="249228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788000" y="1700280"/>
            <a:ext cx="309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抒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叙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说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议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本文可分几个部分？用简要的语言概括每一部分的大意。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54064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一、（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1-2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）开头设疑，点出“永久的悔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二、（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3-9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）具体叙事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-----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引出“永久的悔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三、（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10-11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）思念母亲，扣题、照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永久的悔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voltage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1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文章结构安排有什么特点，这样写有什么好处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24000" y="2707920"/>
            <a:ext cx="854064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全文以“永久的悔”为主线展开。开篇点明“永久的悔”，引出对往事的回忆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----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悔的由来，结尾扣题进一步突出“永久的悔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这样的结构安排，条理清晰，主题突出。感人至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himes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第一部分：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、作者“永久的悔”是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5406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不该离开故乡，离开母亲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24200" y="3146400"/>
            <a:ext cx="31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5280" y="2852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3399"/>
                </a:solidFill>
                <a:latin typeface="Times New Roman"/>
              </a:rPr>
              <a:t>、作者“永久的悔”原因是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11280" y="393372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黑体"/>
              </a:rPr>
              <a:t>母亲没能等到自己大学毕业就离开了人世，后悔“子欲养而亲不待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作者这个“悔”包含了作者怎样复杂的感情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24000" y="2707920"/>
            <a:ext cx="854064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Arial"/>
                <a:ea typeface="黑体"/>
              </a:rPr>
              <a:t>这个“悔”既包含着作者对生身母亲的深切思念，又包含着因无法报答母亲的养育之恩而产生的悔恨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laser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第二部分：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、分层：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① 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3-5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）概述家庭的基本情况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② 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6-8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）详细叙述自己幼年的生活情况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③ 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）具体写“永久的悔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家庭的基本情况有什么特点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穷、苦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请找出描写母亲的有关文字，说出了母亲哪些情况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母亲出身贫寒，不识字，是个普通的农村妇女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9-02-13T10:59:13Z</dcterms:modified>
  <cp:revision>19</cp:revision>
  <dc:subject/>
  <dc:title>PowerPoint Presentation</dc:title>
</cp:coreProperties>
</file>