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drumroll.wav" ContentType="audio/x-wav"/>
  <Override PartName="/ppt/media/image3.jpeg" ContentType="image/jpeg"/>
  <Override PartName="/ppt/media/image4.png" ContentType="image/png"/>
  <Override PartName="/ppt/media/1405.wav" ContentType="audio/x-wav"/>
  <Override PartName="/ppt/media/chimes.wav" ContentType="audio/x-wav"/>
  <Override PartName="/ppt/media/glass.wav" ContentType="audio/x-wav"/>
  <Override PartName="/ppt/media/applause.wav" ContentType="audio/x-wav"/>
  <Override PartName="/ppt/media/image6.jpeg" ContentType="image/jpeg"/>
  <Override PartName="/ppt/media/image7.jpeg" ContentType="image/jpeg"/>
  <Override PartName="/ppt/media/projcto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684-2F10-4CB6-AB34-246FC3CC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2FD-90FB-41F3-9903-BF1B052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C5D-B67A-4742-ADB7-B43026A0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C96-CFCF-4929-ACBD-D75DAFA2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DE3-37CD-449A-B9DA-5389B920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019-60E1-4781-A0CB-433B1B5D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9FB-6197-4CD4-8AB5-EBD9B27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EA8-E637-4102-8838-C11C315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15A-4257-4038-979B-793855B2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D40-21AA-4F4E-83BE-CBF9AC2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11-B2CF-434B-8EFF-81E6881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C0E-6865-446F-B03D-00DCAB7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029-B60D-4FB4-BC29-295A0B9E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1405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1514520" y="1555920"/>
            <a:ext cx="64213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走进悲剧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90720" y="2514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幽径之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66680" y="3429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古藤之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066680" y="4267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棵古藤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21932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棵古藤的悲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343400" y="2895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层层铺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步步蓄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感受悲剧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580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知道悲剧的主角、见证人、制造者分别是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62120" y="3886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看到了什么，听到了什么，想到了什么？找出文中的句子读一读，也可以谈谈你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思考悲剧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8580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现一下你的身边是否也有类似的藤萝被毁灭的悲剧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85800" y="3276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现一下你的身边是否有毁灭美的愚氓，如果有，那么你想对他说些什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47242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了悲剧不再重演，为了人类与自然的和谐，为了一切真、善、美，我们应该怎么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9480" y="25146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以珍爱自然，维护真、善、美为主题写一条广告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applause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1138320" y="1905120"/>
            <a:ext cx="5305320" cy="2759040"/>
          </a:xfrm>
          <a:prstGeom prst="rect">
            <a:avLst/>
          </a:prstGeom>
          <a:ln w="0">
            <a:noFill/>
          </a:ln>
        </p:spPr>
      </p:pic>
      <p:pic>
        <p:nvPicPr>
          <p:cNvPr id="44" name="1405.wav" descr=""/>
          <p:cNvPicPr/>
          <p:nvPr/>
        </p:nvPicPr>
        <p:blipFill>
          <a:blip r:embed="rId3"/>
          <a:stretch/>
        </p:blipFill>
        <p:spPr>
          <a:xfrm>
            <a:off x="7238880" y="5562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14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故事，谈感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19320" y="22860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大利亚网球公开赛的赛场上，激战正酣，突然，一只小鸟飞入了赛场，被球击中落地而亡。年青的网球手立刻停止比赛，跪地捧起小鸟，流着泪为可怜的小生命祷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tl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3520" y="7621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走进作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季羡林"/>
          <p:cNvPicPr/>
          <p:nvPr/>
        </p:nvPicPr>
        <p:blipFill>
          <a:blip r:embed="rId2"/>
          <a:stretch/>
        </p:blipFill>
        <p:spPr>
          <a:xfrm>
            <a:off x="457200" y="1676520"/>
            <a:ext cx="3297240" cy="4419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886200" y="1295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北京大学教授、中国文化书院院务委员会主席、中科院院士、中国语言学家、文学翻译家，梵文、巴利文专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潜心读文，自主学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3520" y="2362320"/>
            <a:ext cx="53337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用你喜欢的 方式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查一查，标出生 字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想一想，本文主要写一个什么悲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53352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挑战自我，展示风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21337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准红色字的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38080" y="297180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蜿蜒   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者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滟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附 浩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劫   惆怅     荆棘      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干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然    愚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氓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摇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曳      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" y="49528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想一想每个部分写什么，试一试给每个部分加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标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认识悲剧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2438280"/>
            <a:ext cx="72388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悲剧就是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美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毁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越是美的事物被毁灭越具悲剧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合作探究，美点寻踪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516400" y="35812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143000" y="4343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33520" y="304812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点阅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，赏析幽径之美，划一划，读一读，品一品描绘幽径之美的精彩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09480" y="44197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点阅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赏析藤萝之美，划一划，读一读，品一品描绘藤萝之美的精彩语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62120" y="2209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幽径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藤萝美 语言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0:52:59Z</dcterms:created>
  <dc:creator/>
  <dc:description>第一PPT模板网-WWW.1PPT.COM
</dc:description>
  <dc:language>en-US</dc:language>
  <cp:lastModifiedBy>Administrator</cp:lastModifiedBy>
  <dcterms:modified xsi:type="dcterms:W3CDTF">2017-07-31T02:22:59Z</dcterms:modified>
  <cp:revision>17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