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gif" ContentType="image/gif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9AD-BFE3-49B9-B098-B33C4C51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AD1-02EE-4236-9108-A30D4F3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B4C-1056-4F1A-9F97-248BAD58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2C8-19EB-4A75-A31A-6B20B023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9E2C-DDDB-4217-86F2-228ACE12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3CD2-9921-4154-B75C-6863212B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64F8-8E47-464D-9C16-6AC7197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88AF-F41B-4569-8E50-CF2F4952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09A7-C84C-4B87-A907-F0B1BA0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991-0912-4037-87B8-9F16ACC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D9F-38C6-4769-BA2D-5FFCEB9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3A6-FF83-4160-974C-4E6AFB4E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3F41-C3E7-4029-B11A-C106042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AB78-4540-4019-BC8A-AD7576B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F4B1-B65B-4A0A-834A-3BD67DC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84E0-607F-4672-9FAE-695EED55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142C-D5F0-408A-9854-D69FE283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B48-03FF-4D6A-8D1F-073DB0F4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909-80CD-45F3-8E36-6DC3FC5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BA7-C416-42F6-8BC1-9F1B6B21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4CA-028F-4A6E-AEAE-775A9D95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8C3-2E7A-447B-9E69-6568F87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057-F423-49A3-829F-BFF6763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206-854C-485B-9956-5574F29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66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E44D-1DD7-4841-A8A7-3C06B5FA6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Oval 9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Oval 12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14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Oval 15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Group 20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Oval 21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Oval 24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Oval 27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Oval 28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Group 29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Oval 30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Oval 31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Group 32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Oval 33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Oval 34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Group 35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Oval 36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Oval 37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Group 38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Oval 39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Oval 40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" name="Group 41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Oval 42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026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Group 1027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Oval 1028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1029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1030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Oval 1031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Oval 1032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1033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Oval 1034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Oval 1035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036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Oval 1037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1038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039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Oval 1040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1041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1042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Oval 1043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Oval 1044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45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Oval 1046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Oval 1047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48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Oval 1049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050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051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Oval 1052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Oval 1053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1054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Oval 1055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1056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1057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Oval 1058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1059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1060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Oval 1061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Oval 1062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41FE-6DB8-4A52-9662-5EFA28CF4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WordArt 1029" descr=""/>
          <p:cNvPicPr/>
          <p:nvPr/>
        </p:nvPicPr>
        <p:blipFill>
          <a:blip r:embed="rId2"/>
          <a:stretch/>
        </p:blipFill>
        <p:spPr>
          <a:xfrm>
            <a:off x="1843200" y="1327320"/>
            <a:ext cx="5234040" cy="17445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030"/>
          <p:cNvSpPr txBox="1"/>
          <p:nvPr/>
        </p:nvSpPr>
        <p:spPr>
          <a:xfrm>
            <a:off x="3697200" y="3716280"/>
            <a:ext cx="1527120" cy="43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季羡林</a:t>
            </a:r>
            <a:endParaRPr b="0" lang="en-US" sz="1200" spc="1" strike="noStrike">
              <a:ln w="9360">
                <a:solidFill>
                  <a:srgbClr val="ffcc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宋体"/>
              </a:rPr>
              <a:t>三星级</a:t>
            </a: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课文最后一段作者说：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但是，我愿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把这个十字架背下去，永远永远地背下去。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你对这句话如何理解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C:\Documents and Settings\Administrator\桌面\徐炘\返回按钮.gif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380880" y="304920"/>
            <a:ext cx="4496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课文朗读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57200" y="2666880"/>
            <a:ext cx="6477120" cy="29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座位上带感情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放声朗读课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并大胆地选择你喜欢的片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大家朗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hwx.mpg" descr=""/>
          <p:cNvPicPr/>
          <p:nvPr/>
        </p:nvPicPr>
        <p:blipFill>
          <a:blip r:embed="rId1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ff"/>
                </a:solidFill>
                <a:latin typeface="Times New Roman"/>
                <a:ea typeface="华文行楷"/>
              </a:rPr>
              <a:t>真情告白</a:t>
            </a:r>
            <a:endParaRPr b="0" lang="en-US" sz="48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4479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对这篇课文的研讨还只是一个开始，你有哪些收获？有哪些困惑？有哪些建议？请你以自己的名义给季羡林爷爷写一封信，不妨与他说说真心话。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C:\Documents and Settings\Administrator\桌面\徐炘\照片.jpg"/>
          <p:cNvPicPr/>
          <p:nvPr/>
        </p:nvPicPr>
        <p:blipFill>
          <a:blip r:embed="rId2"/>
          <a:stretch/>
        </p:blipFill>
        <p:spPr>
          <a:xfrm>
            <a:off x="6629400" y="3581280"/>
            <a:ext cx="2144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4224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1523880" y="228600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敬请指教</a:t>
            </a:r>
            <a:endParaRPr b="0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cc"/>
                </a:solidFill>
                <a:latin typeface="Times New Roman"/>
                <a:ea typeface="华文新魏"/>
              </a:rPr>
              <a:t>幽  径    悲  剧</a:t>
            </a:r>
            <a:endParaRPr b="0" lang="en-US" sz="72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3623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cc00cc"/>
                </a:solidFill>
                <a:latin typeface="宋体"/>
              </a:rPr>
              <a:t>请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阅读文中描写藤萝遭受劫难前后的有关语段，按照你的理解为藤萝画一幅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劫后图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，并配小诗一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（提示：小诗可为仿古诗或现代诗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WordArt 1028"/>
          <p:cNvSpPr txBox="1"/>
          <p:nvPr/>
        </p:nvSpPr>
        <p:spPr>
          <a:xfrm>
            <a:off x="700200" y="692280"/>
            <a:ext cx="777240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8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j-ea"/>
              </a:rPr>
              <a:t>情感画廊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j-ea"/>
              <a:ea typeface="+mj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3" descr="H:\徐炘\藤萝1.jpg"/>
          <p:cNvPicPr/>
          <p:nvPr/>
        </p:nvPicPr>
        <p:blipFill>
          <a:blip r:embed="rId2"/>
          <a:stretch/>
        </p:blipFill>
        <p:spPr>
          <a:xfrm>
            <a:off x="1015920" y="762120"/>
            <a:ext cx="7112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忆往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小园香径独徘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痛今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断根残枝空悲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小组合作，选择以下星级课题中任一题，明确分工后就这一课题进行研讨，并将讨论的结果如实整理成条文的形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1828800" y="1066680"/>
            <a:ext cx="5638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星级沙龙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Picture 7" descr="C:\Documents and Settings\Administrator\桌面\徐炘\星星1.gif"/>
          <p:cNvPicPr/>
          <p:nvPr/>
        </p:nvPicPr>
        <p:blipFill>
          <a:blip r:embed="rId2"/>
          <a:stretch/>
        </p:blipFill>
        <p:spPr>
          <a:xfrm>
            <a:off x="4419720" y="175248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Documents and Settings\Administrator\桌面\徐炘\星星2.gif"/>
          <p:cNvPicPr/>
          <p:nvPr/>
        </p:nvPicPr>
        <p:blipFill>
          <a:blip r:embed="rId3"/>
          <a:stretch/>
        </p:blipFill>
        <p:spPr>
          <a:xfrm>
            <a:off x="7315200" y="17524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Documents and Settings\Administrator\桌面\徐炘\星星3.gif"/>
          <p:cNvPicPr/>
          <p:nvPr/>
        </p:nvPicPr>
        <p:blipFill>
          <a:blip r:embed="rId4"/>
          <a:stretch/>
        </p:blipFill>
        <p:spPr>
          <a:xfrm>
            <a:off x="1143000" y="762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Documents and Settings\Administrator\桌面\徐炘\星星4.gif"/>
          <p:cNvPicPr/>
          <p:nvPr/>
        </p:nvPicPr>
        <p:blipFill>
          <a:blip r:embed="rId5"/>
          <a:stretch/>
        </p:blipFill>
        <p:spPr>
          <a:xfrm>
            <a:off x="152280" y="5486400"/>
            <a:ext cx="525600" cy="42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C:\Documents and Settings\Administrator\桌面\徐炘\星星5.gif"/>
          <p:cNvPicPr/>
          <p:nvPr/>
        </p:nvPicPr>
        <p:blipFill>
          <a:blip r:embed="rId6"/>
          <a:stretch/>
        </p:blipFill>
        <p:spPr>
          <a:xfrm>
            <a:off x="8469360" y="25909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3805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课题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幽径悲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你觉得这个题目好不好？说说你的理由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五单元的主题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人与环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你认为本文被安排在这一单元中恰当吗？把你的看法记录下来，与编写组专家交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课文最后一段作者说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但是，我愿意把这个十字架背下去，永远永远地背下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你对这句话如何理解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C:\Documents and Settings\Administrator\桌面\徐炘\星星.gif"/>
          <p:cNvPicPr/>
          <p:nvPr/>
        </p:nvPicPr>
        <p:blipFill>
          <a:blip r:embed="rId2"/>
          <a:stretch/>
        </p:blipFill>
        <p:spPr>
          <a:xfrm>
            <a:off x="1066680" y="4572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Documents and Settings\Administrator\桌面\徐炘\星星.gif"/>
          <p:cNvPicPr/>
          <p:nvPr/>
        </p:nvPicPr>
        <p:blipFill>
          <a:blip r:embed="rId3"/>
          <a:stretch/>
        </p:blipFill>
        <p:spPr>
          <a:xfrm>
            <a:off x="762120" y="20574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Documents and Settings\Administrator\桌面\徐炘\星星.gif"/>
          <p:cNvPicPr/>
          <p:nvPr/>
        </p:nvPicPr>
        <p:blipFill>
          <a:blip r:embed="rId4"/>
          <a:stretch/>
        </p:blipFill>
        <p:spPr>
          <a:xfrm>
            <a:off x="1523880" y="20574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Documents and Settings\Administrator\桌面\徐炘\星星.gif"/>
          <p:cNvPicPr/>
          <p:nvPr/>
        </p:nvPicPr>
        <p:blipFill>
          <a:blip r:embed="rId5"/>
          <a:stretch/>
        </p:blipFill>
        <p:spPr>
          <a:xfrm>
            <a:off x="609480" y="426708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Documents and Settings\Administrator\桌面\徐炘\星星.gif"/>
          <p:cNvPicPr/>
          <p:nvPr/>
        </p:nvPicPr>
        <p:blipFill>
          <a:blip r:embed="rId6"/>
          <a:stretch/>
        </p:blipFill>
        <p:spPr>
          <a:xfrm>
            <a:off x="1295280" y="426708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Documents and Settings\Administrator\桌面\徐炘\星星.gif"/>
          <p:cNvPicPr/>
          <p:nvPr/>
        </p:nvPicPr>
        <p:blipFill>
          <a:blip r:embed="rId7"/>
          <a:stretch/>
        </p:blipFill>
        <p:spPr>
          <a:xfrm>
            <a:off x="1981080" y="426708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宋体"/>
              </a:rPr>
              <a:t>一星级</a:t>
            </a: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1752120"/>
            <a:ext cx="6019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课题是</a:t>
            </a:r>
            <a:r>
              <a:rPr b="1" lang="zh-CN" sz="3600" spc="-1" strike="noStrike">
                <a:solidFill>
                  <a:srgbClr val="ff99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幽径悲剧</a:t>
            </a:r>
            <a:r>
              <a:rPr b="1" lang="zh-CN" sz="3600" spc="-1" strike="noStrike">
                <a:solidFill>
                  <a:srgbClr val="ff99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你觉得这个题目好不好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说说你的理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C:\Documents and Settings\Administrator\桌面\徐炘\返回按钮.gif"/>
          <p:cNvPicPr/>
          <p:nvPr/>
        </p:nvPicPr>
        <p:blipFill>
          <a:blip r:embed="rId2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宋体"/>
              </a:rPr>
              <a:t>二星级</a:t>
            </a:r>
            <a:r>
              <a:rPr b="0" lang="zh-CN" sz="4400" spc="-1" strike="noStrike">
                <a:solidFill>
                  <a:srgbClr val="00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第五单元的主题是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人与环境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你认为本文被安排在这一单元中恰当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宋体"/>
              </a:rPr>
              <a:t>把你的看法记录下来，与编写组专家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C:\Documents and Settings\Administrator\桌面\徐炘\返回按钮.gif"/>
          <p:cNvPicPr/>
          <p:nvPr/>
        </p:nvPicPr>
        <p:blipFill>
          <a:blip r:embed="rId2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5:22:14Z</dcterms:created>
  <dc:creator/>
  <dc:description>第一PPT模板网-WWW.1PPT.COM
</dc:description>
  <dc:language>en-US</dc:language>
  <cp:lastModifiedBy>Administrator</cp:lastModifiedBy>
  <dcterms:modified xsi:type="dcterms:W3CDTF">2017-07-31T02:28:44Z</dcterms:modified>
  <cp:revision>5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