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3017-EC2C-41E5-90F7-0B1DC6C50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C851-7570-4C20-89D4-B4E9718A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3371-C88C-400E-AD5C-0B488C2DE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58EC-4B3C-4237-9915-9DEC4132F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E4299-9A2F-4EB5-B851-800027580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8753-C4DE-4231-A203-5D9BFA28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53AB8-3188-457F-A11C-8FF0C57F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D1CF-9066-4FAE-B479-A99DC746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AD01-B12D-4369-950A-A8CB10CB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16D2-3441-4505-AB4D-9250629D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EF105-7651-4409-8670-9CC9A15B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EDFB-39AF-467B-9891-869D1129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4455-05D1-433A-80A7-93F961FB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760E-A5B4-417A-AB5E-9930A3CF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9241-DCCE-48C8-9568-0225FE90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9B3F-C338-4A69-84F9-C7B0539BE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9D21-A72F-4301-B8A6-F9E723421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C1378-BCC1-4D07-B38A-1CC1E9968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64AD3-8DC0-4F46-B0C2-430CBAD2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E14C9-F8E1-47AC-8C09-0B590532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0ACF9-A18E-4481-A568-F9667AA1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7D4F6-B1D2-40F6-B067-4DBDC495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E881-CADB-45C5-9F3B-18AF3407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2993F-937F-464A-97BB-B78BDF01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253DC-BCEF-45FD-82CC-F92D5E9E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F276E-F233-43EB-90B4-437D56CA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A2CAD-27E3-4979-8542-F2310447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CF4D0-2429-48EE-8FF7-7C71D72F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7A608-8294-4E94-BEF2-EC8774753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ECAEC-AA3F-4398-8A7D-8737D1A0B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F4B0-FF10-4D23-B3FB-8470024C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D1EB-7550-4934-BCBC-E98064D5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D659-7119-4B75-9937-9DCADC6D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5F0D-A12F-48C6-A974-BDF1D9EA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ADF1-252E-4705-A0BD-6E80C461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7D02-B070-4941-9BEE-BD99A5AE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B099-CBFE-45D5-8558-5F3C859B5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A409-F487-4DD2-98E8-51D4820008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8B68-967B-4C36-A782-9486101507A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0960" y="4869000"/>
            <a:ext cx="8964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 u="sng">
                <a:solidFill>
                  <a:srgbClr val="006600"/>
                </a:solidFill>
                <a:uFillTx/>
                <a:latin typeface="Arial"/>
                <a:ea typeface="华文彩云"/>
              </a:rPr>
              <a:t>幽径悲剧</a:t>
            </a:r>
            <a:r>
              <a:rPr b="0" lang="zh-CN" sz="9600" spc="-1" strike="noStrike">
                <a:solidFill>
                  <a:srgbClr val="006600"/>
                </a:solidFill>
                <a:latin typeface="Arial"/>
                <a:ea typeface="华文彩云"/>
              </a:rPr>
              <a:t>　</a:t>
            </a:r>
            <a:r>
              <a:rPr b="0" lang="zh-CN" sz="4000" spc="-1" strike="noStrike" u="sng">
                <a:solidFill>
                  <a:srgbClr val="006600"/>
                </a:solidFill>
                <a:uFillTx/>
                <a:latin typeface="Arial"/>
                <a:ea typeface="华文彩云"/>
              </a:rPr>
              <a:t>季羡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纯洁的心"/>
          <p:cNvPicPr/>
          <p:nvPr/>
        </p:nvPicPr>
        <p:blipFill>
          <a:blip r:embed="rId1"/>
          <a:stretch/>
        </p:blipFill>
        <p:spPr>
          <a:xfrm>
            <a:off x="0" y="0"/>
            <a:ext cx="9144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美的毁灭产生了悲剧，美被毁灭的原因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愚昧！无知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创造美好世界的人们与制造悲剧的人们最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区别在哪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WordArt 4"/>
          <p:cNvSpPr txBox="1"/>
          <p:nvPr/>
        </p:nvSpPr>
        <p:spPr>
          <a:xfrm>
            <a:off x="1763640" y="404640"/>
            <a:ext cx="55436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讨论探究　揭示主旨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212" name="WordArt 6" descr=""/>
          <p:cNvPicPr/>
          <p:nvPr/>
        </p:nvPicPr>
        <p:blipFill>
          <a:blip r:embed="rId2"/>
          <a:stretch/>
        </p:blipFill>
        <p:spPr>
          <a:xfrm>
            <a:off x="243000" y="4429080"/>
            <a:ext cx="872964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" descr="Untitled-1"/>
          <p:cNvPicPr/>
          <p:nvPr/>
        </p:nvPicPr>
        <p:blipFill>
          <a:blip r:embed="rId1"/>
          <a:stretch/>
        </p:blipFill>
        <p:spPr>
          <a:xfrm>
            <a:off x="276120" y="345960"/>
            <a:ext cx="2351160" cy="29386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Ap004"/>
          <p:cNvPicPr/>
          <p:nvPr/>
        </p:nvPicPr>
        <p:blipFill>
          <a:blip r:embed="rId2"/>
          <a:stretch/>
        </p:blipFill>
        <p:spPr>
          <a:xfrm>
            <a:off x="5292720" y="836640"/>
            <a:ext cx="3851280" cy="50436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15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新魏"/>
              </a:rPr>
              <a:t>语文活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755640" y="1557360"/>
            <a:ext cx="532908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　　在你的周围是否也有类似本文所揭示的现象或问题。请谈谈感受，并提出你的想法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教师寄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56636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智慧的人们创造出美好的世界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愚昧的人们制造着一幕幕悲剧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珍爱环境，善待自然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共同生存，共同发展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让悲剧不要在我们手中重现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BJ_049"/>
          <p:cNvPicPr/>
          <p:nvPr/>
        </p:nvPicPr>
        <p:blipFill>
          <a:blip r:embed="rId1"/>
          <a:stretch/>
        </p:blipFill>
        <p:spPr>
          <a:xfrm>
            <a:off x="0" y="0"/>
            <a:ext cx="10333080" cy="68882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作业布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435640" y="141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请根据藤萝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藏羚羊、被砍伐的大树、被污染的河流中的小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……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遭遇，以它们为第一人称改编出一部童话小品并组织同学们表演出来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4"/>
          <p:cNvSpPr txBox="1"/>
          <p:nvPr/>
        </p:nvSpPr>
        <p:spPr>
          <a:xfrm>
            <a:off x="0" y="2565360"/>
            <a:ext cx="8820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1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“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悲剧”就是美的毁灭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143" name="Oval 6"/>
          <p:cNvSpPr/>
          <p:nvPr/>
        </p:nvSpPr>
        <p:spPr>
          <a:xfrm>
            <a:off x="5076720" y="2565360"/>
            <a:ext cx="1008000" cy="1800360"/>
          </a:xfrm>
          <a:prstGeom prst="ellips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0" y="4460760"/>
            <a:ext cx="903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越美的东西被毁灭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悲剧性就越强烈。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539640" y="692280"/>
            <a:ext cx="66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认识悲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0"/>
          <p:cNvSpPr/>
          <p:nvPr/>
        </p:nvSpPr>
        <p:spPr>
          <a:xfrm>
            <a:off x="6948360" y="2349360"/>
            <a:ext cx="1871640" cy="2016360"/>
          </a:xfrm>
          <a:prstGeom prst="ellips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季羡林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8" name="Picture 5" descr="季羡林"/>
          <p:cNvPicPr/>
          <p:nvPr/>
        </p:nvPicPr>
        <p:blipFill>
          <a:blip r:embed="rId1"/>
          <a:stretch/>
        </p:blipFill>
        <p:spPr>
          <a:xfrm>
            <a:off x="5796000" y="981000"/>
            <a:ext cx="2900160" cy="43927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611280" y="31788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　　北京大学教授、中国文化书院院务委员会主席、中科院院士、中国语言学家、文学翻译家，梵文、巴利文专家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50000">
              <a:srgbClr val="bbe0e3"/>
            </a:gs>
            <a:gs pos="100000">
              <a:srgbClr val="e6dca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4"/>
          <p:cNvSpPr txBox="1"/>
          <p:nvPr/>
        </p:nvSpPr>
        <p:spPr>
          <a:xfrm>
            <a:off x="1619280" y="836640"/>
            <a:ext cx="5977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3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初读课文　整体感知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468360" y="3663360"/>
            <a:ext cx="820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　悲剧的发生是从文章的什么地方正式开始的？本文共三部分内容，请根据内容划分文章的段落。并理清作者的感情变化线索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6"/>
          <p:cNvSpPr/>
          <p:nvPr/>
        </p:nvSpPr>
        <p:spPr>
          <a:xfrm>
            <a:off x="2195640" y="3789360"/>
            <a:ext cx="158436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4211640" y="5229360"/>
            <a:ext cx="43210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8"/>
          <p:cNvSpPr/>
          <p:nvPr/>
        </p:nvSpPr>
        <p:spPr>
          <a:xfrm>
            <a:off x="611280" y="5950080"/>
            <a:ext cx="23050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7640" y="148428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一部分：幽径美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二部分：藤萝之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三部分：藤萝悲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36360" y="198900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-36360" y="34290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2"/>
          <p:cNvSpPr/>
          <p:nvPr/>
        </p:nvSpPr>
        <p:spPr>
          <a:xfrm>
            <a:off x="-95400" y="4797360"/>
            <a:ext cx="358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3"/>
          <p:cNvSpPr/>
          <p:nvPr/>
        </p:nvSpPr>
        <p:spPr>
          <a:xfrm>
            <a:off x="7270920" y="0"/>
            <a:ext cx="1549080" cy="1484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4"/>
          <p:cNvSpPr/>
          <p:nvPr/>
        </p:nvSpPr>
        <p:spPr>
          <a:xfrm>
            <a:off x="7270920" y="0"/>
            <a:ext cx="1549080" cy="1484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25"/>
          <p:cNvSpPr/>
          <p:nvPr/>
        </p:nvSpPr>
        <p:spPr>
          <a:xfrm>
            <a:off x="5364000" y="1052640"/>
            <a:ext cx="1079640" cy="115236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26"/>
          <p:cNvSpPr/>
          <p:nvPr/>
        </p:nvSpPr>
        <p:spPr>
          <a:xfrm>
            <a:off x="5364000" y="2637000"/>
            <a:ext cx="1079640" cy="115236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27"/>
          <p:cNvSpPr/>
          <p:nvPr/>
        </p:nvSpPr>
        <p:spPr>
          <a:xfrm>
            <a:off x="5364000" y="4365720"/>
            <a:ext cx="1079640" cy="1152360"/>
          </a:xfrm>
          <a:prstGeom prst="smileyFace">
            <a:avLst>
              <a:gd name="adj" fmla="val -4652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4"/>
          <p:cNvSpPr/>
          <p:nvPr/>
        </p:nvSpPr>
        <p:spPr>
          <a:xfrm>
            <a:off x="6659640" y="1335240"/>
            <a:ext cx="79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情感变化线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0" dur="120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19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重点字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25092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wān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蜒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yán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qī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qīng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liàn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yàn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pān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f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hào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jié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zhū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fá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hóu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hàng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jīng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j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qiú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gàn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yáo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yè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sǒng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rán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yú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méng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4"/>
          <p:cNvSpPr txBox="1"/>
          <p:nvPr/>
        </p:nvSpPr>
        <p:spPr>
          <a:xfrm>
            <a:off x="1835280" y="1557360"/>
            <a:ext cx="5543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细读课文　分组作答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1042920" y="3670560"/>
            <a:ext cx="705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按小组分工，细读相应段落，先划出描写美的语段和悲的语段，再小组讨论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Untitled-1"/>
          <p:cNvPicPr/>
          <p:nvPr/>
        </p:nvPicPr>
        <p:blipFill>
          <a:blip r:embed="rId1"/>
          <a:stretch/>
        </p:blipFill>
        <p:spPr>
          <a:xfrm>
            <a:off x="0" y="0"/>
            <a:ext cx="9144000" cy="1452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top1"/>
          <p:cNvPicPr/>
          <p:nvPr/>
        </p:nvPicPr>
        <p:blipFill>
          <a:blip r:embed="rId2"/>
          <a:stretch/>
        </p:blipFill>
        <p:spPr>
          <a:xfrm>
            <a:off x="0" y="5484960"/>
            <a:ext cx="914400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5"/>
          <p:cNvSpPr/>
          <p:nvPr/>
        </p:nvSpPr>
        <p:spPr>
          <a:xfrm>
            <a:off x="324000" y="1995480"/>
            <a:ext cx="718920" cy="28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Times New Roman"/>
              </a:rPr>
              <a:t>幽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Times New Roman"/>
              </a:rPr>
              <a:t>径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Times New Roman"/>
              </a:rPr>
              <a:t>悲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Times New Roman"/>
              </a:rPr>
              <a:t>剧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26"/>
          <p:cNvSpPr/>
          <p:nvPr/>
        </p:nvSpPr>
        <p:spPr>
          <a:xfrm>
            <a:off x="900000" y="1125360"/>
            <a:ext cx="576360" cy="4032360"/>
          </a:xfrm>
          <a:custGeom>
            <a:avLst/>
            <a:gdLst>
              <a:gd name="textAreaLeft" fmla="*/ 368280 w 576360"/>
              <a:gd name="textAreaRight" fmla="*/ 576720 w 576360"/>
              <a:gd name="textAreaTop" fmla="*/ 104760 h 4032360"/>
              <a:gd name="textAreaBottom" fmla="*/ 3927600 h 403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0"/>
          <p:cNvSpPr/>
          <p:nvPr/>
        </p:nvSpPr>
        <p:spPr>
          <a:xfrm>
            <a:off x="2411280" y="620640"/>
            <a:ext cx="144720" cy="792360"/>
          </a:xfrm>
          <a:custGeom>
            <a:avLst/>
            <a:gdLst>
              <a:gd name="textAreaLeft" fmla="*/ 42480 w 144720"/>
              <a:gd name="textAreaRight" fmla="*/ 145080 w 144720"/>
              <a:gd name="textAreaTop" fmla="*/ 62640 h 792360"/>
              <a:gd name="textAreaBottom" fmla="*/ 72972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713"/>
                  <a:pt x="0" y="3426"/>
                </a:cubicBezTo>
                <a:lnTo>
                  <a:pt x="0" y="18174"/>
                </a:lnTo>
                <a:cubicBezTo>
                  <a:pt x="0" y="19887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1"/>
          <p:cNvSpPr/>
          <p:nvPr/>
        </p:nvSpPr>
        <p:spPr>
          <a:xfrm>
            <a:off x="2473200" y="547560"/>
            <a:ext cx="18828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-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2"/>
          <p:cNvSpPr/>
          <p:nvPr/>
        </p:nvSpPr>
        <p:spPr>
          <a:xfrm>
            <a:off x="2484360" y="1052640"/>
            <a:ext cx="165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-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3"/>
          <p:cNvSpPr/>
          <p:nvPr/>
        </p:nvSpPr>
        <p:spPr>
          <a:xfrm>
            <a:off x="3817800" y="1935000"/>
            <a:ext cx="114480" cy="892440"/>
          </a:xfrm>
          <a:custGeom>
            <a:avLst/>
            <a:gdLst>
              <a:gd name="textAreaLeft" fmla="*/ 33480 w 114480"/>
              <a:gd name="textAreaRight" fmla="*/ 114840 w 114480"/>
              <a:gd name="textAreaTop" fmla="*/ 37080 h 892440"/>
              <a:gd name="textAreaBottom" fmla="*/ 855360 h 892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4"/>
          <p:cNvSpPr/>
          <p:nvPr/>
        </p:nvSpPr>
        <p:spPr>
          <a:xfrm>
            <a:off x="2844720" y="1773360"/>
            <a:ext cx="863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形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5"/>
          <p:cNvSpPr/>
          <p:nvPr/>
        </p:nvSpPr>
        <p:spPr>
          <a:xfrm>
            <a:off x="2843280" y="3500280"/>
            <a:ext cx="93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6"/>
          <p:cNvSpPr/>
          <p:nvPr/>
        </p:nvSpPr>
        <p:spPr>
          <a:xfrm>
            <a:off x="2843280" y="2349360"/>
            <a:ext cx="720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色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7"/>
          <p:cNvSpPr/>
          <p:nvPr/>
        </p:nvSpPr>
        <p:spPr>
          <a:xfrm>
            <a:off x="2843280" y="2924280"/>
            <a:ext cx="936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38"/>
          <p:cNvSpPr/>
          <p:nvPr/>
        </p:nvSpPr>
        <p:spPr>
          <a:xfrm>
            <a:off x="2484360" y="1917720"/>
            <a:ext cx="216000" cy="2016000"/>
          </a:xfrm>
          <a:custGeom>
            <a:avLst/>
            <a:gdLst>
              <a:gd name="textAreaLeft" fmla="*/ 63360 w 216000"/>
              <a:gd name="textAreaRight" fmla="*/ 216360 w 216000"/>
              <a:gd name="textAreaTop" fmla="*/ 159840 h 2016000"/>
              <a:gd name="textAreaBottom" fmla="*/ 185616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713"/>
                  <a:pt x="0" y="3426"/>
                </a:cubicBezTo>
                <a:lnTo>
                  <a:pt x="0" y="18174"/>
                </a:lnTo>
                <a:cubicBezTo>
                  <a:pt x="0" y="19887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9"/>
          <p:cNvSpPr/>
          <p:nvPr/>
        </p:nvSpPr>
        <p:spPr>
          <a:xfrm>
            <a:off x="7380360" y="620640"/>
            <a:ext cx="3603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　悲　剧　蓄　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40"/>
          <p:cNvSpPr/>
          <p:nvPr/>
        </p:nvSpPr>
        <p:spPr>
          <a:xfrm>
            <a:off x="6877080" y="693720"/>
            <a:ext cx="360360" cy="3240000"/>
          </a:xfrm>
          <a:custGeom>
            <a:avLst/>
            <a:gdLst>
              <a:gd name="textAreaLeft" fmla="*/ 0 w 360360"/>
              <a:gd name="textAreaRight" fmla="*/ 129960 w 36036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2"/>
          <p:cNvSpPr/>
          <p:nvPr/>
        </p:nvSpPr>
        <p:spPr>
          <a:xfrm>
            <a:off x="2843280" y="4267080"/>
            <a:ext cx="7920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形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3"/>
          <p:cNvSpPr/>
          <p:nvPr/>
        </p:nvSpPr>
        <p:spPr>
          <a:xfrm>
            <a:off x="2843280" y="4797360"/>
            <a:ext cx="720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4"/>
          <p:cNvSpPr/>
          <p:nvPr/>
        </p:nvSpPr>
        <p:spPr>
          <a:xfrm>
            <a:off x="2843280" y="5373720"/>
            <a:ext cx="208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情：（花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5"/>
          <p:cNvSpPr/>
          <p:nvPr/>
        </p:nvSpPr>
        <p:spPr>
          <a:xfrm>
            <a:off x="2843280" y="5950080"/>
            <a:ext cx="216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情：（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46"/>
          <p:cNvSpPr/>
          <p:nvPr/>
        </p:nvSpPr>
        <p:spPr>
          <a:xfrm>
            <a:off x="7956720" y="4365720"/>
            <a:ext cx="287280" cy="1944720"/>
          </a:xfrm>
          <a:custGeom>
            <a:avLst/>
            <a:gdLst>
              <a:gd name="textAreaLeft" fmla="*/ 0 w 287280"/>
              <a:gd name="textAreaRight" fmla="*/ 103680 w 28728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47"/>
          <p:cNvSpPr/>
          <p:nvPr/>
        </p:nvSpPr>
        <p:spPr>
          <a:xfrm>
            <a:off x="2484360" y="4365720"/>
            <a:ext cx="216000" cy="2016000"/>
          </a:xfrm>
          <a:custGeom>
            <a:avLst/>
            <a:gdLst>
              <a:gd name="textAreaLeft" fmla="*/ 63360 w 216000"/>
              <a:gd name="textAreaRight" fmla="*/ 216360 w 216000"/>
              <a:gd name="textAreaTop" fmla="*/ 159840 h 2016000"/>
              <a:gd name="textAreaBottom" fmla="*/ 185616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713"/>
                  <a:pt x="0" y="3426"/>
                </a:cubicBezTo>
                <a:lnTo>
                  <a:pt x="0" y="18174"/>
                </a:lnTo>
                <a:cubicBezTo>
                  <a:pt x="0" y="19887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8"/>
          <p:cNvSpPr/>
          <p:nvPr/>
        </p:nvSpPr>
        <p:spPr>
          <a:xfrm>
            <a:off x="8388360" y="4481640"/>
            <a:ext cx="372960" cy="16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摧人泪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0"/>
          <p:cNvSpPr/>
          <p:nvPr/>
        </p:nvSpPr>
        <p:spPr>
          <a:xfrm>
            <a:off x="4332960" y="4762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幽径不可等闲视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2"/>
          <p:cNvSpPr/>
          <p:nvPr/>
        </p:nvSpPr>
        <p:spPr>
          <a:xfrm>
            <a:off x="4290480" y="10526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幽径的四季之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4"/>
          <p:cNvSpPr/>
          <p:nvPr/>
        </p:nvSpPr>
        <p:spPr>
          <a:xfrm>
            <a:off x="3635280" y="17575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盘曲而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6"/>
          <p:cNvSpPr/>
          <p:nvPr/>
        </p:nvSpPr>
        <p:spPr>
          <a:xfrm>
            <a:off x="4545000" y="233352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万绿丛中一点红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8"/>
          <p:cNvSpPr/>
          <p:nvPr/>
        </p:nvSpPr>
        <p:spPr>
          <a:xfrm>
            <a:off x="4026960" y="2909880"/>
            <a:ext cx="22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袭入耳内”的蜜蜂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60"/>
          <p:cNvSpPr/>
          <p:nvPr/>
        </p:nvSpPr>
        <p:spPr>
          <a:xfrm>
            <a:off x="3907080" y="3486240"/>
            <a:ext cx="18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蓦地”扑鼻之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2"/>
          <p:cNvSpPr/>
          <p:nvPr/>
        </p:nvSpPr>
        <p:spPr>
          <a:xfrm>
            <a:off x="5250960" y="420516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花朵－－孤儿、吊死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64"/>
          <p:cNvSpPr/>
          <p:nvPr/>
        </p:nvSpPr>
        <p:spPr>
          <a:xfrm>
            <a:off x="4837680" y="479736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哭泣、哭泣、哭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66"/>
          <p:cNvSpPr/>
          <p:nvPr/>
        </p:nvSpPr>
        <p:spPr>
          <a:xfrm>
            <a:off x="6085080" y="537372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万分委屈、投诉无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8"/>
          <p:cNvSpPr/>
          <p:nvPr/>
        </p:nvSpPr>
        <p:spPr>
          <a:xfrm>
            <a:off x="6099480" y="595008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极度痛苦、悲哀至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0"/>
          <p:cNvSpPr/>
          <p:nvPr/>
        </p:nvSpPr>
        <p:spPr>
          <a:xfrm>
            <a:off x="1476360" y="620640"/>
            <a:ext cx="172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幽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美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2"/>
          <p:cNvSpPr/>
          <p:nvPr/>
        </p:nvSpPr>
        <p:spPr>
          <a:xfrm>
            <a:off x="1403280" y="2565360"/>
            <a:ext cx="113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藤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之美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4"/>
          <p:cNvSpPr/>
          <p:nvPr/>
        </p:nvSpPr>
        <p:spPr>
          <a:xfrm>
            <a:off x="1476360" y="4941720"/>
            <a:ext cx="120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藤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悲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76"/>
          <p:cNvSpPr/>
          <p:nvPr/>
        </p:nvSpPr>
        <p:spPr>
          <a:xfrm>
            <a:off x="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21188" y="10800"/>
                </a:moveTo>
                <a:lnTo>
                  <a:pt x="10682" y="17806"/>
                </a:lnTo>
                <a:lnTo>
                  <a:pt x="10682" y="3794"/>
                </a:lnTo>
                <a:close/>
              </a:path>
              <a:path fill="darken" w="35378" h="21600">
                <a:moveTo>
                  <a:pt x="23033" y="3794"/>
                </a:moveTo>
                <a:lnTo>
                  <a:pt x="23033" y="17806"/>
                </a:lnTo>
                <a:lnTo>
                  <a:pt x="24695" y="17806"/>
                </a:lnTo>
                <a:lnTo>
                  <a:pt x="24695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4"/>
          <p:cNvSpPr/>
          <p:nvPr/>
        </p:nvSpPr>
        <p:spPr>
          <a:xfrm>
            <a:off x="684360" y="2492280"/>
            <a:ext cx="784836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684360" y="2492280"/>
            <a:ext cx="7848360" cy="1081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1619280" y="981000"/>
            <a:ext cx="51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与时间赛跑</a:t>
            </a:r>
            <a:r>
              <a:rPr b="1" i="1" lang="zh-CN" sz="54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1619280" y="4292640"/>
            <a:ext cx="51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团结就是力量</a:t>
            </a:r>
            <a:r>
              <a:rPr b="1" i="1" lang="zh-CN" sz="54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7667640" y="6093000"/>
            <a:ext cx="936720" cy="504720"/>
          </a:xfrm>
          <a:custGeom>
            <a:avLst/>
            <a:gdLst>
              <a:gd name="textAreaLeft" fmla="*/ 32400 w 936720"/>
              <a:gd name="textAreaRight" fmla="*/ 904320 w 936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0075" h="21600">
                <a:moveTo>
                  <a:pt x="0" y="0"/>
                </a:moveTo>
                <a:lnTo>
                  <a:pt x="40075" y="0"/>
                </a:lnTo>
                <a:lnTo>
                  <a:pt x="40075" y="21600"/>
                </a:lnTo>
                <a:lnTo>
                  <a:pt x="0" y="21600"/>
                </a:lnTo>
                <a:close/>
              </a:path>
              <a:path fill="lightenLess" w="40075" h="21600">
                <a:moveTo>
                  <a:pt x="0" y="0"/>
                </a:moveTo>
                <a:lnTo>
                  <a:pt x="40075" y="0"/>
                </a:lnTo>
                <a:lnTo>
                  <a:pt x="38675" y="1400"/>
                </a:lnTo>
                <a:lnTo>
                  <a:pt x="1400" y="1400"/>
                </a:lnTo>
                <a:close/>
              </a:path>
              <a:path fill="darken" w="40075" h="21600">
                <a:moveTo>
                  <a:pt x="40075" y="0"/>
                </a:moveTo>
                <a:lnTo>
                  <a:pt x="40075" y="21600"/>
                </a:lnTo>
                <a:lnTo>
                  <a:pt x="38675" y="20200"/>
                </a:lnTo>
                <a:lnTo>
                  <a:pt x="38675" y="1400"/>
                </a:lnTo>
                <a:close/>
              </a:path>
              <a:path fill="darkenLess" w="40075" h="21600">
                <a:moveTo>
                  <a:pt x="40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75" y="20200"/>
                </a:lnTo>
                <a:close/>
              </a:path>
              <a:path fill="lighten" w="40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75" h="21600">
                <a:moveTo>
                  <a:pt x="16538" y="10800"/>
                </a:moveTo>
                <a:lnTo>
                  <a:pt x="27044" y="3794"/>
                </a:lnTo>
                <a:lnTo>
                  <a:pt x="27044" y="17806"/>
                </a:lnTo>
                <a:close/>
              </a:path>
              <a:path fill="darken" w="40075" h="21600">
                <a:moveTo>
                  <a:pt x="13031" y="3794"/>
                </a:moveTo>
                <a:lnTo>
                  <a:pt x="14693" y="3794"/>
                </a:lnTo>
                <a:lnTo>
                  <a:pt x="14693" y="17806"/>
                </a:lnTo>
                <a:lnTo>
                  <a:pt x="130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80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79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5:58:25Z</dcterms:created>
  <dc:creator/>
  <dc:description>第一PPT模板网-WWW.1PPT.COM
</dc:description>
  <dc:language>en-US</dc:language>
  <cp:lastModifiedBy>Administrator</cp:lastModifiedBy>
  <dcterms:modified xsi:type="dcterms:W3CDTF">2017-07-31T02:26:29Z</dcterms:modified>
  <cp:revision>24</cp:revision>
  <dc:subject>第一PPT模板网-WWW.1PPT.COM</dc:subject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