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3.gif" ContentType="image/gif"/>
  <Override PartName="/ppt/media/chimes.wav" ContentType="audio/x-wav"/>
  <Override PartName="/ppt/media/image11.jpeg" ContentType="image/jpeg"/>
  <Override PartName="/ppt/media/image5.jpeg" ContentType="image/jpeg"/>
  <Override PartName="/ppt/media/image6.wmf" ContentType="image/x-wmf"/>
  <Override PartName="/ppt/media/image7.png" ContentType="image/png"/>
  <Override PartName="/ppt/media/image10.jpeg" ContentType="image/jpeg"/>
  <Override PartName="/ppt/media/image8.jpeg" ContentType="image/jpeg"/>
  <Override PartName="/ppt/media/image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B32D-F1FB-4529-AD54-3242391B8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00F0-B5E8-441D-B622-8B94295C9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515A-D6AB-44CD-BDC5-A4F9FA208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5E4A-EC5D-48DA-B61A-AF4D9864D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18E35-F3CE-48F5-A9D6-B52A5FEE8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EA5CB-90E1-47C8-AE47-F671BDCD0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F0FA7-67E0-4CD0-80A6-84C3C33AC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03808-ED4D-4AD2-A2E0-547C089D4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CCCF3-E38F-4679-AB5F-10637AAE2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EADF2-779D-4634-9360-B78A6F61F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AAEB1-FBAF-4CA0-873C-D3E9074E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8F45-C1C0-4D96-A0E4-E2392D303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0C296-115C-4D95-B40E-23A9C9D4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F0590-3AEB-4042-8255-C749120E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A9540-AB9D-4E91-84F6-7043A1EAB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FAFEA-1C69-49DE-99E3-3127067D3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5EE30-1963-495E-B4E3-48F4AF896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196E4-9D28-418B-BE96-489458C7F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5130C-ED0E-40AD-9E44-2177DCC1C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CBD0C-5402-4DE0-A9F0-4FBDA5211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EE7DC-88FB-4683-89F2-45BC63B5D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78DB7-8024-45FA-8F96-62BDCC732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E674-D963-4B73-ABCE-4B217AB71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8E21E-C152-4939-8592-B3690384A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60B0E-CB45-492E-AC39-5D5B7580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68193-EAF5-45FC-A31C-29B2E467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13E4B-0FE2-4008-8BDC-33EA9DD2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6EC6F-36F7-4BE9-8E1D-0AA750464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EB669-C4F7-43B0-A4DF-6B1E9B81E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B42BE-0544-4E2F-8BCB-48284D962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77E1-EBCF-4061-8DAD-9981DC69D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C941-CF4C-4C7C-A3E1-207F72B8B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AECD-4028-4E75-959E-7E3466D42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4B92-55EF-473D-B396-849D6C3A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B1A4-0337-4D18-97F9-BFE3F4CD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8B0B-3BCF-4BDD-A263-07F358BB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2A7AA-93E2-44EE-9DFD-19148C75971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558F3-0699-44D5-8171-E97F695185E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B3828-7801-43BE-BBAD-6E0AA34AFB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tmp/home/.config/libreoffice/4/user/gallery/30-5&#28180;&#23478;&#20658;.wav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19320" y="609480"/>
            <a:ext cx="4952880" cy="1909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181480" y="228600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范仲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76320" y="-152280"/>
            <a:ext cx="510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变型默写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60948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1.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点明地域和季节的句子是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" y="12636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塞下秋来风景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-152280" y="1905120"/>
            <a:ext cx="954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2.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写边地天气渐寒，北雁南飞的句子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0880" y="27432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衡阳雁去无留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-76320" y="3430440"/>
            <a:ext cx="97617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3.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边地战事吃紧，戒备森然的句子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（由视觉的景物描写勾勒出边塞的悲凉的句子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8360" y="5516640"/>
            <a:ext cx="7924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嶂里，长烟落日孤城闭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152280"/>
            <a:ext cx="891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4.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表现战士们思念家乡又渴望建功立业的矛盾心情的句子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9280" y="155736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浊酒一杯家万里，燕然未勒归无计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320" y="259092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5.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夜寒霜重，笛声凄然的句子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24000" y="3357720"/>
            <a:ext cx="69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羌管悠悠霜满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320" y="4114800"/>
            <a:ext cx="8915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6.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以互文的形式写出将士有家难回，功业难成，哀伤流泪的句子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2280" y="5791320"/>
            <a:ext cx="7391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不寐，将军白发征夫泪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2514600" y="380880"/>
            <a:ext cx="3581280" cy="250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词的常识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231" name=""/>
          <p:cNvSpPr/>
          <p:nvPr/>
        </p:nvSpPr>
        <p:spPr>
          <a:xfrm>
            <a:off x="-5896080" y="3733920"/>
            <a:ext cx="141336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两大流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和乐演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词的结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词牌点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819520" y="2895480"/>
            <a:ext cx="1752480" cy="914400"/>
          </a:xfrm>
          <a:custGeom>
            <a:avLst/>
            <a:gdLst>
              <a:gd name="textAreaLeft" fmla="*/ 218880 w 1752480"/>
              <a:gd name="textAreaRight" fmla="*/ 1533600 w 175248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724280" y="1905120"/>
            <a:ext cx="312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婉约派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133720"/>
            <a:ext cx="2133360" cy="28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两大流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35" name=""/>
          <p:cNvSpPr/>
          <p:nvPr/>
        </p:nvSpPr>
        <p:spPr>
          <a:xfrm>
            <a:off x="4876920" y="3809880"/>
            <a:ext cx="274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豪放派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2438280"/>
            <a:ext cx="304920" cy="1828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500"/>
                            </p:stCondLst>
                            <p:childTnLst>
                              <p:par>
                                <p:cTn id="26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52280" y="291960"/>
            <a:ext cx="8839440" cy="19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婉约派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我国古代词人，大致可分为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“婉约词派”“豪放词派”</a:t>
            </a: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两大派。因明人张延有“少游多婉约，子瞻多豪放”之说而得名。婉约派以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柳永、李清照</a:t>
            </a: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为代表，形成“词人之词”之正宗。风格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委婉、绮丽。</a:t>
            </a: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此派对词坛影响很大，在词的发展史上占有重要地位。</a:t>
            </a: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914400" y="1403280"/>
            <a:ext cx="733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婉约派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内容上以情感为题材；语言清新、含蓄，情思曲折而真切；风格委婉，绮丽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代表人物：李清照、温庭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14400" y="3276720"/>
            <a:ext cx="7331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豪放派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内容上多以抒发强烈的政治热情，豪爽的英雄本色；语言畅达流利，直抒胸臆；风格豪迈奔放，意境雄奇阔大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由北宋词人苏轼开创，经南宋词人辛弃疾发展而推向高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80880" y="0"/>
            <a:ext cx="853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_x000b__x000c_"/>
                <a:ea typeface="楷体_GB2312"/>
              </a:rPr>
              <a:t>豪放派</a:t>
            </a:r>
            <a:br>
              <a:rPr sz="3600"/>
            </a:br>
            <a:r>
              <a:rPr b="1" lang="zh-CN" sz="3600" spc="-1" strike="noStrike">
                <a:solidFill>
                  <a:srgbClr val="000066"/>
                </a:solidFill>
                <a:latin typeface="_x000b__x000c_"/>
                <a:ea typeface="楷体_GB2312"/>
              </a:rPr>
              <a:t>     宋词风格流派之一。北宋诗文革新派作家如欧阳修、王安石、苏轼、苏辙都曾用 “豪放”一词衡文评诗。第一个用“豪放”评词的是苏轼（《答陈季常书》），他还开始写作打破传统词风的词，如〔念奴娇〕《赤壁怀古》等，颇引人注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533520" y="1066680"/>
            <a:ext cx="80769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_x000b__x000c_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66"/>
                </a:solidFill>
                <a:latin typeface="_x000b__x000c_"/>
                <a:ea typeface="楷体_GB2312"/>
              </a:rPr>
              <a:t>据南宋俞文豹《吹剑续录》载：“东坡在玉堂，有幕士善讴，因问：‘我词比柳词何如？’对曰：</a:t>
            </a:r>
            <a:r>
              <a:rPr b="1" lang="zh-CN" sz="4000" spc="-1" strike="noStrike">
                <a:solidFill>
                  <a:srgbClr val="333399"/>
                </a:solidFill>
                <a:latin typeface="_x000b__x000c_"/>
                <a:ea typeface="楷体_GB2312"/>
              </a:rPr>
              <a:t>‘柳郎中词，只合十七八女孩儿执红牙拍板，唱杨柳岸晓风残月。学士词，须关西大汉</a:t>
            </a:r>
            <a:r>
              <a:rPr b="1" lang="zh-CN" sz="4000" spc="-1" strike="noStrike">
                <a:solidFill>
                  <a:srgbClr val="333399"/>
                </a:solidFill>
                <a:latin typeface="_x000b__x000c_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333399"/>
                </a:solidFill>
                <a:latin typeface="_x000b__x000c_"/>
                <a:ea typeface="楷体_GB2312"/>
              </a:rPr>
              <a:t>执铁板</a:t>
            </a:r>
            <a:r>
              <a:rPr b="1" lang="zh-CN" sz="4000" spc="-1" strike="noStrike">
                <a:solidFill>
                  <a:srgbClr val="333399"/>
                </a:solidFill>
                <a:latin typeface="_x000b__x000c_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333399"/>
                </a:solidFill>
                <a:latin typeface="_x000b__x000c_"/>
                <a:ea typeface="楷体_GB2312"/>
              </a:rPr>
              <a:t>唱大江东去。’</a:t>
            </a:r>
            <a:r>
              <a:rPr b="1" lang="zh-CN" sz="3600" spc="-1" strike="noStrike">
                <a:solidFill>
                  <a:srgbClr val="000066"/>
                </a:solidFill>
                <a:latin typeface="_x000b__x000c_"/>
                <a:ea typeface="楷体_GB2312"/>
              </a:rPr>
              <a:t>公为之绝倒。”这则故事，表明两种不同词风的对比，隐然把苏词看成可与柳词相抗衡的另一流派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685800" y="2438280"/>
            <a:ext cx="2666880" cy="182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词的结构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244" name=""/>
          <p:cNvSpPr/>
          <p:nvPr/>
        </p:nvSpPr>
        <p:spPr>
          <a:xfrm>
            <a:off x="3733920" y="1752480"/>
            <a:ext cx="228600" cy="3276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0080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191120" y="1371600"/>
            <a:ext cx="19047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单调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343400" y="4343400"/>
            <a:ext cx="1676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双调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247" name=""/>
          <p:cNvSpPr/>
          <p:nvPr/>
        </p:nvSpPr>
        <p:spPr>
          <a:xfrm>
            <a:off x="6248520" y="3581280"/>
            <a:ext cx="152280" cy="2514600"/>
          </a:xfrm>
          <a:custGeom>
            <a:avLst/>
            <a:gdLst>
              <a:gd name="textAreaLeft" fmla="*/ 97200 w 152280"/>
              <a:gd name="textAreaRight" fmla="*/ 152640 w 15228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0080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629400" y="3352680"/>
            <a:ext cx="1828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上阕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705720" y="5486400"/>
            <a:ext cx="1752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下阕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80880" y="3886200"/>
            <a:ext cx="22240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2209680" y="914400"/>
            <a:ext cx="48769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如梦令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常记溪亭日暮，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6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沉醉不知归路。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6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兴尽晚回舟，  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误入藕花深处。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6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争渡，争渡，    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惊起一滩鸥鹭。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         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共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6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6188040" y="304920"/>
            <a:ext cx="29559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733920" y="885960"/>
            <a:ext cx="54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    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范仲淹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989-1052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，字希文。北宋政治家、文学家。和包拯同朝，为北宋名臣，吴县（今属江苏）人，少年家贫但好学，当秀才时就常以天下为己任，有敢言之名。曾多次上书批评当时的宰相，因而三次被贬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0" y="1676520"/>
            <a:ext cx="3602160" cy="51814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733920" cy="17524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85800" y="45720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作者简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500" autoRev="1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3" dur="500" autoRev="1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4" dur="500" autoRev="1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066680" y="669960"/>
            <a:ext cx="56390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如梦令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昨夜雨疏风骤，</a:t>
            </a:r>
            <a:br>
              <a:rPr sz="4000"/>
            </a:br>
            <a:r>
              <a:rPr b="1" i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浓睡不消残酒。</a:t>
            </a:r>
            <a:br>
              <a:rPr sz="4000"/>
            </a:br>
            <a:r>
              <a:rPr b="1" i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试问卷帘人，</a:t>
            </a:r>
            <a:br>
              <a:rPr sz="4000"/>
            </a:br>
            <a:r>
              <a:rPr b="1" i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却道海棠依旧。</a:t>
            </a:r>
            <a:br>
              <a:rPr sz="4000"/>
            </a:br>
            <a:r>
              <a:rPr b="1" i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知否？知否？</a:t>
            </a:r>
            <a:br>
              <a:rPr sz="4000"/>
            </a:br>
            <a:r>
              <a:rPr b="1" i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应是绿肥红瘦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6415200" y="304920"/>
            <a:ext cx="2728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3908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2133720" y="457200"/>
            <a:ext cx="388620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丑奴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书博山道中壁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2438280"/>
            <a:ext cx="10134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少年不识愁滋味，爱上层楼。爱上层楼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为赋新词强说愁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而今识尽愁滋味，欲说还休。欲说还休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却道天凉好个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42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42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5486400" y="609480"/>
            <a:ext cx="2743200" cy="195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延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82" dur="1" fill="hold">
                                    <p:stCondLst>
                                      <p:cond evt="end">
                                        <p:tn val="278"/>
                                      </p:cond>
                                    </p:stCondLst>
                                  </p:cTn>
                                  <p:tgtEl>
                                    <p:spTgt spid="2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867280" y="0"/>
            <a:ext cx="2683080" cy="223668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 txBox="1"/>
          <p:nvPr/>
        </p:nvSpPr>
        <p:spPr>
          <a:xfrm>
            <a:off x="914400" y="1219320"/>
            <a:ext cx="4343400" cy="14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华文行楷"/>
              </a:rPr>
              <a:t>写作训练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264" name=""/>
          <p:cNvSpPr/>
          <p:nvPr/>
        </p:nvSpPr>
        <p:spPr>
          <a:xfrm>
            <a:off x="914400" y="3276720"/>
            <a:ext cx="693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赏析：千障里，长烟落日孤城闭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75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75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898560" y="863640"/>
            <a:ext cx="7407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峰峦连绵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,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暮霭四起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,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落日低垂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,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边塞的孤城在黄昏中闭上城门。描写了一幅苍茫空远、辽阔孤寂的塞外落日孤城图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228600" y="0"/>
            <a:ext cx="3238560" cy="217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赏析参考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04920" y="1066680"/>
            <a:ext cx="84582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_x000b__x000c_"/>
              </a:rPr>
              <a:t>　   </a:t>
            </a:r>
            <a:r>
              <a:rPr b="1" lang="zh-CN" sz="3600" spc="-1" strike="noStrike">
                <a:solidFill>
                  <a:srgbClr val="333399"/>
                </a:solidFill>
                <a:latin typeface="_x000b__x000c_"/>
              </a:rPr>
              <a:t>背景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_x000b__x000c_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○三八年西夏昊称帝后，连年侵宋。由于积贫积弱，边防空虚，宋军一败于延州，再败于好水川，三败于定川寨。一○四○年，范仲淹自越州改任陕西经略副使兼知延州（今陕西延安）。延州当西夏出入关要冲，战后城寨焚掠殆尽，戍兵皆无壁垒，散处城中。此词即作于知延州时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remove" presetClass="emph" presetID="15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" dur="indefinite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224000" y="23328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赏析诗歌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4360" y="156384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塞下秋来风景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211640" y="1268280"/>
            <a:ext cx="4932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11640" y="981000"/>
            <a:ext cx="493236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3995640" y="1052640"/>
            <a:ext cx="4968720" cy="1871640"/>
            <a:chOff x="3995640" y="1052640"/>
            <a:chExt cx="4968720" cy="1871640"/>
          </a:xfrm>
        </p:grpSpPr>
        <p:sp>
          <p:nvSpPr>
            <p:cNvPr id="137" name=""/>
            <p:cNvSpPr/>
            <p:nvPr/>
          </p:nvSpPr>
          <p:spPr>
            <a:xfrm>
              <a:off x="4051440" y="1052640"/>
              <a:ext cx="4839120" cy="1871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95640" y="1125360"/>
              <a:ext cx="4968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塞下”点明了地点，“秋来”点明了时间，“异”字统领全词。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684360" y="4011480"/>
            <a:ext cx="36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衡阳雁去无留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4067280" y="3213000"/>
            <a:ext cx="5761080" cy="2377440"/>
            <a:chOff x="4067280" y="3213000"/>
            <a:chExt cx="5761080" cy="2377440"/>
          </a:xfrm>
        </p:grpSpPr>
        <p:sp>
          <p:nvSpPr>
            <p:cNvPr id="141" name=""/>
            <p:cNvSpPr/>
            <p:nvPr/>
          </p:nvSpPr>
          <p:spPr>
            <a:xfrm>
              <a:off x="4067280" y="3213000"/>
              <a:ext cx="4897440" cy="2376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140360" y="3322800"/>
              <a:ext cx="5688000" cy="22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这是用拟人手法写人的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感受，突出边塞的异常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苦寒：雁尚且无留恋之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情，将士又何以忍受？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492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969840" y="1989000"/>
            <a:ext cx="3889440" cy="16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面边声连角起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千嶂里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长烟落日孤城闭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003640" y="549360"/>
            <a:ext cx="2952720" cy="5111640"/>
            <a:chOff x="5003640" y="549360"/>
            <a:chExt cx="2952720" cy="5111640"/>
          </a:xfrm>
        </p:grpSpPr>
        <p:sp>
          <p:nvSpPr>
            <p:cNvPr id="146" name=""/>
            <p:cNvSpPr/>
            <p:nvPr/>
          </p:nvSpPr>
          <p:spPr>
            <a:xfrm>
              <a:off x="5003640" y="549360"/>
              <a:ext cx="2952720" cy="5111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076720" y="658800"/>
              <a:ext cx="2808000" cy="250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1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描写边塞黄昏的苍凉景色：“边声连角起”表明战事紧，“孤城闭”暗示敌强我弱。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4427640" y="620640"/>
            <a:ext cx="29527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27640" y="620640"/>
            <a:ext cx="29527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27640" y="692280"/>
            <a:ext cx="295272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27640" y="620640"/>
            <a:ext cx="29527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-36360" y="2700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2063160" y="6793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浊酒一杯家万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31640" y="27874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燕然未勒归无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39840" y="32338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58560" y="473220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羌管悠悠霜满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4572000" y="260280"/>
            <a:ext cx="4376520" cy="1706760"/>
            <a:chOff x="4572000" y="260280"/>
            <a:chExt cx="4376520" cy="1706760"/>
          </a:xfrm>
        </p:grpSpPr>
        <p:sp>
          <p:nvSpPr>
            <p:cNvPr id="158" name=""/>
            <p:cNvSpPr/>
            <p:nvPr/>
          </p:nvSpPr>
          <p:spPr>
            <a:xfrm>
              <a:off x="4572000" y="260280"/>
              <a:ext cx="4376520" cy="1706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75160" y="404640"/>
              <a:ext cx="2657160" cy="14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　“浊酒”表明边塞生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活的艰苦，“家万里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表现了思乡之切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6012000" y="17002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00720" y="260280"/>
            <a:ext cx="439236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00720" y="189000"/>
            <a:ext cx="439236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00720" y="260280"/>
            <a:ext cx="439236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00720" y="260280"/>
            <a:ext cx="43923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00720" y="189000"/>
            <a:ext cx="439236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4572000" y="2492280"/>
            <a:ext cx="4248000" cy="1311120"/>
            <a:chOff x="4572000" y="2492280"/>
            <a:chExt cx="4248000" cy="1311120"/>
          </a:xfrm>
        </p:grpSpPr>
        <p:sp>
          <p:nvSpPr>
            <p:cNvPr id="167" name=""/>
            <p:cNvSpPr/>
            <p:nvPr/>
          </p:nvSpPr>
          <p:spPr>
            <a:xfrm>
              <a:off x="4572000" y="2508120"/>
              <a:ext cx="4248000" cy="1295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641840" y="2492280"/>
              <a:ext cx="41058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　慨叹功业未建，边患未除，归乡无期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4572000" y="4221000"/>
            <a:ext cx="4304880" cy="1942920"/>
            <a:chOff x="4572000" y="4221000"/>
            <a:chExt cx="4304880" cy="1942920"/>
          </a:xfrm>
        </p:grpSpPr>
        <p:sp>
          <p:nvSpPr>
            <p:cNvPr id="170" name=""/>
            <p:cNvSpPr/>
            <p:nvPr/>
          </p:nvSpPr>
          <p:spPr>
            <a:xfrm>
              <a:off x="4572000" y="4221000"/>
              <a:ext cx="4304880" cy="19429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94240" y="4653360"/>
              <a:ext cx="2619000" cy="14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这入夜的悠悠羌音、浓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浓白霜，更使人惆怅难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眠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4500720" y="4797360"/>
            <a:ext cx="4392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00720" y="4797360"/>
            <a:ext cx="43192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00720" y="4797360"/>
            <a:ext cx="43923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00720" y="4797360"/>
            <a:ext cx="43923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00720" y="4797360"/>
            <a:ext cx="4392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27640" y="4797360"/>
            <a:ext cx="44654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427640" y="4869000"/>
            <a:ext cx="4465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64000" y="4724280"/>
            <a:ext cx="914400" cy="12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00720" y="4653000"/>
            <a:ext cx="4392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03640" y="5589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43280" y="50133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76720" y="6165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859280" y="5661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-36360" y="2700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6" name=""/>
          <p:cNvSpPr/>
          <p:nvPr/>
        </p:nvSpPr>
        <p:spPr>
          <a:xfrm>
            <a:off x="1402920" y="2276640"/>
            <a:ext cx="210096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人不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将军白发征夫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716360" y="907920"/>
            <a:ext cx="352764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788000" y="1052640"/>
            <a:ext cx="345600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4788000" y="836640"/>
            <a:ext cx="3456000" cy="5307120"/>
            <a:chOff x="4788000" y="836640"/>
            <a:chExt cx="3456000" cy="5307120"/>
          </a:xfrm>
        </p:grpSpPr>
        <p:sp>
          <p:nvSpPr>
            <p:cNvPr id="190" name=""/>
            <p:cNvSpPr/>
            <p:nvPr/>
          </p:nvSpPr>
          <p:spPr>
            <a:xfrm>
              <a:off x="4840200" y="1036800"/>
              <a:ext cx="3332160" cy="1410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2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不寐”的是将军也是征夫，流下的是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思念家乡的泪，更是功业无成、壮志未酬的英雄泪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!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88000" y="836640"/>
              <a:ext cx="3456000" cy="530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90720" y="914400"/>
            <a:ext cx="838080" cy="29793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00"/>
                </a:solidFill>
                <a:latin typeface="Times New Roman"/>
                <a:ea typeface="华文隶书"/>
              </a:rPr>
              <a:t>渔家傲</a:t>
            </a:r>
            <a:r>
              <a:rPr b="0" lang="zh-CN" sz="4000" spc="-1" strike="noStrike" u="sng">
                <a:solidFill>
                  <a:srgbClr val="ffff00"/>
                </a:solidFill>
                <a:uFillTx/>
                <a:latin typeface="Times New Roman"/>
                <a:ea typeface="华文楷体"/>
                <a:hlinkClick r:id="rId1" action="ppaction://hlinksldjump"/>
              </a:rPr>
              <a:t>范仲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438280" y="121932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Times New Roman"/>
                <a:ea typeface="隶书"/>
              </a:rPr>
              <a:t>上阕写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380880"/>
            <a:ext cx="20574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</a:rPr>
              <a:t>雁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</a:rPr>
              <a:t>边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</a:rPr>
              <a:t>孤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</a:rPr>
              <a:t>长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</a:rPr>
              <a:t>落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43400" y="685800"/>
            <a:ext cx="304920" cy="2209680"/>
          </a:xfrm>
          <a:custGeom>
            <a:avLst/>
            <a:gdLst>
              <a:gd name="textAreaLeft" fmla="*/ 194760 w 304920"/>
              <a:gd name="textAreaRight" fmla="*/ 305280 w 30492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553080" y="685800"/>
            <a:ext cx="76320" cy="2286000"/>
          </a:xfrm>
          <a:custGeom>
            <a:avLst/>
            <a:gdLst>
              <a:gd name="textAreaLeft" fmla="*/ 0 w 76320"/>
              <a:gd name="textAreaRight" fmla="*/ 27360 w 763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05720" y="990720"/>
            <a:ext cx="18288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渲染荒凉萧瑟气氛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  <a:ea typeface="华文新魏"/>
              </a:rPr>
              <a:t>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362320" y="3962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99"/>
                </a:solidFill>
                <a:latin typeface="Times New Roman"/>
                <a:ea typeface="隶书"/>
              </a:rPr>
              <a:t>下阕抒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971800" y="1897200"/>
            <a:ext cx="762120" cy="64260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华文细黑"/>
              </a:rPr>
              <a:t>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19720" y="3352680"/>
            <a:ext cx="26668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</a:rPr>
              <a:t>家万里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</a:rPr>
              <a:t>-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</a:rPr>
              <a:t>归无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</a:rPr>
              <a:t>羌管悠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</a:rPr>
              <a:t>霜满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燕然未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91120" y="3505320"/>
            <a:ext cx="304560" cy="1600200"/>
          </a:xfrm>
          <a:custGeom>
            <a:avLst/>
            <a:gdLst>
              <a:gd name="textAreaLeft" fmla="*/ 194760 w 304560"/>
              <a:gd name="textAreaRight" fmla="*/ 304920 w 30456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0" y="3505320"/>
            <a:ext cx="304920" cy="1676160"/>
          </a:xfrm>
          <a:custGeom>
            <a:avLst/>
            <a:gdLst>
              <a:gd name="textAreaLeft" fmla="*/ 0 w 304920"/>
              <a:gd name="textAreaRight" fmla="*/ 110160 w 30492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162920" y="364968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抒发思乡报国之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4724280"/>
            <a:ext cx="838080" cy="70344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华文细黑"/>
              </a:rPr>
              <a:t>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352680" y="2666880"/>
            <a:ext cx="0" cy="1905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743200" y="2590920"/>
            <a:ext cx="533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借景抒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001000" y="1981080"/>
            <a:ext cx="0" cy="175284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590920" y="5791320"/>
            <a:ext cx="6172200" cy="64260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苍凉悲壮，                沉郁雄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9880" y="5486400"/>
            <a:ext cx="685800" cy="3049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7391520" y="4724280"/>
            <a:ext cx="761760" cy="11430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5257800" y="5105520"/>
            <a:ext cx="1371600" cy="13269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1979640" y="549360"/>
            <a:ext cx="4824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华文行楷"/>
              </a:rPr>
              <a:t>中心思想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15" name=""/>
          <p:cNvSpPr/>
          <p:nvPr/>
        </p:nvSpPr>
        <p:spPr>
          <a:xfrm>
            <a:off x="144360" y="269712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&lt;&lt;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渔家傲》这首词通过写边塞的战地风光，表现了作者报国立功的英雄气慨和壮志难酬、思乡忧国的感慨情怀，同时也写出了边塞战士的艰苦生活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1T01:26:03Z</dcterms:created>
  <dc:creator/>
  <dc:description/>
  <dc:language>en-US</dc:language>
  <cp:lastModifiedBy>starcraft</cp:lastModifiedBy>
  <dcterms:modified xsi:type="dcterms:W3CDTF">2008-10-24T15:46:26Z</dcterms:modified>
  <cp:revision>7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618000000000001024120</vt:lpwstr>
  </property>
</Properties>
</file>