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333-FE20-470E-9266-AC1BFE3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990-454E-4262-A2D5-9D8FEAA7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24F-4F73-44E5-97B3-BBA64961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0C5-E5FE-4A3A-905D-398CD3A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8AA-1E47-4E44-B177-9F44321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656D-F432-477C-9219-28BE39D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5F32-01B4-4D2F-AF09-3363A9C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FBB-2F56-4448-8193-31601DDE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82B-DA92-42F2-ACDE-4C56026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C250-2135-4915-859E-62DF6D1F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B09C-ED1A-4CAD-8185-0C58383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F42-2ADD-4002-BF3A-B7DB479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C23-EAC1-416F-89E1-0510246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BBF2-147D-4450-8129-0F70016B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C003-AE28-4373-BCAB-089122D9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523-7495-4F5D-AB5C-6414799F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0ABA-EEBD-4D83-A324-A426E413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454-7F05-454C-92DB-F1E8BFD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406-1143-4575-9426-D7BAE13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316-E36D-486A-8C9D-8FB273F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4CF-03EA-4244-A755-6E68E08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C20-49C5-4D79-8258-47F7140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C1D-9079-460B-A83A-B6568C3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76F-EEA5-49A4-8C68-05364E6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8AA4-95E7-4D24-AD4D-1A8118E26202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7D0-90D6-45F8-8308-8B0EB9A2096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V40015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1905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一个人的遭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352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肖洛霍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0"/>
            <a:ext cx="8534520" cy="283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肖洛霍夫，苏联作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    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923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年发表处女作小品文《考验》。次年加入俄罗斯无产阶级作家联合会。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926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年出版作品集《顿河的故事》和《浅蓝的原野》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同年开始创长篇小说《静静的顿河》，共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4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部，至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1940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年完成。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该作品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94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年获斯大林文学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    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其他著作还有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篇小说《被开垦的处女地》第一部、《一个人的遭遇》、《他们为祖国而战》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(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未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)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    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965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年获诺贝尔文学奖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31520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76520" y="533520"/>
            <a:ext cx="6172200" cy="24382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990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家团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990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家园被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与儿子团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儿子阵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1295280"/>
            <a:ext cx="205740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362320"/>
            <a:ext cx="17528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1560" y="152280"/>
            <a:ext cx="1399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cc66ff"/>
                </a:solidFill>
                <a:latin typeface="Times New Roman"/>
              </a:rPr>
              <a:t>战     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352680"/>
            <a:ext cx="7086600" cy="1068840"/>
          </a:xfrm>
          <a:prstGeom prst="rect">
            <a:avLst/>
          </a:prstGeom>
          <a:noFill/>
          <a:ln w="5076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争是可怕的，它能摧毁一切——家庭、亲情、希望，但他不能毁灭的是人性的尊严，不能消灭的是对于幸福的永远的期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1828800"/>
            <a:ext cx="6858000" cy="1191240"/>
          </a:xfrm>
          <a:prstGeom prst="rect">
            <a:avLst/>
          </a:prstGeom>
          <a:noFill/>
          <a:ln w="507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我”为什么要领养凡尼亚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858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9144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凡尼亚成为索科洛夫全部的寄托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凡尼亚成为索科洛夫生存的全部意义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凡尼亚成为索科洛夫余生的精神慰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181480"/>
            <a:ext cx="6934320" cy="703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曾经失去家庭、亲人的战士格外珍惜重新获得的亲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2133720"/>
            <a:ext cx="7162560" cy="36576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209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自然疯狂地报复人类时，我们才意识到保护环境的重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3429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我们的生命所剩无几时，我们才体会到它存在的价值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800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当                                                             。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838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请以“</a:t>
            </a:r>
            <a:r>
              <a:rPr b="1" lang="zh-CN" sz="3200" spc="-1" strike="noStrike">
                <a:solidFill>
                  <a:srgbClr val="482400"/>
                </a:solidFill>
                <a:latin typeface="Times New Roman"/>
              </a:rPr>
              <a:t>战争与和平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”为话题仿造句式，另写一个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1219320"/>
            <a:ext cx="7620120" cy="2287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：</a:t>
            </a:r>
            <a:r>
              <a:rPr b="1" lang="zh-CN" sz="4800" spc="-1" strike="noStrike">
                <a:solidFill>
                  <a:srgbClr val="666600"/>
                </a:solidFill>
                <a:latin typeface="隶书"/>
                <a:ea typeface="隶书"/>
              </a:rPr>
              <a:t>最后一节中，凡尼亚举手向“我”告别时，“仿佛有一只柔软而尖利的爪子，抓住了我的心”，这是一种什么样的感觉？“我”为什么不想让孩子看到眼泪？</a:t>
            </a:r>
            <a:r>
              <a:rPr b="1" lang="zh-CN" sz="4800" spc="-1" strike="noStrike">
                <a:solidFill>
                  <a:srgbClr val="6666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304920"/>
            <a:ext cx="7391520" cy="32004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57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993300"/>
                </a:solidFill>
                <a:latin typeface="宋体"/>
              </a:rPr>
              <a:t>在战争中，最不幸的还不是失去生命的战士，而是无助的孤儿寡妇。凡尼亚是战争孤儿，小小年纪的他还不明白命运的悲惨，不明白战争的苦难，不理解别人的同情和怜悯，因此，也不会理解索科洛夫的房东女人为什么哭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</a:rPr>
              <a:t>索科洛夫的悲惨遭遇震撼了读者的心灵，而凡尼亚的挥动小手触动了有良知才的悲悯之心。孩子越是天真可爱，就越发显出战争的残酷。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809880"/>
            <a:ext cx="7238880" cy="1015920"/>
          </a:xfrm>
          <a:prstGeom prst="rect">
            <a:avLst/>
          </a:prstGeom>
          <a:noFill/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”不想孩子看到经历战争的人的眼泪，是不想让孩子知道这样的痛苦，不想让他知道真相，让不幸的儿童能保住一些童心。小说到这里实际上已经变为作者在抒发心愿：呵护孩子们的幼小心灵，为了他们不再成为孤儿，为了他们不再经历战火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9144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回顾历史，面向未来，我的耳畔隐约想起一个声音，“</a:t>
            </a:r>
            <a:r>
              <a:rPr b="1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年轻人，你们有责任思考未来，思考如何建立一个更加美好、没有战争和威胁的明天……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8380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预习《流浪人，你若到斯巴……》，体会这两篇文章是如何从不同角度表现相同主题的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53352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8380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对人类行为的反思之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971800"/>
            <a:ext cx="54864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Times New Roman"/>
                <a:ea typeface="隶书"/>
              </a:rPr>
              <a:t>像山那样</a:t>
            </a:r>
            <a:r>
              <a:rPr b="0" lang="zh-CN" sz="6600" spc="-1" strike="noStrike">
                <a:solidFill>
                  <a:srgbClr val="33cc33"/>
                </a:solidFill>
                <a:latin typeface="Times New Roman"/>
                <a:ea typeface="隶书"/>
              </a:rPr>
              <a:t>----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905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关于自然与人的关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16320" y="56865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《像山那样思考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8380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对人类行为的反思之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2590920"/>
            <a:ext cx="5486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Times New Roman"/>
                <a:ea typeface="隶书"/>
              </a:rPr>
              <a:t>珍惜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993300"/>
                </a:solidFill>
                <a:latin typeface="Times New Roman"/>
                <a:ea typeface="隶书"/>
              </a:rPr>
              <a:t>我们的拥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9051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关于生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4200" y="56865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《假如给我三天光明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8380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对人类行为的反思之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200400"/>
            <a:ext cx="548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战争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与</a:t>
            </a:r>
            <a:r>
              <a:rPr b="1" lang="zh-CN" sz="66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和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905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关于心灵的伤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4320" y="5562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《一个人的遭遇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rdrciv" descr=""/>
          <p:cNvPicPr/>
          <p:nvPr/>
        </p:nvPicPr>
        <p:blipFill>
          <a:blip r:embed="rId2"/>
          <a:stretch/>
        </p:blipFill>
        <p:spPr>
          <a:xfrm>
            <a:off x="762120" y="0"/>
            <a:ext cx="83818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-4680" y="1349280"/>
            <a:ext cx="9153360" cy="527040"/>
            <a:chOff x="-4680" y="1349280"/>
            <a:chExt cx="9153360" cy="527040"/>
          </a:xfrm>
        </p:grpSpPr>
        <p:grpSp>
          <p:nvGrpSpPr>
            <p:cNvPr id="105" name=""/>
            <p:cNvGrpSpPr/>
            <p:nvPr/>
          </p:nvGrpSpPr>
          <p:grpSpPr>
            <a:xfrm>
              <a:off x="0" y="1353960"/>
              <a:ext cx="9144000" cy="517680"/>
              <a:chOff x="0" y="1353960"/>
              <a:chExt cx="9144000" cy="517680"/>
            </a:xfrm>
          </p:grpSpPr>
          <p:sp>
            <p:nvSpPr>
              <p:cNvPr id="106" name=""/>
              <p:cNvSpPr/>
              <p:nvPr/>
            </p:nvSpPr>
            <p:spPr>
              <a:xfrm>
                <a:off x="76320" y="1392120"/>
                <a:ext cx="9029520" cy="4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ahoma"/>
                    <a:ea typeface="Tahoma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53960"/>
                <a:ext cx="9144000" cy="51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4680" y="1349280"/>
              <a:ext cx="9153360" cy="527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8288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60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当生命不再拥有时，战争的意义何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1476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20058190236298" descr=""/>
          <p:cNvPicPr/>
          <p:nvPr/>
        </p:nvPicPr>
        <p:blipFill>
          <a:blip r:embed="rId2"/>
          <a:stretch/>
        </p:blipFill>
        <p:spPr>
          <a:xfrm>
            <a:off x="762120" y="0"/>
            <a:ext cx="6019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59800" y="380880"/>
            <a:ext cx="8506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这撕心裂肺的哭声居然无法唤醒麻木的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38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00072156" descr="xinsrc_362050224163005799807.jpg"/>
          <p:cNvPicPr/>
          <p:nvPr/>
        </p:nvPicPr>
        <p:blipFill>
          <a:blip r:embed="rId2"/>
          <a:stretch/>
        </p:blipFill>
        <p:spPr>
          <a:xfrm>
            <a:off x="762120" y="0"/>
            <a:ext cx="838188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6156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战争的本质就是破坏，对一切的破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2892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00071828" descr="minzuweiwang1.jpg"/>
          <p:cNvPicPr/>
          <p:nvPr/>
        </p:nvPicPr>
        <p:blipFill>
          <a:blip r:embed="rId2"/>
          <a:stretch/>
        </p:blipFill>
        <p:spPr>
          <a:xfrm>
            <a:off x="1066680" y="228600"/>
            <a:ext cx="7543800" cy="533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7400" y="57150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希望在废墟中哭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838080"/>
            <a:ext cx="6400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身体上的伤痛</a:t>
            </a:r>
            <a:r>
              <a:rPr b="1" lang="zh-CN" sz="4800" spc="-1" strike="noStrike">
                <a:solidFill>
                  <a:srgbClr val="3333cc"/>
                </a:solidFill>
                <a:latin typeface="黑体"/>
                <a:ea typeface="黑体"/>
              </a:rPr>
              <a:t>---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可以痊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048120"/>
            <a:ext cx="6172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心理上的</a:t>
            </a:r>
            <a:r>
              <a:rPr b="0" lang="zh-CN" sz="4800" spc="-1" strike="noStrike" u="sng">
                <a:solidFill>
                  <a:srgbClr val="993300"/>
                </a:solidFill>
                <a:uFillTx/>
                <a:latin typeface="黑体"/>
                <a:ea typeface="黑体"/>
                <a:hlinkClick r:id="rId2" action="ppaction://hlinksldjump"/>
              </a:rPr>
              <a:t>创伤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-----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难以愈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gm</cp:lastModifiedBy>
  <dcterms:modified xsi:type="dcterms:W3CDTF">2005-11-28T02:12:07Z</dcterms:modified>
  <cp:revision>16</cp:revision>
  <dc:subject/>
  <dc:title>PowerPoint Presentation</dc:title>
</cp:coreProperties>
</file>