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287-A3F6-43BC-9D9F-6992C1DA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4E3-A1F0-4B21-BAEE-1C3BC7D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7A6-7D27-42B7-91D0-1EDA2113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7EB-2D5F-4BA7-8EDB-1FECB4C7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D68-E29A-4AAE-AFAA-6C13E129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981-9868-4722-B70A-C1403F8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775-446D-4816-9172-8CAC819B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5766-8585-4984-A086-151D1C08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AD7D-F375-4213-BAEC-22605E8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CD03-6B10-4534-8161-72375E24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1E9-1D63-422E-A45F-94E4DC9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35A-F4A2-4FD1-BB0B-B0A6E45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DF9-3BB9-4C8F-8B03-615E6E8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63FA-C1C9-4F3C-BC66-B8C0370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DEC-2377-4EA6-BE64-DB19B4F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FE72-AE44-436E-A303-1E8E903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FDF3-4134-4841-8718-C11571FB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84E-5533-4F3B-9CE1-88E3D613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F87-837B-4D62-B5F3-C028F90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0F4-E487-4AF0-A471-BE682D8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627-6F1C-4506-9AF1-730A3449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C2C-E1C7-465C-BA31-603A132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714-2B07-4381-92A6-D68E8126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636-1666-40E4-8CD3-0559D659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BCF-7782-4320-A726-6B77220E171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4E9B-69CC-4FE2-8631-940ABAA108E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3&#1018;%C6&#571;&amp;in=22&amp;cl=2&amp;cm=1&amp;sc=0&amp;lm=-1&amp;pn=21&amp;rn=1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3&#1018;%C6&#571;&amp;in=8&amp;cl=2&amp;cm=1&amp;sc=0&amp;lm=-1&amp;pn=7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.baidu.com/i?ct=503316480&amp;z=0&amp;tn=baiduimagedetail&amp;word=%C3&#1018;%C6&#571;&amp;in=35&amp;cl=2&amp;cm=1&amp;sc=0&amp;lm=-1&amp;pn=34&amp;rn=1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58920" y="148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世俗的喧嚣    世人回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34936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钟声的悠然    我归鹿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437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两种归途       两种选择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对比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表现出诗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2349360"/>
            <a:ext cx="215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潇洒超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8000" y="1484280"/>
            <a:ext cx="22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归心似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0"/>
            <a:ext cx="2232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情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2907720" y="-104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5013360"/>
            <a:ext cx="453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对隐逸生活的向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以及怡然自得的心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068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运用了什么写法，表达了作者什么样的情感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0" t="0" r="0" b="104"/>
          <a:stretch/>
        </p:blipFill>
        <p:spPr>
          <a:xfrm>
            <a:off x="0" y="0"/>
            <a:ext cx="9325080" cy="695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9933"/>
                </a:solidFill>
                <a:latin typeface="Arial"/>
              </a:rPr>
              <a:t>缘景明情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2852640"/>
            <a:ext cx="65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现景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呈现诗中所绘之景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71628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析景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分析特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摹形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描摹形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300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溯情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推求感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4360" y="17640"/>
            <a:ext cx="9288360" cy="684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68360" y="33336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画面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708280"/>
            <a:ext cx="4319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烟树     树影朦胧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夜月     皎洁清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岩扉     幽深僻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松径     清幽寂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50028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静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寂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348000" y="333360"/>
            <a:ext cx="285768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月夜山景图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55640" y="40464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Arial"/>
              </a:rPr>
              <a:t>诗人形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133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神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400536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情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00536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对隐逸生活的喜爱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2205000"/>
            <a:ext cx="532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欣喜    沉醉    迷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下面请同学们边读边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诗中所写 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“夜归”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的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“归”途</a:t>
            </a:r>
            <a:r>
              <a:rPr b="0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实际上是在写什么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426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诗中所写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落黄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悬夜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从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汉江舟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到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鹿门山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质上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600360" cy="5167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4005360"/>
            <a:ext cx="4176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从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尘杂世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寂寥隐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道路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Arial"/>
              </a:rPr>
              <a:t>把握诗歌的意境</a:t>
            </a:r>
            <a:br>
              <a:rPr sz="40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54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　 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中首先描绘了江边傍晚山寺不时传来悠然的钟声，渡口人们抢渡回家的喧闹的动态景象。诗人在船头凝望沉思——一叶扁舟飘然归向鹿门。接着又描绘了一幅朦胧的山树在皎洁的月光照耀下，显得格外美妙。而岩穴的山门和松间的小路也显得格外寂寥的静态景象，诗人陶醉了。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整首诗表达了诗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　　　　　　　　　　　　　　的情感。营造出　　　　　的意境。</a:t>
            </a:r>
            <a:r>
              <a:rPr b="0" lang="zh-CN" sz="3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537372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屏弃世俗生活而安于孤独隐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幽美恬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3908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请同学们按照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置身诗境，缘景明情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的基本思路赏析王维的《归嵩山作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378936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谁来为大家先介绍一下作者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王维 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(701 — 761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字摩诘，人称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诗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太原祁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山西祁县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人。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王维是盛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山水田园诗派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代表诗人之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与孟浩然齐名，世称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王孟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他多才多艺，诗歌之外，兼善散文、音乐、书法、绘画，尤以绘画见长，被推为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南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山水画之祖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苏轼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也曾说：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“味摩诘之诗，诗中有画；观摩诘之画，画中有诗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官至尚书右丞，故世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王右丞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《王右丞集》。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0" r="0" b="104"/>
          <a:stretch/>
        </p:blipFill>
        <p:spPr>
          <a:xfrm>
            <a:off x="0" y="0"/>
            <a:ext cx="9325080" cy="6958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9933"/>
                </a:solidFill>
                <a:latin typeface="Arial"/>
              </a:rPr>
              <a:t>缘景明情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852640"/>
            <a:ext cx="65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现景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呈现诗中所绘之景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1628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析景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分析特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50864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摹形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描摹形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300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溯情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推求感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0" b="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2421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夜归鹿门歌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933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孟浩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景中有情，情景交融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随着作者把归山途中的景色有层次地一一写来，诗人的感情也在一步步变化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357720"/>
            <a:ext cx="8062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发时</a:t>
            </a:r>
            <a:r>
              <a:rPr b="1" lang="zh-CN" sz="4400" spc="-1" strike="noStrike">
                <a:solidFill>
                  <a:srgbClr val="339933"/>
                </a:solidFill>
                <a:latin typeface="Arial"/>
              </a:rPr>
              <a:t>安详从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途中一度</a:t>
            </a:r>
            <a:r>
              <a:rPr b="1" lang="zh-CN" sz="4400" spc="-1" strike="noStrike">
                <a:solidFill>
                  <a:srgbClr val="339933"/>
                </a:solidFill>
                <a:latin typeface="Arial"/>
              </a:rPr>
              <a:t>凄清悲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最后</a:t>
            </a:r>
            <a:r>
              <a:rPr b="1" lang="zh-CN" sz="4400" spc="-1" strike="noStrike">
                <a:solidFill>
                  <a:srgbClr val="339933"/>
                </a:solidFill>
                <a:latin typeface="Arial"/>
              </a:rPr>
              <a:t>恬静淡泊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76500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</a:rPr>
              <a:t>比较孟浩然《夜归鹿门歌》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9933"/>
                </a:solidFill>
                <a:latin typeface="Times New Roman"/>
              </a:rPr>
              <a:t>与王维《归嵩山作》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异同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28464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都写归隐途中的景色和心境。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人与自然在精神上高度契合，景     物和感受诗意地结合在一起，全诗是浑融完整的整体，恬淡、优美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068640"/>
            <a:ext cx="11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同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2852640"/>
            <a:ext cx="8137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.  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孟诗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整个诗境显得平淡自然、优美  恬淡、脱尽尘世烟火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33336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异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4365720"/>
            <a:ext cx="792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王诗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意境充满变化：归山之始的悠然自得，归隐途中的黯淡凄凉，归到嵩山的恬静澹泊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692280"/>
            <a:ext cx="691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诗着墨轻淡，多用白描，比王诗更显淳朴；王诗“诗中有画”，色彩光泽更为丰富。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68360" y="26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孟浩然名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341360"/>
          <a:ext cx="9144000" cy="5183280"/>
        </p:xfrm>
        <a:graphic>
          <a:graphicData uri="http://schemas.openxmlformats.org/drawingml/2006/table">
            <a:tbl>
              <a:tblPr/>
              <a:tblGrid>
                <a:gridCol w="1677960"/>
                <a:gridCol w="74660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简历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成就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著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名篇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其诗风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26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评价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547640" y="1484280"/>
            <a:ext cx="79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浩然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89-7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名浩   字浩然   人称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孟襄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27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生怀才不遇，布衣终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《孟浩然集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3573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《过故人庄》、《宿建德江》、《春晓》、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《望洞庭湖赠张丞相》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4653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质朴明快，清新自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300640"/>
            <a:ext cx="66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盛唐山水田园诗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主要作家之一，与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王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名，并称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“王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422100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3357720"/>
            <a:ext cx="3240000" cy="295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360" y="83664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500720" y="4343400"/>
            <a:ext cx="1823760" cy="160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495680" y="5335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4500720" y="549360"/>
            <a:ext cx="3527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40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岁时，游长安，应进士举不第。曾在太学赋诗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动公卿，一座倾服，为之搁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 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他和王维交谊甚笃。传说王维曾私邀入内署，适逢玄宗至，浩然惊避床下。王维不敢隐瞒，据实奏闻，玄宗命出见。浩然自诵其诗，至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才明主弃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”之句，玄宗不悦，说：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卿不求仕，而朕未尝弃卿，奈何诬我！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”放归襄阳。后漫游吴越，穷极山水之胜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202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背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28560"/>
            <a:ext cx="8820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鹿门，即鹿门山，在湖北襄阳，汉末著名隐士庞德公因拒绝征辟，携家眷隐居鹿门山，从此鹿门山就成了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隐逸圣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孟浩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赴长安求仕不遂，游历吴越数年后返乡，决心追寻先贤庞德公的行迹，特在鹿门山辟一住处。这首诗是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孟浩然决心隐居绝意仕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的。偶尔也去住住，其实是个标榜归隐性质的别业，所以题曰“夜归鹿门”，虽有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纪实之意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主旨却在标明这首诗是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歌咏归隐的情怀志趣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9162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考：按照时间和空间顺序，分别写了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江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山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个场景，请找出两个场景中的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意象。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并用简练的语言概括一下这两个场景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149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钟声       渡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22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亮    烟树   岩扉   松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49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下面请同学们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置身诗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这首诗读一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4221000"/>
            <a:ext cx="3513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黄昏江景图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5157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月夜山景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59280" y="184464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景物的特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9280" y="3068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钟声                     渡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327560"/>
            <a:ext cx="828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寺的超然僻静     世俗的杂乱喧嚣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050920" y="260280"/>
            <a:ext cx="28576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黄昏江景图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260280"/>
            <a:ext cx="180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画面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悠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3068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人声嘈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43280" y="2781360"/>
            <a:ext cx="25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诗人形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6000" y="4869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隶书"/>
              </a:rPr>
              <a:t>闲望冷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47640" y="18900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诗人形象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12682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闲望沉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1268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神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1:07:29Z</dcterms:created>
  <dc:creator>MC SYSTEM</dc:creator>
  <dc:description/>
  <dc:language>en-US</dc:language>
  <cp:lastModifiedBy>zmj</cp:lastModifiedBy>
  <dcterms:modified xsi:type="dcterms:W3CDTF">2010-01-16T09:47:13Z</dcterms:modified>
  <cp:revision>1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4000000000001024120</vt:lpwstr>
  </property>
</Properties>
</file>