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70BB3-31B7-4EB2-84F8-B893BC91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AD853-D3B0-4E20-8324-4F690116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BB783-B2FD-47C4-B057-5CA576B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6FAB-3C8B-4B07-A111-16872D9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692E-6237-459E-8009-D154729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86442-1DAA-46B1-92D9-B13C900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B27C9-E633-45EC-9B13-52790DD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DD5DD-299E-4E3B-BA5A-E0C0CA0C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EF6A5-2F72-480B-8AE4-489AB3D2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6685A-45E3-4590-9E09-D36E313A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F97EB-564A-4F1D-AF8C-84579CFB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ED193-F8A2-441E-AF80-A45FC318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6CBE8-EE57-40AC-BEA4-07CC965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FAAA4-BC59-4E28-ADCB-FB8D59C1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D2945-39E0-48FB-968C-5F7137E6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FDCEE-DC98-442D-A33B-021D060F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BA579-382F-4AFC-BD94-F4544BF2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4B933-0DC6-465E-8E83-288F412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398A1-A426-4D32-BB7A-E5EA1EBF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E8784-E680-43E4-A4B7-F5696BE6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58337-25FE-4EFB-8C4D-F5E89E67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4DFE1-C6F5-4E2E-AC90-B8EF9B1E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C254C-B84C-4DA9-AAA9-C1B3F317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E16CF-ACED-4F74-8145-EED9E810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30763-0917-49BE-A703-F65D25EB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A64F2-2879-44E6-B93D-2A03FFF7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597F5-9324-4660-9631-A5BB650B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06076-E01F-4317-8C9A-C92E8A2A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0F384-5956-47BA-BE74-4669EF5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72BCA-E2A4-4C70-B75E-FD89732A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5A3-56F4-44DE-9CC4-146A0C59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E2F8E-D716-46BD-8C28-31BB04BC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A39DA-A9ED-48FE-A2DF-2B718A10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0C8B4-8432-4F4B-9483-8C6F9364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9C22D-64FE-44A3-B42D-D0F3D919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5B744-670C-4A4C-9238-630DE0DD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34599-30F7-4999-B321-B0F16170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5C071-5A5D-4055-B8E6-D094A12A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0028B-F830-4A15-A9E7-6F7595A1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CCF67-6D09-48E6-94CA-6D58BD1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CE84-0FC3-4C7A-A11E-6ADAABB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E71-601D-4AB0-9C41-D6902343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72224-EFC6-437B-8BF1-91E2C97E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F3648-5ABF-4CD5-A49E-173BA42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0E7FA-811B-4346-83D1-317362B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62178-5984-4AB7-9D0C-3EE2E14D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4C3A2-4969-420D-94A6-3F511DEE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20BB3-76C8-4A85-ADB3-7EBFAF7A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5DF0B-ADF7-4B53-AAB1-C56D6777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5AF52-97EC-45BB-B4A5-69067B68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1E639-5D46-4478-B7F2-5D9D7AEC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46E52-FDC4-409B-AE2F-E7A841B0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53E-6958-46FE-A9C0-26410DC1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DA512-FE07-44BB-88A1-0FB6D0AB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87921-C661-40E0-9EE9-0248BAE2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C4757-35CF-4E09-807B-29865DA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8004C-663A-45FA-8054-C0C4BA7C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6D790-BDA2-4671-A2BF-5CE91543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9CBF-7A5F-4C41-BE22-78B62B81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3E1BF-7842-4A30-BF1F-8DB9CEC5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70BDC-065D-4880-96D2-50972DEB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42BD9-BD78-4EA8-864B-035D236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18C46-38E1-4959-BD1C-9FA86F33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246-18A6-4265-B6A5-EF6E8BBB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BAFDE-8DFD-4355-8A28-03E2C42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E7550-48B1-4D60-889C-01CE7F3C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6BA5C-23D9-4926-8A58-B0384832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A2C11-2E57-40D8-AE8F-3988622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192F8-C078-4EE1-9AC5-132C3AD0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01187-49A4-455D-8D78-0905210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AF6CD-EAF8-4C4B-857B-BCBFACC0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7A24B-80E3-44FC-AE0A-2E57B486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DB6C1-58B3-4A81-AB26-E1884E04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99C-2E50-4AFE-B5F9-158BE8A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23E-F9F5-4843-A4BE-6455DD3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B59-65CC-4215-91CC-66CF7FD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2D8-087F-4DC0-AF74-4303FD0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D3FEE-51A2-4956-85AD-3865B21F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920BA-2FD5-457E-841B-B2B51A4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A0B03-A8FE-45FA-B5CD-C55CCAB2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7A37A-B616-497D-A68F-342A7D56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4D929-660E-4BE2-882B-56FCE904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4E1-F438-4131-82A8-277F79B8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FCABD-044E-48B1-9B51-19ABA13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A025D-DA39-41CA-9895-A95C4A8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224B0-0EA4-42E3-88BE-E7B55EEE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06D53-1A15-46F3-82FB-774BC69A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5FE7D7-76A9-4436-8CBC-CC3954EB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CD714-CC99-4E46-803A-B9920D90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F51BB-5BA9-4975-A463-6B0A083B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0F914-BC39-4881-961F-613BA9D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F10D8-B26A-4DCA-BEB7-169F6A8D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0AE7B-B6C0-46AC-BAC2-50973060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5A5-4450-4A61-931D-EA2EC40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F6EBF-7046-4F09-8BF8-0803368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501CE-4427-4DCD-A00D-1761FBDF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C170B-4F25-491D-AA59-81FB8B72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7D8AD-D12D-42A7-99FC-06C8CDAA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8618D-6E96-4FE0-A4C5-521AF9B0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10F2D-E92B-42A3-848B-6456A70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B5181-43E8-4E2C-A3E5-6477C02D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FC2BB-0EF6-42F7-81A9-FE83FC87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0573A-71E3-4B41-9577-A52EAFB9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DB6A5-7D7A-41FA-A446-F4FC207A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EB8-9D20-408B-814C-4B07CBF0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13CBD-C168-4DD7-A9D4-488014E9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B4AD5F-6F0C-4477-9C35-08F36782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91663-DE26-4ABB-B20B-AB5A0FF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74436-FEEB-4CD1-A0DC-C1018A9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AE0AC-0AD9-41B4-A784-2255154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832FD-D99F-4F7F-B9C6-601199D9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96BE1-DE84-4DF4-9EBD-4FC6DB35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4B743-BB9C-4CCA-9E7B-6232BD7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F787B-57DC-4E44-89BB-C880586C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B85A8-4E75-453B-9D28-D5628102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B5E-9BCA-46D9-B2B6-10E08E08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140248-B055-499D-B661-740932FE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9A97A-73FB-4059-9240-5C254341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65ED9-513F-474B-80A9-CD51D2B6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FFA7D4-490E-45EF-B14E-20C84E1F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F2F05-2DC4-43B8-BDE5-6339FAA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E54C2-FF2B-4B37-8A33-F160B81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E3F1F-299B-4AA9-8EB5-94EAD38A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9BF44-08D2-4131-8EA9-8AEF781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0C37D-D148-475D-8297-726F1F1D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B5D4C-246B-4FCA-9DCD-A1E36205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FA34-F083-43E7-8CFC-351A139B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09339-440A-4D37-B6B6-D3C3FF47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31F3F-2275-45DE-8B81-3466B4CF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567BB-5141-4CD0-B43C-0A5F8A68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A9F7B0-1F5C-4B11-B255-0F12550F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E5211-EA13-478C-98D4-C2030BF1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B8A80-EF39-47D0-A190-DF9DA7E8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A1CC1D-061C-4619-A9D6-A5087DC2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BAD0F-9B9B-47C2-B97E-87AF80CD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034C6-7EB8-4231-B6D9-E93F829E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04974-A965-475F-B992-4E96950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5BED-A77A-494A-9487-110661B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A888D-00C0-4668-AEA4-0773061D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DC1817-CACD-4E61-99A0-BF481737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6A1CB-7612-4581-B3F3-BC53BDBD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3A67A-3BAC-4DE4-9197-AD7769B4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5E9B2-2786-4FDE-A4BF-7A57AAC8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90D9E-D96B-4AE7-BA09-368A449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5FCC4-B580-4F40-9A39-B2D2AC28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A023F-0FD6-4D0A-908A-2D3B8A64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35C0A-2737-4349-83EF-F79AA071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EC0BE-3AB8-478D-9028-5635FC9D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9D46-2A49-419C-A020-35C3BE53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5E67D3-26A2-467F-93C5-28CB3A08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5A24AD-94C7-4B13-A985-9F0ECF0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B8A8E-C785-4A67-BDFC-DBCDE696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8870BB-970E-447E-8E4F-ED77430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3CDD9-21BA-485E-905D-673FE59D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98BB4-90CC-43BF-83B7-41550666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8EB080-28AD-493B-9712-54B3BF0C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A6B545-FC6F-4C93-887D-C71CA7E8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CEC4D6-FB32-44AA-AB51-7D4448C7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A6C2C0-F838-46DF-A3F3-34E853E1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356E-E76B-4A3E-A703-349FFB50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B3159A-F12D-417B-A668-DC141B0F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D0CC10-43E6-48BC-8BC2-6A9DD9C1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D3CC18-2C21-4A62-B3E1-C09BC608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FEC12F-DA05-4DEA-B177-BCB9A3D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61D622-7126-4547-AB93-5BD373C0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7E9409-E901-48F2-B349-21E865A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0F21C-03EE-40AA-A5AE-9AB56EE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2997C-1CB1-4A3B-833B-71AD4ADE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D28873-39A2-4949-9CF7-2DA7A5F7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1CDF68-6586-42AB-BA49-2706EDED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F41D-C7A7-4DB9-B1F2-1C07297C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CDB616-50D3-434B-B5E8-17C6F068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C1EFF2-58C1-4A24-A8C1-686A7057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FBF6DD-CCD8-4748-A415-AA37907A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BFC5B9-70D1-4E2A-AB32-4A5D986F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D69E55-109A-45D5-B0A8-27C60AB5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0E1081-2168-44B2-A11E-E9CD2020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E82140-9693-4845-BC9A-D8F5CF59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328E35-A102-4FA3-AD24-CABFCB3B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C0916E-F28F-4DE3-B044-D0DF2158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CA848E-CFF8-4874-B1C2-3FCF71F5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4CC-E845-464D-B115-37D243CC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6B32D-FE32-43D5-A203-F1A6D6A5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03F537-947F-4BE0-9DA5-05985569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C445B6-7DF7-4252-BB13-F426ECBB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6C4A6B-0706-4BB3-B99E-6963150C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63728A-AC9B-412C-828F-AEE82782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270031-C747-44CE-A83A-08914E75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9F60EB-012A-48B2-9739-AC6D056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ACC5DA-5FEB-4F26-980C-8679BCDB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24B7C9-7626-40E7-8A63-1382DDE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3D1F8-7A58-4104-9B90-4505554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5F0A-878A-4077-8E38-D923A574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678698-E1A9-4F2C-A19C-0F4F3032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76A341-D41D-48A4-8197-68FB620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2BFEF2-BCC8-48A5-80A8-125D6BA1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07441E-3159-4014-9D96-73E5F231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D06A49-C824-462F-849F-9A0C011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1252F-1D59-4AF9-91DA-3F9FEE1D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FA20EA-766C-4D39-A600-DAF0D67B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05CC6E-F38C-49BC-9737-13F917DE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334DFD-FC82-46C3-BA5F-5C9C3F3E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6AA21F-F1B4-4B8A-9CAE-161642A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991B-B49B-498E-80D5-151F51C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395808-BBC8-4681-A094-D6469AC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EA788D-17AA-416B-A9C4-3900F76C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6A2D46-1EC5-4605-BF4F-D0DF048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23E874-4398-4827-956E-0E75D9D0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4537EB-1826-4AE3-BF69-513AD013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274B57-E4EF-4635-91F8-AB02B20C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C0BFB8-BEC4-4637-8186-02917E9C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077F52-16C0-4885-8852-D6677141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35F3E6-9155-4968-BDFC-6FFB331D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BEC306-5EE4-4CD7-A46C-FAB16AFC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0E5-6C47-4AF2-AAD8-3D7BC817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6C0FDD-3A2B-4A8E-965F-F20D01C0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9BADBF-AC95-41E9-8B4B-4F370C26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5F1A2A-1E08-435F-9034-42D88CE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1087FD-B378-41E2-983D-24A70721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EFC501-F421-4BB7-922D-8EB34DD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F69E52-AA7E-468C-87BA-F5124A72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248C80-A780-46F1-A492-EE350A6D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291F35-FCAE-4518-A350-8580ABEC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F55349-1BF6-4856-A5DC-E3DA3B7A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225688-E4CD-4289-8AA1-6D5F564B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0C58-BC00-4FCB-9247-DF4CFD3E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B1C320-9511-448D-865E-8CCF8F85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55F3E9-5EA7-4BAD-B2C5-D31527DD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E5151C-6F8C-4893-A003-F7E8B8D1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302E5B-DF48-4D0D-875D-EBBCFD4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37495A-A802-49F4-BC25-1A167EE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0DE5EB-C58D-4BAA-A164-0569175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739561-E83E-4953-8ED0-4AFA7356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D0E79B-EBEA-4C5B-8014-0EC4BC29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6B7AAE-4BED-4727-975A-B34E695D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26F594-9BE5-425B-AC84-51D34E7F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50AF-FE89-4E03-A409-ACCF9A7D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A4C112-7EF5-4E32-94B5-CB1BFA86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006081-6881-4704-AC34-F1AE7A93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7D655C-F2C0-403E-92BD-903015EB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D6996B-E6F9-4D21-B032-889AC7DD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AC16DF-8433-41CF-9205-D8BFF65D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527CDF-3ED4-48B9-88D0-BF54D91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4E799F-DE3C-4FB0-BF62-CBE486B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FED3A1-7AC9-4EF6-942B-9A9DCE1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A80525-5D49-46E1-A570-3D889E6D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7CE833-DAF8-450B-95CF-1CD5F51F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D1C2-8E4D-42F0-830D-BC89BC2B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BD0806-88DA-4608-8DF8-03B73DC1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3D76-6D9A-4833-A566-475CC97F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8E737-B0DE-40EA-A13B-4547C2D8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7A10-B403-4859-B829-D13C7259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3E15-7CF9-4245-B99B-24C143B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0A0A-C13C-4040-B41E-F9FE90FF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5E10-02F5-43CB-94A3-7FCFD01D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4117-E753-42D5-9BA2-7455CBA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3697-115E-449C-9B22-0013D0D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D7F2-BF67-4A97-92C5-3DCADB82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4A62-C3F4-47AA-BC00-485B5D23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E910A-808D-4F88-A2A3-57102D6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8BB06-C079-4893-989C-EC032323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87D3-60EC-4983-AF98-AD592E0C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F8A8-58D3-4899-A14F-64F0C2C7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7CE9-F346-414E-BDE0-0DC4F454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962ED-ABF4-43FA-9AA6-109F387D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E0C84-FD0C-473A-BB33-E0A8B30E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15245-DC28-4A98-9968-1CABDD34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E9DC5-4BF2-442A-AD34-F26D103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DB82A-32A4-42B9-8E88-DA6E578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74BA-034B-439A-94BA-5B8C7441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8D17-EA6C-4431-B5F4-4DB00088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C4C53-7569-464E-A861-6BDB98FE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559A-B0E6-4DB8-B899-6E448651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3FA5-CB21-49BD-B316-25A8207F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15D9-E7D6-40FB-BF32-C2AB8800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B3436-78E2-458F-B8FE-3B7CC105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F124-ADF1-4448-A1A4-99E12DBE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BC67-0754-4B8D-B5AF-C396F017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F2D2-7D92-4756-AF1F-2DC13919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CE5F-B4A8-4010-A8FD-1F6FABD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EAB9-4FEB-4F8D-AAC4-9A850E22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6A95-3E0F-4C5D-9719-60E6A8D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E24CF-9AC8-4991-9F59-3D532F5B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411D-0693-4A15-80EC-84BDD342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C5458-FC73-45D9-8B61-285E7BA3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39871-25AE-4D72-A174-D8CBABEE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B997-469B-4E7E-86A1-05B3768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4BB61-D76D-43E7-B74C-76638709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D6285-687D-418B-B5DF-70A27FF5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7BCE5-1113-470A-9E33-6DA0A4CB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B903-7909-4C6F-BF7C-06C1F6A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5B90-1C2A-49E5-8801-0D88B75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D007-88D0-4621-91F4-6BE41AD2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CDDC0-4932-4BFF-8D6C-A2BA4ED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ED21B-E530-4EE2-804E-890F0279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ED3DC-5F08-4185-90E2-E87F14FA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95F8A-2AA0-48C8-A47D-70108588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F9798-99B4-4625-A0F1-DD7963F0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29C5-662D-400A-8D9E-54844BD6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9835-62C0-4AE6-AD55-02CDDE5F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E57F5-C597-4B76-B376-E9F122F9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8B2E3-70E0-4DB8-BBAC-9BFD6B63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1B0BE-2776-4CB4-9B75-C04465E7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150A7-8FB0-4D65-A143-EA9DF38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03D07-513B-417B-8B35-246AEF68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3BE3B-F0F2-469B-AE59-8B911E5D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A0B0-0028-41A5-9E1A-AB3213F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98FDA-B435-44BB-B97F-FA006631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B30C4-B83C-4EA3-B30E-06A0E711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4D813-FE67-4DA2-A4CF-8F09B26B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8A8B7-EAFF-41A9-8ACD-02CB76A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B1E29-B9B9-492D-9986-518B277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A76-F14D-4F1F-B822-57459FCA71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09EE-9DA6-4E6D-B5FB-CB6E191DAC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5D6A-0287-4EA7-B20A-817992BE81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99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C79F-3B13-4D09-B694-CCFAA18194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385-8EBD-44E3-BB8F-0DB79E10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58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62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dt" idx="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66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70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EAF1-5CD9-4236-B81C-D7304F16C3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9F46-5219-48BA-B212-84C64DDFDE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39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40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43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A4E-F011-4194-A591-B1AD40392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783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784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787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5180-7E36-4532-A5C8-9651D3C98B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8D84-9FB3-4621-A6FF-CAED301907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873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874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877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9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AF7-CF64-4BF7-86A9-E2C39E418E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922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923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926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8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1F82-1771-4910-B7D4-F024CF748F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97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97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97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1B59-13A2-49BE-BC13-801733B41D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020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1021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1024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6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DFB0-ECF9-4F1F-9A0A-7BA33D9AC6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069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1070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1073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5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2542-6EA9-4A17-BECF-4C67F66722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118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1119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1122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4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1266-249B-4BAE-B948-2F35370DE6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167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1168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1171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3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895-D83B-422A-8767-C2BD8B7CEC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216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1217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8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1220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1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2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EC1C-AD39-4EB5-8619-79A11A2B5B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0B8E-3AF7-444C-A5AB-2FDE5E2041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265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1266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1269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1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50B1-CF4D-4CA3-9D9E-61F0E5B91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FA3A-68BD-4A81-922B-0C95D2594B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A672-02E0-4FC3-9771-97B83250AA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3D91-05D1-4BB0-A8B3-C24B474E4A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9F6-74B2-4D5B-BA7F-581A5B6417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7C0B-C3A0-43F9-B234-5B347F3130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8D0-B601-40D8-A2B6-3E1EEA42E7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WordArt 5"/>
          <p:cNvSpPr txBox="1"/>
          <p:nvPr/>
        </p:nvSpPr>
        <p:spPr>
          <a:xfrm rot="5400000">
            <a:off x="3409560" y="3016080"/>
            <a:ext cx="4876560" cy="825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14" name="WordArt 7"/>
          <p:cNvSpPr txBox="1"/>
          <p:nvPr/>
        </p:nvSpPr>
        <p:spPr>
          <a:xfrm rot="5400000">
            <a:off x="1604520" y="2877840"/>
            <a:ext cx="3085920" cy="83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5050"/>
                  </a:solidFill>
                  <a:miter/>
                </a:ln>
                <a:solidFill>
                  <a:srgbClr val="002699"/>
                </a:solidFill>
                <a:latin typeface="隶书"/>
              </a:rPr>
              <a:t> </a:t>
            </a:r>
            <a:endParaRPr b="1" lang="en-US" sz="6000" spc="1" strike="noStrike">
              <a:ln w="12600">
                <a:solidFill>
                  <a:srgbClr val="ff5050"/>
                </a:solidFill>
                <a:miter/>
              </a:ln>
              <a:solidFill>
                <a:srgbClr val="002699"/>
              </a:solidFill>
              <a:latin typeface="隶书"/>
              <a:ea typeface="隶书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1b36"/>
                </a:solidFill>
                <a:latin typeface="Maiandra GD"/>
              </a:rPr>
              <a:t>一滴水经过丽江</a:t>
            </a:r>
            <a:endParaRPr b="0" lang="en-US" sz="72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329680" cy="22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4.</a:t>
            </a: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根据对课文的品读对语言的品味，在下面的横线上填上恰当的词语。</a:t>
            </a:r>
            <a:br>
              <a:rPr sz="4400"/>
            </a:b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428760" y="2286000"/>
            <a:ext cx="7643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这是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_________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的丽江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美丽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祥和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宁静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美好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悠闲、和谐、幸福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5.</a:t>
            </a: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作者从“一滴水”游览丽江的视角来展开描写有什么好处？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85840" y="2071800"/>
            <a:ext cx="84009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丽江水多，水美，选取“一滴水”游览丽江，富有地方特色；可以多角度展开描写；如童话般奇幻，充满童趣。 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28840" y="0"/>
            <a:ext cx="52149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写作特点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357120" y="785520"/>
            <a:ext cx="86155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构思新颖，视角独特 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本文作者以第一人称写一滴水的旅行，从古代到现代，从雪山到平原，全方位多角度地展现了丽江的自然景物、人文风情，构思新颖，视角独特，读来令人倍感亲切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 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线索清晰，借物抒情 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作者以风趣幽默的方式讲述了“小水滴”经过丽江的情形，流露出作者对丽江无限热爱的真挚情感。 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331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主旨归纳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43" name="矩形 1"/>
          <p:cNvSpPr/>
          <p:nvPr/>
        </p:nvSpPr>
        <p:spPr>
          <a:xfrm>
            <a:off x="792000" y="1844640"/>
            <a:ext cx="75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本文以第一人称写一滴水的旅行，从古代到现代，从雪山到平原，全方位多角度地展现了丽江的自然景物、人文风情。同时，文章通过一滴水的曲折经历告诉我们要不畏艰难、勇敢追求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786040" y="274320"/>
            <a:ext cx="39290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Maiandra GD"/>
              </a:rPr>
              <a:t>作业</a:t>
            </a:r>
            <a:endParaRPr b="0" lang="en-US" sz="5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mbria"/>
              </a:rPr>
              <a:t>教科书</a:t>
            </a:r>
            <a:r>
              <a:rPr b="0" lang="en-US" sz="4800" spc="-1" strike="noStrike">
                <a:solidFill>
                  <a:srgbClr val="000000"/>
                </a:solidFill>
                <a:latin typeface="Cambria"/>
              </a:rPr>
              <a:t>112</a:t>
            </a:r>
            <a:r>
              <a:rPr b="0" lang="zh-CN" sz="4800" spc="-1" strike="noStrike">
                <a:solidFill>
                  <a:srgbClr val="000000"/>
                </a:solidFill>
                <a:latin typeface="Cambria"/>
              </a:rPr>
              <a:t>页“写作实践一”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580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作者简介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394920" y="1483920"/>
            <a:ext cx="460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阿来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，藏族，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</a:rPr>
              <a:t>1959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年生，四川马尔康人，作家。代表作有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</a:rPr>
              <a:t>《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尘埃落定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</a:rPr>
              <a:t>》《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空山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</a:rPr>
              <a:t>》《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格萨尔王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</a:rPr>
              <a:t>》《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大地的阶梯</a:t>
            </a:r>
            <a:r>
              <a:rPr b="1" lang="en-US" sz="3200" spc="-1" strike="noStrike">
                <a:solidFill>
                  <a:srgbClr val="c00000"/>
                </a:solidFill>
                <a:latin typeface="华文楷体"/>
              </a:rPr>
              <a:t>》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等，其中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尘埃落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</a:rPr>
              <a:t>》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</a:rPr>
              <a:t>获第五届茅盾文学奖。他的作品往往有特殊的藏文化气息，文字干净、隽永、富有诗意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18" name="Picture 6" descr=""/>
          <p:cNvPicPr/>
          <p:nvPr/>
        </p:nvPicPr>
        <p:blipFill>
          <a:blip r:embed="rId1"/>
          <a:stretch/>
        </p:blipFill>
        <p:spPr>
          <a:xfrm>
            <a:off x="5211720" y="1620720"/>
            <a:ext cx="376092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代表作品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320" name="Picture 5" descr="C:\Users\lijianfang\Desktop\阿来2.jpg"/>
          <p:cNvPicPr/>
          <p:nvPr/>
        </p:nvPicPr>
        <p:blipFill>
          <a:blip r:embed="rId1"/>
          <a:stretch/>
        </p:blipFill>
        <p:spPr>
          <a:xfrm>
            <a:off x="4788000" y="1773360"/>
            <a:ext cx="3960720" cy="475128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6" descr="C:\Users\lijianfang\Desktop\阿来1.jpg"/>
          <p:cNvPicPr/>
          <p:nvPr/>
        </p:nvPicPr>
        <p:blipFill>
          <a:blip r:embed="rId2"/>
          <a:stretch/>
        </p:blipFill>
        <p:spPr>
          <a:xfrm>
            <a:off x="611280" y="1773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重点字词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23" name="内容占位符 2"/>
          <p:cNvSpPr/>
          <p:nvPr/>
        </p:nvSpPr>
        <p:spPr>
          <a:xfrm>
            <a:off x="395280" y="148428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1b36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3"/>
          <p:cNvSpPr/>
          <p:nvPr/>
        </p:nvSpPr>
        <p:spPr>
          <a:xfrm>
            <a:off x="358920" y="207648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盈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yíng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喧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哗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xuān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喉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咙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hóu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驿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道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yì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甸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diàn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矗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立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hù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目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眩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神迷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(xuàn)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闸</a:t>
            </a: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口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zhá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豫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yù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徘徊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áihuái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蘸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zhàn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          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拭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ā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内容占位符 2"/>
          <p:cNvSpPr/>
          <p:nvPr/>
        </p:nvSpPr>
        <p:spPr>
          <a:xfrm>
            <a:off x="395280" y="148428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1b36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30715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重点词语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27" name="矩形 1"/>
          <p:cNvSpPr/>
          <p:nvPr/>
        </p:nvSpPr>
        <p:spPr>
          <a:xfrm>
            <a:off x="0" y="428760"/>
            <a:ext cx="892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驿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古代传递政府文书等用的道路，沿途设有驿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草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长满野草的低湿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矗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高耸地立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苍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（树木）苍老挺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徘徊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比喻犹疑不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照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在大门内或外对着大门用于遮蔽、装饰的墙壁，也叫   “照墙”“影壁”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历史上的人物事迹、制度沿革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彩斑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形容颜色多，色彩错杂灿烂且耀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喧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喧闹沸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581040"/>
            <a:ext cx="47624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1b36"/>
                </a:solidFill>
                <a:latin typeface="Maiandra GD"/>
              </a:rPr>
              <a:t>词义辨析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329" name="Picture 5" descr=""/>
          <p:cNvPicPr/>
          <p:nvPr/>
        </p:nvPicPr>
        <p:blipFill>
          <a:blip r:embed="rId1"/>
          <a:stretch/>
        </p:blipFill>
        <p:spPr>
          <a:xfrm>
            <a:off x="611280" y="1447920"/>
            <a:ext cx="792144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1.</a:t>
            </a: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用自己的话概括一滴水的经历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玉龙雪山山顶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驿道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纳西族村庄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草甸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落水洞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黑龙潭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玉河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四方街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中河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纳西人的院子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兰花上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中河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Cambria"/>
              </a:rPr>
              <a:t>金沙江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6868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   </a:t>
            </a: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2.</a:t>
            </a: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丽江作为历史文化名城，它的建筑也是别具一格的，作者又向我们描绘了丽江哪些建筑呢？思考这些建筑有什么特点？ </a:t>
            </a:r>
            <a:br>
              <a:rPr sz="4400"/>
            </a:b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0" y="2786040"/>
            <a:ext cx="86868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ambria"/>
              </a:rPr>
              <a:t>四方街</a:t>
            </a: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Cambria"/>
              </a:rPr>
              <a:t>木府</a:t>
            </a:r>
            <a:r>
              <a:rPr b="0" lang="zh-CN" sz="3200" spc="-1" strike="noStrike">
                <a:solidFill>
                  <a:srgbClr val="ff0000"/>
                </a:solidFill>
                <a:latin typeface="Cambria"/>
              </a:rPr>
              <a:t>：“那时是明代，纳西族的首领木氏家族率领百姓筑起了名扬世界的四方街。四方街筑成后，一个名叫徐霞客的远游人来了，把玉龙雪山写进了书里，把丽江古城写进书里，让它们的名字四处流传。”</a:t>
            </a: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61434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3.</a:t>
            </a:r>
            <a:r>
              <a:rPr b="0" lang="zh-CN" sz="4400" spc="-1" strike="noStrike">
                <a:solidFill>
                  <a:srgbClr val="001b36"/>
                </a:solidFill>
                <a:latin typeface="Maiandra GD"/>
              </a:rPr>
              <a:t>品读“水”的形象。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这是</a:t>
            </a:r>
            <a:r>
              <a:rPr b="0" lang="en-US" sz="4400" spc="-1" strike="noStrike">
                <a:solidFill>
                  <a:srgbClr val="ff0000"/>
                </a:solidFill>
                <a:latin typeface="Cambria"/>
              </a:rPr>
              <a:t>_________</a:t>
            </a: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的一滴水。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憧憬和向往美好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执着追求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敬仰传统文化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          </a:t>
            </a: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充满好奇和热情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Cambria"/>
              </a:rPr>
              <a:t>积极快乐</a:t>
            </a:r>
            <a:r>
              <a:rPr b="0" lang="en-US" sz="4400" spc="-1" strike="noStrike">
                <a:solidFill>
                  <a:srgbClr val="ff0000"/>
                </a:solidFill>
                <a:latin typeface="Cambria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语文备课大师 www.xiexingcun.com【全免费】</dc:creator>
  <dc:description>语文备课大师 www.xiexingcun.com【全免费】</dc:description>
  <dc:language>en-US</dc:language>
  <cp:lastModifiedBy>Administrator</cp:lastModifiedBy>
  <dcterms:modified xsi:type="dcterms:W3CDTF">2018-05-09T10:20:58Z</dcterms:modified>
  <cp:revision>81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