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98B10-13BB-4498-B714-3D95952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34CED-B5DC-427D-A23E-01236073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EEE23-1AB4-42F9-9372-0AF8FF8C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E8E07-00DD-4C32-8326-5FF626C0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6EF21-3219-4369-8938-1CDD43A1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685C5-93D8-4739-8FFD-0139D4E4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1A9F7-63A7-4BD3-B1B1-27701AC5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788FE-9999-4BD1-95F7-45D60DB9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138DF-317D-4D5E-8E7E-F18EA90C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D2CD0-3BE7-4C5F-B99E-FA1D5124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A28A8-94DB-4D71-9F20-98A813CF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A1D81-9A83-4C95-9062-FD26219D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A7DA1-4581-42E8-9BD3-5D6809A7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3BCF4-F169-4C2E-83BC-647EB1B8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D7CA7-5D3F-4EB5-A524-EC07BDAB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6AD9C-883F-46A1-BE6B-0CD7AE1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4DE1D-CCBD-4FF0-BA92-9F173B4A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43A2B-1E17-4077-A414-6AD519EF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47500-5DA3-44B3-A0CF-AF984A9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184B6-63C2-4508-834E-62724225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030FD-AADD-42DA-81AB-5CF1C728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FB6AC-84CB-4C44-A127-3B02C0E9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31E33-C1AE-42DB-861E-13C86CDC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BE5D6-1FAC-4570-AD6E-967391BC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CD580-EA33-4B5B-A32E-07903894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77EC0-2305-4374-8F63-7F16A369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BE7A0-F65A-4277-8B4C-0FA1B5D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1BCF7-8494-4E44-8077-319A14E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42A19-2BD4-4DD9-A01F-0F72E1D6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B1933-FFEC-4970-B669-6E5DF97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0AF-DF6D-4076-B741-D61A4712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3AB64-2726-4397-B78F-E563568B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11DBC-8511-4ED0-9280-7FF6D3FE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EA55D-E76B-4F1D-AAAD-D13199EF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BE4FF-6688-4BD9-A2C4-C79D1DA9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A496A-54C3-455A-9F38-FC83D6EF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01BB1-4CBE-4B88-9624-8572B79F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B1948-7C91-4D50-A2AA-82C78063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42058-A534-429D-A0E2-C4643DAD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95CE8-5E10-4CEF-B1E0-EAC5F468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22724-8208-447D-8BA3-F6549EB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669-DF8D-463F-8D87-CFE910ED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E17F9-4168-4309-8AE8-80C23660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E5B30-BE38-4CDE-A46A-39207C2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11240-EECF-47BE-819B-1945648A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86FB8-2F3B-44F8-976A-622B63B7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25220-B041-4749-8FF8-D6803179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A1BF7-80B2-44AD-BA82-0C24F961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0068C-7D76-48DC-AA7E-EA2B970F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C8AA3-E6DA-4CA8-BD1F-2A393A77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F9100-C18E-42D7-A3DD-5A4703DF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50FE6-A7B5-4B9C-B18C-A8B2AD35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200-952D-4491-8A4D-4D2E3C7C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2CCF7-BBEE-4158-AE1B-ECD609E1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C8CAB-F197-402C-AD15-90DAD289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2202E-F9CC-4F7D-BC37-9BD23879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5151B-244A-4122-B32C-C93AEF4C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01973-8BB9-4B73-BA3B-C0E9B6BD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432A1-A9CC-4780-90B1-1B633A8C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DF7FB-2746-4A5B-911A-1173BD19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0EE50B-C4E5-40C8-9122-29310120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612AB-8D0E-43EF-99EE-8B236DF5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EBD85-741D-476B-9EAC-94E91E15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863-6D4E-49AB-B111-AECB6A74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07AD2-DE3F-4980-BF0E-F93F3191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A066C-C491-4613-AA77-A8ABE24A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AFCB9-EDEA-4BEB-9FD5-17F6CB39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0BF3A-3E91-4A91-B903-B28396B3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A6AE4-7545-4801-A0D5-F8E79F3B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EB9A1-CC78-43A0-9614-081DE3AF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2EB68-35A7-4E5B-9472-FCB7C81C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498ED-B44E-481B-99B5-E6956881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CDDEA-9809-4B98-9EFE-7C99DC96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91E-150F-4346-BD0A-C87C0414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E1C-EC12-4134-9A9A-F8AA2F30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E2E-FE39-4B6E-8B08-9E6BD597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C64-6D6C-463C-B2EC-47AAFAF7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847570-2859-43A5-8995-6B717786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8CD39-E14C-4FB2-AA8E-E57BFF40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07FC9-9884-4128-8318-99237797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BB407-F670-4302-A213-F126A067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A3302-BB15-4085-A1A8-E9AB031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E66-2ADD-4074-8E32-33151EDF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D9512F-8F23-45C1-BE21-A2E70354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9C1EE-9379-4227-82DD-2E48ED3E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D0C1A-E7DE-4CAF-8EF2-06CA5C6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109E2-2DB6-4BC7-9271-0375DED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D3C53-12F8-4E25-8D73-C56BE0D9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FEAA9-68C8-49DE-9C33-01164AFC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55C57-53A3-46A1-BF13-56257115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822A2-E473-4C11-9F7E-175DE4FE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BC26BE-F71A-4858-89A6-874ECD68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5353E-0427-482E-B9F2-D095C915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161-94FE-47F6-840D-672A6ACE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FDE7D-5072-426E-9324-6E620C27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4AC25-E268-4E5F-8AAA-6AB84D32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D3139-6F19-433C-B190-A11EBC95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C03D6-BA1E-41E9-BE5E-A794A3A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FED37-F744-4CC0-A4DC-1FC7560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14876-74C0-4074-9960-B1DCEE5B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7BBE0-37D5-4889-B420-A3B7B3F1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6CBA5-196F-4404-81D5-D1099C80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CE7B8-6EFC-4A53-B835-69B5622B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6D332-0BF3-4F96-96C4-48D48A10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D04-912F-43A0-AD0B-4BCD0FB2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6B1023-FA3C-4A3D-920B-F2A18877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D4EB9-6F6E-4572-AB23-DFB38AC6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7F6D8-AD19-451C-A3E1-03A8E273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F35E2-118B-4A1C-BF86-8D49C5AA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5F6F3-BD7E-40D8-9C38-603AF96C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95AEA-5E57-4D76-8977-81C03A4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AB2346-35F1-469E-8D77-186CC18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E123B-8BFA-479B-848A-309A1F2B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DEA3A-753F-434E-8A1F-E821E207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491EF6-8690-408E-99AD-D626A9D7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393-FD26-472F-9C94-BD5E16AA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125A3-2A36-49B1-939D-6D9C00D6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B74B71-DFF1-4267-98B7-7252EE2D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9B4E7-6069-4326-B23B-A1A7186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AD741A-D418-4B1B-A009-0C2921C8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4D822-BBDD-445B-9E43-0DDBE75E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6592D-FE43-4D4B-A2EA-2E689421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EC0DD-4C60-4B23-AFD9-D09C9FA2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FE4A0A-D264-4081-A548-FE8F84C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084A8C-A2D7-42F2-A002-489C8FF7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BB3AF-1375-46B2-A2B1-6D5B0F2E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AF0D-5003-4A1F-A214-4FF6EE5E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7AD68A-CF86-4A8A-BB5C-32A78817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E20F8-8EF9-4A76-97A6-3295180A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51DB7-142D-411A-9315-4BD79604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FC7857-4A7E-4C8B-8D75-3F4C8D5B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B6B88-F46F-4515-8889-B63B4328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095AF3-0A3F-430E-B11E-C23183D6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E9A37-E0A3-4D5D-B0C7-78EB4085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F8E45-3EF0-4A53-B668-7FB7D347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DE56E-18D4-4C7E-8EEE-E4B00807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0353FE-13DE-491E-8A50-742B531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FE37-E6D4-475C-B8B0-029ECAD0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4F85F5-99AD-4AFC-92F8-C0FA0F03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C42540-6257-43D6-A645-C47E3FB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C2B9B-6F99-418C-80F6-272776FB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D2282-3B0D-4AAE-9D35-98AE7F5B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FBA75-5F19-4BB3-94A8-61DAB050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E48BD-41C9-4879-BDF4-E6493816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173A0F-634A-4338-8FCA-E2ECF768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210142-1513-491B-AA64-0FA9FBED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AADC7E-B474-4D24-AFD0-FD8F23EC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E8A8B-E313-4311-98C6-F9518C1A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5D12-39E2-4882-8719-8CE13CE8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0C2EB-32C2-4017-BB9F-B56DC53E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C68659-6EDE-44E0-A5F4-EF7B4F9D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166155-28D7-48DA-A860-28CF101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F5513F-B435-4737-A8E0-807E2D5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E8BDB-8C5A-4148-B51A-26DD5EE8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342F6-A59B-484E-9C54-192296CB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D84C79-3984-42B7-87A6-0158BB3D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F763D1-4A92-44DD-B60C-C7306DF0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DD89B0-86BA-4996-9414-3E04A42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95D85E-8401-4EDD-9808-2CA8EDF0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8EEF-1118-4014-8792-591FE5D8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1BDD74-8ACE-437F-9132-C5B61D33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A37B06-49F9-4553-9E42-47DB138C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08E71E-FFEF-4673-8F65-4AF25955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EF8152-57FF-417E-BC97-2958D436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E0D97-6EF6-4D75-BA50-F78BDE6B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32C790-5E52-4B4D-8AEC-66CEE2F9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9E9AE1-3094-4A43-888E-0BA1A8C2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67D6A-DB8E-409E-BDDF-0B3EF3ED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C02266-24CC-46E9-B84A-0AA59D36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B3C871-8DE0-4AF2-B095-D9430422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44F6-3174-4935-AA85-61FF81A0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59ADFA-A6FD-4FB5-AC67-AB72058A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777C34-E4DA-4F4D-A0C0-E0723024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F876F-C850-42B3-BE98-226F38DC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17DFF-D8C9-440B-93BA-0EC14B39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4168AC-E320-4381-90E4-C1CEBCFA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A9633-6619-497C-AAB2-279B15F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09E000-5E07-40DE-9E1E-3A7FB901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44680E-E9CE-428A-859C-9D64742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496D93-E7C0-431B-9528-07FB156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F40038-1657-482B-84DD-5CA52950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AC52-107F-4B4D-B4D7-E1CDE6EE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609B25-A061-4C31-AF1F-C04126F0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8D65A9-2B6D-4FBC-98BB-CD16BAF2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9C68BB-5F00-4F09-B71A-72248969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5FD48D-84A1-420C-AC2B-92DE06A9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D9F436-7289-46B2-BEF5-71FAA644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0C8D9F-CB67-4937-BFD8-82879CA3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DBEA2B-29EC-4A10-B284-32B3D32C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FEC8C6-E1A8-4B76-ADC1-E455A9FA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258973-5941-48A2-AE02-D555F56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69583A-EB49-4CE8-A457-CC01E43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7405-81AC-4D76-8F91-6DA3E5D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EA217B-2DEE-460F-828D-2E0B144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6F9514-51F9-4D2F-B139-5F580A9F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751646-16B9-40A2-9A3C-3107D932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4F65F7-F400-41D1-B113-3A60E2A4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4C447F-436A-4436-AFD3-CC4A129C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3A5626-DB51-4D54-8F94-4AAB6077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E76A50-DEC4-489E-B568-5BBF81C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A6FC13-BF3F-4E7F-9179-3AEB1CA4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AD79B3-327A-4BA8-B52D-3C955084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D2D5DA-01D8-4AB3-BAA3-A4D7BCD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F03B-B9D9-44AB-AD8D-51899D72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2C39E7-DC12-4560-B1DC-61B06601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2CDB8C-144B-4C69-9B5E-16D0DD15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DBE126-B69D-42C7-A037-975C2CC0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203BBA-6ADE-41F1-9086-1A46DC93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6ECB1F-61D8-4285-96CE-F2E640B7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A78622-97B5-42C5-A86D-9662F383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A7979E-7C1A-4DF5-A7AA-988A33DE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A6C385-1534-42A0-9987-09723D0F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5FE5B7-C10F-4195-9763-479E29B2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4E90F2-F1F7-4B65-BDB9-3EAFA297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7003-9C3C-4879-9D9D-476C869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AB2BB8-1559-4705-A9E4-D2CF5495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B25DAE-86FD-4E3C-A389-DE70462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DA5AC5-FAA2-456C-B04E-11B06D1A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DB4873-E7BB-4C44-A3F7-0043DAB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82BA3E-2757-4D24-B536-275EF9C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62C1F0-2CCB-4673-83C5-0401BB6F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71CEF8-A00A-4BEC-9A77-7A89B9B8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B3BD8C-10CA-44E8-A63E-4E996AD2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0BB5D0-6C4F-4CEF-935D-917A7175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D9190D-7EE0-4A6E-AB5B-8FAAFA99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E277-445B-4E5B-9063-8AC72E91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BF771B-6FD5-4A44-9CDF-BFDB7B20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13E1D5-5A46-4F49-80B1-2C3C927E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545BAA-9A91-400E-BA2C-88CE7864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C0E0F9-8100-434A-A5BF-F8D85055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3231B6-5EFB-46F4-9718-2DF0B61B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B76CD6-584B-4563-98DC-6F745DCB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000F44-DCD2-4E71-9EF2-BDCB54E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A501F8-7123-497B-9242-386F59D9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A6E029-C757-4F84-B983-0E15FF1C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EF7F46-741B-4E93-85D4-CE89980E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3345-6D27-4091-A40F-88F1C958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66B7ED-332A-4947-B710-F9E98077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2CA626-2DD4-4F01-90BE-A8795058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DA33F5-7600-4F90-AF95-BBCA6BB2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1C04AD-D420-4BC0-9C74-F2D102F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92391B-7D3A-4782-B205-BC42E0C6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04B257-AF0E-4772-B7BF-CBCBC5E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D542B2-A13E-4F3C-9D5C-FC2F15CF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98F2BC-2E18-4C1C-B62E-05C32D4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42FA7E-805F-42DD-84B5-83D7499E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62DF7D-8330-4BE8-877D-11B8BDDE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926F-8E81-4F47-ACB0-EFFF2E29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080759-7879-4857-9C7D-A36BFAFF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7E32F1-B90F-4D3D-8CC5-1B94C0D4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887D31-8EF2-4CF7-8456-493068B9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4810DE-FEBC-49C3-AC30-DE86AD33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FC4B7E-314F-4AF8-AF66-7503DA41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A003C6-BCC7-4716-8365-6A2CFFEB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3C6712-E82F-472B-BBD1-9850A91E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9A973F-5CDC-4C93-9753-B725728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956818-74BD-4179-9DFE-2CA5800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A566ED-90C3-438F-B591-F9ECBA8E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ADA5-B3B6-40F4-BAE6-1A4C154B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CD4946-C48B-4364-A7F8-314A3CCE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BDC573-EAF2-4EA5-AA8F-B4A70E18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1AFC92-CACF-4CA7-82C5-A701740C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92FC4E-9F88-44DE-A871-DDA39CF7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19A88C-165B-4387-866D-7431624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DFB803-AAF1-4DFB-9452-3B89D29D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D70FE9-1B6F-47E9-B08C-5ADDE67F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416E35-A47F-4679-9AB7-4C36CBE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ABB1E5-4877-419D-9E54-3DE58FE1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B08CD5-00AA-4CE9-98A0-05F885AE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8406-99D4-4233-948B-0954B92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96E669-779C-47DC-A5B5-D11A670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58DE6D-DFB7-47B3-A4F8-99D4AAD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BFA4DD-E0EA-41F3-B6B2-7C3E9920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A58EF5-EF37-4022-B86F-69F31187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8C73DF-3F98-47AF-A94A-AE7251C7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A0DE-D493-4ABE-BC4C-BE5E5180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4603-4E86-4473-B444-FEAC7263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68E71-A88E-4757-8EAD-152671F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2C56-DD07-4D25-818D-B30268F6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7D6F-FDA4-4A33-A30E-A914C808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08A0-0FAE-419F-BDD2-2591B38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FE45-1E99-4868-90A2-DC66E47F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7FB9-637E-44ED-AE11-F420FF99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A605C-EF86-4E8B-B4AE-3EB33ED8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049EA-FC08-4069-AE7B-1FB7BB77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BB54-A567-45E8-B4A6-0FE78834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6E49-6AE9-4041-A20E-FFB8AE3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401C-265E-49BB-8773-85A82C30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254A-E468-4A2B-A750-9CD3428F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171D6-A1A6-487D-9C03-52CFC72F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280B1-3726-4FD5-9555-32623B83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9785-EE3A-4B19-AB2C-CD5C729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9F160-9E79-451D-A47A-7019CD56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97086-4398-488A-BFF5-7AD3206D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5FFC-BFBE-43EC-A2A3-A42D17BE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22ABC-822D-48F0-ACF2-1694D10B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D918-202B-42D8-A9F2-9BF1C033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90DD-3FF2-47E1-B376-5B6461F1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42E0-D7EC-4E78-9F6E-D39262D9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3CA71-FD5C-402F-BF32-C2F3E428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01DFD-CE1A-4496-840F-DB3F3A91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A3436-85CB-44A3-AD90-B10C6AAD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DEDC5-4C13-450D-8066-D72921ED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772B3-00FE-45CC-949A-EED6A27C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8E075-701B-4BA1-8C57-6BDBB92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144EB-2D8C-4ECE-B300-0732DB20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C8946-914B-4CFA-9105-E8D586C1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AC25B-C5DC-4026-A7E9-A10B23F7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6EA1-EC25-4F4D-91F0-1704627D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8AB24-CFF2-4EAE-A7F5-39BD01DB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6350A-C68B-4E30-86E2-6F7AA5A2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12EAF-F200-49A2-BCE1-34707D48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26641-F5B1-4081-9F46-55650CF7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AAA0-0B69-4EC6-8968-AE8A4F1C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8A23A-2CE7-4EAD-BD0D-35C88A9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2CF1A-127D-42D9-9FA2-C9DEAB1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88A70-6FDC-436B-9327-CD396790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22920-B874-466A-97A0-318F6A5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C8850-9AB8-4C4C-ACF3-0349896D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8C55B-C404-4B9F-97AF-16DEA987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93C66-E403-462A-B79D-DF0116EF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B85F9-74C9-4781-B28D-18C43EA5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34314-323B-4BA8-AD1F-460B361E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5C9C7-B1F7-48AC-8E82-2991E28F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093E9-395B-4971-831A-F7205EC4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BEF4C-A2D0-4124-A8DA-B50CB265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79678-C01B-40D7-B2E7-48A3FEEE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EB7F9-EEDA-466B-8D4E-CDF55A9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7CF85-A918-4D78-B264-188809C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1FF7E-629E-4777-BECF-BB33C572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C174B-CC6B-4620-BF39-87822FF5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36780-D272-43C6-8C32-0DEC1CBA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C4EA6-B267-4EA4-A8AC-4C07CB62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8E2DD-5493-4F8A-BAB5-004068A6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F1D5-C556-4A90-99A1-EAB58893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5A731-EB2A-4FCB-8F6F-C7C533AB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245-0284-4ED8-A61C-82AA0A949C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4CE4-AD52-476A-82E4-5B98A00C46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B71D-05FA-427B-8279-8F2697DE2F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70DF-199C-41AD-85E7-68E1EE1CF2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532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AFE1-5BAF-4345-B878-E8FE91158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613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dt" idx="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653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693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AC71-5365-41A3-9518-27679C0C87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09AA-732F-4E38-8384-AEB9A5A7C9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47E7-F390-48C2-A11B-1B647AD56D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4F99-95D0-46CE-882A-3C8DCEC486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7E06-A093-4740-983E-849711F407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D278-BEAF-454A-B915-F2314F9D73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E13A-0D1D-4958-AA3A-29C9C384E4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86C7-004B-43F5-AAA9-D3DD533CF6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FD87-1EEA-4753-8D6D-4058839355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32DD-AF98-406C-B8AC-6F3AF1F434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C69C-81B6-403F-A297-21A9685CCE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9860-1B7E-4A45-920A-7DFE356AD4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36F2-BA93-48C9-840A-E194A3A808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1D65-AB00-4D76-93C0-03E6812E79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C73B-B461-42C1-A77F-B2566A836C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469C-BCB9-46BD-8918-3DED657D94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21E8-066E-456E-AD09-C797E8109B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EDF0-0B32-43F6-A1C6-7081417221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593-20F3-4061-ACE0-0F7143BBAF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73C5-0221-46FB-B4A9-97DB636EAB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9DD8-6E39-4E41-961D-3CD56B2C69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B5DF-8630-4819-9A70-F774D97D8C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58E7-7C6C-4983-BCF2-309027DC73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ubTitle"/>
          </p:nvPr>
        </p:nvSpPr>
        <p:spPr>
          <a:xfrm>
            <a:off x="905040" y="11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Calibri"/>
              </a:rPr>
              <a:t>听歌：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彩云之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Box 2"/>
          <p:cNvSpPr/>
          <p:nvPr/>
        </p:nvSpPr>
        <p:spPr>
          <a:xfrm>
            <a:off x="108000" y="981000"/>
            <a:ext cx="633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彩云之南我心的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孔雀飞去回忆悠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玉龙雪山闪耀着银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秀色丽江人在路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彩云之南归去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往事芬芳随风飘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蝴蝶泉边歌声在流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泸沽湖畔心仍荡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Box 3"/>
          <p:cNvSpPr/>
          <p:nvPr/>
        </p:nvSpPr>
        <p:spPr>
          <a:xfrm>
            <a:off x="4067280" y="2997360"/>
            <a:ext cx="7024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记得那时那里的天多湛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的眼里闪着温柔的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世界变幻无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今你又在何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原谅我无法陪你走那么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别人的天堂不是我们的远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虚此行别遗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徐千雅 - 彩云之南.mp3" descr=""/>
          <p:cNvPicPr/>
          <p:nvPr/>
        </p:nvPicPr>
        <p:blipFill>
          <a:blip r:embed="rId1"/>
          <a:stretch/>
        </p:blipFill>
        <p:spPr>
          <a:xfrm>
            <a:off x="6012000" y="1268280"/>
            <a:ext cx="1046160" cy="104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277" fill="hold"/>
                                        <p:tgtEl>
                                          <p:spTgt spid="1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重点字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内容占位符 2"/>
          <p:cNvSpPr/>
          <p:nvPr/>
        </p:nvSpPr>
        <p:spPr>
          <a:xfrm>
            <a:off x="395280" y="148428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3"/>
          <p:cNvSpPr/>
          <p:nvPr/>
        </p:nvSpPr>
        <p:spPr>
          <a:xfrm>
            <a:off x="358920" y="207648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盈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yíng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喧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哗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xuān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喉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咙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hóu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驿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道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yì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甸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diàn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矗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立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hù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眩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神迷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(xuàn)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闸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口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zhá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豫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yù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徘徊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ái  huái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蘸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zhàn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    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拭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ｓ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ì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内容占位符 2"/>
          <p:cNvSpPr/>
          <p:nvPr/>
        </p:nvSpPr>
        <p:spPr>
          <a:xfrm>
            <a:off x="395280" y="148428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72600" y="189000"/>
            <a:ext cx="47624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重点词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矩形 1"/>
          <p:cNvSpPr/>
          <p:nvPr/>
        </p:nvSpPr>
        <p:spPr>
          <a:xfrm>
            <a:off x="395280" y="98100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驿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古代传递政府文书等用的道路，沿途设有驿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草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长满野草的低湿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矗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高耸地立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苍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（树木）苍老挺拔。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徘徊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比喻犹疑不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在大门内或外对着大门用于遮蔽、装饰的墙壁，也叫   “照墙”“影壁”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历史上的人物事迹、制度沿革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彩斑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形容颜色多，色彩错杂灿烂且耀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硕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非常大；巨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喧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喧闹沸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331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Calibri"/>
              </a:rPr>
              <a:t>走进课文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矩形 1"/>
          <p:cNvSpPr/>
          <p:nvPr/>
        </p:nvSpPr>
        <p:spPr>
          <a:xfrm>
            <a:off x="157320" y="1197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是一片雪，轻盈地落在了玉龙雪山顶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一天，我醒来，发现自己变成了坚硬的冰。和更多的冰挤在一起，缓缓向下流动。在许多年的沉睡里，我变成了玉龙雪山冰川的一部分。我望见了山下绿色的盆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丽江坝，望见了森林、田野和村庄。张望的时候，我被阳光融化成了一滴水。我想起来，自己的前生，在从高空的雾气化为一片雪，又凝成一粒冰之前，也是一滴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一部分：（第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段），点明“我”的身份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滴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331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Calibri"/>
              </a:rPr>
              <a:t>走进课文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矩形 1"/>
          <p:cNvSpPr/>
          <p:nvPr/>
        </p:nvSpPr>
        <p:spPr>
          <a:xfrm>
            <a:off x="324000" y="1052640"/>
            <a:ext cx="85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的，我又化成了一滴水，和瀑布里另外的水大声喧哗着扑向山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已经奔流到了丽江坝放牧着牛羊的草甸上，我也要去四方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次醒来，时间又过去了好几百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记起了跌进落水洞前的心愿：也要流过四方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二部分：（第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--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段），写“我”从玉龙雪山到古城之前的经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331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Calibri"/>
              </a:rPr>
              <a:t>走进课文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矩形 1"/>
          <p:cNvSpPr/>
          <p:nvPr/>
        </p:nvSpPr>
        <p:spPr>
          <a:xfrm>
            <a:off x="468360" y="191628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顺着玉河，我来到了四方街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穿过了一道又一道小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第三部分：（第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--1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段），写“我”流经古城时的所见所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31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Calibri"/>
              </a:rPr>
              <a:t>走进课文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矩形 1"/>
          <p:cNvSpPr/>
          <p:nvPr/>
        </p:nvSpPr>
        <p:spPr>
          <a:xfrm>
            <a:off x="17928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流得越来越快。很快，我就和更多的水一起出了古城，来到了城外的果园和田地里。一些露珠从树叶上落下，加入了我们。在宽广的丽江坝中流淌，穿越大地时，头顶上是满天星光。一些薄云掠过月亮时，就像丽江古城中，一个银匠，正在擦拭一只硕大的银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黎明时分，作为一滴水，我来到了喧腾奔流的金沙江边，跃入江流，奔向大海。我知道，作为一滴水，我终于以水的方式走过了丽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四部分：（第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段），写“我”流出古城，奔向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331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Calibri"/>
              </a:rPr>
              <a:t>结构脉络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6" name="Picture 5" descr=""/>
          <p:cNvPicPr/>
          <p:nvPr/>
        </p:nvPicPr>
        <p:blipFill>
          <a:blip r:embed="rId1"/>
          <a:stretch/>
        </p:blipFill>
        <p:spPr>
          <a:xfrm>
            <a:off x="158760" y="1195560"/>
            <a:ext cx="8174160" cy="103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6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2"/>
          <p:cNvSpPr/>
          <p:nvPr/>
        </p:nvSpPr>
        <p:spPr>
          <a:xfrm>
            <a:off x="1901520" y="10033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什么“我”要落在玉龙雪山顶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Box 3"/>
          <p:cNvSpPr/>
          <p:nvPr/>
        </p:nvSpPr>
        <p:spPr>
          <a:xfrm>
            <a:off x="547560" y="1562040"/>
            <a:ext cx="83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玉龙雪山在丽江北面，为下文“我”向下观察丽江做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Box 4"/>
          <p:cNvSpPr/>
          <p:nvPr/>
        </p:nvSpPr>
        <p:spPr>
          <a:xfrm>
            <a:off x="1722960" y="2689200"/>
            <a:ext cx="40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”下山的路上看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Box 5"/>
          <p:cNvSpPr/>
          <p:nvPr/>
        </p:nvSpPr>
        <p:spPr>
          <a:xfrm>
            <a:off x="539640" y="3429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达挺拔的松与杉、开满鲜花的杜鹃和山茶、马帮、驿道、纳西族村庄和明朝正在建筑的四方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Box 6"/>
          <p:cNvSpPr/>
          <p:nvPr/>
        </p:nvSpPr>
        <p:spPr>
          <a:xfrm>
            <a:off x="1826640" y="4508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第六段中“几百年”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Box 7"/>
          <p:cNvSpPr/>
          <p:nvPr/>
        </p:nvSpPr>
        <p:spPr>
          <a:xfrm>
            <a:off x="423720" y="5300640"/>
            <a:ext cx="82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明“我”沉睡时间之长，暗示丽江将会发生巨大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TextBox 2"/>
          <p:cNvSpPr/>
          <p:nvPr/>
        </p:nvSpPr>
        <p:spPr>
          <a:xfrm>
            <a:off x="1751400" y="231840"/>
            <a:ext cx="50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”再次醒来，丽江发生了什么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Box 3"/>
          <p:cNvSpPr/>
          <p:nvPr/>
        </p:nvSpPr>
        <p:spPr>
          <a:xfrm>
            <a:off x="411120" y="82872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丽江已是一座很大的城了，城里也不是最初筑城的纳西人了。如今全中国全世界的人都要来丽江，看纳西城的四方街，看玉龙雪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Box 4"/>
          <p:cNvSpPr/>
          <p:nvPr/>
        </p:nvSpPr>
        <p:spPr>
          <a:xfrm>
            <a:off x="1702440" y="2468520"/>
            <a:ext cx="43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作者为什么要让我出现在水车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Box 5"/>
          <p:cNvSpPr/>
          <p:nvPr/>
        </p:nvSpPr>
        <p:spPr>
          <a:xfrm>
            <a:off x="2211480" y="316692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随着水车来到高处，能更好地观看古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Box 6"/>
          <p:cNvSpPr/>
          <p:nvPr/>
        </p:nvSpPr>
        <p:spPr>
          <a:xfrm>
            <a:off x="1756440" y="3784680"/>
            <a:ext cx="42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6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”观赏到丽江什么民俗画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7"/>
          <p:cNvSpPr/>
          <p:nvPr/>
        </p:nvSpPr>
        <p:spPr>
          <a:xfrm>
            <a:off x="411120" y="441972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敲打着银器的小店、玉器店、演奏古代音乐的老者、东巴象形文字、种植兰花的三坊一照壁的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Box 8"/>
          <p:cNvSpPr/>
          <p:nvPr/>
        </p:nvSpPr>
        <p:spPr>
          <a:xfrm>
            <a:off x="1519200" y="5327640"/>
            <a:ext cx="34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7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写寄居的游客有何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Box 9"/>
          <p:cNvSpPr/>
          <p:nvPr/>
        </p:nvSpPr>
        <p:spPr>
          <a:xfrm>
            <a:off x="3547800" y="5921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丽江外地游客聚集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331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cc"/>
                </a:solidFill>
                <a:latin typeface="Calibri"/>
              </a:rPr>
              <a:t>主旨归纳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"/>
          <p:cNvSpPr/>
          <p:nvPr/>
        </p:nvSpPr>
        <p:spPr>
          <a:xfrm>
            <a:off x="792000" y="184464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文以第一人称写一滴水的旅行，从古代到现代，从雪山到平原，全方位多角度地展现了丽江的自然景物、人文风情。同时，文章通过一滴水的曲折经历告诉我们要不畏艰难、勇敢追求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398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特色品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2"/>
          <p:cNvSpPr/>
          <p:nvPr/>
        </p:nvSpPr>
        <p:spPr>
          <a:xfrm>
            <a:off x="2472480" y="1341360"/>
            <a:ext cx="9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构思新颖，视角独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Box 4"/>
          <p:cNvSpPr/>
          <p:nvPr/>
        </p:nvSpPr>
        <p:spPr>
          <a:xfrm>
            <a:off x="254160" y="2060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作者以“一滴水”流经丽江的方式，描述这“一滴水”看到的景象，展示丽江的历史变迁、自然景物和人文风情。构思新颖，视角独特，不落俗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Box 5"/>
          <p:cNvSpPr/>
          <p:nvPr/>
        </p:nvSpPr>
        <p:spPr>
          <a:xfrm>
            <a:off x="1854000" y="3645000"/>
            <a:ext cx="9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言富有诗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7"/>
          <p:cNvSpPr/>
          <p:nvPr/>
        </p:nvSpPr>
        <p:spPr>
          <a:xfrm>
            <a:off x="187200" y="4508640"/>
            <a:ext cx="882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作者用诗一般的语言，描写了风景如画的丽江和丽江富有地域特色的建筑，用生动、精美的语言介绍了丽江的民俗民风，给人以无限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说说自己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读后感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TextBox 2"/>
          <p:cNvSpPr/>
          <p:nvPr/>
        </p:nvSpPr>
        <p:spPr>
          <a:xfrm>
            <a:off x="324000" y="1557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说一千个读者有一千个哈姆雷特，那么一万个游客心中有一万个丽江也不为过。丽江市喧嚣的，你可以彻夜狂欢；丽江市宁静的，你可以坐在洒满阳光的院落发呆良久。这座充满着爱与奇遇的风情古城，承载着满满的情意与感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许是丽江古城内小桥流水人家的柔软风情让人在静谧中左思右想。抑或是夜晚风格各异的酒吧让人魅惑张扬。不过，无论是蓝天白云，雪山潺流，炊烟人家，还是风情酒吧，闲适的一切生物。这一切怎能不让人为她张望，为她痴狂？同学们，去丽江，感受一下她的美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WordArt 5"/>
          <p:cNvSpPr txBox="1"/>
          <p:nvPr/>
        </p:nvSpPr>
        <p:spPr>
          <a:xfrm rot="5400000">
            <a:off x="3409560" y="3016080"/>
            <a:ext cx="4876560" cy="82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15" name="WordArt 7"/>
          <p:cNvSpPr txBox="1"/>
          <p:nvPr/>
        </p:nvSpPr>
        <p:spPr>
          <a:xfrm rot="5400000">
            <a:off x="1604520" y="2877840"/>
            <a:ext cx="3085920" cy="83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5050"/>
                  </a:solidFill>
                  <a:miter/>
                </a:ln>
                <a:solidFill>
                  <a:srgbClr val="002699"/>
                </a:solidFill>
                <a:latin typeface="隶书"/>
              </a:rPr>
              <a:t> </a:t>
            </a:r>
            <a:endParaRPr b="1" lang="en-US" sz="6000" spc="1" strike="noStrike">
              <a:ln w="12600">
                <a:solidFill>
                  <a:srgbClr val="ff5050"/>
                </a:solidFill>
                <a:miter/>
              </a:ln>
              <a:solidFill>
                <a:srgbClr val="002699"/>
              </a:solidFill>
              <a:latin typeface="隶书"/>
              <a:ea typeface="隶书"/>
            </a:endParaRPr>
          </a:p>
        </p:txBody>
      </p:sp>
      <p:pic>
        <p:nvPicPr>
          <p:cNvPr id="1316" name="Picture 5" descr=""/>
          <p:cNvPicPr/>
          <p:nvPr/>
        </p:nvPicPr>
        <p:blipFill>
          <a:blip r:embed="rId1"/>
          <a:stretch/>
        </p:blipFill>
        <p:spPr>
          <a:xfrm>
            <a:off x="0" y="-100080"/>
            <a:ext cx="9248760" cy="6958080"/>
          </a:xfrm>
          <a:prstGeom prst="rect">
            <a:avLst/>
          </a:prstGeom>
          <a:ln w="0">
            <a:noFill/>
          </a:ln>
        </p:spPr>
      </p:pic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一滴水经过丽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Box 3"/>
          <p:cNvSpPr/>
          <p:nvPr/>
        </p:nvSpPr>
        <p:spPr>
          <a:xfrm>
            <a:off x="4220640" y="301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阿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580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alibri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94920" y="148428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识记文中的重点字词，朗读课文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体会一滴水的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奇幻旅行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体会作者写景角度的妙处，品味文章富有诗意的语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感受丽江的自然风光、人文风情，体会作者对大自然的情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580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cc"/>
                </a:solidFill>
                <a:latin typeface="Calibri"/>
              </a:rPr>
              <a:t>作者简介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394920" y="1483920"/>
            <a:ext cx="460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阿来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，藏族，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1959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年生，四川马尔康人，作家。代表作有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尘埃落定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》《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空山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》《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格萨尔王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》《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大地的阶梯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等，其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尘埃落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获第五届茅盾文学奖。他的作品往往有特殊的藏文化气息，文字干净、隽永、富有诗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3" name="Picture 6" descr=""/>
          <p:cNvPicPr/>
          <p:nvPr/>
        </p:nvPicPr>
        <p:blipFill>
          <a:blip r:embed="rId1"/>
          <a:stretch/>
        </p:blipFill>
        <p:spPr>
          <a:xfrm>
            <a:off x="5218200" y="1627200"/>
            <a:ext cx="37497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alibri"/>
              </a:rPr>
              <a:t>代表作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5" name="Picture 6" descr="C:\Users\lijianfang\Desktop\阿来1.jpg"/>
          <p:cNvPicPr/>
          <p:nvPr/>
        </p:nvPicPr>
        <p:blipFill>
          <a:blip r:embed="rId1"/>
          <a:stretch/>
        </p:blipFill>
        <p:spPr>
          <a:xfrm>
            <a:off x="611280" y="1773360"/>
            <a:ext cx="4176720" cy="475128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5" descr="C:\Users\lijianfang\Desktop\阿来2.jpg"/>
          <p:cNvPicPr/>
          <p:nvPr/>
        </p:nvPicPr>
        <p:blipFill>
          <a:blip r:embed="rId2"/>
          <a:stretch/>
        </p:blipFill>
        <p:spPr>
          <a:xfrm>
            <a:off x="4788000" y="1773360"/>
            <a:ext cx="3960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 txBox="1"/>
          <p:nvPr/>
        </p:nvSpPr>
        <p:spPr>
          <a:xfrm>
            <a:off x="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丽江古城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位于中国西南部云南省的丽江市。丽江古城又名大研镇，坐落在丽江坝中部，与同为第二批国家历史文化名城的四川阆中、山西平遥、安徽歙县并称为“保存最为完好的四大古城”。大研古城是一座没有城墙的古城，光滑洁净的青石板路、完全手工建造的土木结构的房屋、无处不在的小桥流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丽江古城内的街道依山傍水修建，铺的大多都是红色角砾岩，雨季不会泥泞、旱季也不会飞灰，石上花纹图案自然雅致，与整个古城环境相得益彰。位于古城中心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四方街</a:t>
            </a: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是丽江古城的中心，位于古城与新城交界处的大水车是丽江古城的标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重点字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内容占位符 2"/>
          <p:cNvSpPr/>
          <p:nvPr/>
        </p:nvSpPr>
        <p:spPr>
          <a:xfrm>
            <a:off x="395280" y="148428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矩形 3"/>
          <p:cNvSpPr/>
          <p:nvPr/>
        </p:nvSpPr>
        <p:spPr>
          <a:xfrm>
            <a:off x="358920" y="207648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盈                     喧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哗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喉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咙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驿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道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甸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矗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眩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神迷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闸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口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豫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徘徊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蘸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拭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微软用户</cp:lastModifiedBy>
  <dcterms:modified xsi:type="dcterms:W3CDTF">2018-05-19T13:18:40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