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CF7AE-EB4F-43D4-B47C-989B100D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C87B7-6D98-457E-B749-DA8329AD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7BE4B-512F-4E33-9B09-166AC66C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ECEEC-141C-47BF-9A91-C8CDF053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26514-5E72-4AE4-821F-EA1BB1F4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D3443-0521-4D40-BD18-7E943D8B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629AC-9F9F-41AA-AA89-2229F249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4F9C4-BA9E-40D6-96CB-E789AF3BB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3C565-8B5C-4863-B5C7-1DD5613B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23F42-BABB-419D-95D2-4BEC2E3CA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D8C2E-3199-41AD-B3A9-E791AD94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5B577-2163-4BC8-B879-A085A7EC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C3BC2-6B9A-4636-B677-75D4F9C2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D5284-6276-4F1A-B856-07556977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95C34-DAFB-4D61-8B06-AE412F7C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A3A3B-0709-4166-851E-1DE58CE6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8AD6E-B2AA-4481-A1F2-D4105EAD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59B2E-CF59-4A42-96A8-637086FA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3F71DA-66B9-4D9A-B393-407AA231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48B25-F0A7-44DE-881B-910D85010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454C1-9245-42F9-B5D4-3BD92FF7C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315FE3-CC27-4A5F-8C03-E88B6AD08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49166-F75A-4DBB-9A20-3C16500E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24EB4E-F1B1-4980-942C-65D83328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D2870-E11C-43FB-A44C-5CDBCEAB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21C217-0CE1-4877-B6CF-5C56494B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94E04-29E4-475E-93AC-5F8B3BE7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26BB7-C313-413F-8EDA-A85119F6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2AB61-5013-4151-B26E-F07B4010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691096-FA88-4008-B04E-2381C24D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C288-4C00-4452-8208-10F5B2973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FBF1D-7347-4725-B063-81C5F4A6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96CEB-707E-41E4-A4A7-698AE3AA3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F1E5A2-13A7-49F6-B660-A59D8269D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20E82-4BCE-4344-A14B-4800060CF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BF696-BCD7-4842-B964-F7104D50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3EEFD-DC64-4A9D-9039-595E05FD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0F64B-75A2-4108-9960-4C456CC3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4EB5F-AF2A-45AC-A0E0-B3D6D035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0B344-BC08-4B86-94F0-8071F79F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B41CF-383B-4DE8-AD8C-37D3BEF5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8F3C-0A88-4896-9E3B-7ABB3AAC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5306F-210C-4F2A-857B-4F8DE4C4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40C1A-E65A-402B-8B57-B798DD39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F7675-4C6B-46E7-A2D9-FE875997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143F9-5CC1-48FE-9BEB-117D9FE0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E36EA-4FD3-47EC-B76F-C18BEF148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87FF3E-B468-45F6-8215-D9D564D04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07C245-A5B7-4EC5-9C4F-098C541D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76DBDF-C084-4346-B3FE-E3FA387C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D589A-2434-434F-95E0-5D8BA1B7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EE2C62-594E-462A-A70C-71568299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463C-B442-4353-B081-BA6FF701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0DF23-EC8E-4AD1-B3FA-122669F9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E63725-5887-42C3-BCDD-65CE52A1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33083A-B05A-4305-B3CC-9978D0AC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E7743D-1646-4ECE-BDB4-AC78461C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68364-2DD6-4DA9-B34F-AEC515A5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A117B8-2C45-44A4-8AFD-19D6A69B6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11F070-3669-4088-A01D-1DC0AAAF2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2242CF-9530-4C2B-878E-27EFE4A4D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431A3C-4B7E-4EDA-87BE-6B84DC70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EC99FB-C707-447C-A944-6B339F10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3FF5-B830-4CAE-8E0B-46DDAE06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89F0FB-881E-408B-8F3E-DE4210ED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45542C-27CE-42D0-B854-35247CCF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AF6A12-1CB3-404F-A30C-725436B0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F4FA05-D31A-40A4-A29C-858C69F6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ADC393-B359-434B-AD22-0E766AF1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150C3C-F032-4454-8F06-B48EA3C2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382B33-0DC1-4DFF-A4CA-652A859A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C84C08-ABBE-4FC5-B78D-71FD6BC8C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50FCF1-CE99-4098-9371-1D5978D3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030F-495F-4D57-96B2-0A074C17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8A3F-66CE-4865-BFA1-FD71B86A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D650-4E99-4563-8F94-7F5152A6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040E-B890-4086-8524-31BC5A94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D83D87-D9A1-4464-82EF-1EEEDC15E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75ADF3-4FF1-48DE-A1FE-076593E0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14C4FE-F62F-42CC-BD1D-07580F12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20D76B-FE0C-454D-B368-DB8C0F84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E0080F-593D-4201-85E5-18E36F9D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142A-D116-4C1C-9A01-15D7FB8E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3984B6-AB11-4D11-9E8A-881C0EC6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E39E22-EDF1-45A8-9039-1ED66530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6CB73F-7A0A-43FB-B46F-098376B9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BD8738-97C6-4FFC-AFFE-5666C526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FDD5C7-2ABF-4A35-87EC-5A21BA57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8D9637-E837-486A-9E50-D915A3ED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FD2E52-24D6-4A82-8574-06CB1F0C0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8749A7-AAD1-47D3-8EBF-41D8A30F7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3800EA-22F6-4496-9316-3A1611D0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9AE4DF-66CC-46EF-8887-0DA1348A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2571-096B-4C2C-A869-C9934D34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BB2BF6-F77E-4CFC-84B6-636BAE82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CC533F-D6C9-4211-9C81-EC8CA47F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515F62-7EF8-4108-99E7-9D666C58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EE27FE-622E-4A39-BA7E-3E01444C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0F0CC8-0246-48C9-9F72-6D046D3A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3942C3-3224-4A47-A161-9C0AA6AD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97D646-4921-4DB2-B8C8-F0626E0F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617393-078C-4646-ABEE-C1DFF644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840019-786E-45BF-AFEB-7CB6C8CA9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EF7435-0D17-45AC-AA7B-D84DC8D2B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7EA6-4AB8-4813-8627-A8148209F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73C94D-BB5F-4629-A840-520617ED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572D16-93A4-422A-8970-467CD81B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13C9AE-8A75-407A-BB68-3F4C88F3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815065-4E72-4648-A2AB-1BF1DAE2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6A80EE-7FD7-4953-AACA-43C27B29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23FE8E-2486-44A0-B022-AF520409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36561C-3196-46D0-B404-C7B38584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1B1E87-03F4-4E9A-AFA5-191D266F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182F21-29BF-4BFE-9568-B6F7E570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5D083B-9C38-4EE2-B336-C3DC28CA5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A87F-5414-4EFF-A8EC-1B01C0AA4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8DFF09-C399-4B18-8EBC-81BA1AD8C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2B2BCA-D652-41F2-B0AD-CB8898E49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83AC4E-25C3-46B8-8B94-B0E9A514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466AB8-8951-4775-ADE7-55BD5AE9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A8B552-B4E2-4AFB-AAC1-71FB0158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BD7D7C-5120-4286-AA3F-2CF52304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E96746-262E-4DB8-AFEA-A6461D58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189E6C-F734-4DA2-B54E-72DBFC6E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47BB9D-EB46-4767-8F28-E22AE863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94F611-AC33-4D6C-B02F-569A682A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DCFA-57AC-46BF-B554-95298065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9CBABE-B2C2-4A34-A721-7A5D6216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113A09-8F6B-4036-B349-63851910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AF8B96-B647-4F3D-89E9-136AF99F3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C98B11-57A3-484E-8352-1B20C413D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560C83-DEB8-4B73-9B92-89E37C51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0CE99F-6836-4A7B-A1C4-1066A00E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E97250-6C2D-44E6-9335-7A309370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97F79E-6169-4EE4-9458-6D9DD371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5070DF-58BB-4C3D-93C8-371C606D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B7869D-91CF-4FBA-94E5-B974D0F1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FBA5-A7C3-48DF-9BF9-FA96E20C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EE7E31-FD51-4B99-9D80-5C669FBB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BB3E22-C15F-47B9-BDA8-36DFE59E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C13761-B933-4AE9-84E5-55F8911B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E367B9-6946-495C-9AA0-3BA3BFBF4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AE3D38-8E47-4B46-B62B-85F149CAB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7CAF11-C40C-445B-BEFE-526DA3792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D79AB0-1D85-45F9-A7CB-3F092ED1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DBBA58-D884-4FF3-9989-4AF449DF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1175DF-716A-4048-BF86-73549A0A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6BDE88-C2A1-4D73-8CC5-E15006E7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9DE7-DA0E-4EFC-93FF-6516702F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EF861B-39FC-4D41-BEC0-DECA0AFC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EA1D7A-F7E3-4057-839E-5F64EF40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E38530-193B-4C7D-B991-580FE7DE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8D1F34-8350-4771-BD96-4DCFC57C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1C2888-6208-442C-85CE-C1A5312B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93A50E-3271-44B1-A20E-ABE73EF14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26042B-0567-4399-BFE3-4D8AA4A7C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3F9B4B-77E3-454C-9B82-306AF122B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1D2CA8-0439-465D-BE39-C3F46F8E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39489A-0DBF-4460-9B61-8CE9A784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E415-01A1-4004-AEC5-5FEB025D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E5A5B6-1BC8-45B8-8513-B41FAFA6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D95A38-FEE2-4BF2-8F8D-1CBAB824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E8D7A9-B0B1-4D08-A667-CB85580E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518D8C-7364-4274-959B-6C315AA6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DE4CB6-5414-43E3-8A22-297C1755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C36C78-89DF-4971-8AD9-5E4EEF76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395D09-C636-4CD9-86AB-0325EA5C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D15348-E571-495D-9A8E-C50505C37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BA0148-5057-478A-B90A-3A610495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3AC5DF-00A3-40AF-9564-AC7276D3E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DAFF-3606-4A09-8C2F-7E7D727D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9F45DC-0597-4C6A-8F12-B246A720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C07721-9901-41DB-B2EB-DF1A8CF5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5EF3D3-8750-4461-B408-D2130A9D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4ECC18-9CC0-4C64-8859-F57AECFA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460C86-AACF-4406-A816-844D729C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210694-4800-465B-A8BA-9918087A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86FA7E-B251-43B5-BA3C-0B38CA3E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8A8ADA-E81D-428C-8EDE-75C965E2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EABCDD-8B7A-439D-8380-6C9AA2AF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914BEB-EEBA-46AC-B5FA-39843916D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ACD7-62E2-4AAE-A522-11C95B6B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29093F-94E5-45DC-89A7-DB89B8FD4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4D5F2D-D9FA-42AD-9770-4E8F29439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D9E9CE-831A-4BC3-B4E5-15ED9133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C47237-FAE0-4AA9-9CE9-0DBE8950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B35BF5-0AF5-4EED-95C9-A897EC42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C40FB6-00BA-47E8-B666-86000E02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2EC42A-7102-4792-9D1E-115155C7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F798B4-C778-4311-932A-D8A61D7D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D0A37B-503E-4098-B03D-9EDD0A77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CF87A5-9AC2-4CD7-BDE4-050D2879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71A0-0BAC-4B74-9CC5-A17ED687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2444B4-6975-4B32-81C7-835AF836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071F91-F5FA-4772-95B1-5BBF6A33D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739DE1-6E2E-4E70-9529-72CBBE6E3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D9E667-ADA3-462A-A8FE-C095E541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1721875-B425-4847-9EAF-65A2BF6B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B71D22-BF4A-4379-B363-5F7B8C0E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7792DFD-C19A-4FE7-AFAF-F8127DF1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AD58B8-AB01-45D6-B1E9-E2E1C46C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10B91A-D6B1-4474-855A-131D516D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F6693FF-1A22-4CF2-831D-3DA02267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FBF7-5F17-4744-AAF2-F7B55B11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D98866-9173-46FA-B1AF-15166296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9B81AE-2474-498A-964E-9B070154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165BE8-7E91-4CEF-A27A-601535B4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2A9EE8-CFE2-4404-8292-BFC14D867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62187D-3A8C-4299-89CF-EB3863E71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4786-A8B2-447A-BE3E-3D9B72EF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827A-2400-4D0A-B697-61871159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1619-2CCE-489A-B3DA-09CA36E47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3E2B-7521-42C1-A46D-F0D31A581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898FD-DAB0-4394-83C3-D92F07760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00985-7738-4B68-844B-183D63F5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33870-9101-46C9-B48C-C3DD62C3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23912-D99A-4092-840E-A78C4559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A3341-6309-48D1-A889-78F7BC18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FF744-D4E9-4218-ADB8-D024BF07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25397-1C1D-431B-B68F-222B9FC9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DFA70-BBCF-400D-B59B-BC4E8000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7EFC1-CD99-4A9E-8095-70C6972F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7CB0C-1673-47B3-9D30-E076AE97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9F596-BABF-403E-8CC4-5B250D8A6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F641B-F447-41AF-A297-0FD17E2B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FC49A-BFF2-45C7-8C8A-9BF336E2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618C4-12EC-40B3-A613-5458A5F0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81C80-6A79-454A-AA7C-CC4D0683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A5648-3579-45E2-8AF7-83BD563D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CEEA6-6525-4132-8171-DF736480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2FDF1-2EC9-4242-84B1-425047E7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266A4-A0F5-43BA-B82D-23E51B0F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85564-819D-41E3-BCE3-E97FBEB3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72EDC-1BD6-4B24-951B-D1D8A5AF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FEA26-6FAF-4F12-BC7C-C18C2594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59AB0-ADE6-4C79-A1FF-215549B30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1534C-D8DA-4451-93C9-D3FBA9BB6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6C7F1-902C-46A5-86F8-1756EA870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4DC31-4A75-46D2-8658-5EF9268A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D5525-9242-498A-B68F-7921DFF3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5C992-43A8-4E6E-91E5-6169F806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0D83A-2EF0-4011-B1DC-BFEFFDBC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99EE8-424E-410A-993E-6B314DA3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73AFA-7618-4190-A3C7-F4F3512B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B25DA-D351-48CB-8168-01EB6A1F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F3D90-A9CC-43B1-AA47-557FB7C8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C7B59-D355-4414-A3F0-C9F4EA31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590A3-C640-40BF-9C38-9A4CCBDD8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E4803-10BF-405C-88F2-9CCB2CC04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9D474-2241-4730-BFE3-8C2E46C9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E4B16-F5AE-4B34-BB68-E1968418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81F4E-EF99-4250-BF23-CFC81FAF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C17AB-EAAB-491F-89AD-7B373279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740C8-5965-427B-B904-7B3953B4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6118B-D434-443D-848D-9AE7AF1C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CF745-229C-4863-8B7D-E5BC5397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8A7C0-F457-4E37-9A1E-DE841C78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CC616-2BE4-48B2-814B-3E1829C0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B324C-9447-4B0B-A71D-45C8B656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23CFF-9DBF-4E42-9364-13D13342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55657-C30E-4031-A501-D4F32BF37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204A1-010B-424E-97A6-8DC16C2C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9A830-ADF2-45D6-8741-239B97CB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74C4B-8407-4CB6-B753-21CFCE0A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C93E2-93D8-44CE-B777-D8A8A3AF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084FF-D396-4A70-BB4E-A9879419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6C9C5-1761-4362-8D4E-7D5254A5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AD618-895F-4F0D-AE33-3CA9C063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63B56-89FD-4B00-8E84-9ABE78BF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1BD17-BE57-4E64-83B8-91E4E852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06352-9710-4D04-909F-D49EE741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1E14D-C18A-486B-BD0E-A67C80B1D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ECE5D-0D3C-4CF0-A3B9-6AF3C74A8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4684D-19B4-4C2B-A273-7530C021F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3EDB5-6F7D-43BF-BE5E-297FD70A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FD77C-E415-497D-8017-EDC08453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0520"/>
            <a:ext cx="9132840" cy="698400"/>
          </a:xfrm>
          <a:prstGeom prst="rect">
            <a:avLst/>
          </a:prstGeom>
          <a:ln w="0">
            <a:noFill/>
          </a:ln>
        </p:spPr>
      </p:pic>
      <p:sp>
        <p:nvSpPr>
          <p:cNvPr id="1" name="TextBox 4"/>
          <p:cNvSpPr/>
          <p:nvPr/>
        </p:nvSpPr>
        <p:spPr>
          <a:xfrm>
            <a:off x="7676640" y="5076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0520"/>
            <a:ext cx="9132840" cy="698400"/>
          </a:xfrm>
          <a:prstGeom prst="rect">
            <a:avLst/>
          </a:prstGeom>
          <a:ln w="0">
            <a:noFill/>
          </a:ln>
        </p:spPr>
      </p:pic>
      <p:sp>
        <p:nvSpPr>
          <p:cNvPr id="368" name="TextBox 4"/>
          <p:cNvSpPr/>
          <p:nvPr/>
        </p:nvSpPr>
        <p:spPr>
          <a:xfrm>
            <a:off x="7676640" y="5076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7BBC-10AC-4FDA-BAB5-554E8F5B1F0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0520"/>
            <a:ext cx="9132840" cy="698400"/>
          </a:xfrm>
          <a:prstGeom prst="rect">
            <a:avLst/>
          </a:prstGeom>
          <a:ln w="0">
            <a:noFill/>
          </a:ln>
        </p:spPr>
      </p:pic>
      <p:sp>
        <p:nvSpPr>
          <p:cNvPr id="409" name="TextBox 4"/>
          <p:cNvSpPr/>
          <p:nvPr/>
        </p:nvSpPr>
        <p:spPr>
          <a:xfrm>
            <a:off x="7676640" y="5076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7ACE-5F17-42BC-9CE8-711BA410FEF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0520"/>
            <a:ext cx="9132840" cy="698400"/>
          </a:xfrm>
          <a:prstGeom prst="rect">
            <a:avLst/>
          </a:prstGeom>
          <a:ln w="0">
            <a:noFill/>
          </a:ln>
        </p:spPr>
      </p:pic>
      <p:sp>
        <p:nvSpPr>
          <p:cNvPr id="450" name="TextBox 4"/>
          <p:cNvSpPr/>
          <p:nvPr/>
        </p:nvSpPr>
        <p:spPr>
          <a:xfrm>
            <a:off x="7676640" y="5076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34BC-2BE5-4B14-A6F2-B775BB943CA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0520"/>
            <a:ext cx="9132840" cy="698400"/>
          </a:xfrm>
          <a:prstGeom prst="rect">
            <a:avLst/>
          </a:prstGeom>
          <a:ln w="0">
            <a:noFill/>
          </a:ln>
        </p:spPr>
      </p:pic>
      <p:sp>
        <p:nvSpPr>
          <p:cNvPr id="491" name="TextBox 4"/>
          <p:cNvSpPr/>
          <p:nvPr/>
        </p:nvSpPr>
        <p:spPr>
          <a:xfrm>
            <a:off x="7676640" y="5076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B620-6EFC-44CC-8857-1DE875FAC00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0520"/>
            <a:ext cx="9132840" cy="698400"/>
          </a:xfrm>
          <a:prstGeom prst="rect">
            <a:avLst/>
          </a:prstGeom>
          <a:ln w="0">
            <a:noFill/>
          </a:ln>
        </p:spPr>
      </p:pic>
      <p:sp>
        <p:nvSpPr>
          <p:cNvPr id="532" name="TextBox 4"/>
          <p:cNvSpPr/>
          <p:nvPr/>
        </p:nvSpPr>
        <p:spPr>
          <a:xfrm>
            <a:off x="7676640" y="5076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dt" idx="37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ftr" idx="38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Num" idx="39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3D6D-7ECD-47B6-AA9A-4661DF5E5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0520"/>
            <a:ext cx="9132840" cy="698400"/>
          </a:xfrm>
          <a:prstGeom prst="rect">
            <a:avLst/>
          </a:prstGeom>
          <a:ln w="0">
            <a:noFill/>
          </a:ln>
        </p:spPr>
      </p:pic>
      <p:sp>
        <p:nvSpPr>
          <p:cNvPr id="573" name="TextBox 4"/>
          <p:cNvSpPr/>
          <p:nvPr/>
        </p:nvSpPr>
        <p:spPr>
          <a:xfrm>
            <a:off x="7676640" y="5076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dt" idx="40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ftr" idx="41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0520"/>
            <a:ext cx="9132840" cy="698400"/>
          </a:xfrm>
          <a:prstGeom prst="rect">
            <a:avLst/>
          </a:prstGeom>
          <a:ln w="0">
            <a:noFill/>
          </a:ln>
        </p:spPr>
      </p:pic>
      <p:sp>
        <p:nvSpPr>
          <p:cNvPr id="613" name="TextBox 4"/>
          <p:cNvSpPr/>
          <p:nvPr/>
        </p:nvSpPr>
        <p:spPr>
          <a:xfrm>
            <a:off x="7676640" y="5076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dt" idx="42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ftr" idx="43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0520"/>
            <a:ext cx="9132840" cy="698400"/>
          </a:xfrm>
          <a:prstGeom prst="rect">
            <a:avLst/>
          </a:prstGeom>
          <a:ln w="0">
            <a:noFill/>
          </a:ln>
        </p:spPr>
      </p:pic>
      <p:sp>
        <p:nvSpPr>
          <p:cNvPr id="653" name="TextBox 4"/>
          <p:cNvSpPr/>
          <p:nvPr/>
        </p:nvSpPr>
        <p:spPr>
          <a:xfrm>
            <a:off x="7676640" y="5076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dt" idx="44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ftr" idx="45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0520"/>
            <a:ext cx="9132840" cy="698400"/>
          </a:xfrm>
          <a:prstGeom prst="rect">
            <a:avLst/>
          </a:prstGeom>
          <a:ln w="0">
            <a:noFill/>
          </a:ln>
        </p:spPr>
      </p:pic>
      <p:sp>
        <p:nvSpPr>
          <p:cNvPr id="693" name="TextBox 4"/>
          <p:cNvSpPr/>
          <p:nvPr/>
        </p:nvSpPr>
        <p:spPr>
          <a:xfrm>
            <a:off x="7676640" y="5076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dt" idx="46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ftr" idx="47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sldNum" idx="48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3495-B6FD-4654-AB80-19A55E649E0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dt" idx="4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ftr" idx="5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sldNum" idx="5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010C-A920-47AC-8BDA-B15DEEA90F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9BDA-216D-4B66-BA4A-2465166A42A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5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ftr" idx="5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sldNum" idx="5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77DD-88A6-48C6-8392-6F78F109A2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 type="dt" idx="5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 type="ftr" idx="5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 type="sldNum" idx="5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4E56-C39E-4623-B6C6-948FCF17EA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5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5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6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6D56-541D-40E0-AC1D-D8C8233CDE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 type="dt" idx="6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 type="ftr" idx="6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 type="sldNum" idx="6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E50F-2093-4416-B6FD-795BB212AE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 type="dt" idx="6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 type="ftr" idx="6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 type="sldNum" idx="6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B0C7-7578-4864-BBE9-C2509018D6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 type="dt" idx="6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 type="ftr" idx="6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 type="sldNum" idx="6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5709-A409-43A6-AD72-4344FC1100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 type="dt" idx="7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 type="ftr" idx="7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 type="sldNum" idx="7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7C3E-FF4A-480A-A263-569D9DE652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 type="dt" idx="7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 type="ftr" idx="7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 type="sldNum" idx="7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FBBB-9C70-4542-AD50-FAA41AACD1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0520"/>
            <a:ext cx="9132840" cy="69840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7676640" y="5076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DBB7-095B-489D-B6B7-4AE4C5A852E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0520"/>
            <a:ext cx="9132840" cy="6984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7676640" y="5076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7676640" y="5076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43E7-4AE3-4C25-B98A-4D7016F2536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0520"/>
            <a:ext cx="9132840" cy="6984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4"/>
          <p:cNvSpPr/>
          <p:nvPr/>
        </p:nvSpPr>
        <p:spPr>
          <a:xfrm>
            <a:off x="7676640" y="5076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4F6D-9ACF-4C62-84A8-644DA68F61D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0520"/>
            <a:ext cx="9132840" cy="698400"/>
          </a:xfrm>
          <a:prstGeom prst="rect">
            <a:avLst/>
          </a:prstGeom>
          <a:ln w="0">
            <a:noFill/>
          </a:ln>
        </p:spPr>
      </p:pic>
      <p:sp>
        <p:nvSpPr>
          <p:cNvPr id="204" name="TextBox 4"/>
          <p:cNvSpPr/>
          <p:nvPr/>
        </p:nvSpPr>
        <p:spPr>
          <a:xfrm>
            <a:off x="7676640" y="5076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62A1-D699-4E25-9FAE-FBE0FD47490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0520"/>
            <a:ext cx="9132840" cy="698400"/>
          </a:xfrm>
          <a:prstGeom prst="rect">
            <a:avLst/>
          </a:prstGeom>
          <a:ln w="0">
            <a:noFill/>
          </a:ln>
        </p:spPr>
      </p:pic>
      <p:sp>
        <p:nvSpPr>
          <p:cNvPr id="245" name="TextBox 4"/>
          <p:cNvSpPr/>
          <p:nvPr/>
        </p:nvSpPr>
        <p:spPr>
          <a:xfrm>
            <a:off x="7676640" y="5076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361C-3C91-471D-97B0-C59DE95D8F1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0520"/>
            <a:ext cx="9132840" cy="698400"/>
          </a:xfrm>
          <a:prstGeom prst="rect">
            <a:avLst/>
          </a:prstGeom>
          <a:ln w="0">
            <a:noFill/>
          </a:ln>
        </p:spPr>
      </p:pic>
      <p:sp>
        <p:nvSpPr>
          <p:cNvPr id="286" name="TextBox 4"/>
          <p:cNvSpPr/>
          <p:nvPr/>
        </p:nvSpPr>
        <p:spPr>
          <a:xfrm>
            <a:off x="7676640" y="5076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52DB-55DD-4BA7-9DE5-A7D662D05D9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0520"/>
            <a:ext cx="9132840" cy="698400"/>
          </a:xfrm>
          <a:prstGeom prst="rect">
            <a:avLst/>
          </a:prstGeom>
          <a:ln w="0">
            <a:noFill/>
          </a:ln>
        </p:spPr>
      </p:pic>
      <p:sp>
        <p:nvSpPr>
          <p:cNvPr id="327" name="TextBox 4"/>
          <p:cNvSpPr/>
          <p:nvPr/>
        </p:nvSpPr>
        <p:spPr>
          <a:xfrm>
            <a:off x="7676640" y="5076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8C51-5C87-4D85-A939-63135D9CA45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WordArt 5"/>
          <p:cNvSpPr txBox="1"/>
          <p:nvPr/>
        </p:nvSpPr>
        <p:spPr>
          <a:xfrm rot="5400000">
            <a:off x="4019040" y="2158920"/>
            <a:ext cx="3657600" cy="825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103" name="WordArt 7"/>
          <p:cNvSpPr txBox="1"/>
          <p:nvPr/>
        </p:nvSpPr>
        <p:spPr>
          <a:xfrm rot="5400000">
            <a:off x="1990080" y="2054160"/>
            <a:ext cx="2314440" cy="831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ff5050"/>
                  </a:solidFill>
                  <a:miter/>
                </a:ln>
                <a:solidFill>
                  <a:srgbClr val="002699"/>
                </a:solidFill>
                <a:latin typeface="隶书"/>
              </a:rPr>
              <a:t> </a:t>
            </a:r>
            <a:endParaRPr b="1" lang="en-US" sz="6000" spc="1" strike="noStrike">
              <a:ln w="12600">
                <a:solidFill>
                  <a:srgbClr val="ff5050"/>
                </a:solidFill>
                <a:miter/>
              </a:ln>
              <a:solidFill>
                <a:srgbClr val="002699"/>
              </a:solidFill>
              <a:latin typeface="隶书"/>
              <a:ea typeface="隶书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-1440" y="112320"/>
            <a:ext cx="9144000" cy="11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一滴水经过丽江</a:t>
            </a:r>
            <a:br>
              <a:rPr sz="4800"/>
            </a:br>
            <a:r>
              <a:rPr b="1" lang="en-US" sz="43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      </a:t>
            </a:r>
            <a:r>
              <a:rPr b="1" lang="zh-CN" sz="4000" spc="-1" strike="noStrike">
                <a:solidFill>
                  <a:srgbClr val="000099"/>
                </a:solidFill>
                <a:latin typeface="华文中宋"/>
                <a:ea typeface="华文中宋"/>
              </a:rPr>
              <a:t>阿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5" name="Picture 6" descr="http://img.zcool.cn/community/01e92f56945ce66ac725af2394fcbf.jpg@2o.jpg"/>
          <p:cNvPicPr/>
          <p:nvPr/>
        </p:nvPicPr>
        <p:blipFill>
          <a:blip r:embed="rId1"/>
          <a:stretch/>
        </p:blipFill>
        <p:spPr>
          <a:xfrm>
            <a:off x="108000" y="1324080"/>
            <a:ext cx="8928000" cy="367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TextBox 2"/>
          <p:cNvSpPr/>
          <p:nvPr/>
        </p:nvSpPr>
        <p:spPr>
          <a:xfrm>
            <a:off x="2062080" y="41400"/>
            <a:ext cx="436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、“我”再次醒来，丽江发生了什么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3"/>
          <p:cNvSpPr/>
          <p:nvPr/>
        </p:nvSpPr>
        <p:spPr>
          <a:xfrm>
            <a:off x="0" y="573120"/>
            <a:ext cx="91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丽江已是一座很大的城了，城里也不是最初筑城的纳西人了。如今全中国全世界的人都要来丽江，看纳西城的四方街，看玉龙雪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Box 4"/>
          <p:cNvSpPr/>
          <p:nvPr/>
        </p:nvSpPr>
        <p:spPr>
          <a:xfrm>
            <a:off x="3526920" y="1852560"/>
            <a:ext cx="7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5 </a:t>
            </a: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、作者为什么要让我出现在水车上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Box 5"/>
          <p:cNvSpPr/>
          <p:nvPr/>
        </p:nvSpPr>
        <p:spPr>
          <a:xfrm>
            <a:off x="2171880" y="2374920"/>
            <a:ext cx="45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我”随着水车来到高处，能更好地观看古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6"/>
          <p:cNvSpPr/>
          <p:nvPr/>
        </p:nvSpPr>
        <p:spPr>
          <a:xfrm>
            <a:off x="1906920" y="2838600"/>
            <a:ext cx="381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6 </a:t>
            </a: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、“我”观赏到丽江什么民俗画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7"/>
          <p:cNvSpPr/>
          <p:nvPr/>
        </p:nvSpPr>
        <p:spPr>
          <a:xfrm>
            <a:off x="34920" y="3314880"/>
            <a:ext cx="90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敲打着银器的小店、玉器店、演奏古代音乐的老者、东巴象形文字、种植兰花的三坊一照壁的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8"/>
          <p:cNvSpPr/>
          <p:nvPr/>
        </p:nvSpPr>
        <p:spPr>
          <a:xfrm>
            <a:off x="2823840" y="4156200"/>
            <a:ext cx="7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7 </a:t>
            </a: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、写寄居的游客有何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9"/>
          <p:cNvSpPr/>
          <p:nvPr/>
        </p:nvSpPr>
        <p:spPr>
          <a:xfrm>
            <a:off x="3198600" y="45910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表现丽江外地游客聚集的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0" y="626760"/>
            <a:ext cx="8964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     </a:t>
            </a:r>
            <a:r>
              <a:rPr b="1" lang="en-US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、用自己的话概括一滴水的经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108000" y="1419120"/>
            <a:ext cx="36720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玉龙雪山山顶</a:t>
            </a:r>
            <a:r>
              <a:rPr b="1" lang="en-US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—— 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驿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 ———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纳西族村庄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 ——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草甸</a:t>
            </a:r>
            <a:r>
              <a:rPr b="1" lang="en-US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——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落水洞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 —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黑龙潭</a:t>
            </a:r>
            <a:r>
              <a:rPr b="1" lang="en-US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——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玉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 —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四方街</a:t>
            </a:r>
            <a:r>
              <a:rPr b="1" lang="en-US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——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中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 —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纳西人的院子兰花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 ——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中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 ——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金沙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矩形 1"/>
          <p:cNvSpPr/>
          <p:nvPr/>
        </p:nvSpPr>
        <p:spPr>
          <a:xfrm>
            <a:off x="459720" y="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合作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7" name="Picture 5" descr="http://s1.sinaimg.cn/large/003vWdE5gy6MakCcLTi20"/>
          <p:cNvPicPr/>
          <p:nvPr/>
        </p:nvPicPr>
        <p:blipFill>
          <a:blip r:embed="rId1"/>
          <a:stretch/>
        </p:blipFill>
        <p:spPr>
          <a:xfrm>
            <a:off x="4067280" y="1563840"/>
            <a:ext cx="4752720" cy="3384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0" y="1238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    </a:t>
            </a:r>
            <a:r>
              <a:rPr b="1" lang="en-US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、丽江作为历史文化名城，它的建筑也是别具一格的，作者又向我们描绘了丽江哪些建筑呢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-360" y="843120"/>
            <a:ext cx="9123480" cy="25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   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华文中宋"/>
                <a:ea typeface="华文中宋"/>
              </a:rPr>
              <a:t>四方街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、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华文中宋"/>
                <a:ea typeface="华文中宋"/>
              </a:rPr>
              <a:t>木府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：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“那时是明代，纳西族的首领木氏家族率领百姓筑起了名扬世界的四方街。四方街筑成后，一个名叫徐霞客的远游人来了，把玉龙雪山写进了书里，把丽江古城写进书里，让它们的名字四处流传。”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0" name="Picture 5" descr="http://imgsrc.baidu.com/image/c0%3Dpixel_huitu%2C0%2C0%2C294%2C40/sign=402a601bc3fcc3cea0cdc173fb3db3e4/43a7d933c895d143aa71081a78f082025aaf0787.jpg"/>
          <p:cNvPicPr/>
          <p:nvPr/>
        </p:nvPicPr>
        <p:blipFill>
          <a:blip r:embed="rId1"/>
          <a:stretch/>
        </p:blipFill>
        <p:spPr>
          <a:xfrm>
            <a:off x="468360" y="2643120"/>
            <a:ext cx="4056120" cy="234972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7" descr="http://imgsrc.baidu.com/image/c0%3Dshijue1%2C0%2C0%2C294%2C40/sign=7b0379c8f71f4134f43a0d3d4d76ffbf/960a304e251f95ca0cd5769dc3177f3e670952fd.jpg"/>
          <p:cNvPicPr/>
          <p:nvPr/>
        </p:nvPicPr>
        <p:blipFill>
          <a:blip r:embed="rId2"/>
          <a:stretch/>
        </p:blipFill>
        <p:spPr>
          <a:xfrm>
            <a:off x="4932360" y="2643120"/>
            <a:ext cx="3844800" cy="2349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042920" y="123840"/>
            <a:ext cx="614376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华文中宋"/>
                <a:ea typeface="华文中宋"/>
              </a:rPr>
              <a:t>5</a:t>
            </a:r>
            <a:r>
              <a:rPr b="1" lang="zh-CN" sz="40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、品读“水”的形象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"/>
          <p:cNvSpPr txBox="1"/>
          <p:nvPr/>
        </p:nvSpPr>
        <p:spPr>
          <a:xfrm>
            <a:off x="108000" y="1058760"/>
            <a:ext cx="86868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这是</a:t>
            </a:r>
            <a:r>
              <a:rPr b="1" lang="en-US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_________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的一滴水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憧憬和向往美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执着追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敬仰传统文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充满好奇和热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积极快乐</a:t>
            </a:r>
            <a:r>
              <a:rPr b="1" lang="en-US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4" name="Picture 5" descr="http://s9.sinaimg.cn/middle/4e364e23h92be3a51b628&amp;690"/>
          <p:cNvPicPr/>
          <p:nvPr/>
        </p:nvPicPr>
        <p:blipFill>
          <a:blip r:embed="rId1"/>
          <a:stretch/>
        </p:blipFill>
        <p:spPr>
          <a:xfrm>
            <a:off x="3708360" y="1735200"/>
            <a:ext cx="5172120" cy="3213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08000" y="123840"/>
            <a:ext cx="8928000" cy="17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    </a:t>
            </a:r>
            <a:r>
              <a:rPr b="1" lang="en-US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6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、根据对课文的品读对语言的品味，在下面的横线上填上恰当的词语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468000" y="1347480"/>
            <a:ext cx="7643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这是</a:t>
            </a:r>
            <a:r>
              <a:rPr b="1" lang="en-US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_________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的丽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美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祥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宁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美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悠闲、和谐、幸福</a:t>
            </a:r>
            <a:r>
              <a:rPr b="1" lang="en-US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7" name="Picture 5" descr="http://images.china.cn/attachement/jpg/site1000/20110726/001fd04cef820f9862770d.jpg"/>
          <p:cNvPicPr/>
          <p:nvPr/>
        </p:nvPicPr>
        <p:blipFill>
          <a:blip r:embed="rId1"/>
          <a:stretch/>
        </p:blipFill>
        <p:spPr>
          <a:xfrm>
            <a:off x="4284720" y="1347840"/>
            <a:ext cx="4635360" cy="3476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0" y="205920"/>
            <a:ext cx="91440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作者从“一滴水”游览丽江的视角来展开描写有什么好处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34920" y="1168560"/>
            <a:ext cx="345744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丽江水多，水美，选取“一滴水”游览丽江，富有地方特色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可以多角度展开描写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如童话般奇幻，充满童趣。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0" name="Picture 5" descr="http://s3.sinaimg.cn/middle/611aed5cgafdb42f04a82&amp;690"/>
          <p:cNvPicPr/>
          <p:nvPr/>
        </p:nvPicPr>
        <p:blipFill>
          <a:blip r:embed="rId1"/>
          <a:stretch/>
        </p:blipFill>
        <p:spPr>
          <a:xfrm>
            <a:off x="3492360" y="1058760"/>
            <a:ext cx="5491440" cy="3961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826920" y="123480"/>
            <a:ext cx="331344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主旨归纳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矩形 1"/>
          <p:cNvSpPr/>
          <p:nvPr/>
        </p:nvSpPr>
        <p:spPr>
          <a:xfrm>
            <a:off x="122400" y="627120"/>
            <a:ext cx="45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本文以第一人称写一滴水的旅行，从古代到现代，从雪山到平原，全方位多角度地展现了丽江的自然景物、人文风情。同时，文章通过一滴水的曲折经历告诉我们要不畏艰难、勇敢追求理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3" name="Picture 5" descr="http://youimg1.c-ctrip.com/target/fd/tg/g2/M07/D1/54/Cghzf1V8m-SATCaOAAIdDKlMnQA196.jpg"/>
          <p:cNvPicPr/>
          <p:nvPr/>
        </p:nvPicPr>
        <p:blipFill>
          <a:blip r:embed="rId1"/>
          <a:stretch/>
        </p:blipFill>
        <p:spPr>
          <a:xfrm>
            <a:off x="4643280" y="123840"/>
            <a:ext cx="4392720" cy="4896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547640" y="7920"/>
            <a:ext cx="521496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写作特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107640" y="626760"/>
            <a:ext cx="86151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    </a:t>
            </a:r>
            <a:r>
              <a:rPr b="1" lang="en-US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、构思新颖，视角独特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本文作者以第一人称写一滴水的旅行，从古代到现代，从雪山到平原，全方位多角度地展现了丽江的自然景物、人文风情，构思新颖，视角独特，读来令人倍感亲切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 </a:t>
            </a:r>
            <a:r>
              <a:rPr b="1" lang="en-US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、线索清晰，借物抒情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作者以风趣幽默的方式讲述了“小水滴”经过丽江的情形，流露出作者对丽江无限热爱的真挚情感。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说说自己读后感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TextBox 2"/>
          <p:cNvSpPr/>
          <p:nvPr/>
        </p:nvSpPr>
        <p:spPr>
          <a:xfrm>
            <a:off x="111240" y="627120"/>
            <a:ext cx="89294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     </a:t>
            </a:r>
            <a:r>
              <a:rPr b="1" lang="zh-CN" sz="2700" spc="-1" strike="noStrike">
                <a:solidFill>
                  <a:srgbClr val="000099"/>
                </a:solidFill>
                <a:latin typeface="华文中宋"/>
                <a:ea typeface="华文中宋"/>
              </a:rPr>
              <a:t>如果说一千个读者有一千个哈姆雷特，那么一万个游客心中有一万个丽江也不为过。丽江市喧嚣的，你可以彻夜狂欢；丽江市宁静的，你可以坐在洒满阳光的院落发呆良久。这座充满着爱与奇遇的风情古城，承载着满满的情意与感性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      </a:t>
            </a:r>
            <a:r>
              <a:rPr b="1" lang="zh-CN" sz="2700" spc="-1" strike="noStrike">
                <a:solidFill>
                  <a:srgbClr val="000099"/>
                </a:solidFill>
                <a:latin typeface="华文中宋"/>
                <a:ea typeface="华文中宋"/>
              </a:rPr>
              <a:t>也许是丽江古城内小桥流水人家的柔软风情让人在静谧中左思右想。抑或是夜晚风格各异的酒吧让人魅惑张扬。不过，无论是蓝天白云，雪山潺流，炊烟人家，还是风情酒吧，闲适的一切生物。这一切怎能不让人为她张望，为她痴狂？同学们，去丽江，感受一下她的美吧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79280" y="123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作者简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324000" y="843120"/>
            <a:ext cx="4752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阿来，藏族，</a:t>
            </a:r>
            <a:r>
              <a:rPr b="1" lang="en-US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1959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年生，四川马尔康人，作家。代表作有</a:t>
            </a:r>
            <a:r>
              <a:rPr b="1" lang="en-US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尘埃落定</a:t>
            </a:r>
            <a:r>
              <a:rPr b="1" lang="en-US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》《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空山</a:t>
            </a:r>
            <a:r>
              <a:rPr b="1" lang="en-US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》《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格萨尔王</a:t>
            </a:r>
            <a:r>
              <a:rPr b="1" lang="en-US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》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等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   </a:t>
            </a:r>
            <a:r>
              <a:rPr b="1" lang="en-US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尘埃落定</a:t>
            </a:r>
            <a:r>
              <a:rPr b="1" lang="en-US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》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获第五届茅盾文学奖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他的作品往往有特殊的藏文化气息，文字干净、隽永、富有诗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8" name="Picture 6" descr="http://www.tibet3.com/wenhua/attachement/jpg/site2/20150414/dc85de25ca9016972fcc01.jpg"/>
          <p:cNvPicPr/>
          <p:nvPr/>
        </p:nvPicPr>
        <p:blipFill>
          <a:blip r:embed="rId1"/>
          <a:stretch/>
        </p:blipFill>
        <p:spPr>
          <a:xfrm>
            <a:off x="5003640" y="987480"/>
            <a:ext cx="4032360" cy="3887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24000" y="123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代表作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0" name="Picture 6" descr="http://www.vsread.com/iconograph1/3a47725628503fa423cd936f413a1f7a.jpg"/>
          <p:cNvPicPr/>
          <p:nvPr/>
        </p:nvPicPr>
        <p:blipFill>
          <a:blip r:embed="rId1"/>
          <a:stretch/>
        </p:blipFill>
        <p:spPr>
          <a:xfrm>
            <a:off x="5076720" y="1252440"/>
            <a:ext cx="3065400" cy="3799080"/>
          </a:xfrm>
          <a:prstGeom prst="rect">
            <a:avLst/>
          </a:prstGeom>
          <a:ln w="0">
            <a:noFill/>
          </a:ln>
        </p:spPr>
      </p:pic>
      <p:sp>
        <p:nvSpPr>
          <p:cNvPr id="111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AutoShape 10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3" name="Picture 12" descr="http://s8.sinaimg.cn/bmiddle/550ba572x714e13e05d37&amp;690"/>
          <p:cNvPicPr/>
          <p:nvPr/>
        </p:nvPicPr>
        <p:blipFill>
          <a:blip r:embed="rId2"/>
          <a:stretch/>
        </p:blipFill>
        <p:spPr>
          <a:xfrm>
            <a:off x="830160" y="1252440"/>
            <a:ext cx="3237120" cy="3799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68360" y="26820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学习目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0" y="1203120"/>
            <a:ext cx="9036000" cy="33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     </a:t>
            </a:r>
            <a:r>
              <a:rPr b="1" lang="en-US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、识记文中的重点字词，朗读课文</a:t>
            </a:r>
            <a:r>
              <a:rPr b="1" lang="en-US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体会一滴水的奇幻旅行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    </a:t>
            </a:r>
            <a:r>
              <a:rPr b="1" lang="en-US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、体会作者写景角度的妙处，品味文章富有诗意的语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    </a:t>
            </a:r>
            <a:r>
              <a:rPr b="1" lang="en-US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、感受丽江的自然风光、人文风情，体会作者对大自然的情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1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 txBox="1"/>
          <p:nvPr/>
        </p:nvSpPr>
        <p:spPr>
          <a:xfrm>
            <a:off x="0" y="12240"/>
            <a:ext cx="89647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丽江古城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位于中国西南部云南省的丽江市。丽江古城又名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大研镇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，坐落在丽江坝中部，与同为第二批国家历史文化名城的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四川阆中、山西平遥、安徽歙县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并称为“保存最为完好的四大古城”。大研古城是一座没有城墙的古城，光滑洁净的青石板路、完全手工建造的土木结构的房屋、无处不在的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小桥流水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丽江古城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内的街道依山傍水修建，铺的大多都是红色角砾岩，雨季不会泥泞、旱季也不会飞灰，石上花纹图案自然雅致，与整个古城环境相得益彰。位于古城中心的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四方街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是丽江古城的中心，位于古城与新城交界处的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大水车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是丽江古城的标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1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250560" y="66600"/>
            <a:ext cx="2881080" cy="7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ff0000"/>
                </a:solidFill>
                <a:latin typeface="华文中宋"/>
                <a:ea typeface="华文中宋"/>
              </a:rPr>
              <a:t>注音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内容占位符 2"/>
          <p:cNvSpPr/>
          <p:nvPr/>
        </p:nvSpPr>
        <p:spPr>
          <a:xfrm>
            <a:off x="395280" y="1112760"/>
            <a:ext cx="8229600" cy="37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矩形 3"/>
          <p:cNvSpPr/>
          <p:nvPr/>
        </p:nvSpPr>
        <p:spPr>
          <a:xfrm>
            <a:off x="684360" y="631800"/>
            <a:ext cx="2663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轻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盈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yíng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）      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喧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哗（</a:t>
            </a:r>
            <a:r>
              <a:rPr b="1" lang="en-US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xuān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喉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咙（</a:t>
            </a:r>
            <a:r>
              <a:rPr b="1" lang="en-US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hóu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）       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驿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道（</a:t>
            </a:r>
            <a:r>
              <a:rPr b="1" lang="en-US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yì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目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眩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神迷</a:t>
            </a:r>
            <a:r>
              <a:rPr b="1" lang="en-US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(xuàn)   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闸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口（</a:t>
            </a:r>
            <a:r>
              <a:rPr b="1" lang="en-US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zhá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蘸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zhàn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）          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擦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拭（</a:t>
            </a:r>
            <a:r>
              <a:rPr b="1" lang="en-US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cā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0" name="Picture 10" descr="http://imgsrc.baidu.com/imgad/pic/item/11385343fbf2b21102e179d3c08065380dd78e64.jpg"/>
          <p:cNvPicPr/>
          <p:nvPr/>
        </p:nvPicPr>
        <p:blipFill>
          <a:blip r:embed="rId1"/>
          <a:stretch/>
        </p:blipFill>
        <p:spPr>
          <a:xfrm>
            <a:off x="3348000" y="771480"/>
            <a:ext cx="5688000" cy="3745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内容占位符 2"/>
          <p:cNvSpPr/>
          <p:nvPr/>
        </p:nvSpPr>
        <p:spPr>
          <a:xfrm>
            <a:off x="395280" y="1112760"/>
            <a:ext cx="8229600" cy="37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2880" y="267840"/>
            <a:ext cx="914076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词语解释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矩形 1"/>
          <p:cNvSpPr/>
          <p:nvPr/>
        </p:nvSpPr>
        <p:spPr>
          <a:xfrm>
            <a:off x="46080" y="1112760"/>
            <a:ext cx="8929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【</a:t>
            </a:r>
            <a:r>
              <a:rPr b="0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草甸</a:t>
            </a:r>
            <a:r>
              <a:rPr b="0" lang="en-US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】 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长满野草的低湿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【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苍劲</a:t>
            </a:r>
            <a:r>
              <a:rPr b="1" lang="en-US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】 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（树木）苍老挺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【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掌故</a:t>
            </a:r>
            <a:r>
              <a:rPr b="1" lang="en-US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】 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历史上的人物事迹、制度沿革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【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五彩斑斓</a:t>
            </a:r>
            <a:r>
              <a:rPr b="1" lang="en-US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】 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形容颜色多，色彩错杂灿烂且耀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【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喧腾</a:t>
            </a:r>
            <a:r>
              <a:rPr b="1" lang="en-US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】 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喧闹沸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TextBox 2"/>
          <p:cNvSpPr/>
          <p:nvPr/>
        </p:nvSpPr>
        <p:spPr>
          <a:xfrm>
            <a:off x="395280" y="1951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了解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矩形 3"/>
          <p:cNvSpPr/>
          <p:nvPr/>
        </p:nvSpPr>
        <p:spPr>
          <a:xfrm>
            <a:off x="152280" y="885960"/>
            <a:ext cx="89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第一部分：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（第</a:t>
            </a:r>
            <a:r>
              <a:rPr b="1" lang="en-US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段），点明“我”的身份</a:t>
            </a:r>
            <a:r>
              <a:rPr b="1" lang="en-US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一滴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矩形 4"/>
          <p:cNvSpPr/>
          <p:nvPr/>
        </p:nvSpPr>
        <p:spPr>
          <a:xfrm>
            <a:off x="185760" y="1833480"/>
            <a:ext cx="878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第二部分：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（第</a:t>
            </a:r>
            <a:r>
              <a:rPr b="1" lang="en-US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3--8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段），写“我”从玉龙雪山到古城之前的经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矩形 5"/>
          <p:cNvSpPr/>
          <p:nvPr/>
        </p:nvSpPr>
        <p:spPr>
          <a:xfrm>
            <a:off x="95400" y="2806560"/>
            <a:ext cx="87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第三部分：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（第</a:t>
            </a:r>
            <a:r>
              <a:rPr b="1" lang="en-US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9--14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段），写“我”流经古城时的所见所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矩形 6"/>
          <p:cNvSpPr/>
          <p:nvPr/>
        </p:nvSpPr>
        <p:spPr>
          <a:xfrm>
            <a:off x="152280" y="3760920"/>
            <a:ext cx="87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第四部分：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（第</a:t>
            </a:r>
            <a:r>
              <a:rPr b="1" lang="en-US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15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16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段），写“我”流出古城，奔向大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1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整体感知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TextBox 2"/>
          <p:cNvSpPr/>
          <p:nvPr/>
        </p:nvSpPr>
        <p:spPr>
          <a:xfrm>
            <a:off x="2246040" y="752400"/>
            <a:ext cx="45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、</a:t>
            </a:r>
            <a:r>
              <a:rPr b="1" lang="en-US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为什么“我”要落在玉龙雪山顶上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Box 3"/>
          <p:cNvSpPr/>
          <p:nvPr/>
        </p:nvSpPr>
        <p:spPr>
          <a:xfrm>
            <a:off x="34920" y="1171440"/>
            <a:ext cx="90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玉龙雪山在丽江北面，为下文“我”向下观察丽江做铺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Box 4"/>
          <p:cNvSpPr/>
          <p:nvPr/>
        </p:nvSpPr>
        <p:spPr>
          <a:xfrm>
            <a:off x="2090160" y="2017800"/>
            <a:ext cx="39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、“我”下山的路上看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Box 5"/>
          <p:cNvSpPr/>
          <p:nvPr/>
        </p:nvSpPr>
        <p:spPr>
          <a:xfrm>
            <a:off x="34920" y="2571840"/>
            <a:ext cx="91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达挺拔的松与杉、开满鲜花的杜鹃和山茶、马帮、驿道、纳西族村庄和明朝正在建筑的四方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Box 6"/>
          <p:cNvSpPr/>
          <p:nvPr/>
        </p:nvSpPr>
        <p:spPr>
          <a:xfrm>
            <a:off x="2572200" y="3390840"/>
            <a:ext cx="335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3 </a:t>
            </a: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、第六段中“几百年”有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Box 7"/>
          <p:cNvSpPr/>
          <p:nvPr/>
        </p:nvSpPr>
        <p:spPr>
          <a:xfrm>
            <a:off x="0" y="3975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点明“我”沉睡时间之长，暗示丽江将会发生巨大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/>
  <dc:description/>
  <dc:language>en-US</dc:language>
  <cp:lastModifiedBy>微软用户</cp:lastModifiedBy>
  <dcterms:modified xsi:type="dcterms:W3CDTF">2018-06-11T13:14:27Z</dcterms:modified>
  <cp:revision>91</cp:revision>
  <dc:subject/>
  <dc:title>一滴水经过丽江            阿来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4</vt:lpwstr>
  </property>
</Properties>
</file>