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5.png" ContentType="image/png"/>
  <Override PartName="/ppt/media/image25.gif" ContentType="image/gif"/>
  <Override PartName="/ppt/media/image7.gif" ContentType="image/gif"/>
  <Override PartName="/ppt/media/image6.gif" ContentType="image/gif"/>
  <Override PartName="/ppt/media/image4.jpeg" ContentType="image/jpeg"/>
  <Override PartName="/ppt/media/image22.gif" ContentType="image/gif"/>
  <Override PartName="/ppt/media/image27.jpeg" ContentType="image/jpeg"/>
  <Override PartName="/ppt/media/image26.gif" ContentType="image/gif"/>
  <Override PartName="/ppt/media/image20.jpeg" ContentType="image/jpeg"/>
  <Override PartName="/ppt/media/image15.jpeg" ContentType="image/jpeg"/>
  <Override PartName="/ppt/media/image21.gif" ContentType="image/gif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450F-35CE-4699-9C38-23EDE14C6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DCE9-A0BB-445E-ABF8-188DF944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AD22-1D7B-4979-B511-8335E8184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1BF7-7918-47F8-A6F1-FF4C99C6D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8D63-0A92-4E5B-A0EE-144814E3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3FE8-634A-4E33-BA61-90891706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7B75-B23E-4697-92AC-45B1A53E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C5A6-D77B-4981-9D12-CC144D7C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720C-2CF8-48D8-9871-4B973503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3CCD-798B-4926-A2C5-C6CF0E43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C467-89D4-4954-8555-82E9E747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5BFE-C143-4DAE-ABEF-F4FC13D5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944F-60A3-409B-B210-FDAFF5D59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jpeg"/><Relationship Id="rId6" Type="http://schemas.openxmlformats.org/officeDocument/2006/relationships/image" Target="../media/image9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08120" y="12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ffffff"/>
                </a:solidFill>
                <a:latin typeface="方正韵动中黑简体"/>
                <a:ea typeface="方正韵动中黑简体"/>
              </a:rPr>
              <a:t>有  的  人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052"/>
          <p:cNvSpPr/>
          <p:nvPr/>
        </p:nvSpPr>
        <p:spPr>
          <a:xfrm>
            <a:off x="4067280" y="269892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纪念鲁迅有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055" descr="CJ3104"/>
          <p:cNvPicPr/>
          <p:nvPr/>
        </p:nvPicPr>
        <p:blipFill>
          <a:blip r:embed="rId1"/>
          <a:stretch/>
        </p:blipFill>
        <p:spPr>
          <a:xfrm>
            <a:off x="5529240" y="3860640"/>
            <a:ext cx="2917800" cy="21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026" descr="图片"/>
          <p:cNvPicPr/>
          <p:nvPr/>
        </p:nvPicPr>
        <p:blipFill>
          <a:blip r:embed="rId1"/>
          <a:stretch/>
        </p:blipFill>
        <p:spPr>
          <a:xfrm>
            <a:off x="4572000" y="3505320"/>
            <a:ext cx="3352680" cy="2604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27" descr="03"/>
          <p:cNvPicPr/>
          <p:nvPr/>
        </p:nvPicPr>
        <p:blipFill>
          <a:blip r:embed="rId2"/>
          <a:stretch/>
        </p:blipFill>
        <p:spPr>
          <a:xfrm>
            <a:off x="4419720" y="838080"/>
            <a:ext cx="3429000" cy="21384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030"/>
          <p:cNvSpPr/>
          <p:nvPr/>
        </p:nvSpPr>
        <p:spPr>
          <a:xfrm>
            <a:off x="1473120" y="304920"/>
            <a:ext cx="33811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骑在人民头上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民把他摔垮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给人民作牛马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民永远记住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名字刻入石头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名字比尸首烂得更早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只要是春风吹到的地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到处是青青的野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活着别人就不能活的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的下场可以看到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活着为了多数人更好地活着的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群众把他抬举得很高高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31"/>
          <p:cNvSpPr/>
          <p:nvPr/>
        </p:nvSpPr>
        <p:spPr>
          <a:xfrm>
            <a:off x="8080920" y="1215360"/>
            <a:ext cx="6678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两种人的不同下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026" descr="纪念鲁迅2"/>
          <p:cNvPicPr/>
          <p:nvPr/>
        </p:nvPicPr>
        <p:blipFill>
          <a:blip r:embed="rId1"/>
          <a:stretch/>
        </p:blipFill>
        <p:spPr>
          <a:xfrm>
            <a:off x="228600" y="304920"/>
            <a:ext cx="6583320" cy="1387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27" descr="纪念鲁迅"/>
          <p:cNvPicPr/>
          <p:nvPr/>
        </p:nvPicPr>
        <p:blipFill>
          <a:blip r:embed="rId2"/>
          <a:stretch/>
        </p:blipFill>
        <p:spPr>
          <a:xfrm>
            <a:off x="5105520" y="2590920"/>
            <a:ext cx="3809880" cy="3733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28" descr="图片"/>
          <p:cNvPicPr/>
          <p:nvPr/>
        </p:nvPicPr>
        <p:blipFill>
          <a:blip r:embed="rId3"/>
          <a:stretch/>
        </p:blipFill>
        <p:spPr>
          <a:xfrm>
            <a:off x="5943600" y="0"/>
            <a:ext cx="3200400" cy="24876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029"/>
          <p:cNvSpPr/>
          <p:nvPr/>
        </p:nvSpPr>
        <p:spPr>
          <a:xfrm>
            <a:off x="617760" y="2057400"/>
            <a:ext cx="4158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鲁迅的骨头是最硬的，他没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丝毫的奴颜和媚骨。这是殖民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地半殖民地人民最可宝贵的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格。鲁迅是在文化战线上代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全民族的大多数向着敌人冲锋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陷阵的最正确，最勇敢，最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决，最忠实，最热忱的空前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民族英雄。鲁迅的方向就是中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华民族新文化的方向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-----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毛泽东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633320" y="304920"/>
            <a:ext cx="394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baseline="8000">
                <a:solidFill>
                  <a:srgbClr val="000000"/>
                </a:solidFill>
                <a:latin typeface="Times New Roman"/>
              </a:rPr>
              <a:t>你还知道哪些为人民服务的典范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王伟"/>
          <p:cNvPicPr/>
          <p:nvPr/>
        </p:nvPicPr>
        <p:blipFill>
          <a:blip r:embed="rId1"/>
          <a:stretch/>
        </p:blipFill>
        <p:spPr>
          <a:xfrm>
            <a:off x="6400800" y="1523880"/>
            <a:ext cx="2282760" cy="31244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4276080" y="46483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袁隆平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7296120" y="4724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王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1146960" y="46483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李素丽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9" descr="袁隆平"/>
          <p:cNvPicPr/>
          <p:nvPr/>
        </p:nvPicPr>
        <p:blipFill>
          <a:blip r:embed="rId2"/>
          <a:stretch/>
        </p:blipFill>
        <p:spPr>
          <a:xfrm>
            <a:off x="3657600" y="1523880"/>
            <a:ext cx="2149560" cy="3048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李素丽"/>
          <p:cNvPicPr/>
          <p:nvPr/>
        </p:nvPicPr>
        <p:blipFill>
          <a:blip r:embed="rId3"/>
          <a:stretch/>
        </p:blipFill>
        <p:spPr>
          <a:xfrm>
            <a:off x="457200" y="1981080"/>
            <a:ext cx="2666880" cy="23148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1"/>
          <p:cNvSpPr/>
          <p:nvPr/>
        </p:nvSpPr>
        <p:spPr>
          <a:xfrm>
            <a:off x="4178520" y="556272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大搞科研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兴国利民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7226640" y="556272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关键时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勇于献身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1038600" y="556272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全心全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做好本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034280" y="307800"/>
            <a:ext cx="332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作为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21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世纪的中学生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830880" y="10666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我们应该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4"/>
          <p:cNvSpPr/>
          <p:nvPr/>
        </p:nvSpPr>
        <p:spPr>
          <a:xfrm>
            <a:off x="2666880" y="1143000"/>
            <a:ext cx="83844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怎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5"/>
          <p:cNvSpPr/>
          <p:nvPr/>
        </p:nvSpPr>
        <p:spPr>
          <a:xfrm>
            <a:off x="3733920" y="1066680"/>
            <a:ext cx="761760" cy="838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么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6"/>
          <p:cNvSpPr/>
          <p:nvPr/>
        </p:nvSpPr>
        <p:spPr>
          <a:xfrm>
            <a:off x="4267080" y="1523880"/>
            <a:ext cx="7621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val 7"/>
          <p:cNvSpPr/>
          <p:nvPr/>
        </p:nvSpPr>
        <p:spPr>
          <a:xfrm>
            <a:off x="5105520" y="1523880"/>
            <a:ext cx="60948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380880" y="2362320"/>
            <a:ext cx="5257800" cy="426708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把鲁迅的俯首甘为孺子牛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精神化为自己学习的动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力，刻苦努力，发奋图强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以期学有所成，报效祖国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报效人民！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　－－－－－老师赠语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9" descr="帮助"/>
          <p:cNvPicPr/>
          <p:nvPr/>
        </p:nvPicPr>
        <p:blipFill>
          <a:blip r:embed="rId1"/>
          <a:stretch/>
        </p:blipFill>
        <p:spPr>
          <a:xfrm>
            <a:off x="6172200" y="2895480"/>
            <a:ext cx="23493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3"/>
          <p:cNvSpPr/>
          <p:nvPr/>
        </p:nvSpPr>
        <p:spPr>
          <a:xfrm>
            <a:off x="802800" y="4366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来总结吧！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658880" y="1095480"/>
            <a:ext cx="50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了这首诗，我们懂得了哪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知识和道理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5961600" y="19051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一，人应该怎样活着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4309920" y="3962520"/>
            <a:ext cx="483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二，对人民的不同态度，             会得到 人民怎样不同的回报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5130720" y="2819520"/>
            <a:ext cx="292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要为人民，为社会，要勤勤恳恳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乐于奉献。这样的人生才有价值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5179320" y="5181480"/>
            <a:ext cx="274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骑在人民头上的，终被人民打倒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甘愿为人民献出一切的人，则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民心中永生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9"/>
          <p:cNvSpPr/>
          <p:nvPr/>
        </p:nvSpPr>
        <p:spPr>
          <a:xfrm>
            <a:off x="3962520" y="17524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728640" y="1927080"/>
            <a:ext cx="250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一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本文的表现手法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什么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228600" y="4038480"/>
            <a:ext cx="350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二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诗中的议论有什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特点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1193400" y="3200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1210320" y="5486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形象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0" y="5335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457200" y="1905120"/>
            <a:ext cx="487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Times New Roman"/>
              </a:rPr>
              <a:t>学过了本诗，你心中一定会涌起许多的感受吧，对自己的，对人生的，对社会的。那么，就拿起笔来吧，把你的感受写一写，副标题嘛，就叫做“读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cc99"/>
                </a:solidFill>
                <a:latin typeface="Times New Roman"/>
              </a:rPr>
              <a:t>有的人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cc99"/>
                </a:solidFill>
                <a:latin typeface="Times New Roman"/>
              </a:rPr>
              <a:t>有感”，主标题就要自己拟了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4" descr="写字"/>
          <p:cNvPicPr/>
          <p:nvPr/>
        </p:nvPicPr>
        <p:blipFill>
          <a:blip r:embed="rId1"/>
          <a:stretch/>
        </p:blipFill>
        <p:spPr>
          <a:xfrm>
            <a:off x="6629400" y="4267080"/>
            <a:ext cx="2133720" cy="17668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5867280" y="205740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Times New Roman"/>
              </a:rPr>
              <a:t>记住以前学过的读后感的写法是什么了吗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5562720" y="21337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1668960" y="1211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3285000" y="1219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议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4808880" y="1219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联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6333120" y="1219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228600" y="304920"/>
            <a:ext cx="8381880" cy="685800"/>
          </a:xfrm>
          <a:prstGeom prst="rect">
            <a:avLst/>
          </a:prstGeom>
          <a:solidFill>
            <a:srgbClr val="00cc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拿起笔来，写一写你自己的感受吧！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0" y="609480"/>
            <a:ext cx="41911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野草，根本不深，花叶不美，然而吸取露，吸取水，吸取陈死人的血和肉，各各夺取它的生存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但我坦然，欣然。我将大笑，我将歌唱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我自爱我的野草，但我憎恶这以野草作装饰的地面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地火在地下运行，奔突；熔岩一旦喷出，将烧尽一切野草，以及乔木，于是并且无可朽腐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但我坦然，欣然。我将大笑，我将歌唱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4343400" y="380880"/>
            <a:ext cx="4800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文的体裁是＿＿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旧体诗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散文诗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散文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中的“野草”是指＿＿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荒野中的杂草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象征普通百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旧的封建势力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切革命者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地面”像征＿＿＿＿＿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“地火”像征＿＿＿＿＿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文的中心是＿＿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赞美野草，表达作者对腐朽势力的憎恶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赞美野草，表达作者甘愿牺牲一达将自己的一切奉献祖国的人民的愿望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野草自喻，同时对黑暗社会以猛烈的抨击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3965400" y="1522800"/>
            <a:ext cx="54612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－－－－－－－－－－－－－－－－－－－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6631200" y="304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7240680" y="1066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6417720" y="213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黑暗势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6494040" y="2514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革命力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6478920" y="2895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407880" y="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拓展阅读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鲁迅的歌.mp3" descr=""/>
          <p:cNvPicPr/>
          <p:nvPr/>
        </p:nvPicPr>
        <p:blipFill>
          <a:blip r:embed="rId1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29" descr="11"/>
          <p:cNvPicPr/>
          <p:nvPr/>
        </p:nvPicPr>
        <p:blipFill>
          <a:blip r:embed="rId2"/>
          <a:stretch/>
        </p:blipFill>
        <p:spPr>
          <a:xfrm>
            <a:off x="304920" y="304920"/>
            <a:ext cx="2357280" cy="2895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30" descr="鲁迅诗1"/>
          <p:cNvPicPr/>
          <p:nvPr/>
        </p:nvPicPr>
        <p:blipFill>
          <a:blip r:embed="rId3"/>
          <a:stretch/>
        </p:blipFill>
        <p:spPr>
          <a:xfrm>
            <a:off x="4800600" y="1295280"/>
            <a:ext cx="971640" cy="4537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31" descr="鲁迅诗2"/>
          <p:cNvPicPr/>
          <p:nvPr/>
        </p:nvPicPr>
        <p:blipFill>
          <a:blip r:embed="rId4"/>
          <a:stretch/>
        </p:blipFill>
        <p:spPr>
          <a:xfrm>
            <a:off x="3505320" y="1295280"/>
            <a:ext cx="971280" cy="4537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32" descr="痛斥敌人"/>
          <p:cNvPicPr/>
          <p:nvPr/>
        </p:nvPicPr>
        <p:blipFill>
          <a:blip r:embed="rId5"/>
          <a:stretch/>
        </p:blipFill>
        <p:spPr>
          <a:xfrm>
            <a:off x="6324480" y="380880"/>
            <a:ext cx="2232000" cy="27432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33" descr="援助 学生"/>
          <p:cNvPicPr/>
          <p:nvPr/>
        </p:nvPicPr>
        <p:blipFill>
          <a:blip r:embed="rId6"/>
          <a:stretch/>
        </p:blipFill>
        <p:spPr>
          <a:xfrm>
            <a:off x="6400800" y="3505320"/>
            <a:ext cx="2233440" cy="2743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34" descr="关怀青年"/>
          <p:cNvPicPr/>
          <p:nvPr/>
        </p:nvPicPr>
        <p:blipFill>
          <a:blip r:embed="rId7"/>
          <a:stretch/>
        </p:blipFill>
        <p:spPr>
          <a:xfrm>
            <a:off x="457200" y="3581280"/>
            <a:ext cx="2382840" cy="29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983600" y="457200"/>
            <a:ext cx="325116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臧克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现代著名诗人，山东省诸城人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3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出版第一部诗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烙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深受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广大群众的喜爱。以后又相继出版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泥淖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呜咽的去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泥土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春风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欢呼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克家诗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等诗集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克家照片"/>
          <p:cNvPicPr/>
          <p:nvPr/>
        </p:nvPicPr>
        <p:blipFill>
          <a:blip r:embed="rId1"/>
          <a:stretch/>
        </p:blipFill>
        <p:spPr>
          <a:xfrm>
            <a:off x="6553080" y="304920"/>
            <a:ext cx="2286000" cy="290340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4"/>
          <p:cNvGrpSpPr/>
          <p:nvPr/>
        </p:nvGrpSpPr>
        <p:grpSpPr>
          <a:xfrm>
            <a:off x="357840" y="3200400"/>
            <a:ext cx="6112080" cy="3050640"/>
            <a:chOff x="357840" y="3200400"/>
            <a:chExt cx="6112080" cy="3050640"/>
          </a:xfrm>
        </p:grpSpPr>
        <p:sp>
          <p:nvSpPr>
            <p:cNvPr id="47" name="Text Box 5"/>
            <p:cNvSpPr/>
            <p:nvPr/>
          </p:nvSpPr>
          <p:spPr>
            <a:xfrm>
              <a:off x="1944360" y="3962520"/>
              <a:ext cx="45255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949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年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日，是鲁迅先生逝世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周年纪念日。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当时，全国各地人民第一次公开隆重地开展了各种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纪念活动，诗人臧克家亲自参加了首都人民的纪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活动，瞻仰了鲁迅故居，“对着这遗迹，想念鲁迅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的一生，心里感慨很深，便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日写就了此诗。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此诗自发表以来，一直受到读者喜爱，广为流传。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Text Box 6"/>
            <p:cNvSpPr/>
            <p:nvPr/>
          </p:nvSpPr>
          <p:spPr>
            <a:xfrm>
              <a:off x="357840" y="320040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写作背景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0"/>
          <p:cNvSpPr/>
          <p:nvPr/>
        </p:nvSpPr>
        <p:spPr>
          <a:xfrm>
            <a:off x="925560" y="45720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有的人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21"/>
          <p:cNvSpPr/>
          <p:nvPr/>
        </p:nvSpPr>
        <p:spPr>
          <a:xfrm>
            <a:off x="1932840" y="163980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－纪念鲁迅有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2" descr="066"/>
          <p:cNvPicPr/>
          <p:nvPr/>
        </p:nvPicPr>
        <p:blipFill>
          <a:blip r:embed="rId1"/>
          <a:stretch/>
        </p:blipFill>
        <p:spPr>
          <a:xfrm>
            <a:off x="6705720" y="0"/>
            <a:ext cx="21873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2793240" y="228600"/>
            <a:ext cx="33811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有的人活着，他已经死了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有的人死了，他还活着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有的人，骑在人民头上：“呵，我多伟大！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有的人，俯下身子给人民当牛马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有的人，把名字刻入石头，想“不朽”！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有的人，情愿作野草，等着地下的火烧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有的人，他活着别人就不能活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有的人，他活着为了多数人更好地活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骑在人民头上的，人民把他摔垮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给人民作牛马的，人民永远记住他！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把名字刻入石头的，名字比尸首烂得更早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只要春风吹到的地方，到处是青青的野草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他活着别人就不能活的人，他的下场可以看到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他活着为了多数人更好地活着的人，群众把他抬举得很高，很高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065"/>
          <p:cNvPicPr/>
          <p:nvPr/>
        </p:nvPicPr>
        <p:blipFill>
          <a:blip r:embed="rId1"/>
          <a:stretch/>
        </p:blipFill>
        <p:spPr>
          <a:xfrm>
            <a:off x="5943600" y="0"/>
            <a:ext cx="3200400" cy="4724280"/>
          </a:xfrm>
          <a:prstGeom prst="rect">
            <a:avLst/>
          </a:prstGeom>
          <a:ln w="0">
            <a:noFill/>
          </a:ln>
        </p:spPr>
      </p:pic>
      <p:pic>
        <p:nvPicPr>
          <p:cNvPr id="54" name="《有的人》.mp3" descr=""/>
          <p:cNvPicPr/>
          <p:nvPr/>
        </p:nvPicPr>
        <p:blipFill>
          <a:blip r:embed="rId2"/>
          <a:stretch/>
        </p:blipFill>
        <p:spPr>
          <a:xfrm>
            <a:off x="6300720" y="3860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33614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1574640" y="1676520"/>
            <a:ext cx="447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1.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文中写了几种人？是哪几种人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为什么要写这另种人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918080" y="4572000"/>
            <a:ext cx="529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2.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由此看出本文采用的表现手法是什么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1857240" y="556272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本文的表现手法是对比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7" descr="问号图片"/>
          <p:cNvPicPr/>
          <p:nvPr/>
        </p:nvPicPr>
        <p:blipFill>
          <a:blip r:embed="rId1"/>
          <a:stretch/>
        </p:blipFill>
        <p:spPr>
          <a:xfrm>
            <a:off x="6735600" y="609480"/>
            <a:ext cx="2408400" cy="14320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9"/>
          <p:cNvSpPr/>
          <p:nvPr/>
        </p:nvSpPr>
        <p:spPr>
          <a:xfrm>
            <a:off x="380880" y="380880"/>
            <a:ext cx="518184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再读本诗，思考：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533520" y="609480"/>
            <a:ext cx="472428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请找出每节诗中的对比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1025640" y="1523880"/>
            <a:ext cx="217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活着－－－－死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死了－－－－活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315440" y="2362320"/>
            <a:ext cx="29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骑在人民头上－－俯身做牛马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33520" y="2971800"/>
            <a:ext cx="57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刻名字想不朽－－情愿做野火，等火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1437480" y="3581280"/>
            <a:ext cx="34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别人不能活－－为多数人更好的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888840" y="4191120"/>
            <a:ext cx="16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摔垮－－记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1498320" y="4800600"/>
            <a:ext cx="351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名字烂的更早－－到处是青青的野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1513440" y="548640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场可以看到－－抬举的很高很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10"/>
          <p:cNvSpPr/>
          <p:nvPr/>
        </p:nvSpPr>
        <p:spPr>
          <a:xfrm flipV="1">
            <a:off x="5334120" y="227520"/>
            <a:ext cx="2819160" cy="762120"/>
          </a:xfrm>
          <a:prstGeom prst="wedgeRectCallout">
            <a:avLst>
              <a:gd name="adj1" fmla="val -114416"/>
              <a:gd name="adj2" fmla="val -137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活”－－肉体还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死”－－精神已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11"/>
          <p:cNvSpPr/>
          <p:nvPr/>
        </p:nvSpPr>
        <p:spPr>
          <a:xfrm>
            <a:off x="5410080" y="1066680"/>
            <a:ext cx="2743200" cy="838440"/>
          </a:xfrm>
          <a:prstGeom prst="wedgeRectCallout">
            <a:avLst>
              <a:gd name="adj1" fmla="val -118055"/>
              <a:gd name="adj2" fmla="val 88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死－－肉体不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活－－精神永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2" descr="眼睛"/>
          <p:cNvPicPr/>
          <p:nvPr/>
        </p:nvPicPr>
        <p:blipFill>
          <a:blip r:embed="rId1"/>
          <a:stretch/>
        </p:blipFill>
        <p:spPr>
          <a:xfrm>
            <a:off x="6629400" y="5715000"/>
            <a:ext cx="2286000" cy="83808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15"/>
          <p:cNvGrpSpPr/>
          <p:nvPr/>
        </p:nvGrpSpPr>
        <p:grpSpPr>
          <a:xfrm>
            <a:off x="5791320" y="2438280"/>
            <a:ext cx="2790720" cy="1447920"/>
            <a:chOff x="5791320" y="2438280"/>
            <a:chExt cx="2790720" cy="1447920"/>
          </a:xfrm>
        </p:grpSpPr>
        <p:sp>
          <p:nvSpPr>
            <p:cNvPr id="72" name="AutoShape 13"/>
            <p:cNvSpPr/>
            <p:nvPr/>
          </p:nvSpPr>
          <p:spPr>
            <a:xfrm>
              <a:off x="5791320" y="2438280"/>
              <a:ext cx="304560" cy="1447920"/>
            </a:xfrm>
            <a:custGeom>
              <a:avLst/>
              <a:gdLst>
                <a:gd name="textAreaLeft" fmla="*/ 0 w 304560"/>
                <a:gd name="textAreaRight" fmla="*/ 213840 w 304560"/>
                <a:gd name="textAreaTop" fmla="*/ 60120 h 1447920"/>
                <a:gd name="textAreaBottom" fmla="*/ 138780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14"/>
            <p:cNvSpPr/>
            <p:nvPr/>
          </p:nvSpPr>
          <p:spPr>
            <a:xfrm>
              <a:off x="6694560" y="2438280"/>
              <a:ext cx="18874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各从哪方面对比的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突出鲁迅什么精神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26" descr="02"/>
          <p:cNvPicPr/>
          <p:nvPr/>
        </p:nvPicPr>
        <p:blipFill>
          <a:blip r:embed="rId1"/>
          <a:stretch/>
        </p:blipFill>
        <p:spPr>
          <a:xfrm>
            <a:off x="1219320" y="1981080"/>
            <a:ext cx="2297160" cy="3124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27" descr="援助 学生"/>
          <p:cNvPicPr/>
          <p:nvPr/>
        </p:nvPicPr>
        <p:blipFill>
          <a:blip r:embed="rId2"/>
          <a:stretch/>
        </p:blipFill>
        <p:spPr>
          <a:xfrm>
            <a:off x="5410080" y="1981080"/>
            <a:ext cx="2435400" cy="32004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028"/>
          <p:cNvSpPr/>
          <p:nvPr/>
        </p:nvSpPr>
        <p:spPr>
          <a:xfrm>
            <a:off x="1035000" y="762120"/>
            <a:ext cx="277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的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骑在人民头上：“呵，我多伟大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029"/>
          <p:cNvSpPr/>
          <p:nvPr/>
        </p:nvSpPr>
        <p:spPr>
          <a:xfrm>
            <a:off x="6087960" y="76212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人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俯下身子给人民当牛马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030"/>
          <p:cNvSpPr/>
          <p:nvPr/>
        </p:nvSpPr>
        <p:spPr>
          <a:xfrm>
            <a:off x="4118400" y="1773000"/>
            <a:ext cx="66780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对人民的态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031"/>
          <p:cNvSpPr/>
          <p:nvPr/>
        </p:nvSpPr>
        <p:spPr>
          <a:xfrm>
            <a:off x="1740240" y="541008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威作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横行霸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32"/>
          <p:cNvSpPr/>
          <p:nvPr/>
        </p:nvSpPr>
        <p:spPr>
          <a:xfrm>
            <a:off x="6156360" y="5486400"/>
            <a:ext cx="124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全心全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人民服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026" descr="努力学习"/>
          <p:cNvPicPr/>
          <p:nvPr/>
        </p:nvPicPr>
        <p:blipFill>
          <a:blip r:embed="rId1"/>
          <a:stretch/>
        </p:blipFill>
        <p:spPr>
          <a:xfrm>
            <a:off x="5715000" y="2209680"/>
            <a:ext cx="2208240" cy="2895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27" descr="01"/>
          <p:cNvPicPr/>
          <p:nvPr/>
        </p:nvPicPr>
        <p:blipFill>
          <a:blip r:embed="rId2"/>
          <a:stretch/>
        </p:blipFill>
        <p:spPr>
          <a:xfrm>
            <a:off x="1143000" y="2286000"/>
            <a:ext cx="2097000" cy="28954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028"/>
          <p:cNvSpPr/>
          <p:nvPr/>
        </p:nvSpPr>
        <p:spPr>
          <a:xfrm>
            <a:off x="1145160" y="838080"/>
            <a:ext cx="24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的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把名字刻入石头，想“不朽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029"/>
          <p:cNvSpPr/>
          <p:nvPr/>
        </p:nvSpPr>
        <p:spPr>
          <a:xfrm>
            <a:off x="5350320" y="914400"/>
            <a:ext cx="25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的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情愿作野草，等着地下的火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30"/>
          <p:cNvSpPr/>
          <p:nvPr/>
        </p:nvSpPr>
        <p:spPr>
          <a:xfrm>
            <a:off x="4118400" y="2001600"/>
            <a:ext cx="66780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对人生的目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31"/>
          <p:cNvSpPr/>
          <p:nvPr/>
        </p:nvSpPr>
        <p:spPr>
          <a:xfrm>
            <a:off x="1584360" y="5562720"/>
            <a:ext cx="124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活着为自己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死后想留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032"/>
          <p:cNvSpPr/>
          <p:nvPr/>
        </p:nvSpPr>
        <p:spPr>
          <a:xfrm>
            <a:off x="6152760" y="548640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人民而战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革命愿献身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026" descr="04"/>
          <p:cNvPicPr/>
          <p:nvPr/>
        </p:nvPicPr>
        <p:blipFill>
          <a:blip r:embed="rId1"/>
          <a:stretch/>
        </p:blipFill>
        <p:spPr>
          <a:xfrm>
            <a:off x="533520" y="2286000"/>
            <a:ext cx="3276360" cy="2290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27" descr="关怀青年"/>
          <p:cNvPicPr/>
          <p:nvPr/>
        </p:nvPicPr>
        <p:blipFill>
          <a:blip r:embed="rId2"/>
          <a:stretch/>
        </p:blipFill>
        <p:spPr>
          <a:xfrm>
            <a:off x="5638680" y="1905120"/>
            <a:ext cx="2389320" cy="30477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028"/>
          <p:cNvSpPr/>
          <p:nvPr/>
        </p:nvSpPr>
        <p:spPr>
          <a:xfrm>
            <a:off x="1388520" y="53352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的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他活着别人就不能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29"/>
          <p:cNvSpPr/>
          <p:nvPr/>
        </p:nvSpPr>
        <p:spPr>
          <a:xfrm>
            <a:off x="5456160" y="533520"/>
            <a:ext cx="245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的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他活着为了多数人更 好地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030"/>
          <p:cNvSpPr/>
          <p:nvPr/>
        </p:nvSpPr>
        <p:spPr>
          <a:xfrm>
            <a:off x="4423320" y="1773000"/>
            <a:ext cx="66780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对社会的影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031"/>
          <p:cNvSpPr/>
          <p:nvPr/>
        </p:nvSpPr>
        <p:spPr>
          <a:xfrm>
            <a:off x="1268640" y="54100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侵害别人的利益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032"/>
          <p:cNvSpPr/>
          <p:nvPr/>
        </p:nvSpPr>
        <p:spPr>
          <a:xfrm>
            <a:off x="6069240" y="54100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捍卫别人的利益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9T00:37:09Z</dcterms:created>
  <dc:creator>第一PPT模板网-WWW.1PPT.COM</dc:creator>
  <dc:description/>
  <dc:language>en-US</dc:language>
  <cp:lastModifiedBy>Administrator</cp:lastModifiedBy>
  <dcterms:modified xsi:type="dcterms:W3CDTF">2017-05-08T02:54:32Z</dcterms:modified>
  <cp:revision>7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93</vt:lpwstr>
  </property>
</Properties>
</file>