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943-8048-4F8D-ADEA-A261B902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479-E3AD-444B-872E-B3ECD89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7B3-3B17-4B8C-AB0A-21903FEC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2C8-B61F-41B0-A568-59DB09C5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C1D5-5D9A-4082-A5C5-54FE823F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A4FE-3EFD-480E-A951-C8D7922A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2F9E-D615-4CD7-80A7-78ECF836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700-4949-444F-B278-041A247B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8D5-1BD1-437A-A5F1-F6D0E9BF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EF9B-F2C6-4E23-BEFB-0C2F768E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547A-D066-471B-80CB-25109D0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2BA-3E6E-49E5-9C5F-08C6D6FB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224-3E0E-4539-B9A9-EFA10844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0525-C0F9-4CF7-9CD8-F55DCF7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6157-4FB6-4AFB-A0A4-50DDC6C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36B3-A68B-417D-A550-6D536075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0AD-1919-4737-B58B-EBE9653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BBE-FB09-474D-961D-64EF703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B8D-7728-4799-9BD9-FFB80D2F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04D-7E9E-434C-8B8B-A0991E6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E21-D2CD-4929-8B34-98E0797F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337-A199-49B5-8E99-13E22C0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A313-55C9-49BA-A0B8-C7B903FB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651-7C47-40E3-A269-A35FA1E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5501-AE5B-4ADE-9337-6AE2518AA9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B1A-2CF2-459C-BCCC-BFB0A4C4D8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ppt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travelguide.sunnychina.com/travel_image/5637/31230/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13813" t="14487" r="7931" b="7687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2000" y="1584360"/>
            <a:ext cx="7336080" cy="16178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0" spc="-1" strike="noStrike">
                <a:solidFill>
                  <a:srgbClr val="ffff00"/>
                </a:solidFill>
                <a:latin typeface="Times New Roman"/>
              </a:rPr>
              <a:t>游褒禅山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954600"/>
            <a:ext cx="2516040" cy="8251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Times New Roman"/>
              </a:rPr>
              <a:t>王安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图片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57360" y="5769000"/>
            <a:ext cx="1753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7931" t="8665" r="7931" b="8665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440" y="260640"/>
            <a:ext cx="2484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安石的名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变不足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宗不可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言不足恤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7360" y="5769000"/>
            <a:ext cx="1753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0"/>
            <a:ext cx="2666880" cy="685800"/>
            <a:chOff x="0" y="0"/>
            <a:chExt cx="2666880" cy="685800"/>
          </a:xfrm>
        </p:grpSpPr>
        <p:pic>
          <p:nvPicPr>
            <p:cNvPr id="124" name="" descr="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0" y="0"/>
              <a:ext cx="26668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57200" y="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文学常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838080" y="685800"/>
            <a:ext cx="73389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[</a:t>
            </a:r>
            <a:r>
              <a:rPr b="1" lang="zh-CN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记</a:t>
            </a:r>
            <a:r>
              <a:rPr b="1" lang="en-US" sz="5400" spc="-1" strike="noStrike">
                <a:solidFill>
                  <a:srgbClr val="ff0000"/>
                </a:solidFill>
                <a:latin typeface="方正姚体"/>
                <a:ea typeface="方正姚体"/>
              </a:rPr>
              <a:t>]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方正姚体"/>
              </a:rPr>
              <a:t>：</a:t>
            </a:r>
            <a:r>
              <a:rPr b="1" lang="zh-CN" sz="3200" spc="-1" strike="noStrike">
                <a:solidFill>
                  <a:srgbClr val="336600"/>
                </a:solidFill>
                <a:latin typeface="_x000b__x000c_"/>
                <a:ea typeface="方正姚体"/>
              </a:rPr>
              <a:t>古代一种散文体裁，可叙事、写景、状物，抒发情怀抱负，阐述某些观点。它以发议论为主而以记游为辅，议论又涉及哲理问题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38080" y="4419720"/>
            <a:ext cx="8001000" cy="1112040"/>
            <a:chOff x="838080" y="4419720"/>
            <a:chExt cx="8001000" cy="1112040"/>
          </a:xfrm>
        </p:grpSpPr>
        <p:sp>
          <p:nvSpPr>
            <p:cNvPr id="128" name=""/>
            <p:cNvSpPr/>
            <p:nvPr/>
          </p:nvSpPr>
          <p:spPr>
            <a:xfrm>
              <a:off x="838080" y="4419720"/>
              <a:ext cx="8001000" cy="63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方正姚体"/>
                </a:rPr>
                <a:t>游记</a:t>
              </a:r>
              <a:r>
                <a:rPr b="1" lang="zh-CN" sz="3200" spc="-1" strike="noStrike">
                  <a:solidFill>
                    <a:srgbClr val="336600"/>
                  </a:solidFill>
                  <a:latin typeface="Times New Roman"/>
                  <a:ea typeface="方正姚体"/>
                </a:rPr>
                <a:t>：记录游览中的所见、所闻、所感的文章。</a:t>
              </a:r>
              <a:r>
                <a:rPr b="1" lang="zh-CN" sz="3200" spc="-1" strike="noStrike">
                  <a:solidFill>
                    <a:srgbClr val="336600"/>
                  </a:solidFill>
                  <a:latin typeface="_x000b__x000c_"/>
                  <a:ea typeface="方正姚体"/>
                </a:rPr>
                <a:t>主要特点是抓住山川风物的特点，表现山水之美，抒发作者的感情。</a:t>
              </a:r>
              <a:r>
                <a:rPr b="1" lang="zh-CN" sz="3200" spc="-1" strike="noStrike">
                  <a:solidFill>
                    <a:srgbClr val="ff0000"/>
                  </a:solidFill>
                  <a:latin typeface="_x000b__x000c_"/>
                  <a:ea typeface="方正姚体"/>
                </a:rPr>
                <a:t>一般以记为主，以感为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990360" y="5074920"/>
              <a:ext cx="7620120" cy="456840"/>
              <a:chOff x="990360" y="5074920"/>
              <a:chExt cx="7620120" cy="456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09680" y="5074920"/>
                <a:ext cx="6400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360" y="553176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3255120" y="3200400"/>
            <a:ext cx="140004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_x000b__x000c_"/>
                <a:ea typeface=""/>
              </a:rPr>
              <a:t>分为四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_x000b__x000c_"/>
                <a:ea typeface="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  <a:ea typeface=""/>
              </a:rPr>
              <a:t>记游、记事 、记亭台楼阁、记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2720" y="259920"/>
            <a:ext cx="8531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文体特点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、亭台楼阁名胜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岳阳楼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醉翁亭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、山水游记： 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游褒禅山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石钟山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小石潭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、杂物书画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  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核舟记</a:t>
            </a:r>
            <a:r>
              <a:rPr b="1" lang="en-US" sz="4400" spc="-1" strike="noStrike">
                <a:solidFill>
                  <a:srgbClr val="660033"/>
                </a:solidFill>
                <a:latin typeface="隶书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0"/>
            <a:ext cx="4788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王安石其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政治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77960"/>
            <a:ext cx="5616720" cy="22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安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89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北宋政治家、思想家、文学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介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抚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临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今江西临川）人。他“少好读书”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4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登进士第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6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上万言书，提出变法主张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6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任宰相，推行新法，后因遭到反变法派的猛烈攻击，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7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罢相，次年再为相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再次辞去相位，退居江宁（南京）潜心学术研究和诗文创作。封舒国公，又改封荆国公，故世称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王荆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8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司马光执政，废尽新法，王安石忧愤去世。卒谥文，故又称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王文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419720"/>
            <a:ext cx="27370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列宁称其为“中国十一世纪的改革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692280"/>
            <a:ext cx="77058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王 安石作宰相期间，大兴变法，遭到保守派的猛烈攻击，但仍然立场坚定，宣称“天变不足畏，祖宗不足法，人言不足恤”。变法失败后，被迫辞去相位。随后几度复出，又几度辞官。晚年隐居钟山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365720"/>
            <a:ext cx="71294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99"/>
                </a:solidFill>
                <a:latin typeface="Times New Roman"/>
              </a:rPr>
              <a:t>　　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“尽吾志而不 能至者，可以无悔矣。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414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38280" y="105876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89000"/>
            <a:ext cx="46483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王安石其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文学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1341360"/>
            <a:ext cx="572436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安石在文学上也是个革新派。他是欧阳修倡导的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北宋诗文革新运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积极参加者，反对北宋初年浮靡的文风，主张文章“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务为有补于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他的文章结构谨严，说理透辟，笔力雄健，语言洗炼，在唐宋八大家中独树一帜。他的作品今存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临川集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临川集拾遗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本文选自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临川先生文集</a:t>
            </a:r>
            <a:r>
              <a:rPr b="1" lang="en-US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581360"/>
            <a:ext cx="29750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唐宋八大家”之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5516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038560" y="5734080"/>
            <a:ext cx="4105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王安石记念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35164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0000" y="5950080"/>
            <a:ext cx="7920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王安石纪念馆（江西临川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762120"/>
            <a:ext cx="2819520" cy="441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0"/>
            <a:ext cx="2666880" cy="685800"/>
            <a:chOff x="0" y="0"/>
            <a:chExt cx="2666880" cy="685800"/>
          </a:xfrm>
        </p:grpSpPr>
        <p:pic>
          <p:nvPicPr>
            <p:cNvPr id="88" name="" descr="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0" y="0"/>
              <a:ext cx="26668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57200" y="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  <a:ea typeface="隶书"/>
                </a:rPr>
                <a:t>文学常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褒禅山位于安徽省境内，风景秀美。主要景点是“一寺二洞”。前洞有“华阳”等石刻文字；后洞又称“碑洞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2133720"/>
          <a:ext cx="9144000" cy="472428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33720"/>
                    <a:ext cx="9144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4988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5734080"/>
            <a:ext cx="75250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王安石塑像（江西临川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90720" y="2742480"/>
            <a:ext cx="7470720" cy="314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公元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51——105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，王安石任舒州（现在安徽省潜山县）通判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5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（宋仁宗至和元年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，辞职回家探亲，在归途中游览了山峦起伏，有泉有洞，风景秀美的褒禅山，同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以追记形式写下此文，当时他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260280"/>
            <a:ext cx="237636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a15"/>
                </a:solidFill>
                <a:latin typeface="Arial"/>
              </a:rPr>
              <a:t>背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19520" y="16765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533520"/>
            <a:ext cx="7777080" cy="5848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褒禅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卒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葬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庐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有碑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仆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今言“华”如“华实”之“华”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有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则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无物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之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何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道也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箫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圭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君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余弟安国平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572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d60093"/>
                </a:solidFill>
                <a:latin typeface="黑体"/>
                <a:ea typeface="黑体"/>
              </a:rPr>
              <a:t>bāo chán</a:t>
            </a:r>
            <a:r>
              <a:rPr b="1" lang="zh-CN" sz="2800" spc="-1" strike="noStrike">
                <a:solidFill>
                  <a:srgbClr val="d60093"/>
                </a:solidFill>
                <a:latin typeface="黑体"/>
                <a:ea typeface="黑体"/>
              </a:rPr>
              <a:t>，也就是华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2800" y="1585800"/>
            <a:ext cx="25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zhǒng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坟墓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3048120"/>
            <a:ext cx="32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yǎo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深远幽暗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358128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jiù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责怪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4114800"/>
            <a:ext cx="39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xiàng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帮助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648320"/>
            <a:ext cx="43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shēng 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完全，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10552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guī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人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5697360"/>
            <a:ext cx="4800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fǔ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对男子的美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0666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zú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，死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178000"/>
            <a:ext cx="21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pū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，倒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89600" y="2505240"/>
            <a:ext cx="31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  <a:ea typeface="黑体"/>
              </a:rPr>
              <a:t>huā/huá/huá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28600" y="380880"/>
            <a:ext cx="5029200" cy="1652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e91937"/>
                </a:solidFill>
                <a:latin typeface="Times New Roman"/>
              </a:rPr>
              <a:t>游褒禅山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3284640"/>
            <a:ext cx="7200720" cy="33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字词的读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长句的停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概括文章每段主要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未知"/>
          <p:cNvSpPr/>
          <p:nvPr/>
        </p:nvSpPr>
        <p:spPr>
          <a:xfrm>
            <a:off x="6095880" y="4419720"/>
            <a:ext cx="505080" cy="218880"/>
          </a:xfrm>
          <a:custGeom>
            <a:avLst/>
            <a:gdLst/>
            <a:ahLst/>
            <a:rect l="l" t="t" r="r" b="b"/>
            <a:pathLst>
              <a:path w="360" h="156">
                <a:moveTo>
                  <a:pt x="0" y="156"/>
                </a:moveTo>
                <a:cubicBezTo>
                  <a:pt x="60" y="78"/>
                  <a:pt x="120" y="0"/>
                  <a:pt x="180" y="0"/>
                </a:cubicBezTo>
                <a:cubicBezTo>
                  <a:pt x="240" y="0"/>
                  <a:pt x="300" y="78"/>
                  <a:pt x="360" y="156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未知"/>
          <p:cNvSpPr/>
          <p:nvPr/>
        </p:nvSpPr>
        <p:spPr>
          <a:xfrm>
            <a:off x="3657600" y="4267080"/>
            <a:ext cx="1765440" cy="1565280"/>
          </a:xfrm>
          <a:custGeom>
            <a:avLst/>
            <a:gdLst/>
            <a:ahLst/>
            <a:rect l="l" t="t" r="r" b="b"/>
            <a:pathLst>
              <a:path w="1260" h="1118">
                <a:moveTo>
                  <a:pt x="0" y="962"/>
                </a:moveTo>
                <a:cubicBezTo>
                  <a:pt x="165" y="481"/>
                  <a:pt x="330" y="0"/>
                  <a:pt x="540" y="26"/>
                </a:cubicBezTo>
                <a:cubicBezTo>
                  <a:pt x="750" y="52"/>
                  <a:pt x="1140" y="936"/>
                  <a:pt x="1260" y="1118"/>
                </a:cubicBezTo>
              </a:path>
            </a:pathLst>
          </a:custGeom>
          <a:solidFill>
            <a:srgbClr val="ccff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未知"/>
          <p:cNvSpPr/>
          <p:nvPr/>
        </p:nvSpPr>
        <p:spPr>
          <a:xfrm>
            <a:off x="990720" y="4343400"/>
            <a:ext cx="1763640" cy="1565280"/>
          </a:xfrm>
          <a:custGeom>
            <a:avLst/>
            <a:gdLst/>
            <a:ahLst/>
            <a:rect l="l" t="t" r="r" b="b"/>
            <a:pathLst>
              <a:path w="1260" h="1118">
                <a:moveTo>
                  <a:pt x="0" y="1118"/>
                </a:moveTo>
                <a:cubicBezTo>
                  <a:pt x="165" y="585"/>
                  <a:pt x="330" y="52"/>
                  <a:pt x="540" y="26"/>
                </a:cubicBezTo>
                <a:cubicBezTo>
                  <a:pt x="750" y="0"/>
                  <a:pt x="1110" y="806"/>
                  <a:pt x="1260" y="962"/>
                </a:cubicBezTo>
              </a:path>
            </a:pathLst>
          </a:custGeom>
          <a:solidFill>
            <a:srgbClr val="ccff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4114800" y="5410080"/>
            <a:ext cx="503280" cy="219240"/>
          </a:xfrm>
          <a:custGeom>
            <a:avLst/>
            <a:gdLst/>
            <a:ahLst/>
            <a:rect l="l" t="t" r="r" b="b"/>
            <a:pathLst>
              <a:path w="360" h="156">
                <a:moveTo>
                  <a:pt x="0" y="156"/>
                </a:moveTo>
                <a:cubicBezTo>
                  <a:pt x="60" y="78"/>
                  <a:pt x="120" y="0"/>
                  <a:pt x="180" y="0"/>
                </a:cubicBezTo>
                <a:cubicBezTo>
                  <a:pt x="240" y="0"/>
                  <a:pt x="300" y="78"/>
                  <a:pt x="360" y="156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88280" y="4871880"/>
            <a:ext cx="1260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后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4800600" y="3124080"/>
            <a:ext cx="3024360" cy="1636920"/>
          </a:xfrm>
          <a:custGeom>
            <a:avLst/>
            <a:gdLst/>
            <a:ahLst/>
            <a:rect l="l" t="t" r="r" b="b"/>
            <a:pathLst>
              <a:path w="2160" h="1170">
                <a:moveTo>
                  <a:pt x="0" y="1092"/>
                </a:moveTo>
                <a:cubicBezTo>
                  <a:pt x="45" y="780"/>
                  <a:pt x="90" y="468"/>
                  <a:pt x="180" y="468"/>
                </a:cubicBezTo>
                <a:cubicBezTo>
                  <a:pt x="270" y="468"/>
                  <a:pt x="360" y="1170"/>
                  <a:pt x="540" y="1092"/>
                </a:cubicBezTo>
                <a:cubicBezTo>
                  <a:pt x="720" y="1014"/>
                  <a:pt x="990" y="0"/>
                  <a:pt x="1260" y="0"/>
                </a:cubicBezTo>
                <a:cubicBezTo>
                  <a:pt x="1530" y="0"/>
                  <a:pt x="2010" y="910"/>
                  <a:pt x="2160" y="1092"/>
                </a:cubicBezTo>
              </a:path>
            </a:pathLst>
          </a:custGeom>
          <a:solidFill>
            <a:srgbClr val="ccffff">
              <a:alpha val="52000"/>
            </a:srgbClr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943600"/>
            <a:ext cx="163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慧空禅院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4000" y="1916280"/>
            <a:ext cx="41907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所叙路线图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5715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前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715000"/>
            <a:ext cx="304560" cy="228600"/>
          </a:xfrm>
          <a:prstGeom prst="parallelogram">
            <a:avLst>
              <a:gd name="adj" fmla="val 333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58200" y="5714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6248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486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95680" y="4723920"/>
            <a:ext cx="1839960" cy="873000"/>
            <a:chOff x="4495680" y="4723920"/>
            <a:chExt cx="1839960" cy="873000"/>
          </a:xfrm>
        </p:grpSpPr>
        <p:sp>
          <p:nvSpPr>
            <p:cNvPr id="190" name=""/>
            <p:cNvSpPr/>
            <p:nvPr/>
          </p:nvSpPr>
          <p:spPr>
            <a:xfrm flipV="1">
              <a:off x="4572000" y="4723920"/>
              <a:ext cx="1763640" cy="8730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95680" y="480060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Arial"/>
                </a:rPr>
                <a:t>翻过一座小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981080" y="4800600"/>
            <a:ext cx="2268360" cy="914400"/>
            <a:chOff x="1981080" y="4800600"/>
            <a:chExt cx="2268360" cy="914400"/>
          </a:xfrm>
        </p:grpSpPr>
        <p:sp>
          <p:nvSpPr>
            <p:cNvPr id="193" name=""/>
            <p:cNvSpPr/>
            <p:nvPr/>
          </p:nvSpPr>
          <p:spPr>
            <a:xfrm>
              <a:off x="1981080" y="5715000"/>
              <a:ext cx="226836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1960" y="4800600"/>
              <a:ext cx="16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Arial"/>
                </a:rPr>
                <a:t>东行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r>
                <a:rPr b="0" lang="zh-CN" sz="2000" spc="-1" strike="noStrike">
                  <a:solidFill>
                    <a:srgbClr val="3333cc"/>
                  </a:solidFill>
                  <a:latin typeface="Arial"/>
                </a:rPr>
                <a:t>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855080" y="5158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联系课文内容，解说下列作者行踪路线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1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191280" cy="151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翻译第一段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09480"/>
            <a:ext cx="8435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褒禅山，亦谓之华山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浮图慧褒始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其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址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卒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葬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以故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后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曰褒禅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。 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今所谓慧空禅院者，褒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庐冢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院东五里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所谓华阳洞者，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以</a:t>
            </a:r>
            <a:r>
              <a:rPr b="1" i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其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乃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华山之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阳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之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距洞百余步，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有碑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仆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道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其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文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漫灭，独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为文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犹可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识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，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花山”。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今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言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“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华”如“华实”之“华”者，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盖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音</a:t>
            </a:r>
            <a:r>
              <a:rPr b="1" i="1" lang="zh-CN" sz="24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谬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1143000"/>
            <a:ext cx="990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作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20000" y="1125360"/>
            <a:ext cx="142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终，最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133720"/>
            <a:ext cx="12952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（这个）缘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92360" y="213372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作动  命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33577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9080" y="4437000"/>
            <a:ext cx="1006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倒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4437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碑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5080" y="2276640"/>
            <a:ext cx="33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，判断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43657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5080" y="4365720"/>
            <a:ext cx="397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43657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辨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589720"/>
            <a:ext cx="533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5589720"/>
            <a:ext cx="723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概因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43640" y="5589720"/>
            <a:ext cx="457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错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43640" y="1052640"/>
            <a:ext cx="4809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335772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45080" y="3357720"/>
            <a:ext cx="1584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南水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1" descr="坐落在褒禅山西南面半山腰上的褒禅寺（远跳）.jpg"/>
          <p:cNvPicPr/>
          <p:nvPr/>
        </p:nvPicPr>
        <p:blipFill>
          <a:blip r:embed="rId2"/>
          <a:stretch/>
        </p:blipFill>
        <p:spPr>
          <a:xfrm>
            <a:off x="144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矩形 2"/>
          <p:cNvSpPr/>
          <p:nvPr/>
        </p:nvSpPr>
        <p:spPr>
          <a:xfrm>
            <a:off x="1619280" y="1270080"/>
            <a:ext cx="28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落在褒禅山西南面半山腰上的褒禅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609480"/>
            <a:ext cx="4896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重点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1989000"/>
            <a:ext cx="7993080" cy="338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名词作动词，筑舍定居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名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名词作动词，命名，起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乃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；副词，表判断，有“是”之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55640" y="260280"/>
            <a:ext cx="7920000" cy="265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褒禅山华阳洞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褒禅山位于含山县城东北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里，旧名</a:t>
            </a:r>
            <a:r>
              <a:rPr b="1" lang="zh-CN" sz="32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花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唐贞观年间，高僧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黑体"/>
                <a:ea typeface="黑体"/>
              </a:rPr>
              <a:t>慧褒禅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庐山下，死后葬此，其弟子改花山为</a:t>
            </a:r>
            <a:r>
              <a:rPr b="1" lang="zh-CN" sz="32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褒禅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宋至和元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05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著名文学家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黑体"/>
                <a:ea typeface="黑体"/>
              </a:rPr>
              <a:t>王安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游览此山，写下千古名篇</a:t>
            </a:r>
            <a:r>
              <a:rPr b="1" lang="en-US" sz="32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《</a:t>
            </a:r>
            <a:r>
              <a:rPr b="1" lang="zh-CN" sz="32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游褒禅山记</a:t>
            </a:r>
            <a:r>
              <a:rPr b="1" lang="en-US" sz="32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此，褒禅山名扬海内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10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189000"/>
            <a:ext cx="540072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1628640"/>
            <a:ext cx="8569440" cy="472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所谓慧空禅院者，褒之庐冢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谓华山洞者，以其乃华山之阳名之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言“华”如“华实”之“华”者，盖音谬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9193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eb1a15"/>
                </a:solidFill>
                <a:latin typeface="黑体"/>
                <a:ea typeface="黑体"/>
              </a:rPr>
              <a:t>这三个句子都用“</a:t>
            </a:r>
            <a:r>
              <a:rPr b="1" lang="en-US" sz="3200" spc="-1" strike="noStrike">
                <a:solidFill>
                  <a:srgbClr val="eb1a15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eb1a15"/>
                </a:solidFill>
                <a:latin typeface="黑体"/>
                <a:ea typeface="黑体"/>
              </a:rPr>
              <a:t>者</a:t>
            </a:r>
            <a:r>
              <a:rPr b="1" lang="en-US" sz="3200" spc="-1" strike="noStrike">
                <a:solidFill>
                  <a:srgbClr val="eb1a15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eb1a15"/>
                </a:solidFill>
                <a:latin typeface="黑体"/>
                <a:ea typeface="黑体"/>
              </a:rPr>
              <a:t>也”表示判断。其中的“者”是语气助词，表示提顿；“也”是语气助词，表示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1a15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1a15"/>
                </a:solidFill>
                <a:latin typeface="黑体"/>
                <a:ea typeface="黑体"/>
              </a:rPr>
              <a:t>第一个句子是一般判断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1a15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b1a15"/>
                </a:solidFill>
                <a:latin typeface="黑体"/>
                <a:ea typeface="黑体"/>
              </a:rPr>
              <a:t>第二、三个句子是因果关系的判断句，其中的“者”有提示原因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38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　为什么说“华（ｈｕ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山”是“音谬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文鼎ＰＯＰ－４"/>
                <a:ea typeface="文鼎ＰＯＰ－４"/>
              </a:rPr>
              <a:t>　   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汉字最初无“花”字，“花”小篆中写成      ，像花形；“花”是后起字，有此字后“花”与“华”分开，“华”才读“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huá”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。王安石认为碑文上的“花”是按照古音写的今字，仍然应读“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huā”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，而不应该读成“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huá”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295640" cy="7617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1265400"/>
            <a:ext cx="798984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一段依次记述（每格一字）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山之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8880" y="170820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95760" y="170028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寺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86320" y="170820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0" y="1700280"/>
            <a:ext cx="637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碑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2525760"/>
            <a:ext cx="8064360" cy="64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一段写仆碑，为什么要特别提及仆碑上的文字？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4360" y="3716280"/>
            <a:ext cx="7999200" cy="641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文章后面的议论“深思慎取”提供依据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4365720"/>
            <a:ext cx="8057880" cy="64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一段说明事物方位清楚，层次井然。交代空间的变化，其作用是（不超过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）：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5805360"/>
            <a:ext cx="5040360" cy="641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游褒禅山的行踪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333360"/>
            <a:ext cx="568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第一段：介绍褒禅山概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691056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翻译第二段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189000"/>
            <a:ext cx="8964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平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有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侧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出，而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记游者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众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所谓前洞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山以上五六里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有穴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窈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 入之甚寒，问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深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好游者不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也，谓之后洞。余与四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火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入之愈深， 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进愈难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其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愈奇。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欲出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曰：“不出，火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且尽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”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遂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与之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俱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765000"/>
            <a:ext cx="8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76500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作状从旁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0" y="765000"/>
            <a:ext cx="533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2360" y="2060640"/>
            <a:ext cx="1524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幽深的样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88000" y="2060640"/>
            <a:ext cx="2159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作名，深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328464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3284640"/>
            <a:ext cx="144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作动，走到尽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24720" y="3357720"/>
            <a:ext cx="1295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，连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4581360"/>
            <a:ext cx="12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游洞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2360" y="458136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懈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5877000"/>
            <a:ext cx="719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87640" y="587700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587700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8000" y="587700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27640" y="4581360"/>
            <a:ext cx="1439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动作名，所看到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040" y="603360"/>
            <a:ext cx="84740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盖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余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所至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比好游者尚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不能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十一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其左右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记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者已少；盖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又深，则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少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方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时，余之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力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足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入，火尚足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明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也。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既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或咎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欲出者，而余亦悔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随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不得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游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乐也。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14300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125360"/>
            <a:ext cx="1408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到的（地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1125360"/>
            <a:ext cx="117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及，不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2438280"/>
            <a:ext cx="1295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游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76720" y="2349360"/>
            <a:ext cx="1143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那些到的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6720" y="242100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3716280"/>
            <a:ext cx="151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、正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3716280"/>
            <a:ext cx="533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16360" y="3716280"/>
            <a:ext cx="533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645000"/>
            <a:ext cx="457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3789360"/>
            <a:ext cx="122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作动，照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378936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已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49417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49417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埋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43280" y="494172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35640" y="4941720"/>
            <a:ext cx="45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4941720"/>
            <a:ext cx="15238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享受尽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作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 1" descr="华阳洞入口.jpg"/>
          <p:cNvPicPr/>
          <p:nvPr/>
        </p:nvPicPr>
        <p:blipFill>
          <a:blip r:embed="rId2"/>
          <a:stretch/>
        </p:blipFill>
        <p:spPr>
          <a:xfrm>
            <a:off x="0" y="-3348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284" name="矩形 2"/>
          <p:cNvSpPr/>
          <p:nvPr/>
        </p:nvSpPr>
        <p:spPr>
          <a:xfrm>
            <a:off x="575640" y="214200"/>
            <a:ext cx="124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阳洞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图片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657360" y="5769000"/>
            <a:ext cx="1753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rcRect l="7931" t="8665" r="7931" b="8665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85440" y="260640"/>
            <a:ext cx="2484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安石的名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变不足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祖宗不可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言不足恤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5769000"/>
            <a:ext cx="17539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0948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重点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057400"/>
            <a:ext cx="806292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2057400"/>
            <a:ext cx="54752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名词作状语，从旁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19280" y="2590920"/>
            <a:ext cx="57085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词作动词，走到尽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124080"/>
            <a:ext cx="533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作名词，见到的景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3657600"/>
            <a:ext cx="48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作名词，到达的人</a:t>
            </a:r>
            <a:r>
              <a:rPr b="1" lang="zh-CN" sz="3200" spc="-1" strike="noStrike">
                <a:solidFill>
                  <a:srgbClr val="80808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4114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词作动词，照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4648320"/>
            <a:ext cx="48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词作动词，尽情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4762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5019" t="0" r="1312" b="0"/>
          <a:stretch/>
        </p:blipFill>
        <p:spPr>
          <a:xfrm>
            <a:off x="5867280" y="380880"/>
            <a:ext cx="2160720" cy="5424480"/>
          </a:xfrm>
          <a:prstGeom prst="rect">
            <a:avLst/>
          </a:prstGeom>
          <a:ln w="9360">
            <a:solidFill>
              <a:srgbClr val="ffcc99"/>
            </a:solidFill>
            <a:prstDash val="sysDot"/>
            <a:miter/>
          </a:ln>
        </p:spPr>
      </p:pic>
      <p:sp>
        <p:nvSpPr>
          <p:cNvPr id="97" name=""/>
          <p:cNvSpPr/>
          <p:nvPr/>
        </p:nvSpPr>
        <p:spPr>
          <a:xfrm>
            <a:off x="4575600" y="2679840"/>
            <a:ext cx="1155240" cy="501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行楷"/>
              </a:rPr>
              <a:t>洞中有洞，洞里有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行楷"/>
              </a:rPr>
              <a:t>河上泛舟，洞洞相通。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04920"/>
            <a:ext cx="3940200" cy="350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eb1a15"/>
                </a:solidFill>
                <a:latin typeface="黑体"/>
                <a:ea typeface="黑体"/>
              </a:rPr>
              <a:t>华阳洞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洞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6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景区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景点。洞群分前洞、后洞、天洞、地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洞有“华阳”、“万象皆空”等石刻文字。后洞又称“碑洞”，即王安石当年游览路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3880" y="568440"/>
            <a:ext cx="7593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写游洞经过，用了哪些对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43080" y="1214280"/>
            <a:ext cx="634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洞的平旷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洞的窈然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3080" y="1800360"/>
            <a:ext cx="747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洞记游者甚众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洞的来而记之者甚少、其至又加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43080" y="2751120"/>
            <a:ext cx="765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所至”之浅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游者”所至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43080" y="3263760"/>
            <a:ext cx="747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⑷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洞时“其见愈奇”的欣喜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洞后因“不得极夫游之乐”的懊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4437000"/>
            <a:ext cx="8026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略写前洞，详写后洞并作对比的作用是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87360" y="5580000"/>
            <a:ext cx="598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第二部分的议论作铺垫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202360" y="1792440"/>
            <a:ext cx="1447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旷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92360" y="2727360"/>
            <a:ext cx="238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游洞经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14720" y="4402080"/>
            <a:ext cx="200952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记后洞中所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表示遗憾心情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2360" y="201780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32280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19640" y="2332080"/>
            <a:ext cx="254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游者甚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3006720"/>
            <a:ext cx="297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窈、寒、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46640" y="3592440"/>
            <a:ext cx="220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游者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22360" y="3006720"/>
            <a:ext cx="223920" cy="22050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240 h 2205000"/>
              <a:gd name="textAreaBottom" fmla="*/ 2147760 h 22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52720" y="2287440"/>
            <a:ext cx="223920" cy="1440000"/>
          </a:xfrm>
          <a:custGeom>
            <a:avLst/>
            <a:gdLst>
              <a:gd name="textAreaLeft" fmla="*/ 143280 w 223920"/>
              <a:gd name="textAreaRight" fmla="*/ 224280 w 2239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1280" y="1971720"/>
            <a:ext cx="181080" cy="762120"/>
          </a:xfrm>
          <a:custGeom>
            <a:avLst/>
            <a:gdLst>
              <a:gd name="textAreaLeft" fmla="*/ 115920 w 181080"/>
              <a:gd name="textAreaRight" fmla="*/ 181440 w 1810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67360" y="3205080"/>
            <a:ext cx="135000" cy="792360"/>
          </a:xfrm>
          <a:custGeom>
            <a:avLst/>
            <a:gdLst>
              <a:gd name="textAreaLeft" fmla="*/ 86400 w 135000"/>
              <a:gd name="textAreaRight" fmla="*/ 135360 w 135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" y="593640"/>
            <a:ext cx="73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黑体"/>
              </a:rPr>
              <a:t>第二段：记游华山洞的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08640" y="4672080"/>
            <a:ext cx="87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→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1280" y="4599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21280" y="600120"/>
            <a:ext cx="29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11280" y="838080"/>
            <a:ext cx="7488000" cy="165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第一部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记游山所见的景物和经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781360"/>
            <a:ext cx="7488000" cy="33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一、介绍褒禅山概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二、记游华山洞经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前洞记叙简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后洞记叙详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48656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翻译第三段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80880"/>
            <a:ext cx="80629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是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余有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叹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：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古人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之观</a:t>
            </a:r>
            <a:r>
              <a:rPr b="1" i="1" lang="zh-CN" sz="28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于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天地、山川、草木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虫鱼、鸟兽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往往有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求思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无不在也。夫夷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近，则游者众；险以远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则至者少；而世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之奇伟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瑰怪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非常之观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常在于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险远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人之所罕至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故非有志者不能至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91440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这种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95640" y="907920"/>
            <a:ext cx="114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气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38080"/>
            <a:ext cx="457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19720" y="838080"/>
            <a:ext cx="457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92360" y="220968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心得，收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2209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220176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286000"/>
            <a:ext cx="533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50028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3640" y="4724280"/>
            <a:ext cx="45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4724280"/>
            <a:ext cx="838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奇异雄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03640" y="472428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寻常的景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472428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险阻僻远的地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l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9280" y="380880"/>
            <a:ext cx="8964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有志矣，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不随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以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止也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然力不足者亦不能至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有志与力，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而又不随以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至于</a:t>
            </a:r>
            <a:r>
              <a:rPr b="1" lang="zh-CN" sz="2800" spc="-1" strike="noStrike" u="sng">
                <a:solidFill>
                  <a:srgbClr val="eb1a15"/>
                </a:solidFill>
                <a:uFillTx/>
                <a:latin typeface="黑体"/>
                <a:ea typeface="黑体"/>
              </a:rPr>
              <a:t>幽暗昏惑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无物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相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之，亦不能至也。然力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足以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至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人为可讥，而在己为有悔；尽吾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志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也，而不能至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可以无悔矣，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孰能讥之乎？此予之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所得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也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40000" y="907920"/>
            <a:ext cx="609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3429000"/>
            <a:ext cx="99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80000" y="3429000"/>
            <a:ext cx="838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足够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4724280"/>
            <a:ext cx="533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4724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志向，这里引申为主观努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6021360"/>
            <a:ext cx="10670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难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24360" y="6026040"/>
            <a:ext cx="1447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的东西，心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19640" y="2276640"/>
            <a:ext cx="244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容词作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19640" y="2276640"/>
            <a:ext cx="1655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今异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0920" y="228600"/>
            <a:ext cx="446580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重点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676520"/>
            <a:ext cx="8591400" cy="484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于是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193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1937"/>
                </a:solidFill>
                <a:latin typeface="华文新魏"/>
                <a:ea typeface="华文新魏"/>
              </a:rPr>
              <a:t>险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1937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1937"/>
                </a:solidFill>
                <a:latin typeface="华文新魏"/>
                <a:ea typeface="华文新魏"/>
              </a:rPr>
              <a:t>幽暗昏惑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8800" y="2514600"/>
            <a:ext cx="66294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古今异义。古：不同寻常。今：程度副词，很，十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词作名词，艰险的地方；僻远的地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54259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容词作名词，幽深昏暗、叫人迷乱的地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28800" y="4419720"/>
            <a:ext cx="655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古今异义。古：到达。今：表示另提一事的连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16002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今异义。古：对于这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106640" y="1465200"/>
            <a:ext cx="7065720" cy="12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从“求思之深而无不在（心）”导出立志的重要性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阐述“尽吾志”的观点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04640"/>
            <a:ext cx="817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第三段：写游华山洞的心得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06520" y="3959280"/>
            <a:ext cx="182520" cy="1395360"/>
          </a:xfrm>
          <a:custGeom>
            <a:avLst/>
            <a:gdLst>
              <a:gd name="textAreaLeft" fmla="*/ 116640 w 182520"/>
              <a:gd name="textAreaRight" fmla="*/ 182880 w 182520"/>
              <a:gd name="textAreaTop" fmla="*/ 36360 h 1395360"/>
              <a:gd name="textAreaBottom" fmla="*/ 1359000 h 13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87600" y="373536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古人求思之深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06680" y="4940280"/>
            <a:ext cx="286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奇观常在险远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06880" y="4410000"/>
            <a:ext cx="179640" cy="1665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43200 h 1665360"/>
              <a:gd name="textAreaBottom" fmla="*/ 1622160 h 166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2240" y="4221000"/>
            <a:ext cx="148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有志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35480" y="4905360"/>
            <a:ext cx="130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有力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64280" y="5580000"/>
            <a:ext cx="17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有物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267600" y="4410000"/>
            <a:ext cx="225360" cy="1629000"/>
          </a:xfrm>
          <a:custGeom>
            <a:avLst/>
            <a:gdLst>
              <a:gd name="textAreaLeft" fmla="*/ 144360 w 225360"/>
              <a:gd name="textAreaRight" fmla="*/ 226080 w 2253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37240" y="477036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尽吾志 无悔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73320" y="416880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余之所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21280" y="503280"/>
            <a:ext cx="29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翻译第四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360" y="457200"/>
            <a:ext cx="8153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余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仆碑，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悲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夫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古书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不存，后世之</a:t>
            </a:r>
            <a:r>
              <a:rPr b="1" lang="zh-CN" sz="2800" spc="-1" strike="noStrike">
                <a:solidFill>
                  <a:srgbClr val="eb1a15"/>
                </a:solidFill>
                <a:latin typeface="黑体"/>
                <a:ea typeface="黑体"/>
              </a:rPr>
              <a:t>谬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其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莫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者，何可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胜道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也哉！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此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所以学者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不可以不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思而</a:t>
            </a:r>
            <a:r>
              <a:rPr b="1" i="1" lang="zh-CN" sz="28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慎取</a:t>
            </a:r>
            <a:r>
              <a:rPr b="1" i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之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990720"/>
            <a:ext cx="990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9810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59280" y="981000"/>
            <a:ext cx="914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67280" y="981000"/>
            <a:ext cx="914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990720"/>
            <a:ext cx="1497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动作名，流传的文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9280" y="2349360"/>
            <a:ext cx="24847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作动，说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95480" y="2362320"/>
            <a:ext cx="533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2362320"/>
            <a:ext cx="533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228600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缘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286000"/>
            <a:ext cx="1936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今异义，做学问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71640" y="3573360"/>
            <a:ext cx="1992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谨慎地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92720" y="981000"/>
            <a:ext cx="2087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形容词使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褒禅寺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983280" y="1052640"/>
            <a:ext cx="2160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褒禅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8000" y="0"/>
            <a:ext cx="496908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重点字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600200"/>
            <a:ext cx="8305920" cy="470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学者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16002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弄错，使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，形容词的使动用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231624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作名词，流传的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925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清楚，名词作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3429000"/>
            <a:ext cx="6629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结构助词“所”和介词“以”组成，相当于现代汉语的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原因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3720" y="4343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古今异义。古：求学的人，读书人。今：学术上有一定成就的人，有专门学问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620640"/>
            <a:ext cx="50403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2590920"/>
            <a:ext cx="7010280" cy="26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5329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第四自然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4360" y="1557360"/>
            <a:ext cx="7772400" cy="189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1a15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eb1a15"/>
                </a:solidFill>
                <a:latin typeface="Times New Roman"/>
                <a:ea typeface="隶书"/>
              </a:rPr>
              <a:t>古书之不存”跟上文哪句话相照应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35280" y="2708280"/>
            <a:ext cx="27147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其文漫灭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3645000"/>
            <a:ext cx="78501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1a15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>
                <a:solidFill>
                  <a:srgbClr val="eb1a15"/>
                </a:solidFill>
                <a:latin typeface="Times New Roman"/>
                <a:ea typeface="隶书"/>
              </a:rPr>
              <a:t>后世之谬其传”又是跟哪句话相照应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54864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5181480"/>
            <a:ext cx="4815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今言‘华’如‘华实’之‘华’者，盖音谬也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880920" y="1314360"/>
            <a:ext cx="7245360" cy="126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本段中作者表达了怎样的观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观点是怎样演绎而来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3840" y="3070080"/>
            <a:ext cx="1094040" cy="1305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仆 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97240" y="3070080"/>
            <a:ext cx="1095120" cy="55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文漫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41640" y="4086360"/>
            <a:ext cx="1620720" cy="55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  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09400" y="3070080"/>
            <a:ext cx="1323720" cy="55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书之不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618080" y="4086360"/>
            <a:ext cx="2106720" cy="55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谬 其 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62720" y="3114720"/>
            <a:ext cx="990720" cy="100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何可胜道也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25640" y="5165640"/>
            <a:ext cx="6516720" cy="550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点：学者不可以不深思而慎取之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92360" y="320508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33800" y="320508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2771640" y="3700080"/>
            <a:ext cx="314280" cy="314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2360" y="419580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69160" y="320508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69160" y="419580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722720" y="4735440"/>
            <a:ext cx="314280" cy="314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01640" y="2798640"/>
            <a:ext cx="7831080" cy="3151080"/>
            <a:chOff x="701640" y="2798640"/>
            <a:chExt cx="7831080" cy="3151080"/>
          </a:xfrm>
        </p:grpSpPr>
        <p:sp>
          <p:nvSpPr>
            <p:cNvPr id="434" name=""/>
            <p:cNvSpPr/>
            <p:nvPr/>
          </p:nvSpPr>
          <p:spPr>
            <a:xfrm>
              <a:off x="701640" y="4871880"/>
              <a:ext cx="1035000" cy="10688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逻辑严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36640" y="5949720"/>
              <a:ext cx="6796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1640" y="2798640"/>
              <a:ext cx="0" cy="211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250920" y="404640"/>
            <a:ext cx="8532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第四段：写由仆碑而得的感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46640" y="503280"/>
            <a:ext cx="29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836640"/>
            <a:ext cx="7126200" cy="151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翻译第五段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095480" y="379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360" y="1287360"/>
            <a:ext cx="8153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黑体"/>
              </a:rPr>
              <a:t>四人者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黑体"/>
              </a:rPr>
              <a:t>庐陵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  <a:ea typeface="黑体"/>
              </a:rPr>
              <a:t>萧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黑体"/>
              </a:rPr>
              <a:t>君圭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  <a:ea typeface="黑体"/>
              </a:rPr>
              <a:t>君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黑体"/>
              </a:rPr>
              <a:t>，长乐王回深</a:t>
            </a:r>
            <a:r>
              <a:rPr b="1" lang="zh-CN" sz="2800" spc="-1" strike="noStrike">
                <a:solidFill>
                  <a:srgbClr val="eb1a15"/>
                </a:solidFill>
                <a:latin typeface="宋体"/>
                <a:ea typeface="黑体"/>
              </a:rPr>
              <a:t>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黑体"/>
              </a:rPr>
              <a:t>，余弟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黑体"/>
              </a:rPr>
              <a:t>国平父、安上纯父。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至和元年七月某日，</a:t>
            </a:r>
            <a:r>
              <a:rPr b="1" lang="zh-CN" sz="2800" spc="-1" strike="noStrike">
                <a:solidFill>
                  <a:srgbClr val="eb1a15"/>
                </a:solidFill>
                <a:latin typeface="Times New Roman"/>
                <a:ea typeface="黑体"/>
              </a:rPr>
              <a:t>临川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王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黑体"/>
              </a:rPr>
              <a:t>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254484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籍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2544840"/>
            <a:ext cx="380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2544840"/>
            <a:ext cx="45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2544840"/>
            <a:ext cx="533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42920" y="4678200"/>
            <a:ext cx="70581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33"/>
                </a:solidFill>
                <a:latin typeface="隶书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714840" y="527688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333360"/>
            <a:ext cx="5622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黑体"/>
                <a:ea typeface="华文新魏"/>
              </a:rPr>
              <a:t>第五段：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补叙同游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9640" y="3789360"/>
            <a:ext cx="7891560" cy="126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游者的姓名没有出现在正文里，而是记在这段文字中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使行文简洁，避免横生枝节，这也是古人写游记常用的格式。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720" y="1463760"/>
            <a:ext cx="7515360" cy="146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同游的四个人是：庐陵人萧君圭，字君玉；长乐人王回，字深父；我的弟弟安国，字平父；安上，字纯父。至和元年七月，临川人王某记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6280" y="1268280"/>
            <a:ext cx="8190000" cy="2340000"/>
          </a:xfrm>
          <a:prstGeom prst="rect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064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文内容总结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84360" y="836280"/>
            <a:ext cx="38880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理清思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8064360" cy="381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：记游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山经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：议论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山心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4" dur="5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676520" y="2133720"/>
            <a:ext cx="7721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山识碑    得名的缘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第一段）慧空禅院    华阳洞    仆碑（识谬）    考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践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幽记游    前洞        后洞      出洞（悔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第二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627280" y="476280"/>
            <a:ext cx="40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行楷"/>
              </a:rPr>
              <a:t>课文大观</a:t>
            </a:r>
            <a:endParaRPr b="0" lang="en-US" sz="2400" spc="-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2421000"/>
            <a:ext cx="287280" cy="3960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95680" y="26668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91320" y="2666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38480" y="3429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57800" y="3429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534520" y="3352680"/>
            <a:ext cx="1440" cy="150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0920" y="4365720"/>
            <a:ext cx="217440" cy="1197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3429000"/>
            <a:ext cx="431640" cy="1655640"/>
          </a:xfrm>
          <a:custGeom>
            <a:avLst/>
            <a:gdLst>
              <a:gd name="textAreaLeft" fmla="*/ 57600 w 431640"/>
              <a:gd name="textAreaRight" fmla="*/ 374040 w 431640"/>
              <a:gd name="textAreaTop" fmla="*/ 306720 h 1655640"/>
              <a:gd name="textAreaBottom" fmla="*/ 111564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02" stAng="-5400000" swAng="5400000"/>
                <a:lnTo>
                  <a:pt x="21600" y="10554"/>
                </a:lnTo>
                <a:arcTo wR="21600" hR="8002" stAng="0" swAng="2780275"/>
                <a:lnTo>
                  <a:pt x="7200" y="21142"/>
                </a:lnTo>
                <a:lnTo>
                  <a:pt x="0" y="17280"/>
                </a:lnTo>
                <a:lnTo>
                  <a:pt x="7200" y="12502"/>
                </a:lnTo>
                <a:lnTo>
                  <a:pt x="7200" y="15546"/>
                </a:lnTo>
                <a:arcTo wR="21600" hR="8002" stAng="2780275" swAng="-2574806"/>
                <a:lnTo>
                  <a:pt x="21324" y="9278"/>
                </a:lnTo>
                <a:arcTo wR="21600" hR="8002" stAng="-205469" swAng="-5194531"/>
                <a:close/>
              </a:path>
              <a:path fill="darkenLess" w="21600" h="21600">
                <a:moveTo>
                  <a:pt x="0" y="0"/>
                </a:moveTo>
                <a:arcTo wR="21600" hR="8002" stAng="-5400000" swAng="5400000"/>
                <a:lnTo>
                  <a:pt x="21600" y="10554"/>
                </a:lnTo>
                <a:arcTo wR="21600" hR="8002" stAng="0" swAng="-205469"/>
                <a:lnTo>
                  <a:pt x="21324" y="9278"/>
                </a:lnTo>
                <a:arcTo wR="21600" hR="8002" stAng="-205469" swAng="-519453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740720" y="2708280"/>
            <a:ext cx="431640" cy="3240000"/>
          </a:xfrm>
          <a:custGeom>
            <a:avLst/>
            <a:gdLst>
              <a:gd name="textAreaLeft" fmla="*/ 57600 w 431640"/>
              <a:gd name="textAreaRight" fmla="*/ 374040 w 431640"/>
              <a:gd name="textAreaTop" fmla="*/ 603360 h 3240000"/>
              <a:gd name="textAreaBottom" fmla="*/ 216648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47" stAng="-5400000" swAng="5400000"/>
                <a:lnTo>
                  <a:pt x="21600" y="10421"/>
                </a:lnTo>
                <a:arcTo wR="21600" hR="8047" stAng="0" swAng="2229312"/>
                <a:lnTo>
                  <a:pt x="9529" y="20775"/>
                </a:lnTo>
                <a:lnTo>
                  <a:pt x="0" y="17280"/>
                </a:lnTo>
                <a:lnTo>
                  <a:pt x="9529" y="12135"/>
                </a:lnTo>
                <a:lnTo>
                  <a:pt x="9529" y="15268"/>
                </a:lnTo>
                <a:arcTo wR="21600" hR="8047" stAng="2229312" swAng="-2038502"/>
                <a:lnTo>
                  <a:pt x="21364" y="9234"/>
                </a:lnTo>
                <a:arcTo wR="21600" hR="8047" stAng="-190810" swAng="-5209190"/>
                <a:close/>
              </a:path>
              <a:path fill="darkenLess" w="21600" h="21600">
                <a:moveTo>
                  <a:pt x="0" y="0"/>
                </a:moveTo>
                <a:arcTo wR="21600" hR="8047" stAng="-5400000" swAng="5400000"/>
                <a:lnTo>
                  <a:pt x="21600" y="10421"/>
                </a:lnTo>
                <a:arcTo wR="21600" hR="8047" stAng="0" swAng="-190810"/>
                <a:lnTo>
                  <a:pt x="21364" y="9234"/>
                </a:lnTo>
                <a:arcTo wR="21600" hR="8047" stAng="-190810" swAng="-520919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365720"/>
            <a:ext cx="8229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第三段）尽吾志，可以无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顿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第四段） 不可以不深思而慎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0" y="22860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205740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事记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920" y="4724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事言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6095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人同游   补记作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第五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坐落在褒禅山西南面半山腰上的褒禅寺（远跳）.jpg"/>
          <p:cNvPicPr/>
          <p:nvPr/>
        </p:nvPicPr>
        <p:blipFill>
          <a:blip r:embed="rId2"/>
          <a:stretch/>
        </p:blipFill>
        <p:spPr>
          <a:xfrm>
            <a:off x="571680" y="0"/>
            <a:ext cx="50353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5715000" y="4259160"/>
            <a:ext cx="285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落在褒禅山西南面半山腰上的褒禅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图片 3" descr="坐落在褒禅山西南面半山腰上的褒禅寺.jpg"/>
          <p:cNvPicPr/>
          <p:nvPr/>
        </p:nvPicPr>
        <p:blipFill>
          <a:blip r:embed="rId3"/>
          <a:stretch/>
        </p:blipFill>
        <p:spPr>
          <a:xfrm>
            <a:off x="4789440" y="0"/>
            <a:ext cx="385452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258920" y="2637000"/>
            <a:ext cx="6337440" cy="1312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   </a:t>
            </a:r>
            <a:r>
              <a:rPr b="1" lang="zh-CN" sz="80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写作特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68360" y="206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95280" y="262080"/>
            <a:ext cx="777240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40cae"/>
                </a:solidFill>
                <a:latin typeface="Arial Unicode MS"/>
                <a:ea typeface="Arial Unicode MS"/>
              </a:rPr>
              <a:t>1</a:t>
            </a:r>
            <a:r>
              <a:rPr b="1" i="1" lang="zh-CN" sz="3600" spc="-1" strike="noStrike">
                <a:solidFill>
                  <a:srgbClr val="140cae"/>
                </a:solidFill>
                <a:latin typeface="宋体"/>
              </a:rPr>
              <a:t>、因事明理，叙议结合</a:t>
            </a:r>
            <a:r>
              <a:rPr b="1" lang="zh-CN" sz="2800" spc="-1" strike="noStrike">
                <a:solidFill>
                  <a:srgbClr val="140cae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108000" y="882720"/>
            <a:ext cx="8931240" cy="59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04920" y="152280"/>
            <a:ext cx="80834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140cae"/>
                </a:solidFill>
                <a:latin typeface="宋体"/>
              </a:rPr>
              <a:t>2</a:t>
            </a:r>
            <a:r>
              <a:rPr b="1" i="1" lang="zh-CN" sz="4800" spc="-1" strike="noStrike">
                <a:solidFill>
                  <a:srgbClr val="140cae"/>
                </a:solidFill>
                <a:latin typeface="宋体"/>
              </a:rPr>
              <a:t>、重点突出，详略得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33720" y="327672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40cae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140cae"/>
                </a:solidFill>
                <a:latin typeface="宋体"/>
              </a:rPr>
              <a:t>、文笔简洁，语言凝炼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88120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4752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慧褒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其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以故其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曰“褒禅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距其院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入之甚寒，问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后世之谬其传而莫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火尚足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后世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莫能名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25440" y="981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作动，筑舍定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19640" y="155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作动，命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48040" y="2492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作状，往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18960" y="2997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作状，从旁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52720" y="35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作名，深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4149720"/>
            <a:ext cx="287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作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识其本名，说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52720" y="501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作动，照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19640" y="548496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谬，使动用法，弄错，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错。传，动作名，流传的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65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2286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华文新魏"/>
                <a:ea typeface="华文新魏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0480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非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4800" y="32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于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9520" y="50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92320" y="3333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世之奇伟、瑰怪、非常之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74080" y="981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备他盗出入与非常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10720" y="22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于是余有叹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04560" y="29973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吾祖死于是，吾父死于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69920" y="3716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请他，于是他来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04120" y="45608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至于幽暗昏惑而无物以相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8440" y="530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至于颠覆，理固宜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16080" y="1628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非常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47640" y="620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35280" y="2565360"/>
            <a:ext cx="72720" cy="1798560"/>
          </a:xfrm>
          <a:custGeom>
            <a:avLst/>
            <a:gdLst>
              <a:gd name="textAreaLeft" fmla="*/ 46440 w 72720"/>
              <a:gd name="textAreaRight" fmla="*/ 73080 w 7272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35280" y="4869000"/>
            <a:ext cx="71280" cy="14396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03760" y="602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至于小李，你就别管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81680" y="33336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同寻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16520" y="981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意外的事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268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08880" y="234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于这种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0304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45000" y="37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顺承连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24760" y="443700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至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出处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02520" y="5334120"/>
            <a:ext cx="23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到了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的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致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3080" y="6093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另提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165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古今异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652680" y="836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十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1920" y="32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学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6280" y="5084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333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数 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1295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十分之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2680" y="2276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在学术上有一定成就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79640" y="36576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治学的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52080" y="4560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表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64040" y="5327640"/>
            <a:ext cx="18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的原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47640" y="620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35280" y="2565360"/>
            <a:ext cx="72720" cy="1798560"/>
          </a:xfrm>
          <a:custGeom>
            <a:avLst/>
            <a:gdLst>
              <a:gd name="textAreaLeft" fmla="*/ 46440 w 72720"/>
              <a:gd name="textAreaRight" fmla="*/ 73080 w 72720"/>
              <a:gd name="textAreaTop" fmla="*/ 46800 h 1798560"/>
              <a:gd name="textAreaBottom" fmla="*/ 1751760 h 17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35280" y="4869000"/>
            <a:ext cx="71280" cy="1439640"/>
          </a:xfrm>
          <a:custGeom>
            <a:avLst/>
            <a:gdLst>
              <a:gd name="textAreaLeft" fmla="*/ 45720 w 71280"/>
              <a:gd name="textAreaRight" fmla="*/ 71640 w 71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765520" y="6048360"/>
            <a:ext cx="31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用来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的（表凭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0"/>
            <a:ext cx="165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古今异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上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03800" y="214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其后名之曰褒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30600" y="934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乃华山之阳名之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84360" y="1582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山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五六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50800" y="230364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余与四人拥火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9200" y="2951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火尚足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63640" y="3867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夷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近，则游者众，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，则至者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75480" y="5038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8160" y="59040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夫古书之不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2200" y="2322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332000" y="692280"/>
            <a:ext cx="287280" cy="56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46160 h 5616360"/>
              <a:gd name="textAreaBottom" fmla="*/ 5470200 h 56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68120" y="26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39760" y="98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1628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12520" y="2397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修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9652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用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9880" y="4149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表并列，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83840" y="5013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连词，用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19040" y="602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因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165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以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上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00400" y="2322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32000" y="692280"/>
            <a:ext cx="287280" cy="56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46160 h 5616360"/>
              <a:gd name="textAreaBottom" fmla="*/ 5470200 h 56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84600" y="260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72360" y="121932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41008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48360" y="3276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2256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5181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15000" y="6095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165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于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52480" y="304920"/>
            <a:ext cx="73915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始舍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为可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余有叹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仆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师不必贤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弟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救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孙将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君幸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赵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rId2" action="ppaction://hlinksldjump"/>
          </p:cNvPr>
          <p:cNvSpPr/>
          <p:nvPr/>
        </p:nvSpPr>
        <p:spPr>
          <a:xfrm>
            <a:off x="7772400" y="6324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上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5920" y="1224000"/>
            <a:ext cx="832464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以故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后名之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距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院东五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独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为文犹可识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问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深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好游者不能穷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盖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又深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以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求思之深而无不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孰能讥之乎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7600" y="142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0920" y="324000"/>
            <a:ext cx="40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“   ”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字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941640" y="1168560"/>
            <a:ext cx="48164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那，指褒禅埋葬时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581280" y="1719360"/>
            <a:ext cx="4770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这，指慧空禅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41640" y="2259000"/>
            <a:ext cx="4456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它，指仆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46280" y="2843280"/>
            <a:ext cx="4456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它，指洞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87560" y="3935520"/>
            <a:ext cx="43848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它，指后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57720" y="4992840"/>
            <a:ext cx="39862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词，他们，指古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5920" y="99864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65680" y="3510000"/>
            <a:ext cx="43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那些，指好游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2360" y="5678640"/>
            <a:ext cx="511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语气副词，加强反问语气，难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092" dur="indefinite" restart="never" nodeType="tmRoot">
          <p:childTnLst>
            <p:seq>
              <p:cTn id="2093" dur="indefinite" nodeType="mainSeq">
                <p:childTnLst>
                  <p:par>
                    <p:cTn id="2094" fill="hold">
                      <p:stCondLst>
                        <p:cond delay="0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500"/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6" dur="500"/>
                                        <p:tgtEl>
                                          <p:spTgt spid="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6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华阳洞入口.jpg"/>
          <p:cNvPicPr/>
          <p:nvPr/>
        </p:nvPicPr>
        <p:blipFill>
          <a:blip r:embed="rId2"/>
          <a:stretch/>
        </p:blipFill>
        <p:spPr>
          <a:xfrm>
            <a:off x="0" y="-34920"/>
            <a:ext cx="9201240" cy="689292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575640" y="214200"/>
            <a:ext cx="124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阳洞入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431640" y="1179360"/>
            <a:ext cx="742644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而余亦悔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既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视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后世之谬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咎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欲出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吾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还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可怪也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路漫漫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修远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有二僧，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贫，其一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76760" y="1271520"/>
            <a:ext cx="38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指自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70040" y="1811160"/>
            <a:ext cx="387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助词，无实在意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86280" y="2343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它，指洞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51280" y="2892600"/>
            <a:ext cx="52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那些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10000" y="3432240"/>
            <a:ext cx="44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那些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67600" y="142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88200" y="324000"/>
            <a:ext cx="21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“   ”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字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5920" y="99864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60720" y="3968640"/>
            <a:ext cx="52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语气副词，表商量语气，还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92360" y="4554360"/>
            <a:ext cx="531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副词，加强反问语气，难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146640" y="5670720"/>
            <a:ext cx="237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代词，其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57720" y="5094360"/>
            <a:ext cx="458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助词，调节音节，无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179" dur="indefinite" restart="never" nodeType="tmRoot">
          <p:childTnLst>
            <p:seq>
              <p:cTn id="2180" dur="indefinite" nodeType="mainSeq">
                <p:childTnLst>
                  <p:par>
                    <p:cTn id="2181" fill="hold">
                      <p:stCondLst>
                        <p:cond delay="0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5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9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3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7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1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5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6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7" dur="500"/>
                                        <p:tgtEl>
                                          <p:spTgt spid="6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85920" y="1273320"/>
            <a:ext cx="747072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亦各言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志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真无马邪？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真不知马也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有蒋氏者，专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利三世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安陵君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许寡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尔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无忘乃父之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皆出于此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业有不精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心不若余之专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故以为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其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爱不若燕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95560" y="2429640"/>
            <a:ext cx="70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选择，相当于“是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是</a:t>
            </a:r>
            <a:r>
              <a:rPr b="1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51280" y="1348560"/>
            <a:ext cx="35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词，自己的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695920" y="3013920"/>
            <a:ext cx="265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词，这种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99000" y="4093560"/>
            <a:ext cx="454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气副词，表祈使，一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64000" y="4642560"/>
            <a:ext cx="55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气副词，表揣测，恐怕，大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70560" y="5184000"/>
            <a:ext cx="265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假设，如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59280" y="5759280"/>
            <a:ext cx="407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代词，你的，指赵太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211640" y="3518640"/>
            <a:ext cx="47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气副词，表祈使，一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67600" y="142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88200" y="324000"/>
            <a:ext cx="21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“   ”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字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920" y="99864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6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4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8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6" dur="50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790560" y="5624640"/>
            <a:ext cx="9730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助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62000" y="1763640"/>
            <a:ext cx="193536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人称代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6640" y="2617920"/>
            <a:ext cx="225360" cy="3376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67600" y="142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88200" y="324000"/>
            <a:ext cx="21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“   ”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字的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5920" y="998640"/>
            <a:ext cx="828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81280" y="1989000"/>
            <a:ext cx="225360" cy="1440000"/>
          </a:xfrm>
          <a:custGeom>
            <a:avLst/>
            <a:gdLst>
              <a:gd name="textAreaLeft" fmla="*/ 144000 w 225360"/>
              <a:gd name="textAreaRight" fmla="*/ 225720 w 225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941640" y="1268280"/>
            <a:ext cx="3870360" cy="146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他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们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它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们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们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你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们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们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自己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762360" y="1447920"/>
            <a:ext cx="225360" cy="1170000"/>
          </a:xfrm>
          <a:custGeom>
            <a:avLst/>
            <a:gdLst>
              <a:gd name="textAreaLeft" fmla="*/ 144000 w 225360"/>
              <a:gd name="textAreaRight" fmla="*/ 225720 w 225360"/>
              <a:gd name="textAreaTop" fmla="*/ 30240 h 1170000"/>
              <a:gd name="textAreaBottom" fmla="*/ 1139760 h 11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62000" y="2933640"/>
            <a:ext cx="184500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指示代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86280" y="2664000"/>
            <a:ext cx="360036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里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那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些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其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62360" y="2843280"/>
            <a:ext cx="225360" cy="720720"/>
          </a:xfrm>
          <a:custGeom>
            <a:avLst/>
            <a:gdLst>
              <a:gd name="textAreaLeft" fmla="*/ 144000 w 225360"/>
              <a:gd name="textAreaRight" fmla="*/ 225720 w 225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62000" y="3878280"/>
            <a:ext cx="368964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选择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…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是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假设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果，假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781280" y="4057560"/>
            <a:ext cx="179280" cy="720720"/>
          </a:xfrm>
          <a:custGeom>
            <a:avLst/>
            <a:gdLst>
              <a:gd name="textAreaLeft" fmla="*/ 114480 w 179280"/>
              <a:gd name="textAreaRight" fmla="*/ 179640 w 179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2060640"/>
            <a:ext cx="49212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87320" y="4140360"/>
            <a:ext cx="9763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连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92000" y="5040360"/>
            <a:ext cx="20512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语气副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32360" y="4299120"/>
            <a:ext cx="3105360" cy="192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商量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反问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难道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揣测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表祈使：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781280" y="4510080"/>
            <a:ext cx="4097160" cy="1619280"/>
            <a:chOff x="1781280" y="4510080"/>
            <a:chExt cx="4097160" cy="1619280"/>
          </a:xfrm>
        </p:grpSpPr>
        <p:sp>
          <p:nvSpPr>
            <p:cNvPr id="681" name=""/>
            <p:cNvSpPr/>
            <p:nvPr/>
          </p:nvSpPr>
          <p:spPr>
            <a:xfrm>
              <a:off x="5697720" y="4510080"/>
              <a:ext cx="180720" cy="161928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42120 h 1619280"/>
                <a:gd name="textAreaBottom" fmla="*/ 1577160 h 16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81280" y="5311800"/>
              <a:ext cx="391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2052720" y="5624640"/>
            <a:ext cx="34639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调节音节，不翻译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81280" y="5950080"/>
            <a:ext cx="31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36640" y="1224000"/>
            <a:ext cx="6166080" cy="2475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33840" y="1403280"/>
            <a:ext cx="1094040" cy="216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指代对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500"/>
                            </p:stCondLst>
                            <p:childTnLst>
                              <p:par>
                                <p:cTn id="2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500"/>
                            </p:stCondLst>
                            <p:childTnLst>
                              <p:par>
                                <p:cTn id="2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3087" t="7687" r="7931" b="8665"/>
          <a:stretch/>
        </p:blipFill>
        <p:spPr>
          <a:xfrm>
            <a:off x="4643280" y="0"/>
            <a:ext cx="4500720" cy="3462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43280" y="2852640"/>
            <a:ext cx="1754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rcRect l="8125" t="7511" r="8450" b="8831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7931" t="7687" r="7931" b="7687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0" y="6278400"/>
            <a:ext cx="1754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华阳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rcRect l="7853" t="7391" r="7484" b="7716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7931" t="7687" r="7176" b="7687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rcRect l="7931" t="7687" r="7931" b="7687"/>
          <a:stretch/>
        </p:blipFill>
        <p:spPr>
          <a:xfrm>
            <a:off x="4572000" y="0"/>
            <a:ext cx="4572000" cy="3397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8:59:29Z</dcterms:created>
  <dc:creator>飞腾网www.feitn.com</dc:creator>
  <dc:description/>
  <cp:keywords/>
  <dc:language>en-US</dc:language>
  <cp:lastModifiedBy>微软用户</cp:lastModifiedBy>
  <cp:lastPrinted>1899-12-30T00:00:00Z</cp:lastPrinted>
  <dcterms:modified xsi:type="dcterms:W3CDTF">2015-12-29T07:50:49Z</dcterms:modified>
  <cp:revision>55</cp:revision>
  <dc:subject/>
  <dc:title>游 褒 禅 山 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