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9D0-C8B2-47AF-BAE5-496C3CEF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9D3-6B60-48E1-B247-4CD2DEF5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6B0-06DF-4B0C-9423-F0A76A47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EDE-C1FB-447E-ACE3-4F4ED201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2B8-1E7C-45E0-AA26-19DE0A27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90B-3DED-4245-90A4-4EB5C8E0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936-E681-4DE6-8455-A432532B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451-95D3-4CD6-A91D-E4F6F6E6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92E-298E-4E74-9839-AAAAED93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431-1C47-4715-B98A-4B179105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E8E-984B-49DD-AB3F-523FF6F1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F8E-1602-48F8-BBE3-502C0D06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2897-6365-41AB-B488-2C51524BD6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韩国卡通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547640" y="1700280"/>
            <a:ext cx="61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隶书"/>
                <a:ea typeface="隶书"/>
              </a:rPr>
              <a:t>23</a:t>
            </a:r>
            <a:r>
              <a:rPr b="0" lang="en-US" sz="8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9600" spc="-1" strike="noStrike">
                <a:solidFill>
                  <a:srgbClr val="000000"/>
                </a:solidFill>
                <a:latin typeface="隶书"/>
                <a:ea typeface="隶书"/>
              </a:rPr>
              <a:t>学与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46120" y="5619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苏教版六年级语文上册第七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643280" y="522936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0071241317554797"/>
          <p:cNvPicPr/>
          <p:nvPr/>
        </p:nvPicPr>
        <p:blipFill>
          <a:blip r:embed="rId1"/>
          <a:stretch/>
        </p:blipFill>
        <p:spPr>
          <a:xfrm>
            <a:off x="0" y="0"/>
            <a:ext cx="9144000" cy="7872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W0200506172936962534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5258923_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m070101"/>
          <p:cNvPicPr/>
          <p:nvPr/>
        </p:nvPicPr>
        <p:blipFill>
          <a:blip r:embed="rId1"/>
          <a:stretch/>
        </p:blipFill>
        <p:spPr>
          <a:xfrm>
            <a:off x="0" y="0"/>
            <a:ext cx="9144000" cy="8685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ow748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xin_5610021414400591504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现代化钢架大棚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r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50920" y="206064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知识就是指有（    ）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知识是学来的，也是（    ）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常常是（    ），是（      ）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826920" y="333360"/>
            <a:ext cx="2449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5050"/>
                </a:solidFill>
                <a:latin typeface="隶书"/>
              </a:rPr>
              <a:t>填空</a:t>
            </a:r>
            <a:endParaRPr b="0" lang="en-US" sz="4000" spc="1" strike="noStrike">
              <a:ln w="9360">
                <a:solidFill>
                  <a:srgbClr val="ff00ff"/>
                </a:solidFill>
                <a:round/>
              </a:ln>
              <a:solidFill>
                <a:srgbClr val="ff5050"/>
              </a:solidFill>
              <a:latin typeface="隶书"/>
              <a:ea typeface="隶书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68222307597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182223626"/>
          <p:cNvPicPr/>
          <p:nvPr/>
        </p:nvPicPr>
        <p:blipFill>
          <a:blip r:embed="rId1"/>
          <a:stretch/>
        </p:blipFill>
        <p:spPr>
          <a:xfrm>
            <a:off x="0" y="-123840"/>
            <a:ext cx="9468000" cy="698184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169778324_Pofosf"/>
          <p:cNvPicPr/>
          <p:nvPr/>
        </p:nvPicPr>
        <p:blipFill>
          <a:blip r:embed="rId1"/>
          <a:stretch/>
        </p:blipFill>
        <p:spPr>
          <a:xfrm>
            <a:off x="23223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4071798646"/>
          <p:cNvPicPr/>
          <p:nvPr/>
        </p:nvPicPr>
        <p:blipFill>
          <a:blip r:embed="rId1"/>
          <a:stretch/>
        </p:blipFill>
        <p:spPr>
          <a:xfrm>
            <a:off x="0" y="-312840"/>
            <a:ext cx="9377280" cy="717084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xinsrc_09204032708073901497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组图：日新月异新重庆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W020040407402102817165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514439666"/>
          <p:cNvPicPr/>
          <p:nvPr/>
        </p:nvPicPr>
        <p:blipFill>
          <a:blip r:embed="rId1"/>
          <a:stretch/>
        </p:blipFill>
        <p:spPr>
          <a:xfrm>
            <a:off x="0" y="0"/>
            <a:ext cx="92106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xin_2003040516014083159477"/>
          <p:cNvPicPr/>
          <p:nvPr/>
        </p:nvPicPr>
        <p:blipFill>
          <a:blip r:embed="rId1"/>
          <a:stretch/>
        </p:blipFill>
        <p:spPr>
          <a:xfrm>
            <a:off x="0" y="0"/>
            <a:ext cx="9144000" cy="741996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计算机"/>
          <p:cNvPicPr/>
          <p:nvPr/>
        </p:nvPicPr>
        <p:blipFill>
          <a:blip r:embed="rId1"/>
          <a:stretch/>
        </p:blipFill>
        <p:spPr>
          <a:xfrm>
            <a:off x="0" y="0"/>
            <a:ext cx="3384720" cy="4249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-1440" y="4437000"/>
            <a:ext cx="34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计算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00551912498876"/>
          <p:cNvPicPr/>
          <p:nvPr/>
        </p:nvPicPr>
        <p:blipFill>
          <a:blip r:embed="rId2"/>
          <a:stretch/>
        </p:blipFill>
        <p:spPr>
          <a:xfrm>
            <a:off x="3708360" y="404640"/>
            <a:ext cx="4824360" cy="4437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356000" y="5013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算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0070515152727_16410"/>
          <p:cNvPicPr/>
          <p:nvPr/>
        </p:nvPicPr>
        <p:blipFill>
          <a:blip r:embed="rId1"/>
          <a:stretch/>
        </p:blipFill>
        <p:spPr>
          <a:xfrm>
            <a:off x="539640" y="1557360"/>
            <a:ext cx="6985080" cy="4738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2268360" y="56052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新型计算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0060606094023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64080" y="1484280"/>
            <a:ext cx="18262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名人名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916360" y="1584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耻下问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59280" y="3141720"/>
            <a:ext cx="54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人行，必有我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12720" y="1557360"/>
            <a:ext cx="809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时候有一个很有学问的人家，得到了个当朝宰相赠送的书有“学问”两个字的金匾。这家主人过世后，他的两个儿子分家，谁都想得到那块能带来学问的金匾，互不相让。结果两人只好找来工匠把匾从中一分为二。老二得到了有“学”字的半块。于是他就扛着这半块匾到处求学，见什么学什么，从不多问。几年下来，却一无所获。一天，他在街上遇到了一位智者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3059280" y="404640"/>
            <a:ext cx="2743200" cy="10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小故事</a:t>
            </a:r>
            <a:endParaRPr b="0" lang="en-US" sz="7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图片1"/>
          <p:cNvPicPr/>
          <p:nvPr/>
        </p:nvPicPr>
        <p:blipFill>
          <a:blip r:embed="rId1"/>
          <a:stretch/>
        </p:blipFill>
        <p:spPr>
          <a:xfrm>
            <a:off x="34920" y="-384120"/>
            <a:ext cx="910908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WordArt 3"/>
          <p:cNvSpPr txBox="1"/>
          <p:nvPr/>
        </p:nvSpPr>
        <p:spPr>
          <a:xfrm>
            <a:off x="3419640" y="476280"/>
            <a:ext cx="2543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金钥匙</a:t>
            </a:r>
            <a:endParaRPr b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859840" y="1700280"/>
            <a:ext cx="3490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事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陶行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明千千万，起点是一问。禽兽不如人，过在不会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智者问得巧，愚者问得笨。人力胜天工，只在每事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814120" y="3716280"/>
            <a:ext cx="3582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到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陶行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地是个闷葫芦，闷葫芦里有妙理。您不问它您怕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一被问它怕您。您若愿意问问看，一问直须问到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韩国卡通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39640" y="134136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问”常常是打开知识殿堂的金钥匙，是通向成功之门的铺路石。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XC014002"/>
          <p:cNvPicPr/>
          <p:nvPr/>
        </p:nvPicPr>
        <p:blipFill>
          <a:blip r:embed="rId1"/>
          <a:stretch/>
        </p:blipFill>
        <p:spPr>
          <a:xfrm>
            <a:off x="297000" y="1114560"/>
            <a:ext cx="3554280" cy="5092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851280" y="1052640"/>
            <a:ext cx="52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沈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33-109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字存中，北宋科学家杭州钱塘人。沈括的科学贡献遍及天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医学等领域。梦溪笔谈全面总结了宋朝以前我国科学技术成就，在世界上享有极高声誉。在数学上，他发明了“隙积术”和“会圆术”， “隙积术”比国外计算高阶等差级数的公式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年， “会圆术” 为我国球面三角学的 发展奠定了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95280" y="549360"/>
            <a:ext cx="316872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资料卡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韩国卡通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3"/>
          <p:cNvSpPr txBox="1"/>
          <p:nvPr/>
        </p:nvSpPr>
        <p:spPr>
          <a:xfrm>
            <a:off x="684360" y="476280"/>
            <a:ext cx="367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自读提示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39640" y="184464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读课文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。回答：沈括小时侯读白居易的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理寺桃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间四月芳菲尽，山寺桃花始盛开。”产生了什么疑问？他是怎样揭开疑团的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50920" y="1268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次，一些人看开封相国寺里一幅壁画，壁画上画着管乐队在演奏。有人说画家画错了，理由是管乐演奏者在吹“四”字音，可是那个弹琵琶的手指不是在拨“四”字音所在的上弦，而是在掩着下弦。沈括仔细琢磨以后，钦佩地说：“这位画家太高明了，很精通音乐！”接着他用亲身体验作了精辟的说明：弦乐同管乐是不同的。吹奏管乐，手指按在什么部位就发什么音，是同时的；弹琵琶就不同了，手指先拨弦，然后才发音，也就是动作要比声音早。所以，演奏管乐的人在吹“四”字音的时候，弹琵琶的人的手指已准备拨下一个音了。在场的人无不为沈括的高见所折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2771640" y="404640"/>
            <a:ext cx="280836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小故事</a:t>
            </a:r>
            <a:endParaRPr b="0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韩国卡通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39640" y="134136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问”常常是打开知识殿堂的金钥匙，是通向成功之门的铺路石。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7T08:05:02Z</dcterms:created>
  <dc:creator/>
  <dc:description>第一PPT模板网-WWW.1PPT.COM
</dc:description>
  <dc:language>en-US</dc:language>
  <cp:lastModifiedBy>Administrator</cp:lastModifiedBy>
  <dcterms:modified xsi:type="dcterms:W3CDTF">2017-08-17T08:05:12Z</dcterms:modified>
  <cp:revision>5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