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DE5-0825-479E-BF21-A4C075F2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FFA-9A4E-40E7-AB4E-2C75AE97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349-CCF2-49FA-8043-6248C16F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36A-DBF0-4EF1-BCD2-4BD38612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B0A-8F38-4FF6-A47F-857C7DFF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1AC-2931-4E77-AFE4-9E2E1AFD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D7C-83D1-431D-97A5-5F66E662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427-0065-44F2-9957-B220CC19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D7E-EBBD-4B94-B5E8-A2E8E67E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9B4-F5CF-404D-B121-38B809A3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6E0-B582-4981-877F-86D4B705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05A-6526-48B8-A987-F4F8FDDC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08A9-ED5E-4A8F-9621-68D0235673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夏衍的魅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051" descr="1940196_211805"/>
          <p:cNvPicPr/>
          <p:nvPr/>
        </p:nvPicPr>
        <p:blipFill>
          <a:blip r:embed="rId1"/>
          <a:stretch/>
        </p:blipFill>
        <p:spPr>
          <a:xfrm>
            <a:off x="2916360" y="1700280"/>
            <a:ext cx="3574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直接点明夏衍魅力的的语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．是非了如指掌，经验与学识博大精深，知止有定，历尽沧桑，个人再无所求，无欲则刚，刀枪不入，超脱俗凡，关注人生，原谅一切可以原谅的人和事，洞悉一切花拳绣腿，既带棱带角，又含蓄和解。一语中的，入木八分，一言一笑都那么有锋芒，有智慧，有分量有原则有趣味而又适可而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．在卧床不起的情况下，夏公关心的仍然是中国的文学事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．他一辈子清清白白，走也是清清白白地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文章围绕夏衍写了那几件事？从哪几个方面来写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要求：通过这个问题的解决不仅能达到进一步帮助学生熟悉文本的作用，而且可以锻炼学生的概括能力和归纳能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文章记叙的事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．他清晰记得一篇重要报道的时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．他很瘦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．他拒绝享受“首长”待遇和称呼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．他在一次文代会上令人感奋的讲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．他说建国后三十年最大失误是没有搞计划生育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．他坚持自己写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当代名家新作大系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的序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．他扶着拐杖赏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文章记叙的事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．他卧床不起仍然关心中国文化事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．他从容周到地安排后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4339"/>
          <p:cNvSpPr/>
          <p:nvPr/>
        </p:nvSpPr>
        <p:spPr>
          <a:xfrm>
            <a:off x="395280" y="3573360"/>
            <a:ext cx="8353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这几件事情中分别表现了他敏捷透彻的智慧，对待名誉和权利的态度，对待工作的态度，对生活的热爱等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362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深入分析：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、在介绍具体事例的时候为什么要写到“赏花”和“安排后事”。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3716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写“赏花”是为了更全面地反映一个人，使之可亲。写“安排后事”是为了更完整地反映一个人，使之善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深入分析：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、夹叙夹议的叙述方式可以达到怎样的效果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叙使之具体可信；议使之深刻精辟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6387"/>
          <p:cNvSpPr/>
          <p:nvPr/>
        </p:nvSpPr>
        <p:spPr>
          <a:xfrm>
            <a:off x="900000" y="3213000"/>
            <a:ext cx="7993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通过这个问题的解决帮助学生窥探人物描写的门径，积累写作的方法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文章中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文章通过夏衍精炼的话语展示了他明白透彻、清晰见底的高尚人格和特有的魅力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夏衍生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84000" y="1267920"/>
            <a:ext cx="6048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夏衍是中国著名文学、电影、戏剧作家，文艺评论家，翻译家，社会活动家。中国左翼电影运动的开拓者、组织者和领导者之一。祖籍河南开封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90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日生于浙江杭县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今杭州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3075" descr="1940195_707940"/>
          <p:cNvPicPr/>
          <p:nvPr/>
        </p:nvPicPr>
        <p:blipFill>
          <a:blip r:embed="rId1"/>
          <a:stretch/>
        </p:blipFill>
        <p:spPr>
          <a:xfrm>
            <a:off x="250920" y="1989000"/>
            <a:ext cx="26082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夏衍生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夏衍原名沈乃熙，字端先。小时家境贫困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1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在家乡参加“五四”运动，与同学一道发起并创办了当时浙江第一个进步刊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双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期改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浙江新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，他赴日本留学，开始接受马克思主义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，他经孙中山先生介绍加入中国国民党，担任国民党驻日总支部常委兼组织部部长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大革命失败后，他加入中国共产党，从事工人运动及翻译工作，译有高尔基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母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等外国名著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夏衍生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929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年，他参加筹备左翼作家联盟，次年当选“左联”执行委员，并与郑伯奇、阿英、沈西苓等人创办在中国共产党直接领导下的第一个戏剧团体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──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上海艺术剧社，推动了革命戏剧运动的发展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93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年以后，他担任中共上海文委成员、电影组组长，成为我国进步电影的开拓者、领导者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夏衍生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抗日战争爆发后，夏衍在上海、广州、桂林、香港主办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救亡日报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》《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华商报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，后辗转到重庆，任中共南方局文化组副组长，在周恩来直接领导下主持大后方的文化运动，特别是戏剧运动，同时从事党的统一战线工作，曾任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新华日报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代总编辑。抗战胜利后，他先后在上海、南京和香港等地领导党的文化工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夏衍生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新中国成立后，他在上海领导文化事业，创办电影文学研究所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5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被任命为文化部副部长，主管电影及外事工作，为培养电影事业的新生力量作出了贡献。“文化大革命”中他受到林彪、“四人帮”的残酷迫害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后，他先后担任对外友协副会长、中国文联副主席、第五届全国政协常委等职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8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，他当选为中顾委委员、中国电影家协会主席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，国务院授予他“国家有杰出贡献的电影艺术家”荣誉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在北京逝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分析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2205000"/>
            <a:ext cx="82072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关注课文从细微处刻画人物、挖掘人物与众不同的性格和精神面貌的写作方法，感受生动细节对刻画人物性格的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默读文本，在阅读的过程中圈画出文中直接点明夏衍魅力的的语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文章中的这些议论直接对夏衍的魅力做了集中概括。在阅读过程中也能一眼就找出来，故无须兜圈子。寻找交流的过程是熟悉文本的过程，也是初步领会夏衍魅力的过程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直接点明夏衍魅力的的语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他永远是那么敏捷，条理，言简意赅，不打磕巴儿，不模糊吞吐，不哼哼哈哈，节奏分明而又迅疾，应对及时而又一针见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他总是明白透彻，一清见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他真诚待人，渴望吸收新的信息，对一切新的知识新的动向感兴趣，而且像青年人一样的幽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对各种问题他常有独具慧眼的卓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1:04:02Z</dcterms:created>
  <dc:creator>XIYUEN</dc:creator>
  <dc:description/>
  <dc:language>en-US</dc:language>
  <cp:lastModifiedBy>admin</cp:lastModifiedBy>
  <dcterms:modified xsi:type="dcterms:W3CDTF">2019-05-14T09:18:59Z</dcterms:modified>
  <cp:revision>4</cp:revision>
  <dc:subject/>
  <dc:title>夏衍的魅力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