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88E-5879-41D9-B708-3CDC679A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0E1-1A9C-4011-B424-5BE8D7E7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60B-D98B-4674-A94E-FCBFAD70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695-A4F0-4FE3-8F89-B1260F37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1B1-247D-4E2F-B0C4-443659CA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7C9-1DC7-462C-9EA3-7756CB4D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AAF-BD5E-44F8-9CE5-D051AB6D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F55-7116-4274-899C-B6A77424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25F-4635-4216-B54A-32E7C375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8F0-84CB-43CE-86C2-45C9836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04D-384B-4E5B-B869-987D5DF8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311-6A63-4FEE-94CE-24E85EC2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D964-C2D0-446E-ABD9-AEAD5321D3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华文新魏"/>
              </a:rPr>
              <a:t>                             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华文新魏"/>
              </a:rPr>
              <a:t>----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华文新魏"/>
              </a:rPr>
              <a:t>曾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66"/>
                </a:solidFill>
                <a:latin typeface="Times New Roman"/>
                <a:ea typeface="幼圆"/>
              </a:rPr>
              <a:t>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66"/>
                </a:solidFill>
                <a:latin typeface="Times New Roman"/>
                <a:ea typeface="幼圆"/>
              </a:rPr>
              <a:t>                                 </a:t>
            </a:r>
            <a:r>
              <a:rPr b="1" i="1" lang="zh-CN" sz="4400" spc="-1" strike="noStrike">
                <a:solidFill>
                  <a:srgbClr val="ffff66"/>
                </a:solidFill>
                <a:latin typeface="Times New Roman"/>
                <a:ea typeface="幼圆"/>
              </a:rPr>
              <a:t>作者：唐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1143000"/>
            <a:ext cx="6629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latin typeface="华文行楷"/>
              </a:rPr>
              <a:t>悬崖边的树</a:t>
            </a:r>
            <a:endParaRPr b="1" lang="en-US" sz="80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latin typeface="华文行楷"/>
              <a:ea typeface="华文行楷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06768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62120" y="304920"/>
            <a:ext cx="3305160" cy="25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latin typeface="华文新魏"/>
              </a:rPr>
              <a:t>不知道</a:t>
            </a:r>
            <a:endParaRPr b="1" lang="en-US" sz="66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latin typeface="华文新魏"/>
              <a:ea typeface="华文新魏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81280" y="2438280"/>
            <a:ext cx="3124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华文新魏"/>
              </a:rPr>
              <a:t>是什么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华文新魏"/>
              <a:ea typeface="华文新魏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95680" y="3733920"/>
            <a:ext cx="38484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华文新魏"/>
              </a:rPr>
              <a:t>奇异的风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2000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548604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将一棵树吹到了那边</a:t>
            </a: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--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472392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平原的尽头 邻近深谷的悬岩上</a:t>
            </a:r>
            <a:endParaRPr b="1" i="1" lang="en-US" sz="24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21357000">
            <a:off x="456840" y="83808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宋体"/>
              </a:rPr>
              <a:t>它倾听远处森林的喧哗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 rot="20607000">
            <a:off x="2133720" y="3352680"/>
            <a:ext cx="7315200" cy="24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和深谷中小溪的歌唱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advTm="11000">
    <p:zoom dir="in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685800" y="304920"/>
            <a:ext cx="7315200" cy="20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31413d"/>
                    </a:gs>
                    <a:gs pos="100000">
                      <a:srgbClr val="51c145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它孤独的站在那里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31413d"/>
                  </a:gs>
                  <a:gs pos="100000">
                    <a:srgbClr val="51c145"/>
                  </a:gs>
                </a:gsLst>
                <a:lin ang="135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7" name=""/>
          <p:cNvSpPr txBox="1"/>
          <p:nvPr/>
        </p:nvSpPr>
        <p:spPr>
          <a:xfrm rot="21006600">
            <a:off x="2361960" y="4038120"/>
            <a:ext cx="6172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楷体_GB2312"/>
              </a:rPr>
              <a:t>显得寂寞而又倔强</a:t>
            </a:r>
            <a:endParaRPr b="1" lang="en-US" sz="60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advTm="12000"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285840" y="-147600"/>
            <a:ext cx="9715680" cy="715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2455200">
            <a:off x="3200040" y="1219320"/>
            <a:ext cx="5467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13500000"/>
                </a:gradFill>
                <a:latin typeface="华文新魏"/>
              </a:rPr>
              <a:t>它弯曲的身体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13500000"/>
              </a:gradFill>
              <a:latin typeface="华文新魏"/>
              <a:ea typeface="华文新魏"/>
            </a:endParaRPr>
          </a:p>
        </p:txBody>
      </p:sp>
      <p:sp>
        <p:nvSpPr>
          <p:cNvPr id="60" name=""/>
          <p:cNvSpPr txBox="1"/>
          <p:nvPr/>
        </p:nvSpPr>
        <p:spPr>
          <a:xfrm rot="1021200">
            <a:off x="685440" y="3809880"/>
            <a:ext cx="540072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fae3b7"/>
                    </a:gs>
                    <a:gs pos="100000">
                      <a:srgbClr val="fbe4ae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留下了风的形状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fae3b7"/>
                  </a:gs>
                  <a:gs pos="100000">
                    <a:srgbClr val="fbe4ae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  <p:transition advTm="11000">
    <p:checke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238880" y="533520"/>
            <a:ext cx="92412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它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3" name=""/>
          <p:cNvSpPr txBox="1"/>
          <p:nvPr/>
        </p:nvSpPr>
        <p:spPr>
          <a:xfrm rot="1390200">
            <a:off x="0" y="2286000"/>
            <a:ext cx="914724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66ff66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似乎即将倾跌进深谷里</a:t>
            </a:r>
            <a:endParaRPr b="1" lang="en-US" sz="5400" spc="1" strike="noStrike">
              <a:ln w="0">
                <a:noFill/>
              </a:ln>
              <a:solidFill>
                <a:srgbClr val="66ff66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2000"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0" y="0"/>
            <a:ext cx="9144000" cy="31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0000ff"/>
                </a:solidFill>
                <a:latin typeface="华文行楷"/>
              </a:rPr>
              <a:t>却又像是要展翅飞翔……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</p:spTree>
  </p:cSld>
  <p:transition advTm="21000"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08:04:07Z</dcterms:created>
  <dc:creator/>
  <dc:description/>
  <dc:language>en-US</dc:language>
  <cp:lastModifiedBy>zmj</cp:lastModifiedBy>
  <dcterms:modified xsi:type="dcterms:W3CDTF">2007-10-09T14:56:51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8000000000001024120</vt:lpwstr>
  </property>
</Properties>
</file>