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jpeg" ContentType="image/jpeg"/>
  <Override PartName="/ppt/media/projctor.wav" ContentType="audio/x-wav"/>
  <Override PartName="/ppt/media/chimes.wav" ContentType="audio/x-wav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A0E-8E2E-436C-98AD-C8DB6A6A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59F-F883-42F3-935E-2D90A36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AC6-6ADA-4975-A214-8D20A220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1CC-E6D4-4C01-99CC-E998F82D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6B08-35F9-491F-A768-C92B5545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86B1-E7F5-407B-944E-D5A0BFF0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A26C-E768-4662-8629-0CD255FE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D5EB-36D3-461D-8A78-D6A6B1D2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C4D3-8C56-4734-B166-A588BCDB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6C2E-44B6-46DF-B690-603031B5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CA5-DCE2-483B-8298-5CA4E73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DD0-F6CA-4FBB-8439-FC75D497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CEB9-8A4E-47A6-99A9-7FC9D5A5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5A89-E099-4715-BD0D-7CA52658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521C-A520-4940-82B3-2CC070EE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E3B5-1D1C-46C3-A7BA-0EC6C1E9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BB6C-5F7F-4E18-9D59-1FFD4902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7A2F-1C18-4234-BAE0-A9FB178A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B441-ACB7-42FD-988F-E6C24EBF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37BE-95E9-41DD-80C2-234314A4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FC75-8A65-40F6-B4C1-0BE90036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5E90-CFC8-406C-9DA0-1ED49617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65C-6AAF-4B68-BE82-2117701A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828E-1658-4C60-8704-1BFDCB06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EB6E-F8E7-448B-BC06-7455EDF3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80BDF-3DBF-4697-B2FD-E1F10323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B4F2-DB8F-4666-BC83-CD4DC395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D778-151F-4CD6-AC04-D00FA651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BF6F-D9FA-47D2-8E82-336354F3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4BDB-E35F-4F67-A4B2-1F9BFF02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5B301-652C-4895-9FE6-3B1034E3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0277-D07C-4FBA-B3D9-AA5699C2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F195-FE4C-4D2A-8F6B-2F88E247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99E-3335-4A89-A88F-04F7D451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262D-59E8-49DB-8DAA-D166CBBB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807D7-D0ED-48BD-B061-B7787068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0BE4-34F0-4D3B-937E-9EB8DA8D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96F9E-82FC-4C18-A600-18CA5FCC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63E8-088B-4ABA-8097-F79C894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03A4-3C46-4B5B-B302-A0644ED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81676-170F-4E12-8685-4A2D999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3C70-0521-489E-9B31-908838DB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E15E-CD44-486A-A398-B27DE077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E58C8-E821-4762-8237-D0EBE350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2E6-D949-4342-A9AF-42BA3EE9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EAD0-6965-440A-AA59-42D8FEDF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5D46-9EFB-4FE1-A645-F400380A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943C5-ADF3-4EC1-B076-F5253AAF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B7293-FAF8-4FEC-877C-DBCC2371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E4C0-D726-4D39-80B5-5B166CD1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E242-1E6F-43AC-8B40-A6D72489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C392-A974-4826-BA30-E2D617AB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F9FB-38DB-4C19-990B-BF7ADAD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8E2D-EDC1-45C7-B049-034520BF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F8D4-707A-4817-AD06-887F73B1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AF9-7473-4408-A46F-3570B6D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5BD85-1B03-4FF3-A102-A4FB7332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AEA7-87AD-42D3-95DA-CFC45482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922E2-3A0F-4C7E-AADA-CB0659C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E7E4C-2C05-4510-9172-FFB0816E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FB810-546C-41A0-903A-098B285D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0B158-BB85-4469-840C-CADE60BE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B2AEC-254F-4846-89A1-470995CC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A7065-C3BA-4826-915D-EDA2CC5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44EB5-5A1E-481C-AB24-3CC3C4EA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6D16E-607E-47DC-987E-5B5E967F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09F-047B-4297-80DA-8726EBE4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306C8-4481-4ECA-9DBC-D94DA1D9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CC28F-8C72-47EF-8546-3A0C7048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2C26A-AEBC-4BF4-9FFD-5CE8B0F4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16E-A9E8-4EB7-98A9-547F6C82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CEB-54AF-4974-846A-1CFF2AC7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7579-E830-4FDD-AFEE-35E438C24F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54AE-54DB-46FF-97E0-A6C04D14D10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B3A4-DECF-42BE-8E65-4F54A0529C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E296-D672-4B38-A4BB-3927435A23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34B1-D2E4-4978-8C30-3488BA4454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082A-FF31-44B0-8F4E-9AF735246F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7920" y="838080"/>
            <a:ext cx="286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汉仪篆书繁"/>
              </a:rPr>
              <a:t>逍遥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97600" y="3733920"/>
            <a:ext cx="1642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汉仪篆书繁"/>
              </a:rPr>
              <a:t>庄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-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翻译下列语句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怒而飞，其翼若垂天之云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振翅奋飞，它的翅膀就好像天边垂下的云彩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去以六月息者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凭借着六月的大风离去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之苍苍，其正色邪？其远而无所至极邪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天色深蓝，是它的真正的颜色吗？还是因为天高地远而看不到它的尽头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-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翻译下列语句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奚以之九万里而南为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哪里用得着飞上九万里高空然后再朝南飞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之二虫又何如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这两只小动物又知道什么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彼且奚适也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它将要到哪里去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-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翻译下面文段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4981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且举世誉之而不加劝，举世非之而不加沮，定乎内外之分，辩乎荣辱之境，斯已矣。彼其于世，未数数然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再说全社会的人都称赞宋荣子，他却并不因此而更加勤勉；全社会的人都责难他，他也并不因此而更为沮丧。（这是因为他）能认清自我表现与外物的分别，能辨明荣辱的界限，至此而至了。他在世上，没有拼命追求什么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-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翻译下面文段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1169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若夫乘天地之正，而御六气之辨，以游无穷者，彼且恶乎待哉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至于顺应天地万物的本性，把握六气的变化，而在无边无际的境界里遨游的人，他们需要还凭借呢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808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-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疏通课文意思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-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741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北冥有鱼，其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鲲。鲲之大，不知其几千里也；化而为鸟，其名为鹏。鹏之背，不知其几千里也；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怒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飞，其翼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之云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译文：北海有一条鱼，它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名称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叫鲲。鲲的大，不知道它有几千里。鲲变化成鸟，鸟的名称叫鹏。鹏的背，不知道它有几千里。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奋起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而飞，它的翅膀就像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挂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天边的云彩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理解：描述鲲鹏的形象——形体硕大无比，变化神奇莫测，奋飞时气势壮美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75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75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75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75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75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1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-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鸟也，海运则将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于南冥，——南冥者，天池也。《齐谐》者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怪者也。《谐》之言曰“鹏之徙于南冥也，水击三千里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扶摇而上者九万里，去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月息者也。”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野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也，尘埃也，生物之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息相吹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译文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这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只鸟，海动风起时就将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迁往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南方。南海就是大自然的水池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《齐谐》是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记载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怪异的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《齐谐》中的话说：“当鹏迁往南海时，振翅拍水，水浪远达几千里。它乘着旋风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环旋而上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几万里的高空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凭借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着六月的大风离开了北海。”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山野的雾气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空中的尘埃，都是生物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用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气息吹拂的结果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写鹏鸟南飞有所待，并以“野马”“尘埃”做类比，表明世间万物都有所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75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75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75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-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50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天之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苍苍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其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正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色也？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远而无所至极邪？其视下也，亦若是则已矣。且夫水之积也不厚，则其负大舟也无力。覆杯水于坳堂之上，则芥为之舟，置杯焉则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水浅而舟大也。风之积也不厚，则其负大翼也无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译文：天色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深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是它的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真正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颜色吗？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还是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因为天高地远而看不到它的尽头呢？鹏从高空往下看，也不过像人在地面上看天一样。再说如果水的积聚不深厚，那么它负载的大船就没有力量。倒一杯水在堂上低洼的地方，那么就只能用小草做它的船，放上一只杯子就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贴地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，是水太浅而船太大的缘故。风的积聚如果不大，那么它承载巨大的翅膀就没有力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75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75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75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75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-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故九万里，则风斯在下矣，而后乃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培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风；背负青天，而莫之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夭阏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而后乃今将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南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所以鹏飞上几万里的高空，风就在它的下面，然后才能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乘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风；背负着青天，没有什么能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阻碍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它，然后才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打算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往南方飞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理解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了强调鹏鸟“有所待”，作者连用大舟漂浮有待深水，草芥杯水就能负载两个比喻，说明鹏鸟要高飞九万里必须凭借大风，必须有辽阔的天空才能图谋南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75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75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75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75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75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-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蜩与学鸠笑之曰：“我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决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起而飞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枪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榆枋而止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则不至，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于地而已矣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奚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之九万里而南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为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莽苍者，三餐而反，腹犹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然；适百里者，宿舂粮；适千里者，三月聚粮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虫又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翻译：蝉和学鸠嘲笑鹏说：“我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一下子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起飞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碰到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榆枋树木就停下来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有时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如果飞不上去，就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掉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在地上罢了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哪里用得着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飞上数万里的高空再往南飞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呢？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到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郊外的人，只须准备一天三餐，回来时肚子还是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饱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；到百里外去的人，头天晚上就要捣米准备干粮；到千里远处去的人，要用几个月来储积粮食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这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两只小动物又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知道什么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75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75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75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-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理解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反驳蜩蝉与学鸠，说明这两种动物也有所待。蜩与学鸠，飞不高，行不远，却自以为得到逍遥，从而嘲笑鹏鸟高飞远行的壮举。作者以行路备粮的比喻进行反驳：“适莽苍者”“适百里者”“适千里者”的备粮各有不同是因为行程远近不一样。鹏鸟、蜩蝉、学鸠体形不一样，因而凭借的风力不一样。蜩与学鸠认识不到自己与鹏鸟的差异和自身的“所待”，反而嘲笑鹏鸟南飞，实在可笑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一、关于庄子及其作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庄子名周，战国宋人。他继承和发展了老子的哲学思想，是道家学派的重要代表人物，世人并称“老庄”。庄子的思想属于主观唯心主义，片面夸大一切事物的相对性，否定客观事物的差别，否定客观真理。庄子对待生活的态度是：一切顺其自然，“安时而处顺”“知其无可奈何而安之若命”“清静无为”。政治上主张“无为而治”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庄子的文章，想象奇幻，构思巧妙，善用寓言和比喻，文笔汪洋恣肆，具有浪漫主义的艺术风格。《庄子》今存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庄子生长在一个社会矛盾极其复杂的时代，做过漆圆吏（大致相当于现在的一个小职员），对现实不满，不与统治阶级合作，相传楚威王曾经用千金聘礼请他为相，被他拒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-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归纳第一段段意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鹏鸟奋飞：必须凭借强大的风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水雾尘埃：要靠气息相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万物都有所待；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大舟无力：因为积水不深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都没有绝对自由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杯水胶地：因为水浅舟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蜩鸠嘲鹏：不知自己“所待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远行所待：备粮，越远所待越多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根据上面分析，可以归纳首段段意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阐明世间万事万物，大至鹏鸟，小至尘埃，它们的活动都“有所待”，都是不自由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2057400"/>
            <a:ext cx="228600" cy="2590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-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疏通课文意思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-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小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及大知，小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及大年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奚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其然也？……而彭祖乃今以久特闻，众人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之，不亦悲乎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翻译：小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智慧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不了解大智慧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寿命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短的不了解寿命长的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凭什么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知道它是这样的呢？……彭祖如今独自以长寿出名，一般人与他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相比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不是很可悲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里运用“小知”与“大知”、 “大年”与“小年”的不同，进一步强调说明人在认识上的大小区别。在庄子看来，万物既然都有所待，有要人为地以小比大，这本身就是可悲的。这里实际上是承接上段蜩蝉与学鸠嘲笑鹏鸟一事展开议论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-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疏通课文意思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-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汤之问棘也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已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穷发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之北，……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适南冥也。斥鴳笑之曰：“彼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适也？……此亦飞之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也。而彼且奚适也？”此大小之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辩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翻译：汤问政于棘也是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这种情况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生长草木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荒远之北……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将要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到南海去。斥鴳嘲笑它说：“它将要到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哪里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去呢？……这也就是飞的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最高限度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，而它将要飞到哪里去呢？”这就是大和小的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区别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理解：这里引用汤询问棘的一段话，是再次对前文谈到的“小知”与“大知”、“小年”与“大年”的区别的印证。在篇章上，与第一段照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-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归纳第二段段意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9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朝菌不知晦朔，蟪蛄不知道春秋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冥灵春秋五百岁，大椿春秋八千岁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大小之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彭祖——众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鹏鸟——斥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段意归纳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本段是对第一段的归纳、补充、印证，说明万物在“有所待”的范围内，存在着“大小之辩”的差异，但终归都是“有所待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2057400"/>
            <a:ext cx="152280" cy="213372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5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0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5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0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5" dur="5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-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疏通课文意思（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-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故夫知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官，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乡，德合一君，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国者，其自视也，亦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若此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矣。……虽然，犹有未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树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也。夫列子御风而行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泠然善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旬有五日而后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彼于致福者，未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数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然。此虽免乎行，犹有所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者也。……故曰：至人无己，神人无功，圣人无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翻译：所以那些才智足以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胜任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一个官位，品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顺合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一方百姓、道德符合君主心意、能力足使国人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信任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人，他们看待自己，也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像斥鴳一样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。……即使这样，还是没有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树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起来的最高境界。列子乘风而行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飘然轻巧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十五日后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返回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。他对于招财纳福的事没有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拼命追求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。这虽然不用步行，但还是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凭借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风力。……所以说：至人无自我，神人无功利，圣人无名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-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归纳第三段段意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由对世间万物的“有所待”的论述进入到对社会中人的具体论述，阐明逍遥游的境界，即庄子理想中的最高境界，点明全文的主题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3132000" y="184464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够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“效、比、合、征”的四种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有才智修养，但都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被世俗所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32000" y="270828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宋荣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置世人的赞誉与诽谤于度外，但他的修养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犹有未树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3640" y="350028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列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御风而行，逍遥自在，但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犹有所待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21337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1905120"/>
            <a:ext cx="259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这些有才有智有修养的人都没有达到真正的“逍遥游”，更何况那些普通人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75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75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48640" y="7048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文章的论证思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25640" y="162864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物皆“有所待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1484280"/>
            <a:ext cx="85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2205000"/>
            <a:ext cx="45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物所待有“小大之辩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60400" y="2421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97180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人亦“有所待”（这些都不是“逍遥游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3276720"/>
            <a:ext cx="7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0400" y="38862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什么才是“逍遥游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92200" y="41799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4876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怎样才能达到“逍遥游”的境界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21304"/>
                </a:solidFill>
                <a:latin typeface="Times New Roman"/>
              </a:rPr>
              <a:t>本文的主旨是追求一种“无所待”的精神、自由的逍遥境界，即顺应万物的本性，悠然自在，适心任性，达到物我一体的精神上的绝对自由。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2514600"/>
            <a:ext cx="84898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所谓“无功”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就是去掉功名利禄之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不汲汲追逐外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所谓“无名”，就是忘掉荣辱毁誉得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褒贬任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所谓“无已”，就是忘掉自我，不受外物的束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达到恬淡自适的境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样消除了物我对立，使精神与道融和为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超越一切现实的矛盾，步入超越现实的绝对自由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380880"/>
            <a:ext cx="80773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汉仪家书简"/>
                <a:ea typeface="汉仪家书简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汉仪家书简"/>
                <a:ea typeface="汉仪家书简"/>
              </a:rPr>
              <a:t>全篇一再阐述无所依凭的主张，追求精神世界的绝对自由。在庄子的眼里，客观现实中的一事一物，包括人类本身都是对立而又相互依存的，这就没有绝对的自由，要想无所依凭就得无己。因而他希望一切顺乎自然，超脱于现实，否定人在社会生活中的一切作用，把人类的生活与万物的生存混为一体；提倡不滞于物，追求无条件的精神自由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258920" y="5589720"/>
            <a:ext cx="6583320" cy="822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五、全文鉴赏要点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借用寓言说理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文章借用大量的寓言把“无所待”的思想寄托于生动的形象中，如文中的鲲、鹏、蜩蝉、学鸠、斥鴳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想象丰富，意境开阔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如关于鲲的神奇变化、鹏的遨游太空，丰富的想象让文章汪洋恣肆，充满浪漫主义色彩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用了比喻、夸张、拟人等多种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修辞手法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55640" y="404640"/>
            <a:ext cx="754380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汉仪家书简"/>
                <a:ea typeface="汉仪家书简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逍遥”也写作“消摇”，意思是优游自得的样子。表达一种难以言传的行动和悠远舒长的意境。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徜徉、漫步、翱翔，安适自得优游岁月的情景，那就是逍遥。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逍遥游”就是没有任何束缚地、自由自在地活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26920" y="175788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庄子作为道家学派的创立者，认为“道”是宇宙的本体。庄子所认为的“道”是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《大宗师》云：“夫道，有情有信，无为无形，可传而不可受，可得而不可见，自本自根，未有天地，自古以固存；神鬼神帝，生天生地，在太极之先而不为高，在六极之下而不为深，先天地生而不为久，长于上古而不为老……维斗得之，终古不忒；日月得之，终古不息；……黄帝得之，以登云天；颛顼得之，以处玄宫；西王母得之，坐乎少广，莫知其始，莫知其终；彭祖得之，上及有虞，下及五霸；傅说得之，以相武丁，奄有天下，乘东维，骑箕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jī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尾，而比于列星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826920" y="281448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由以上说法可知，庄子认为，“道”是宇宙间最根本的东西，它超越时空而无处不在，它自本自根但又生成万物。万物既出以“道”，道又无所不在，故万物可说是道的化身。所以，万物有变化，惟道不变；万物都是相对的，惟道是绝对的。所以由庄子看来：（一）、大小一样。大鹏之大不足羡，斥鷃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yàn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之小无足慊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qiàn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满）它们都是道之使然，”天下莫大于秋毫之末，而泰山为小；莫寿乎殇子，而彭祖为夭。”《齐物论》（二）、以可不可为一贯。即没有绝对的是非，不谴是，故无非，不谴非，故无是。（三）、以生死为一条。生无可羡，死无足畏。庄子把人生比作梦境。〖梦饮酒者，旦而哭泣；梦哭泣者，旦而田猎。方其梦也，不知其梦也，梦之中又占其梦焉，觉而后知其梦也。且有大觉而后知其梦也，而愚者自以为觉，窃窃然知之。君乎，牧乎，固哉！丘也与女皆梦也，予谓女梦亦梦也。是其言也，其名为吊诡。万世之后而一遇大圣，知其解者，是旦暮遇之也。《齐物论》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26920" y="288432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昔者庄周梦为蝴蝶，栩栩然蝴蝶也，自喻适志欤！不知周也。俄然觉，则蘧蘧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q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然周也。不知周之梦为蝴蝶欤，蝴蝶之梦为周欤？周与蝴蝶，则必有分矣。此之谓物化。”〖注：方其梦为蝴蝶而不知周，则与殊死不异也。然所在无不适志，则当生而恋生者，必当死而恋死矣。由此观之，知夫在生而哀死者误矣。〗（庄周问老子，老子曰：周即蝴蝶，蝴蝶即周。以明道之为一。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课堂小练习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34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列句中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红色字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以前在文言课文中学过，请举出例句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小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知（通“智”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及大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未有知其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修（长，高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旬有五日而后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反（通“返”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去（离开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六月息者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1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5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500"/>
                            </p:stCondLst>
                            <p:childTnLst>
                              <p:par>
                                <p:cTn id="9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3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参考答案举例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小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知（通“智”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及大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则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明而行无过矣。（《劝学》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未有知其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修（长，高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邹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八尺有余（《邹忌讽气王纳谏》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旬有五日而后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反（通“返”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寒暑易节，始一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焉。（《愚公移山》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去（离开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六月息者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以手阖门（《项脊轩志》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本课学习小结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本课应掌握哪些内容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你已经掌握了哪些内容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有哪些掌握得似是而非？有哪些完全没有掌握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对于没掌握或掌握得似是而非的内容将采取哪些措施来补救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249876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80880"/>
            <a:ext cx="409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布置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1066680"/>
            <a:ext cx="70866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写作训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小时候，老师教我们要学习勤劳的小蜜蜂，可是，有一个孩子却想做一只快乐的蝴蝶，飞舞在花丛中，寻找那一朵最美、最香、最甜的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结合课文主旨，为想做蝴蝶的孩子写一篇诗梦相糅的学习生活，成长经历的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背诵课文第一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隶书"/>
              </a:rPr>
              <a:t>世上没有无缘无故的爱，也没有无缘无故的恨，肯定也就没有绝对的自由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666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00ff"/>
                </a:solidFill>
                <a:latin typeface="Tahoma"/>
                <a:ea typeface="华文彩云"/>
              </a:rPr>
              <a:t>再     见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归纳第三段段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宋荣子“犹有未树”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未逍遥游         列子 “犹有所待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逍遥游             乘天地之正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御六气之辩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以游无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二、关于《逍遥游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42184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《逍遥游》是庄子的代表作品，它比较集中地表现了庄子追求绝对自由的人生观。全文分两大部分，课文节选的是第一部分总论，论证世间万物都是因为“有所待”而失去自由，自己追求的是“无所待”的最高境界。第二部分通过一系列的寓言故事论证第一部分提出的“至人无己”“神人无功”“圣人无名”的境界，以及通过“无为”达到这一境界的主张。全篇集中表现了庄子哲学的一个重要方面——虚无主义和绝对自由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6094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节选部分是《逍遥游》的主体，文章从对比许多不能“逍遥”的例子说明，要想真正达到自由自在的境界，必须“无己”、“无功”、“无名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6170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三、预习检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注意下列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红色字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的注音：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北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鲲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鹏（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坳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堂（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夭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阏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北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íng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鲲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鹏（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kūn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uán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xǐ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坳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堂（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āo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jiè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夭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阏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è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-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注意下列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红色字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注音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蜩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蝉（        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粮（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蟪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大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椿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斥鴳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然（        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万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仞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蓬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蒿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23920" y="1905120"/>
            <a:ext cx="4002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蜩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蝉（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iáo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粮（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hōng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蟪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uì  gū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大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椿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hūn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斥鴳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hì yàn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然（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líng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万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仞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rèn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蓬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蒿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gǎo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-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解释下列句中的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红色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字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《齐谐》者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怪者也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记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鸟也，海运则将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于南冥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这；               迁移，迁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后乃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培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风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乘着，趁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起而飞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枪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榆枋而止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快速的样子；触，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-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解释下列句中的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红色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字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众人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匹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之，不亦悲乎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相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云气，负青天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穿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官，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乡，德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胜任；       顺合；      满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未数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然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追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2:38:33Z</dcterms:created>
  <dc:creator>USER</dc:creator>
  <dc:description/>
  <dc:language>en-US</dc:language>
  <cp:lastModifiedBy>st</cp:lastModifiedBy>
  <dcterms:modified xsi:type="dcterms:W3CDTF">2006-05-29T13:35:44Z</dcterms:modified>
  <cp:revision>20</cp:revision>
  <dc:subject/>
  <dc:title>逍   遥   游 （庄子）</dc:title>
</cp:coreProperties>
</file>